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16B-245F-49EC-ADF6-1CD587F5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5D9-CFC5-44C9-A3D3-86469D5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3116-16E2-4C1E-AC8D-4BC4BC20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1EC-F38A-4967-8BB8-597AD798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29EC-847D-4FD7-80AE-5EE7D3C4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55FC-4793-4965-9091-AA5213ED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C8FA-DCB0-491F-87CC-41D048E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41AA-2AB2-4339-8A0E-327BDD3B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AF38-2765-42C6-B2F1-0D857A9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6880-D8FD-4725-B54A-2EF7420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162F-0586-4542-AC0D-6467016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B91-67EA-44A7-B801-C8740CAC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4E1-951E-45CC-9AB8-ABDD4A3C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88EC-ED42-4BA3-A37A-5D322A1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92FB-0BA8-453C-98E3-C796880B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2A7-C9B0-4DF1-A92A-5D6347BA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C8B1-CD72-4016-9271-1DFB6344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4F6-6D1E-4D4D-8E59-C53F59E1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242-9F5D-4C70-B1D5-5DA4B541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FF1-5906-4C95-9EF2-D04BC8D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F82-82A1-4041-9F2D-F5C237D0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E8F-C8D3-43C4-A0F5-2C32BD15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E13-E6D5-418E-953D-672BDC5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1E2-D2AE-4D1E-8315-9EA9E8F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A9BB-7D87-4695-A3C2-8A8718C3C6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AF41-69F6-4086-8EE3-A00B05A358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Костюм </a:t>
            </a:r>
            <a:br>
              <a:rPr sz="4800"/>
            </a:br>
            <a:r>
              <a:rPr b="1" i="1" lang="en-US" sz="4800" spc="-1" strike="noStrike">
                <a:solidFill>
                  <a:srgbClr val="ffffcc"/>
                </a:solidFill>
                <a:latin typeface="Tahoma"/>
              </a:rPr>
              <a:t>Древнегреческого актер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ревнегреческий костюм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192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рапировка – основа античного греческого костюм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1874520" cy="3057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1866960" cy="4308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13240" y="2276640"/>
            <a:ext cx="3446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дежда древних греков была очень проста по своему покрою, она состояла из прямоугольных кусков ткани различной длины и ширины, задрапированных на фигуре различными способами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3564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20872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Уже в античные времена цвета имели свое символическое значение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лый цвет был закреплен за аристократией, а черный, пурпуровый, темно-зеленый и серый – выражали печал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Зеленый, серый и коричневый цвета были обычными цветами сельских ж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1834920" cy="243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32720" y="1484280"/>
            <a:ext cx="1271520" cy="250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4076640"/>
            <a:ext cx="338436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Одноцветные ткани украшались каймой вышивки, аппликации. Узоры орнамента связаны с природой, носят стилизованный геометрический или растительный характер.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3456000" cy="2751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067280" y="3933720"/>
            <a:ext cx="48020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5:34Z</dcterms:created>
  <dc:creator>Katya</dc:creator>
  <dc:description/>
  <dc:language>en-US</dc:language>
  <cp:lastModifiedBy>Katya</cp:lastModifiedBy>
  <dcterms:modified xsi:type="dcterms:W3CDTF">2012-11-11T20:00:50Z</dcterms:modified>
  <cp:revision>9</cp:revision>
  <dc:subject/>
  <dc:title>Костюм  Древнегреческого актера</dc:title>
</cp:coreProperties>
</file>