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BB7A-ABE8-4494-811D-E0A58A8D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8D2E-9CAE-4F51-ABC3-E1D1C0C8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6996-DDDD-4D4E-801A-626F2AC6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8C67-DE5A-48D6-BADF-B0160F39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C961-CA41-4398-884B-33B254B1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4A2A-C630-4021-B26D-EBB5733F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28B2-3366-4BBA-98CE-88072FA9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8793-3A0E-4F60-B437-2F3B3504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B8FC-15E1-4772-997F-722A8A56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8C97-19E3-4A2B-A1D5-9D862F61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C82D-D01E-4ED0-B705-5F346657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7E8-0698-422A-B022-3182CF12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7571-9010-4852-87CE-718AD94A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5558-B55E-4B9C-A4E7-6E3F0F38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44A8-126F-4461-9F15-9F4604D8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D8E3-BA55-4DE3-968E-6D3FE23D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2CDD-9476-4D7C-B899-D9AB7701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C1A-CB49-4884-851F-6F0092D5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5F2C-A6C6-48FC-8E72-4244FD70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95F-4EA1-420E-8F5C-91D49F4F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48A6-6724-424B-B58D-33CF1726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7A7B-1FA6-4580-8E1B-06483625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D44F-47D4-4BE9-9B22-B8A96118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611D-CE01-4160-BEB7-032E47D1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5400-5C34-44AB-8BB4-CF39493DC30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501A-3DD3-4ED9-ADAA-6D4FF17A131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ahoma"/>
              </a:rPr>
              <a:t>Костюм </a:t>
            </a:r>
            <a:br>
              <a:rPr sz="4800"/>
            </a:br>
            <a:r>
              <a:rPr b="1" i="1" lang="en-US" sz="4800" spc="-1" strike="noStrike">
                <a:solidFill>
                  <a:srgbClr val="ffffcc"/>
                </a:solidFill>
                <a:latin typeface="Tahoma"/>
              </a:rPr>
              <a:t>Древнегреческого актер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ревнегреческий костю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19272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Драпировка – основа античного греческого костюм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1874520" cy="3057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03640" y="2205000"/>
            <a:ext cx="1866960" cy="4308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313240" y="2276640"/>
            <a:ext cx="34466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Одежда древних греков была очень проста по своему покрою, она состояла из прямоугольных кусков ткани различной длины и ширины, задрапированных на фигуре различными способами.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813564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820872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Уже в античные времена цвета имели свое символическое значение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елый цвет был закреплен за аристократией, а черный, пурпуровый, темно-зеленый и серый – выражали печал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еленый, серый и коричневый цвета были обычными цветами сельских жител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1834920" cy="2436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732720" y="1484280"/>
            <a:ext cx="1271520" cy="2509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00720" y="4076640"/>
            <a:ext cx="338436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Одноцветные ткани украшались каймой вышивки, аппликации. Узоры орнамента связаны с природой, носят стилизованный геометрический или растительный характер.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3456000" cy="2751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067280" y="3933720"/>
            <a:ext cx="480204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8:25:34Z</dcterms:created>
  <dc:creator>Katya</dc:creator>
  <dc:description/>
  <dc:language>en-US</dc:language>
  <cp:lastModifiedBy>Katya</cp:lastModifiedBy>
  <dcterms:modified xsi:type="dcterms:W3CDTF">2012-11-11T20:00:50Z</dcterms:modified>
  <cp:revision>9</cp:revision>
  <dc:subject/>
  <dc:title>Костюм  Древнегреческого актера</dc:title>
</cp:coreProperties>
</file>