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423B-B0F6-4CEB-94C4-4A0FF99EF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7AA1-CE09-4E06-97EB-D0317C772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49CE-E696-41A2-B005-A74E72A62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623A-DF3F-4504-BCDD-DCE98B471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C5E14-69F4-42B7-B819-F23FCF192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21A66-09ED-436A-AE43-D4B467D4A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91ACD-6394-407E-A2C6-6D4156BE6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47667-D22D-4C53-BF6B-CD3DB07A7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94D57-484D-4E83-B33E-FF77B99D4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7729D-9250-488A-90D4-03CE7F567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08C65-CF55-4A9E-B23D-041C47F7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80E3-291F-471E-94C4-FC6AB4DC0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E80A1-63CB-468F-B2CB-8355C65D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F694C-1827-450B-8F33-0EAD1B9E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7A336-49C7-4902-8DFB-8D9F1C0CE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A0B31-458B-4005-881A-AE11D7411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0F4A0-3E6B-4A9C-9554-95B320A02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4269-58D2-45D5-B8F4-F1E4A7FB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2309-5734-4ECC-820D-66EC484F2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5195-D530-490D-8606-7805362D2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272A-1B8E-4D32-B0C2-89110AA92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CC99-3F61-4684-B757-03C3AC53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228F-484F-4018-9103-EBDF941B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C7FB-321B-499C-A312-29EE4196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F688D-853B-45A6-BB7A-0CA834FD6F4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50DB6-9492-4F1A-817C-C7D28C7D243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ahoma"/>
              </a:rPr>
              <a:t>A HALLOWEEN FLIGHT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Общие вопросы 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1.He is funny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2.Is he funny ?-Yes he is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3. I am ten 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4. Am I ten ?-No I am not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ad the Words 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Nerve, her, shave, ring,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fish, shelf, spring, dirty,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firm, shop, she, long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ahoma"/>
              </a:rPr>
              <a:t>About Me :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I   am…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Olg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itt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in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ot very stro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ussian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app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ahoma"/>
              </a:rPr>
              <a:t>About Me :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I  am…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i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leve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very stron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nglis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app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ТЕМА :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Общие вопросы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Цели :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знакомление с новыми словами 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тение  буквосочетаний 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ормирование социокультурной компетенц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The Map of our</a:t>
            </a:r>
            <a:br>
              <a:rPr sz="5400"/>
            </a:b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Halloween  Flight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e are flying 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em “ Treat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amm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ri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llowe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st or West – home is best  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  Home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“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REAT “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ick or treat, trick or treat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ive us smth. good to ea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ive us candy, give us cak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ive us smth. sweet to take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ive us cookies, fruit and gum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urry up and give us so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had better do it qui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 we’ ll surely play a trick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ick or treat, trick or treat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ive us smth. good to ea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HANDS UP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nd up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nds up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nds dow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nds on hips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t down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nd up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nds to the sides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nd left 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nd right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nds on hips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e, two, three, ho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e, two, three, sto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nd stil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New  Words 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h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hop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nglish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ussian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ron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ir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on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on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os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ap, Clap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ep, step, clap, clap 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urn yourself aroun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then you clap, clap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nd and clap, clap 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nd and clap, clap 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nds up ! Clap, clap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nds up! Clap, clap 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nds out, clap, clap 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nds out , clap, clap 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9T03:51:16Z</dcterms:created>
  <dc:creator>ученик</dc:creator>
  <dc:description/>
  <dc:language>en-US</dc:language>
  <cp:lastModifiedBy>ученик</cp:lastModifiedBy>
  <dcterms:modified xsi:type="dcterms:W3CDTF">2008-02-09T06:21:58Z</dcterms:modified>
  <cp:revision>2</cp:revision>
  <dc:subject/>
  <dc:title>A Halloween Flight</dc:title>
</cp:coreProperties>
</file>