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8FD-4116-4148-BBE7-507B9D87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A74-6098-4881-869E-31A2C90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2FB-D2D1-4AF9-9AD7-1512D250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6C0-1163-4C3F-AA66-5E1C264B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823-31F2-42D0-807A-483A83A4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2CB8-35AB-4145-AD8D-CE39EF5F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3065-42F1-4005-ADF1-18B19E3B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854C-CD83-41FF-9D98-2C613AC7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888C-FF19-4DA8-ACA7-65DDF06A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1A2C-F6B4-4772-A972-A25A075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0CE7-AD5B-4BFA-BE8D-29131306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570C-6EBA-4805-90A4-81B4DE8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2FA3-4A70-4F6B-8F2B-E1C2FBC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347A-BD8D-414A-BD93-84EB925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E2F-2F0F-41F0-A2C5-F2B0C73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9F82-134A-4AA2-9F7F-07052AC0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5B19-E79B-4E77-BAE6-08A7C82A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551-FFEB-4508-AF40-F8EF6E9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F87-36D4-4322-8FA7-C5D4156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7B0B-1CE0-4D4C-B8F5-24C08BC8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1A3-BD0B-47E3-87AA-B31330F2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DAC-6BE9-4094-A015-7AF0108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8D3-BF9A-4A2A-B670-A9D2F8D0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80C-29B6-4BE8-BF6F-A6FBDFB9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16EC-D68D-4867-A403-AD4C9A7031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0BC-9A42-4953-B5C3-7CA0CE6736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 HALLOWEEN FLIGH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щие вопросы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1.He is funny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2.Is he funny ?-Yes he is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3. I am ten 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4. Am I ten ?-No I am no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the Word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Nerve, her, shave, ring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sh, shelf, spring, dirty,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firm, shop, she, long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bout Me 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   am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lg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tt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 very stro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ussi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About Me 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I  am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i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v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ery str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ТЕМА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Общие вопрос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Цели 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накомление с новыми словам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ение  буквосочетаний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социокультурной компетен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Map of our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Halloween  Fligh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 are flying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em “ Trea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low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or West – home is best  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 Home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“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EAT “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 or treat, trick or trea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good to 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candy, give us cak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sweet to take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cookies, fruit and gu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rry up and give us s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had better do it qu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 we’ ll surely play a trick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ck or treat, trick or trea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us smth. good to e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ANDS UP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nd u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u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 on hip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 dow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 up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to the sid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left 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righ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n hip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, two, three, ho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, two, three, sto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 sti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 Words 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glis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ussi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ir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p, Clap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, step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yourself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n you clap, clap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and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nd and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up ! Clap, clap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up!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ut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s out , clap, clap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03:51:16Z</dcterms:created>
  <dc:creator>ученик</dc:creator>
  <dc:description/>
  <dc:language>en-US</dc:language>
  <cp:lastModifiedBy>ученик</cp:lastModifiedBy>
  <dcterms:modified xsi:type="dcterms:W3CDTF">2008-02-09T06:21:58Z</dcterms:modified>
  <cp:revision>2</cp:revision>
  <dc:subject/>
  <dc:title>A Halloween Flight</dc:title>
</cp:coreProperties>
</file>