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9B5-02D1-4FB1-BC3A-F554E66A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313-657D-444F-AA64-50E8E54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53B-E0C4-47DB-8CF8-B2EE2E2D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BB4-55A1-42A2-9EAC-1254A5E4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CA6-FC21-4162-819C-D347706F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3113-53A8-435A-B924-2CBE151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0F45-8379-458E-8CBE-22EBE3D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A3BA-7ABB-4609-A084-6CC99C2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E685-E10D-4D1E-8F9C-092B1E9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F15C-EDF3-430A-BB7D-2975E4C9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A0F-63A1-4BE3-824C-03777A2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14F-26B5-4E69-A355-512397A5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A8A-0A17-455C-BA45-DC9A2898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1DED-92C2-45A5-940F-2E07F0D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8F1F-4E91-4944-9CF8-6A16FC4B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57CA-A90A-4946-A5CB-89A5706D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D26A-9924-4F84-B964-E4248D74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AAB-D4FD-466A-8682-9FCC279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07F-077C-43A6-BB50-2324550F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885-46DE-43A0-A0B0-D8C4FAEA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45F-8F0D-4575-97D9-6F907E38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E4A-B1D8-49DD-A4C3-80C7A9B5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22D-C8EA-42C2-9889-AB2B06D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2D3-7C49-492E-A734-A25E234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56A3-A809-474F-A0F3-15B3C05A7C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E96-FC22-4E7D-99E8-AF545B60CE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www.ozon.ru/multimedia/books_covers/1000316248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«Акмеизм в русской литературе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чала ХХ век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подарили Зап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ало нашего 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. Лихач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2923920"/>
            <a:ext cx="266364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удьба литературного направл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литературное направление акмеизм просуществовал недолго — около двух лет. В феврале 1914 г. произошел его раскол. «Цех поэтов» был закрыт. Однако попытки возобновить деятельность объединения впоследствии предпринимались не ра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ако реальность, к которой стремились акмеисты ограничивалась природой, картинами прошлого,  экзотикой, миром вещей и личными взаимопониманиями людей, поэтому акмеисты не могли соответствовать запросам революционного времени, а в ряде случаев вступали с ним в противореч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ью акмеистского круга поэтов являлась их «организационная сплоченность». По существу, акмеисты были не столько организованным течением с общей теоретической платформой, сколько группой талантливых и очень разных поэтов, которых объединяла личная дружб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ые принципы акмеизма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вращение поэзии  ясности слова, реа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нятие земного мира в его многообразии,  конкретности, звучности, красочност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метность и четкость обра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щение к человеку, к подлинности его чувств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кличка с минувшими литературными эпох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эты -акмеис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. Гумиле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 Ахмато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. Мандельштам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. Городецк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 Зенкевич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 Нарбу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ворческие судьбы поэтов, так или иначе связанных с акмеизмом, сложились по-разн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610400" y="1268280"/>
            <a:ext cx="15336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ефлекс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годня я узнал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приобрел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научился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 меня получилось 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попробую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ня удивило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еперь я мог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324000" y="29865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з манифеста акмеис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меистов роза опять стала хороша сама по себе, своими лепестками, запахом и цветом, а не своими мыслимыми подобиями с мистической любовью или чем-нибудь ещё,” - писал в манифесте акмеистов Сергей Городец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Задачи уро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бразов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создание духовной атмосферы эпохи, обобщение сведений по истории литературы данного пери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комство с творчеством и отдельными произведениями представителей данн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ассоциативного мышления учащихся в сфере художественной куль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воспитатель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ание эстетического вкуса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дидактическ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тановки на изучение или самостоятельное чтение произвед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читательских интересов учащихся, развитие умения самостоятельно ориентироваться в литературе определенного пери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020000" y="4913280"/>
            <a:ext cx="172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кме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 греч. akme — высшая степень чего-либо, расцвет, зрелость, вершина, остриё) — одно из модернистских течений в русской поэзии 1910-х годов, сформировавшееся как реакция на крайности символ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17971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тличительные чер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, пришедшие на смену символистам, не имели детально разработанной философско-эстетической програм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00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личительные чер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 проповедовали ясный, свежий и простой поэтический яз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 стремились к чувственной ясности образа и то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 стремились к чеканности поэтического сло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 rot="2421000">
            <a:off x="4787640" y="4869000"/>
            <a:ext cx="7603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ля акмеизма характерн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йняя аполитич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ное равнодушие к злободневным проблемам соврем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щения к мифологическим сюжетам и образ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сочная, порой экзотическая деталь могла использоваться с чисто живописной цель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Гиперборейцы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кмеис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или — как их еще называли — «гиперборейцы» (по названию печатного рупора акмеизма, журнала и издательства «Гиперборей»), сразу выступили единой группой. Своему союзу они дали знаменательное наименование «Цех поэтов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ворческая деятель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11-1914 гг. они объединились в группу “Цех поэтов”, возглавляемую Н. Гумилев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12-1913 гг. основали собственный журнал “Гиперборей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устили также несколько альманахов “Цеха поэтов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545160" y="4508640"/>
            <a:ext cx="1482840" cy="20890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Картинка 1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409572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1332000" y="4653000"/>
            <a:ext cx="13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более яркие стихотвор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Гумилёв “Жираф”, “Капитаны”, “Шестое чувство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Ахматова стихотворения из сборника “Вечер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.Мандельштам “Selenium”, “ Дано мне тело – что мне делать с ним”, “Бессонница. Гомер. Тугие паруса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38:33Z</dcterms:created>
  <dc:creator>Аня</dc:creator>
  <dc:description/>
  <dc:language>en-US</dc:language>
  <cp:lastModifiedBy>Аня</cp:lastModifiedBy>
  <dcterms:modified xsi:type="dcterms:W3CDTF">2008-11-19T20:59:11Z</dcterms:modified>
  <cp:revision>14</cp:revision>
  <dc:subject/>
  <dc:title>Акмеизм –литературное направление </dc:title>
</cp:coreProperties>
</file>