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gif" ContentType="image/gif"/>
  <Override PartName="/ppt/media/image5.wmf" ContentType="image/x-wmf"/>
  <Override PartName="/ppt/media/image6.png" ContentType="image/png"/>
  <Override PartName="/ppt/media/image7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A06-CA76-42F5-A21D-03ECC527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9F0-137A-47F8-B5B1-ED3F6DC4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22E-0056-4743-84F4-2BE0993F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3D7-5A7F-46E7-8F29-2296E7C4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D6FA-45AA-4047-AD04-7EE6C5EE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03E5-4DA9-43F2-9C31-52BD5DF9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D0C5-18BD-401F-8B22-AB943341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FD49-FD35-416E-BBF9-F35FC684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869E-F63E-4EAB-B116-C70F5D7C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86B2-0B95-4DD0-9F6A-F1A8871A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D9C4-763C-4930-9802-43C74B98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87F4-8B3E-47A9-B9D6-C7F45EDF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8FDF-708E-4768-B3B7-C38303EB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CEAF-0540-4C0A-9AD9-AF498818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2031-F48B-421C-A92E-C314B02D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D0DF-42AA-491E-9F64-BA5D1FAF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C9B5-E5A5-4881-A077-69D35F1C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FF9-E231-4C1C-8E89-A748719E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F029-DEAD-459B-A564-76424F12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4EA8-13BF-4E7D-B194-AA3BAF6E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921-8C51-46DF-A09A-17C5A05C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BD3-0DF1-4F81-B761-114B23CD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440-39F8-4018-9408-023F98AA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CCD-056E-4A5B-B50F-2E13252B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9E9E-437D-4140-93B6-B11F0B2F07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FAE1-2B26-4AE7-A578-F833E2A381A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http://www.ozon.ru/multimedia/books_covers/1000316248.jpg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Тема урока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«Акмеизм в русской литературе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ачала ХХ века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40080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подарили Запа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чало нашего 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. Лихаче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 flipH="1" rot="10800000">
            <a:off x="324000" y="2923920"/>
            <a:ext cx="266364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удьба литературного направл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 литературное направление акмеизм просуществовал недолго — около двух лет. В феврале 1914 г. произошел его раскол. «Цех поэтов» был закрыт. Однако попытки возобновить деятельность объединения впоследствии предпринимались не раз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ако реальность, к которой стремились акмеисты ограничивалась природой, картинами прошлого,  экзотикой, миром вещей и личными взаимопониманиями людей, поэтому акмеисты не могли соответствовать запросам революционного времени, а в ряде случаев вступали с ним в противореч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обенностью акмеистского круга поэтов являлась их «организационная сплоченность». По существу, акмеисты были не столько организованным течением с общей теоретической платформой, сколько группой талантливых и очень разных поэтов, которых объединяла личная дружб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Основные принципы акмеизма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125360"/>
            <a:ext cx="8540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звращение поэзии  ясности слова, реа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нятие земного мира в его многообразии,  конкретности, звучности, красочности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метность и четкость образ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ращение к человеку, к подлинности его чувств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екличка с минувшими литературными эпох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эты -акмеист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. Гумиле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. Ахматов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. Мандельштам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. Городецки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. Зенкевич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. Нарбу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ворческие судьбы поэтов, так или иначе связанных с акмеизмом, сложились по-разном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610400" y="1268280"/>
            <a:ext cx="15336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ефлексия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егодня я узнал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я приобрел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я научился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 меня получилось 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я попробую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меня удивило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теперь я могу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>
            <a:off x="324000" y="298656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з манифеста акмеист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меистов роза опять стала хороша сама по себе, своими лепестками, запахом и цветом, а не своими мыслимыми подобиями с мистической любовью или чем-нибудь ещё,” - писал в манифесте акмеистов Сергей Городецк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Задачи урока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Образовате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ссоздание духовной атмосферы эпохи, обобщение сведений по истории литературы данного период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накомство с творчеством и отдельными произведениями представителей данного пери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ирование ассоциативного мышления учащихся в сфере художественной культу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 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 воспитательны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спитание эстетического вкуса учащих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 дидактически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установки на изучение или самостоятельное чтение произведе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ирование читательских интересов учащихся, развитие умения самостоятельно ориентироваться в литературе определенного перио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020000" y="4913280"/>
            <a:ext cx="1728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Акмеиз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от греч. akme — высшая степень чего-либо, расцвет, зрелость, вершина, остриё) — одно из модернистских течений в русской поэзии 1910-х годов, сформировавшееся как реакция на крайности символиз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116000" y="4724280"/>
            <a:ext cx="179712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Отличительные чер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меисты, пришедшие на смену символистам, не имели детально разработанной философско-эстетической программ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6629400" y="4876920"/>
            <a:ext cx="16700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тличительные черт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меисты проповедовали ясный, свежий и простой поэтический язы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меисты стремились к чувственной ясности образа и точ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меисты стремились к чеканности поэтического сло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 rot="2421000">
            <a:off x="4787640" y="4869000"/>
            <a:ext cx="76032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ля акмеизма характерн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райняя аполитич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лное равнодушие к злободневным проблемам современ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ращения к мифологическим сюжетам и образа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расочная, порой экзотическая деталь могла использоваться с чисто живописной целью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«Гиперборейцы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кмеисты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или — как их еще называли — «гиперборейцы» (по названию печатного рупора акмеизма, журнала и издательства «Гиперборей»), сразу выступили единой группой. Своему союзу они дали знаменательное наименование «Цех поэтов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ворческая деятельност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1911-1914 гг. они объединились в группу “Цех поэтов”, возглавляемую Н. Гумилевы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1912-1913 гг. основали собственный журнал “Гиперборей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пустили также несколько альманахов “Цеха поэтов”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6545160" y="4508640"/>
            <a:ext cx="1482840" cy="20890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Картинка 1 из 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4095720"/>
            <a:ext cx="1905120" cy="27622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5"/>
          <a:stretch/>
        </p:blipFill>
        <p:spPr>
          <a:xfrm>
            <a:off x="1332000" y="4653000"/>
            <a:ext cx="1368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иболее яркие стихотворения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.Гумилёв “Жираф”, “Капитаны”, “Шестое чувство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.Ахматова стихотворения из сборника “Вечер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.Мандельштам “Selenium”, “ Дано мне тело – что мне делать с ним”, “Бессонница. Гомер. Тугие паруса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5:38:33Z</dcterms:created>
  <dc:creator>Аня</dc:creator>
  <dc:description/>
  <dc:language>en-US</dc:language>
  <cp:lastModifiedBy>Аня</cp:lastModifiedBy>
  <dcterms:modified xsi:type="dcterms:W3CDTF">2008-11-19T20:59:11Z</dcterms:modified>
  <cp:revision>14</cp:revision>
  <dc:subject/>
  <dc:title>Акмеизм –литературное направление </dc:title>
</cp:coreProperties>
</file>