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BE01F4-B67D-4B6F-9585-99BA74AF0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AC28CC-4390-4090-9E54-596441B26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4CFC2B-2FBA-4B6D-B61D-79C78DEA5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EE4120-4BD3-4960-AEBC-BA8BC8240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36A19-4D98-4FCC-B2F0-F47813BAA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95C16-65C4-47D4-87A5-8E545E63A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94FAE-89B0-4B5A-A84F-261308790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C4D45-F0AA-4ECF-BEE6-20576233D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B4D92-5BD8-4065-8A44-6B8BAF21F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E6CF3-20F5-4DA3-943A-AFF502D5D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6E589-560F-4503-9613-29CD3039C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52CE86-0345-4D70-BD75-25D32F97C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03A49-481C-42B0-A7B8-0DB146C79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C80A3-67B4-4FED-A0B0-379E75527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C11BA-7276-4A22-B602-4E5E0F4AB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AB5EE-31EA-46D8-8234-EDECDD4A2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7B5A2-BA0F-497E-B285-186A4D797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BB048A-ECD3-4A89-AA12-4199A92F3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F2D95A-1971-4C44-8552-7DF4FE5BB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59C8A5-E4AF-4DDB-95CE-BBE988800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44DC79-D179-4664-9162-924CA799B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25EE88-A0D1-4B56-8466-3CD64B4EA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14B279-2231-40A3-9EC8-E0A6F6C76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BDD6E0-9BE3-48D0-8E9A-A7F27DA92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84E27-52C1-4D80-87A7-C60976CFD039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845D6-82F6-42CB-9F8F-AFD45B12DDDF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p=0&amp;ed=1&amp;text=&#1073;&#1080;&#1086;&#1075;&#1088;&#1072;&#1092;&#1080;&#1103;%20&#1040;.%20&#1040;&#1093;&#1084;&#1072;&#1090;&#1086;&#1074;&#1086;&#1081;&amp;spsite=imwerden.de&amp;img_url=www.naurok.net%2Fcategory%2Fbio%2Fphoto%2F004.jpg&amp;rpt=simage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500" spc="-1" strike="noStrike">
                <a:solidFill>
                  <a:srgbClr val="ffffcc"/>
                </a:solidFill>
                <a:latin typeface="Tahoma"/>
              </a:rPr>
              <a:t>Анна Ахматова</a:t>
            </a:r>
            <a:endParaRPr b="0" lang="en-US" sz="75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Tahoma"/>
              </a:rPr>
              <a:t>1898-1966</a:t>
            </a:r>
            <a:endParaRPr b="0" lang="en-US" sz="8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" dur="1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Tahoma"/>
              </a:rPr>
              <a:t>Жизнь и творчество</a:t>
            </a:r>
            <a:r>
              <a:rPr b="0" lang="en-US" sz="38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0" y="1196640"/>
            <a:ext cx="91440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А.А. Ахматова-русская поэтесса. Родилась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11 июня 1889 года под Одессой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Через год семья переехала в Царско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ело. "Читать училась по азбук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Льва Толстого", первое стихотворени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аписала в одиннадцать лет. Училась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 Царскосельской женской гимназии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 Киеве Анна закончила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гимназию в 1907.Поступила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а юридический факульте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ысших женских курсов в Киеве. Изучени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стории права и латыни идет успешно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о чисто юридические предметы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ызывают охлаждение к курсам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 1910 выходит замуж за Николая Гумилев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месте с Гумилевым становится сторонницей акмеизма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5796000" y="1197000"/>
            <a:ext cx="313056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cc"/>
                </a:solidFill>
                <a:latin typeface="Tahoma"/>
              </a:rPr>
              <a:t>Акмеизм в творчестве А.Ахматовой</a:t>
            </a:r>
            <a:endParaRPr b="0" lang="en-US" sz="3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914400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Самым ярким представителем школы акмеизма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является Анна Ахматова. “Только Ахматова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пошла как поэт путями открытого ею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нового художественного реализма, тесно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связанного с традициями русской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классической поэзии...” Блок назвал её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настоящим исключением” среди акмеистов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Но в то же время раннее творчество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Анны Ахматовой выразило многие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принципы акмеистической эстетики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воспринятые поэтессой в индивидуальном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понимании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3" name="i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940360" y="1700280"/>
            <a:ext cx="28908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90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Вопреки акмеистическому призыву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90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принять действительность “во всей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90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совокупности красот и безобразий”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90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лирика Ахматовой исполнена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90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глубочайшего драматизма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90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острого ощущения непрочности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90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приближающейся катастрофы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90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Именно поэтому так часто в её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90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стихах проходят мотивы беды, горя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90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тоски, близкой смерти. Голос беды”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90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постоянно звучал в её творчестве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90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Лирика Ахматовой выделялась из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90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общественно индифферентной поэзии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90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акмеизма и тем, что в ранних стихах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90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поэтессы уже обозначилась, более или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90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менее отчётливо, основная тем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90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всего её последующего творчества – тема Родины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90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16360" y="0"/>
            <a:ext cx="4291200" cy="56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Ахматова создала яркую, эмоциональную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поэзию; она преодолела разрыв между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поэтической и разговорной речью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всё у неё построено на передач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переживания, состояния души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на поисках наиболее точного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зрительного образа.  Ранняя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поэзия Ахматовой уже предсказал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её замечательный дар открыти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человека. Пока ещё герой Ахматово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не обладает широкими горизонтами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но он серьёзен, искренен. И главное –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поэтесса любит человека, верит в его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духовные силы и способност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5003640" y="0"/>
            <a:ext cx="3959280" cy="57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Мне голос был. Он звал утешно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Он говорил: “Иди сюда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Оставь свой край глухой и грешный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Оставь Россию навсегд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Я кровь от рук твоих омою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Из сердца выну чёрный стыд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Я новым именем покрою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Боль поражений и обид”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Но равнодушно и спокойн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Руками я закрыла слух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Чтоб этой речью недостойно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Не осквернился скорбный дух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5472000" y="1268280"/>
            <a:ext cx="3672000" cy="558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2T10:18:02Z</dcterms:created>
  <dc:creator>Елена</dc:creator>
  <dc:description/>
  <dc:language>en-US</dc:language>
  <cp:lastModifiedBy>Аня</cp:lastModifiedBy>
  <dcterms:modified xsi:type="dcterms:W3CDTF">2008-11-19T20:05:45Z</dcterms:modified>
  <cp:revision>6</cp:revision>
  <dc:subject/>
  <dc:title>Анна Ахматова</dc:title>
</cp:coreProperties>
</file>