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56170-0146-481B-9BE9-655A3F3DD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FCC66-29D7-45D1-9261-473A8B530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11C68-797B-4391-89D0-202F1605D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C6B4D-FA43-4ABC-97A1-22DA6506F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927A2-3984-49D5-8C62-FB0B797FD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9DCA9-3A2A-4C80-8253-ADE8E62B2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111B5-686C-4438-9E92-452AA9951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4E7D7-51A2-4F8B-AEF2-2E1146288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4481E-CD63-45E6-B808-3552FDDE4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19E8D-C2FC-4336-A32A-65B7F3904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70F65-9F9A-44F3-80D2-ADFC3E42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B2B8D-2286-4A2B-9568-179B56EE8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921E5-9660-46D1-932C-1A5B5B72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FD99D-55F5-4FB7-A436-F9BBFC82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020EF-C779-4B82-BFAD-16C44F645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C7A6D-1E82-4021-B428-5815E3471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1A4EB-D4BA-4A65-BE5D-83232B715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7961F-22BA-436E-9FCC-96A4ED644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A73A6-2403-4ABC-B6BD-2BDD88F1A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4A15D-7A35-40C3-871D-867EA2964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F4214-5830-4E54-8C6B-B8C81F7A7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AD67E-3B45-4035-A486-DC92ABC6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A9C7A-31C8-48C3-A757-58C2295D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96175-C44A-48A3-A56C-C61E6959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3EC19-A2D0-4B17-BF8E-AD35BDF2147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1903E-20F3-46C4-824D-D61767259D4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0&amp;ed=1&amp;text=&#1073;&#1080;&#1086;&#1075;&#1088;&#1072;&#1092;&#1080;&#1103;%20&#1040;.%20&#1040;&#1093;&#1084;&#1072;&#1090;&#1086;&#1074;&#1086;&#1081;&amp;spsite=imwerden.de&amp;img_url=www.naurok.net%2Fcategory%2Fbio%2Fphoto%2F004.jpg&amp;rpt=simage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ffcc"/>
                </a:solidFill>
                <a:latin typeface="Tahoma"/>
              </a:rPr>
              <a:t>Анна Ахматова</a:t>
            </a:r>
            <a:endParaRPr b="0" lang="en-US" sz="7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Tahoma"/>
              </a:rPr>
              <a:t>1898-1966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Жизнь и творчество</a:t>
            </a: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.А. Ахматова-русская поэтесса. Родилас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1 июня 1889 года под Одессо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ерез год семья переехала в Царско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ело. "Читать училась по азбук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ьва Толстого", первое стихотворе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писала в одиннадцать лет. Училас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Царскосельской женской гимнази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Киеве Анна закончил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имназию в 1907.Поступил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 юридический факульт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ысших женских курсов в Киеве. Изуче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стории права и латыни идет успешно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о чисто юридические предме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ызывают охлаждение к курсам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1910 выходит замуж за Николая Гумиле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месте с Гумилевым становится сторонницей акмеизм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796000" y="1197000"/>
            <a:ext cx="31305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cc"/>
                </a:solidFill>
                <a:latin typeface="Tahoma"/>
              </a:rPr>
              <a:t>Акмеизм в творчестве А.Ахматовой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амым ярким представителем школы акмеизм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является Анна Ахматова. “Только Ахматов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шла как поэт путями открытого ею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ового художественного реализма, тесн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вязанного с традициями русско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лассической поэзии...” Блок назвал её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астоящим исключением” среди акмеистов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о в то же время раннее творчество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Анны Ахматовой выразило многи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инципы акмеистической эстетики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оспринятые поэтессой в индивидуальн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нимани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i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0360" y="1700280"/>
            <a:ext cx="2890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опреки акмеистическому призыв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90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инять действительность “во все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90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овокупности красот и безобразий”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90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лирика Ахматовой исполнен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90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глубочайшего драматизма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90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строго ощущения непрочности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90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иближающейся катастроф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90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менно поэтому так часто в её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90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тихах проходят мотивы беды, горя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90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тоски, близкой смерти. Голос беды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90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стоянно звучал в её творчеств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90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Лирика Ахматовой выделялась из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90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бщественно индифферентной поэзи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90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акмеизма и тем, что в ранних стихах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90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этессы уже обозначилась, более ил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90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енее отчётливо, основная тем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90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сего её последующего творчества – тема Родин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90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16360" y="0"/>
            <a:ext cx="42912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Ахматова создала яркую, эмоциональную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эзию; она преодолела разрыв межд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этической и разговорной речью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сё у неё построено на передач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ереживания, состояния души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а поисках наиболее точног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зрительного образа.  Рання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эзия Ахматовой уже предсказал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её замечательный дар открыт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человека. Пока ещё герой Ахматов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е обладает широкими горизонтами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о он серьёзен, искренен. И главное –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этесса любит человека, верит в ег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духовные силы и способно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003640" y="0"/>
            <a:ext cx="395928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Мне голос был. Он звал утешно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Он говорил: “Иди сюд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Оставь свой край глухой и грешный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Оставь Россию навсегд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Я кровь от рук твоих омою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Из сердца выну чёрный стыд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Я новым именем покро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Боль поражений и обид”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Но равнодушно и спокой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Руками я закрыла слух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Чтоб этой речью недостойн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Не осквернился скорбный ду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472000" y="1268280"/>
            <a:ext cx="3672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2T10:18:02Z</dcterms:created>
  <dc:creator>Елена</dc:creator>
  <dc:description/>
  <dc:language>en-US</dc:language>
  <cp:lastModifiedBy>Аня</cp:lastModifiedBy>
  <dcterms:modified xsi:type="dcterms:W3CDTF">2008-11-19T20:05:45Z</dcterms:modified>
  <cp:revision>6</cp:revision>
  <dc:subject/>
  <dc:title>Анна Ахматова</dc:title>
</cp:coreProperties>
</file>