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4DF-51DD-4350-AD45-D826F325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460-3EB0-4C49-8E60-4B7AFBB1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020-E5EC-46CB-A9DE-2698DD94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A70-3CB8-4A30-A4FB-E1F14D52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1EF-69D5-4E5A-A77F-DF22D3F4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44F-35D6-4E3C-8315-F089132C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072-E6F8-40B0-867E-6F47F19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8FB-0B7F-423B-ADB4-D4515694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20D-EFAC-491B-8D9E-E9C747AB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627-7528-4B78-8B16-36DA873C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654-5EE0-4E47-9677-B333492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79B-719C-4D52-89A3-CD23216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399-9C65-45F2-90E5-856C7F975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. Курган.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оицкая  улица  1-я 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ntitled-1"/>
          <p:cNvPicPr/>
          <p:nvPr/>
        </p:nvPicPr>
        <p:blipFill>
          <a:blip r:embed="rId1"/>
          <a:stretch/>
        </p:blipFill>
        <p:spPr>
          <a:xfrm>
            <a:off x="533520" y="2057400"/>
            <a:ext cx="79246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оицкая  улица  2-я  часть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Untitled-3"/>
          <p:cNvPicPr/>
          <p:nvPr/>
        </p:nvPicPr>
        <p:blipFill>
          <a:blip r:embed="rId1"/>
          <a:stretch/>
        </p:blipFill>
        <p:spPr>
          <a:xfrm>
            <a:off x="533520" y="1600200"/>
            <a:ext cx="8202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ластная  филармо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Untitled-4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  нижних  торговых  корпус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Untitled-5"/>
          <p:cNvPicPr/>
          <p:nvPr/>
        </p:nvPicPr>
        <p:blipFill>
          <a:blip r:embed="rId1"/>
          <a:stretch/>
        </p:blipFill>
        <p:spPr>
          <a:xfrm>
            <a:off x="380880" y="1523880"/>
            <a:ext cx="78487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орама  западной  части  города.  1910 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Untitled-6"/>
          <p:cNvPicPr/>
          <p:nvPr/>
        </p:nvPicPr>
        <p:blipFill>
          <a:blip r:embed="rId1"/>
          <a:stretch/>
        </p:blipFill>
        <p:spPr>
          <a:xfrm>
            <a:off x="380880" y="1523880"/>
            <a:ext cx="7848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ная  каланча – памятник  деревянного  зодч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Untitled-7"/>
          <p:cNvPicPr/>
          <p:nvPr/>
        </p:nvPicPr>
        <p:blipFill>
          <a:blip r:embed="rId1"/>
          <a:stretch/>
        </p:blipFill>
        <p:spPr>
          <a:xfrm>
            <a:off x="1066680" y="1600200"/>
            <a:ext cx="6324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одоуправление  ОА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Кургандрожжи 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Untitled-8"/>
          <p:cNvPicPr/>
          <p:nvPr/>
        </p:nvPicPr>
        <p:blipFill>
          <a:blip r:embed="rId1"/>
          <a:stretch/>
        </p:blipFill>
        <p:spPr>
          <a:xfrm>
            <a:off x="1523880" y="1600200"/>
            <a:ext cx="5181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То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Untitled-10"/>
          <p:cNvPicPr/>
          <p:nvPr/>
        </p:nvPicPr>
        <p:blipFill>
          <a:blip r:embed="rId1"/>
          <a:stretch/>
        </p:blipFill>
        <p:spPr>
          <a:xfrm>
            <a:off x="533520" y="1676520"/>
            <a:ext cx="777240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ской  сад  и  1-е  общественное  собр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Untitled-12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0T09:28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