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073-1939-4DF2-A989-B046AB17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162-D399-4347-A9AC-FFCCEF3A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276-2593-4042-8CD5-FCAC7A67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1DE-CF61-48AC-8330-ADE6EC95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3703-8B0A-4615-A8F7-AC5C337C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FC65-67FF-4DAF-8A42-E473E204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F3E4-28E0-40F6-8C64-9881A0D0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B7E7-3236-4035-B256-1B58C2F0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945E-B56B-4940-852F-61DA6B1B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7771-DF51-4733-ACB6-00364314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888B-981E-47F2-B456-B240C5FF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9C6-E644-47EA-9327-6F858B82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486C-96D6-4466-A262-289CD87C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E91F-77EA-455C-B720-DFC415E6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EB18-452B-4F16-A36B-089FF9B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DE02-CAB9-4774-9704-E44CEA02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CF79-2497-431E-A63E-01E15669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5C6-7064-4361-AD51-9F2F1B68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BA2-F904-4145-8DAF-F8CBB1E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499-E608-40A8-A5D2-DE62D435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353-8EC4-4D76-BA6F-696A15FB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12C4-67FE-40D6-BED3-D1E7DAD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123-0341-462D-B8BF-6B3CB275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CE3-6D3F-4D3B-8532-A7A68F4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B143-7681-489B-B8CA-531BB48F52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6EEB-88B7-4DF7-B6AF-CB8DED4914E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сип Эмильевич Мандельшта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Жизнь и творчество Осипа Мандельштам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71680" y="2643120"/>
            <a:ext cx="23810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ип Эмильевич Мандельшта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84360" y="2349360"/>
            <a:ext cx="5040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одился 15 января 1891 г. в Варшаве. В 1897 г. семья Мандельштамов переехала в Петербург. В 1911 году он был зачислен на историко-филологический факультет Петербургского университета, где обучался до 1917год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i?id=17993601&amp;tov=5"/>
          <p:cNvPicPr/>
          <p:nvPr/>
        </p:nvPicPr>
        <p:blipFill>
          <a:blip r:embed="rId1"/>
          <a:stretch/>
        </p:blipFill>
        <p:spPr>
          <a:xfrm>
            <a:off x="6072120" y="2928960"/>
            <a:ext cx="29876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акмеиз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чинал поэтическую карьеру как символис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конце 1912 г. вошёл в группу акмеистов. В акмеизме увидел, в первую очередь, апологию органического единения хаоса и жёстко организованного космоса в противовес размытости символизма. Дружбу с акмеистами (А. А. Ахматовой и Н. С. Гумилевым) считал одной из главных удач своей жизн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акмеиз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кмеизм для Мандельштама – "сообщничество сущих в заговоре против пустоты и небытия. Любите существование вещи больше самой вещи и своё бытие больше самих себя – вот высшая заповедь акмеизма". И второе – создание вечного искусств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акмеиз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ипу Эмильевичу было очень важно почувствовать себя в кругу единомышленников, хотя бы и очень узком. В 1913 г. была написана и статья Мандельштама «Утро акмеизма», увидевшая свет лишь шесть лет спуст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револю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волюцию он принял безоговорочно, связывая с ней представления о начале новой эры – эры утверждения социальной справедливости, подлинного обновления жизн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у что ж, попробуем: огромный, неуклюжий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рипучий поворот рул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емля плывёт. Мужайтесь, мужики,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воеобразие лирик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8388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жизни Мандельштам не был ни борцом, ни бойцом. Ему ведомы были обычные человеческие чувства, и среди них – чувство страха. Что касается стихов, то в них обнаруживается лишь то свойство натуры поэта, что названо последним.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Мандельштам и лир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исал Осип Эмильевич много, и никакие превратности судьбы не являлись препятствием для напряжённой творческой работы, он буквально горел и, как это ни парадоксально, был по-настоящему счастлив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840" y="835200"/>
            <a:ext cx="7778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0292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1938 году его арестовали вторично и отправили по этапу в лагерь, на Дальний Восток. Мандельштам скончался 27 декабря1938 г. от тифа в пересыльном лагере . Реабилитирован посмерт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156360" y="2997360"/>
            <a:ext cx="2624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35:50Z</dcterms:created>
  <dc:creator>Денис</dc:creator>
  <dc:description/>
  <dc:language>en-US</dc:language>
  <cp:lastModifiedBy>Аня</cp:lastModifiedBy>
  <dcterms:modified xsi:type="dcterms:W3CDTF">2008-11-19T20:10:31Z</dcterms:modified>
  <cp:revision>9</cp:revision>
  <dc:subject/>
  <dc:title>Осип Эмильевич Мандельштам</dc:title>
</cp:coreProperties>
</file>