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FFE-A2C2-48C0-B1C6-8EFA7930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76D-A330-4BF8-BC8D-A56ABE72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79F-BE9A-4E9F-96E1-43D30520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150-190C-4536-8CCB-37D5BB52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BAC-BB48-40D0-B05E-BA920872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2B4-50E1-498F-AC5C-85BB2D8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8DFD-69F3-40D7-A3BB-35E7C8D7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7E23-7371-4D70-83E2-AF0A9D9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895-3CA9-429D-A296-E7C1178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5E4-8911-4923-B09D-6D22BE2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968D-7090-4747-A040-38FF390A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DAF-A5F0-42F4-98A0-90A43CD0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3B9-281E-43F4-999B-59597FC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2E2-22DD-498D-BAC1-9F5BC6F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423C-E7D8-4D70-8C15-06D86B5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072-80B7-4C82-B356-671217B6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9EBF-0F9C-46D5-B2E8-62AE8D8B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487-0BC9-4D6B-B952-D280C74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E34-3BC6-4D36-91E3-CBE949E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E9A-A941-4614-AB8B-C76326B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1B1-735F-4D61-9565-245536A8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0F5-F505-43A5-BDEC-26B7CE2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5A4-44CE-4AB7-92D6-BDC78DB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4D9-17A1-4721-B6EA-9FC3FDC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36A9-4B42-4DD1-B94F-62E97D596D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E3E-A514-46BC-87D8-86FE62B7EF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ип Эмильевич Мандельшта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Жизнь и творчество Осипа Мандельштам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23810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ип Эмильевич Мандельшта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4360" y="2349360"/>
            <a:ext cx="5040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лся 15 января 1891 г. в Варшаве. В 1897 г. семья Мандельштамов переехала в Петербург. В 1911 году он был зачислен на историко-филологический факультет Петербургского университета, где обучался до 1917год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i?id=17993601&amp;tov=5"/>
          <p:cNvPicPr/>
          <p:nvPr/>
        </p:nvPicPr>
        <p:blipFill>
          <a:blip r:embed="rId1"/>
          <a:stretch/>
        </p:blipFill>
        <p:spPr>
          <a:xfrm>
            <a:off x="6072120" y="2928960"/>
            <a:ext cx="29876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чинал поэтическую карьеру как символис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онце 1912 г. вошёл в группу акмеистов. В акмеизме увидел, в первую очередь, апологию органического единения хаоса и жёстко организованного космоса в противовес размытости символизма. Дружбу с акмеистами (А. А. Ахматовой и Н. С. Гумилевым) считал одной из главных удач своей жизн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меизм для Мандельштама – "сообщничество сущих в заговоре против пустоты и небытия. Любите существование вещи больше самой вещи и своё бытие больше самих себя – вот высшая заповедь акмеизма". И второе – создание вечного искусств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ипу Эмильевичу было очень важно почувствовать себя в кругу единомышленников, хотя бы и очень узком. В 1913 г. была написана и статья Мандельштама «Утро акмеизма», увидевшая свет лишь шесть лет спуст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револю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волюцию он принял безоговорочно, связывая с ней представления о начале новой эры – эры утверждения социальной справедливости, подлинного обновления жизн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у что ж, попробуем: огромный, неуклюжий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рипучий поворот рул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плывёт. Мужайтесь, мужики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воеобразие лирик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8388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жизни Мандельштам не был ни борцом, ни бойцом. Ему ведомы были обычные человеческие чувства, и среди них – чувство страха. Что касается стихов, то в них обнаруживается лишь то свойство натуры поэта, что названо последним.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лир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исал Осип Эмильевич много, и никакие превратности судьбы не являлись препятствием для напряжённой творческой работы, он буквально горел и, как это ни парадоксально, был по-настоящему счастлив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840" y="835200"/>
            <a:ext cx="7778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029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1938 году его арестовали вторично и отправили по этапу в лагерь, на Дальний Восток. Мандельштам скончался 27 декабря1938 г. от тифа в пересыльном лагере . Реабилитирован посмерт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624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35:50Z</dcterms:created>
  <dc:creator>Денис</dc:creator>
  <dc:description/>
  <dc:language>en-US</dc:language>
  <cp:lastModifiedBy>Аня</cp:lastModifiedBy>
  <dcterms:modified xsi:type="dcterms:W3CDTF">2008-11-19T20:10:31Z</dcterms:modified>
  <cp:revision>9</cp:revision>
  <dc:subject/>
  <dc:title>Осип Эмильевич Мандельштам</dc:title>
</cp:coreProperties>
</file>