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61D8E-4262-4AB2-AE16-CC4442623C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6C74-6765-4148-8CE9-E6AAF2A5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EBADE-67E5-45E5-B349-808FB21C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806E6-E7D3-4C2E-894B-672405C993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13237-0059-40B8-A2F8-556F79D8A9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83DEB-C00A-42B8-AE43-691D30CF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123E7-9E5C-4227-AC6C-D7251DB4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384DF-D57A-4842-8154-DB8A3FAB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B3937-E841-4799-AF3F-B93CFF66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7237440" cy="53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DF06B-4201-439D-B098-EA190F6C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3D427-17AF-4757-9998-8D7944E0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D0DD6-D071-4A07-B6D3-272E4364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80AF8-6917-46F6-A621-F299A9EA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BBEED-AB59-4A9A-8681-270F52D3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18655-836E-4599-B12C-41447D9C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86A85-BF9D-4F51-9C03-5E7E1143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B7053-1225-4A4D-AFD4-9DB84A70BA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B0DA-0FCB-4890-AB42-F5E009D606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FAD1-0989-4943-B7F7-B296205C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4F9E-B1A8-4E5B-B906-6E3305C0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FFE5-976E-4930-A446-FCCF0ECF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CB65-1300-43DA-8E1B-77EB89CE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3230C-1073-4CE2-9968-B37AFDD3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7237440" cy="53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F424-FE03-4803-9F93-68B67CE1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F4E8-DC6D-4AD0-9322-A9FE5976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B5D4-BE54-4D30-B5BF-61CEEA34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50E8-FCF3-4057-8884-D665EF6F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1B4A-0454-44E6-9229-926E6982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B2B1-7707-480C-9135-D2BAA042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36C1-D6AA-4550-8D2C-56CF54F222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F9408-1DAD-48CB-8CA9-D4ABED6611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E95E9-D852-4644-BD63-A46F6398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27105-71A2-4F2E-8E65-B148F4C9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30372-A2BC-4B63-A6DB-E5EC8A11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BDD6A-0A22-48F8-B07E-A60BA0B6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8630B-DB36-44EC-916C-19FB5E3B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7237440" cy="53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80F7A-8D49-47D2-9B1A-562D2BB9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64D9A-3379-4E36-B67B-775B6CB6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92B71-7291-43F9-8836-5E0C7604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7805F-1B7F-4DFC-A4C8-A6FB448E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22B96-314E-452C-AA85-728C4E64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D898E-5FF2-47E3-A945-E12CEDC2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129AD-1625-4ABB-A7DA-37ECA1F956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726EB1-33F9-4F14-8121-BE7EF7C768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83F94-F343-4203-B57C-DB957AC2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6FF73C-5CCD-4946-97AB-6A014A7F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4564A9-5C0A-4914-AF9F-00145068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4DA018-2F95-4438-8227-D202771C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884DF1-051C-4C29-8DCD-18602301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7237440" cy="53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EE6074-1E97-43AA-A23F-20651572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43FE74-E0D3-43A4-A9A9-C41375F6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EA2C3A-250E-4901-8AC8-0C29CB98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366E76-CD49-4F1D-8E40-AB9C9907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D05F0C-EC1A-466C-ABCF-67FC8B38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3F9B07-922D-41A7-B609-F85D0B09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7237440" cy="53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F1F6C-0AEF-4C63-BBF9-8536E43D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48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1400" y="16092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48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1400" y="4140000"/>
            <a:ext cx="233028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22FE28-720C-4047-9120-1763AACBF1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B553-ED1E-4630-889E-FD7B1167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5920" y="41400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36F38-3D41-4088-86CA-33D38282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5920" y="1609200"/>
            <a:ext cx="353160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000"/>
            <a:ext cx="7237440" cy="23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E70E4-A960-4BD2-B419-4D148A18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150400" y="-6480"/>
            <a:ext cx="998280" cy="6869160"/>
            <a:chOff x="8150400" y="-6480"/>
            <a:chExt cx="998280" cy="68691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82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892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560" y="6499080"/>
            <a:ext cx="2000160" cy="2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512040"/>
            <a:ext cx="3657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251400" y="6499080"/>
            <a:ext cx="587520" cy="2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4E9104-0EAF-45F4-AD80-9CC8647949BD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664000" y="-6480"/>
            <a:ext cx="6484680" cy="6869160"/>
            <a:chOff x="2664000" y="-6480"/>
            <a:chExt cx="6484680" cy="686916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46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56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"/>
          <p:cNvSpPr/>
          <p:nvPr/>
        </p:nvSpPr>
        <p:spPr>
          <a:xfrm flipV="1">
            <a:off x="2666880" y="-1440"/>
            <a:ext cx="1800" cy="686088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5870160" y="6558120"/>
            <a:ext cx="20019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880040" y="6555960"/>
            <a:ext cx="58716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0104A0-41A5-415E-950B-F979E927F231}" type="slidenum">
              <a:rPr b="0" lang="ru-RU" sz="11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8150400" y="-6480"/>
            <a:ext cx="998280" cy="6869160"/>
            <a:chOff x="8150400" y="-6480"/>
            <a:chExt cx="998280" cy="686916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82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892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4723920" y="6556320"/>
            <a:ext cx="200052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4617b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35200" y="65563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6733800" y="6554880"/>
            <a:ext cx="585720" cy="2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04617b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04FBF67-3D93-41E1-9725-7E2C4276E3A3}" type="slidenum">
              <a:rPr b="0" lang="ru-RU" sz="11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 rot="21240000">
            <a:off x="596880" y="1006560"/>
            <a:ext cx="4319640" cy="4311720"/>
          </a:xfrm>
          <a:prstGeom prst="rect">
            <a:avLst/>
          </a:prstGeom>
          <a:solidFill>
            <a:srgbClr val="fafafa"/>
          </a:solidFill>
          <a:ln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24656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dbf5f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dbf5f9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8"/>
          </p:nvPr>
        </p:nvSpPr>
        <p:spPr>
          <a:xfrm>
            <a:off x="6251400" y="6555960"/>
            <a:ext cx="5875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dbf5f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E6FB8D-4D8F-4CCD-9B6D-D88BE29896B4}" type="slidenum">
              <a:rPr b="0" lang="ru-RU" sz="1100" spc="-1" strike="noStrike">
                <a:solidFill>
                  <a:srgbClr val="dbf5f9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8150400" y="-6480"/>
            <a:ext cx="998280" cy="6869160"/>
            <a:chOff x="8150400" y="-6480"/>
            <a:chExt cx="998280" cy="686916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998280" cy="686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8928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7440" cy="115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744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4243320" y="6558120"/>
            <a:ext cx="200016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4617b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65563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0"/>
          </p:nvPr>
        </p:nvSpPr>
        <p:spPr>
          <a:xfrm>
            <a:off x="6254280" y="6551280"/>
            <a:ext cx="585720" cy="2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100" spc="-1" strike="noStrike">
                <a:solidFill>
                  <a:srgbClr val="04617b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FAB8E2-91A5-46B5-8EB6-2DBC9A5A31F2}" type="slidenum">
              <a:rPr b="0" lang="ru-RU" sz="1100" spc="-1" strike="noStrike">
                <a:solidFill>
                  <a:srgbClr val="04617b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360360" y="928800"/>
            <a:ext cx="8513640" cy="4289400"/>
            <a:chOff x="360360" y="928800"/>
            <a:chExt cx="8513640" cy="428940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360360" y="928800"/>
              <a:ext cx="8513640" cy="42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60360" y="928800"/>
              <a:ext cx="8513640" cy="428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463680" y="420840"/>
            <a:ext cx="7399080" cy="5825880"/>
            <a:chOff x="463680" y="420840"/>
            <a:chExt cx="7399080" cy="582588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463680" y="420840"/>
              <a:ext cx="7399080" cy="58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63680" y="420840"/>
              <a:ext cx="7399080" cy="58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450720" y="225360"/>
            <a:ext cx="7253280" cy="1284480"/>
            <a:chOff x="450720" y="225360"/>
            <a:chExt cx="7253280" cy="1284480"/>
          </a:xfrm>
        </p:grpSpPr>
        <p:pic>
          <p:nvPicPr>
            <p:cNvPr id="271" name="" descr=""/>
            <p:cNvPicPr/>
            <p:nvPr/>
          </p:nvPicPr>
          <p:blipFill>
            <a:blip r:embed="rId1"/>
            <a:stretch/>
          </p:blipFill>
          <p:spPr>
            <a:xfrm>
              <a:off x="450720" y="225360"/>
              <a:ext cx="7253280" cy="12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450720" y="225360"/>
              <a:ext cx="725328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0" y="1643040"/>
            <a:ext cx="814392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больший акцент делается на рациональной психотерапии и специализированной аутогенной тренировк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14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285920" y="3071880"/>
            <a:ext cx="5715000" cy="34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281160" y="208080"/>
            <a:ext cx="7654680" cy="2625480"/>
            <a:chOff x="281160" y="208080"/>
            <a:chExt cx="7654680" cy="262548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281160" y="208080"/>
              <a:ext cx="7654680" cy="26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281160" y="208080"/>
              <a:ext cx="7654680" cy="26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95280" y="3933720"/>
            <a:ext cx="3071880" cy="1618560"/>
          </a:xfrm>
          <a:prstGeom prst="rect">
            <a:avLst/>
          </a:prstGeom>
          <a:solidFill>
            <a:srgbClr val="6d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Работа с пациентами, страдающих невротической формой заикани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"/>
          <p:cNvSpPr/>
          <p:nvPr/>
        </p:nvSpPr>
        <p:spPr>
          <a:xfrm>
            <a:off x="4356000" y="3933720"/>
            <a:ext cx="2932200" cy="1618560"/>
          </a:xfrm>
          <a:prstGeom prst="rect">
            <a:avLst/>
          </a:prstGeom>
          <a:solidFill>
            <a:srgbClr val="6dd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Работа с пациентами, страдающих неврозоподобной форм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икани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122560" y="2997360"/>
            <a:ext cx="218880" cy="718920"/>
          </a:xfrm>
          <a:prstGeom prst="line">
            <a:avLst/>
          </a:prstGeom>
          <a:ln w="63360">
            <a:solidFill>
              <a:srgbClr val="0461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997360"/>
            <a:ext cx="215640" cy="718920"/>
          </a:xfrm>
          <a:prstGeom prst="line">
            <a:avLst/>
          </a:prstGeom>
          <a:ln w="63360">
            <a:solidFill>
              <a:srgbClr val="0461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86c1b"/>
                </a:solidFill>
                <a:uFillTx/>
                <a:latin typeface="Arial"/>
              </a:rPr>
              <a:t>Пациенты с невротической формой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7967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роводится массивная психотерапевтическая работа, которая в процессе логопедической работы принимает характер усложненных функциональных тренировок вне стен стационара, а в условиях логопедического кабинета используется метод моделирования различных ситуаций общения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86c1b"/>
                </a:solidFill>
                <a:uFillTx/>
                <a:latin typeface="Trebuchet MS"/>
              </a:rPr>
              <a:t>Пациенты с неврозоподобной формой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609200"/>
            <a:ext cx="80280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Основным направлением логопедической работы является нормализация двигательных речевых стереотипов, расширение словарного запаса и развитие речи как средства общения. Эти пациенты в большей мере нуждаются в индивидуальных логопедических занятиях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79460d"/>
                </a:solidFill>
                <a:uFillTx/>
                <a:latin typeface="Trebuchet MS"/>
              </a:rPr>
              <a:t>Особенности данной методики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609200"/>
            <a:ext cx="82440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63680" indent="-46368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Trebuchet MS"/>
              <a:buAutoNum type="arabicPeriod"/>
              <a:tabLst>
                <a:tab algn="l" pos="1133640"/>
                <a:tab algn="l" pos="2048040"/>
                <a:tab algn="l" pos="2962440"/>
                <a:tab algn="l" pos="3876840"/>
                <a:tab algn="l" pos="4791240"/>
                <a:tab algn="l" pos="5705640"/>
                <a:tab algn="l" pos="6620040"/>
                <a:tab algn="l" pos="7534440"/>
                <a:tab algn="l" pos="8448840"/>
                <a:tab algn="l" pos="9363240"/>
                <a:tab algn="l" pos="1027764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обязательная дифференциация заикающихся с учетом клинической принадлежност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63680" indent="-46368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Trebuchet MS"/>
              <a:buAutoNum type="arabicPeriod"/>
              <a:tabLst>
                <a:tab algn="l" pos="1133640"/>
                <a:tab algn="l" pos="2048040"/>
                <a:tab algn="l" pos="2962440"/>
                <a:tab algn="l" pos="3876840"/>
                <a:tab algn="l" pos="4791240"/>
                <a:tab algn="l" pos="5705640"/>
                <a:tab algn="l" pos="6620040"/>
                <a:tab algn="l" pos="7534440"/>
                <a:tab algn="l" pos="8448840"/>
                <a:tab algn="l" pos="9363240"/>
                <a:tab algn="l" pos="1027764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рименение всего арсенала комплексного медико-педагогического воздействия: психотерапии, лекарственной терапии, логопедических и логоритмических занятий, функциональных тренировок, индивидуальных, групповых и коллективных занятий, лечебной физкультуры, физиотерапии и общеукрепляющего лечения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 u="sng">
                <a:solidFill>
                  <a:srgbClr val="04617b"/>
                </a:solidFill>
                <a:uFillTx/>
                <a:latin typeface="Trebuchet MS"/>
              </a:rPr>
              <a:t>Спасибо за внимание!!!</a:t>
            </a:r>
            <a:endParaRPr b="1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1143000" y="0"/>
            <a:ext cx="5784840" cy="4422600"/>
            <a:chOff x="1143000" y="0"/>
            <a:chExt cx="5784840" cy="442260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1143000" y="0"/>
              <a:ext cx="5784840" cy="44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1143000" y="0"/>
              <a:ext cx="5784840" cy="44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14240" y="4643280"/>
            <a:ext cx="678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урс реабилитации включает комплекс медико-педагогических мероприятий, включающих медикаментозное, психотерапевтическое, логопедическое и логоритмическое воздействие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условиях стационара длится 45 дней и подразделяется на несколько этапов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71680" y="2357280"/>
            <a:ext cx="712440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2640" indent="-512640">
              <a:spcBef>
                <a:spcPts val="601"/>
              </a:spcBef>
              <a:buClr>
                <a:srgbClr val="04617b"/>
              </a:buClr>
              <a:buSzPct val="73000"/>
              <a:buFont typeface="Trebuchet MS"/>
              <a:buAutoNum type="arabicPeriod"/>
              <a:tabLst>
                <a:tab algn="l" pos="1152360"/>
                <a:tab algn="l" pos="2066760"/>
                <a:tab algn="l" pos="2981160"/>
                <a:tab algn="l" pos="3895560"/>
                <a:tab algn="l" pos="4809960"/>
                <a:tab algn="l" pos="5724360"/>
                <a:tab algn="l" pos="6638760"/>
                <a:tab algn="l" pos="7553160"/>
                <a:tab algn="l" pos="8467560"/>
                <a:tab algn="l" pos="9381960"/>
                <a:tab algn="l" pos="102963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Подготовительный этап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512640" indent="-512640">
              <a:spcBef>
                <a:spcPts val="601"/>
              </a:spcBef>
              <a:buClr>
                <a:srgbClr val="04617b"/>
              </a:buClr>
              <a:buSzPct val="73000"/>
              <a:buFont typeface="Trebuchet MS"/>
              <a:buAutoNum type="arabicPeriod"/>
              <a:tabLst>
                <a:tab algn="l" pos="1152360"/>
                <a:tab algn="l" pos="2066760"/>
                <a:tab algn="l" pos="2981160"/>
                <a:tab algn="l" pos="3895560"/>
                <a:tab algn="l" pos="4809960"/>
                <a:tab algn="l" pos="5724360"/>
                <a:tab algn="l" pos="6638760"/>
                <a:tab algn="l" pos="7553160"/>
                <a:tab algn="l" pos="8467560"/>
                <a:tab algn="l" pos="9381960"/>
                <a:tab algn="l" pos="102963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Этап активной терапии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512640" indent="-512640">
              <a:spcBef>
                <a:spcPts val="601"/>
              </a:spcBef>
              <a:buClr>
                <a:srgbClr val="04617b"/>
              </a:buClr>
              <a:buSzPct val="73000"/>
              <a:buFont typeface="Trebuchet MS"/>
              <a:buAutoNum type="arabicPeriod"/>
              <a:tabLst>
                <a:tab algn="l" pos="1152360"/>
                <a:tab algn="l" pos="2066760"/>
                <a:tab algn="l" pos="2981160"/>
                <a:tab algn="l" pos="3895560"/>
                <a:tab algn="l" pos="4809960"/>
                <a:tab algn="l" pos="5724360"/>
                <a:tab algn="l" pos="6638760"/>
                <a:tab algn="l" pos="7553160"/>
                <a:tab algn="l" pos="8467560"/>
                <a:tab algn="l" pos="9381960"/>
                <a:tab algn="l" pos="102963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Этап активных тренировок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512640" indent="-512640">
              <a:spcBef>
                <a:spcPts val="601"/>
              </a:spcBef>
              <a:buClr>
                <a:srgbClr val="04617b"/>
              </a:buClr>
              <a:buSzPct val="73000"/>
              <a:buFont typeface="Trebuchet MS"/>
              <a:buAutoNum type="arabicPeriod"/>
              <a:tabLst>
                <a:tab algn="l" pos="1152360"/>
                <a:tab algn="l" pos="2066760"/>
                <a:tab algn="l" pos="2981160"/>
                <a:tab algn="l" pos="3895560"/>
                <a:tab algn="l" pos="4809960"/>
                <a:tab algn="l" pos="5724360"/>
                <a:tab algn="l" pos="6638760"/>
                <a:tab algn="l" pos="7553160"/>
                <a:tab algn="l" pos="8467560"/>
                <a:tab algn="l" pos="9381960"/>
                <a:tab algn="l" pos="102963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Заключительный этап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512640" indent="-512640">
              <a:spcBef>
                <a:spcPts val="601"/>
              </a:spcBef>
              <a:tabLst>
                <a:tab algn="l" pos="0"/>
                <a:tab algn="l" pos="1152360"/>
                <a:tab algn="l" pos="2066760"/>
                <a:tab algn="l" pos="2981160"/>
                <a:tab algn="l" pos="3895560"/>
                <a:tab algn="l" pos="4809960"/>
                <a:tab algn="l" pos="5724360"/>
                <a:tab algn="l" pos="6638760"/>
                <a:tab algn="l" pos="7553160"/>
                <a:tab algn="l" pos="8467560"/>
                <a:tab algn="l" pos="9381960"/>
                <a:tab algn="l" pos="102963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9320" y="573120"/>
            <a:ext cx="810720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304920" y="317520"/>
            <a:ext cx="7538760" cy="826920"/>
            <a:chOff x="304920" y="317520"/>
            <a:chExt cx="7538760" cy="826920"/>
          </a:xfrm>
        </p:grpSpPr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304920" y="317520"/>
              <a:ext cx="753876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04920" y="317520"/>
              <a:ext cx="753876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457200" y="1609560"/>
            <a:ext cx="723888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Длительность - 5-7 дней. На этом этапе с целью угашения патологических навыков в первую неделю пребывания в клинике организуется "режим молчания" и режим "ограничения речи", на фоне которых начинают проводить психологические, психотерапевтические и логопедические занят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1440"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219240" y="378000"/>
            <a:ext cx="7759440" cy="809280"/>
            <a:chOff x="219240" y="378000"/>
            <a:chExt cx="7759440" cy="80928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219240" y="378000"/>
              <a:ext cx="775944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219240" y="378000"/>
              <a:ext cx="7759440" cy="80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-252360" y="1341360"/>
            <a:ext cx="867564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Длительность - 20 дней. На этом этапе проводятся систематические коллективные и индивидуальные занятия с логопедом, специализированная аутогенная тренировка, индивидуальная психотерапия и медикаментозное лечение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225360" y="317520"/>
            <a:ext cx="7532640" cy="826920"/>
            <a:chOff x="225360" y="317520"/>
            <a:chExt cx="7532640" cy="82692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225360" y="317520"/>
              <a:ext cx="753264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25360" y="317520"/>
              <a:ext cx="753264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57200" y="160956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Длительность - 10 дней. На этом этапе вводятся функциональные тренировки, во время которых пациенты тренируют свою речь за пределами стационара. Все лечебные воздействия направлены на реализацию речевого общения пациентов в усложняющихся речевых ситуациях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255600" y="298440"/>
            <a:ext cx="7643880" cy="846000"/>
            <a:chOff x="255600" y="298440"/>
            <a:chExt cx="7643880" cy="84600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255600" y="298440"/>
              <a:ext cx="764388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55600" y="298440"/>
              <a:ext cx="764388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428760" y="1428840"/>
            <a:ext cx="72388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Данный этап включает подготовку пациентов к наиболее сложной для них речевой ситуации - публичному выступлению перед многолюдной аудиторией, которое проводится в виде концертной программы. Все звенья комплексного лечебно-педагогического воздействия направлены на подготовку пациентов к этому серьезному речевому испытанию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57120" y="571680"/>
            <a:ext cx="75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Перед выпиской из стационара каждый из специалистов проводит с пациентами индивидуальную беседу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928800" y="2143080"/>
            <a:ext cx="6481800" cy="4284720"/>
            <a:chOff x="928800" y="2143080"/>
            <a:chExt cx="6481800" cy="428472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928800" y="2143080"/>
              <a:ext cx="6481800" cy="42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928800" y="2143080"/>
              <a:ext cx="648180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414360" y="225360"/>
            <a:ext cx="7350120" cy="846360"/>
            <a:chOff x="414360" y="225360"/>
            <a:chExt cx="7350120" cy="846360"/>
          </a:xfrm>
        </p:grpSpPr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414360" y="225360"/>
              <a:ext cx="735012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14360" y="225360"/>
              <a:ext cx="735012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14200" y="3500280"/>
            <a:ext cx="3071880" cy="1357560"/>
          </a:xfrm>
          <a:prstGeom prst="ellipse">
            <a:avLst/>
          </a:prstGeom>
          <a:solidFill>
            <a:srgbClr val="77d9e8"/>
          </a:solidFill>
          <a:ln w="399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"/>
          <p:cNvSpPr/>
          <p:nvPr/>
        </p:nvSpPr>
        <p:spPr>
          <a:xfrm>
            <a:off x="357120" y="1785960"/>
            <a:ext cx="2571840" cy="1357200"/>
          </a:xfrm>
          <a:prstGeom prst="ellipse">
            <a:avLst/>
          </a:prstGeom>
          <a:solidFill>
            <a:srgbClr val="77d9e8"/>
          </a:solidFill>
          <a:ln w="399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"/>
          <p:cNvSpPr/>
          <p:nvPr/>
        </p:nvSpPr>
        <p:spPr>
          <a:xfrm>
            <a:off x="4429080" y="1428840"/>
            <a:ext cx="3643200" cy="1357200"/>
          </a:xfrm>
          <a:prstGeom prst="ellipse">
            <a:avLst/>
          </a:prstGeom>
          <a:solidFill>
            <a:srgbClr val="77d9e8"/>
          </a:solidFill>
          <a:ln w="399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"/>
          <p:cNvSpPr/>
          <p:nvPr/>
        </p:nvSpPr>
        <p:spPr>
          <a:xfrm>
            <a:off x="1928880" y="5000760"/>
            <a:ext cx="3571920" cy="1357200"/>
          </a:xfrm>
          <a:prstGeom prst="ellipse">
            <a:avLst/>
          </a:prstGeom>
          <a:solidFill>
            <a:srgbClr val="77d9e8"/>
          </a:solidFill>
          <a:ln w="399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"/>
          <p:cNvSpPr/>
          <p:nvPr/>
        </p:nvSpPr>
        <p:spPr>
          <a:xfrm>
            <a:off x="4357800" y="3357720"/>
            <a:ext cx="3714480" cy="1357200"/>
          </a:xfrm>
          <a:prstGeom prst="ellipse">
            <a:avLst/>
          </a:prstGeom>
          <a:solidFill>
            <a:srgbClr val="77d9e8"/>
          </a:solidFill>
          <a:ln w="399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"/>
          <p:cNvSpPr/>
          <p:nvPr/>
        </p:nvSpPr>
        <p:spPr>
          <a:xfrm>
            <a:off x="2214720" y="5429160"/>
            <a:ext cx="307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сопряженная реч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"/>
          <p:cNvSpPr/>
          <p:nvPr/>
        </p:nvSpPr>
        <p:spPr>
          <a:xfrm>
            <a:off x="4929120" y="185724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отраженная реч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"/>
          <p:cNvSpPr/>
          <p:nvPr/>
        </p:nvSpPr>
        <p:spPr>
          <a:xfrm>
            <a:off x="4429080" y="378612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чтение стихов и проз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860640"/>
            <a:ext cx="33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вопросно-ответна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реч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"/>
          <p:cNvSpPr/>
          <p:nvPr/>
        </p:nvSpPr>
        <p:spPr>
          <a:xfrm>
            <a:off x="468360" y="2060640"/>
            <a:ext cx="235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спонтанная реч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62" name=""/>
          <p:cNvCxnSpPr/>
          <p:nvPr/>
        </p:nvCxnSpPr>
        <p:spPr>
          <a:xfrm flipH="1">
            <a:off x="1715760" y="1144440"/>
            <a:ext cx="714960" cy="286560"/>
          </a:xfrm>
          <a:prstGeom prst="straightConnector1">
            <a:avLst/>
          </a:prstGeom>
          <a:ln w="63360">
            <a:solidFill>
              <a:srgbClr val="0f6fc6"/>
            </a:solidFill>
            <a:miter/>
            <a:tailEnd len="med" type="triangle" w="med"/>
          </a:ln>
        </p:spPr>
      </p:cxnSp>
      <p:cxnSp>
        <p:nvCxnSpPr>
          <p:cNvPr id="263" name=""/>
          <p:cNvCxnSpPr/>
          <p:nvPr/>
        </p:nvCxnSpPr>
        <p:spPr>
          <a:xfrm flipH="1">
            <a:off x="431280" y="1144080"/>
            <a:ext cx="2501280" cy="358200"/>
          </a:xfrm>
          <a:prstGeom prst="straightConnector1">
            <a:avLst/>
          </a:prstGeom>
          <a:ln w="63360">
            <a:solidFill>
              <a:srgbClr val="0f6fc6"/>
            </a:solidFill>
            <a:miter/>
            <a:tailEnd len="med" type="triangle" w="med"/>
          </a:ln>
        </p:spPr>
      </p:cxnSp>
      <p:cxnSp>
        <p:nvCxnSpPr>
          <p:cNvPr id="264" name=""/>
          <p:cNvCxnSpPr/>
          <p:nvPr/>
        </p:nvCxnSpPr>
        <p:spPr>
          <a:xfrm>
            <a:off x="1716120" y="1144440"/>
            <a:ext cx="2358000" cy="572400"/>
          </a:xfrm>
          <a:prstGeom prst="straightConnector1">
            <a:avLst/>
          </a:prstGeom>
          <a:ln w="63360">
            <a:solidFill>
              <a:srgbClr val="0f6fc6"/>
            </a:solidFill>
            <a:miter/>
            <a:tailEnd len="med" type="triangle" w="med"/>
          </a:ln>
        </p:spPr>
      </p:cxnSp>
      <p:cxnSp>
        <p:nvCxnSpPr>
          <p:cNvPr id="265" name=""/>
          <p:cNvCxnSpPr/>
          <p:nvPr/>
        </p:nvCxnSpPr>
        <p:spPr>
          <a:xfrm flipH="1">
            <a:off x="-3960" y="1144080"/>
            <a:ext cx="3717000" cy="2520"/>
          </a:xfrm>
          <a:prstGeom prst="straightConnector1">
            <a:avLst/>
          </a:prstGeom>
          <a:ln w="63360">
            <a:solidFill>
              <a:srgbClr val="0f6fc6"/>
            </a:solidFill>
            <a:miter/>
            <a:tailEnd len="med" type="triangle" w="med"/>
          </a:ln>
        </p:spPr>
      </p:cxnSp>
      <p:cxnSp>
        <p:nvCxnSpPr>
          <p:cNvPr id="266" name=""/>
          <p:cNvCxnSpPr/>
          <p:nvPr/>
        </p:nvCxnSpPr>
        <p:spPr>
          <a:xfrm>
            <a:off x="4289040" y="1073160"/>
            <a:ext cx="500760" cy="288000"/>
          </a:xfrm>
          <a:prstGeom prst="straightConnector1">
            <a:avLst/>
          </a:prstGeom>
          <a:ln w="63360">
            <a:solidFill>
              <a:srgbClr val="0f6fc6"/>
            </a:solidFill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1:30:13Z</dcterms:created>
  <dc:creator>111</dc:creator>
  <dc:description/>
  <dc:language>en-US</dc:language>
  <cp:lastModifiedBy>user</cp:lastModifiedBy>
  <dcterms:modified xsi:type="dcterms:W3CDTF">2010-06-02T07:12:36Z</dcterms:modified>
  <cp:revision>13</cp:revision>
  <dc:subject/>
  <dc:title>Коррекция  заикания  по методике  Асатиани Н.М.</dc:title>
</cp:coreProperties>
</file>