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BD020-1CCD-4ED7-8CA5-98137B434E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D01A3-28BC-43CA-984F-394799A8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BC7B4-E133-4C9D-BBBA-C24751F5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AD55F-13A0-4BB3-A095-891DC1A9FD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5C8D8-20DA-482B-B16E-ACB67777F3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820DA-727D-4DEC-BC07-B635AF5B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22FF1-2DD2-4BE7-8E3B-86CFF7E0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A96AA-6C8E-4C0F-9EF9-B623DE3F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6A11C-7A6D-4DDE-8EE9-628D1288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7237440" cy="53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09B10-7BAF-4E01-91CD-52C8CCFE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EB750-801E-4608-BD96-D5D3C3B3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3FA1E-18F8-4971-9CD5-ABB75A73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9DBB5-8CDE-4A17-9ED0-974B1389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EEF2E-D89B-408D-AAFA-B7228EFF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E731C-526E-474D-83AB-2C403327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3DF56-98C5-410A-8D6F-F16194E1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6214B-05DB-4F4E-90F5-7E42294F24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C536-F100-4D8D-B16F-1AA0D770B4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E4A7-9F2A-4E89-ABCA-B8781F39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726C-AF06-46E6-8807-3AEFE731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AEC9-595A-43B1-B331-9CE96A33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5EA4-DC7F-47D0-BDE5-391023C7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3BF21-D5A2-457E-A909-AA558B45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7237440" cy="53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863A-2ECB-4B57-A170-F384A893B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5167-E1ED-4B98-8381-29EF4338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4F68-A7E6-496E-B21C-126BD76D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EE46-93E9-45AA-898F-E71DFF7A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BA61-5B28-4FDE-94AD-43637DB3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C984-7EE4-4010-91A1-709BF686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FA86-1570-4B85-B8B7-201DADF737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65D16A-CA18-4369-9F62-B79D7AFA01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1A390-B21E-4ECC-BE60-E0F7489A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FA53A-BC7A-4FA4-90FF-8A295A3E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748D7-869F-40BF-AC97-F3C3C145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A531AD-3CCF-4486-983E-36382C56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CC9EFB-51EE-42C0-84E4-0579F9D1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7237440" cy="53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FF9781-4979-485C-98AA-8E20284D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053989-BDD3-4CF4-9195-872F9935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464CC-5BA6-4E97-A431-D18AFF5D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8AD4C1-1D92-4B22-AEC3-9CB16361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36962-9387-41C3-9542-791B9A42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67B029-F0BF-4723-A01D-073B0B50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EF60CD-8F99-466A-8E49-8F71B91571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07CC1E-9EEB-411B-B7E0-9085408461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ED9A9-CEA3-4C63-9C60-130B17A2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EB0399-E817-47F2-8519-862E29EC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F75F2C-8821-4045-ACAB-780BF07B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7AA301-39D0-498A-8221-150F95F2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FCBA18-0F67-41FE-9E2A-4FC93AFF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7237440" cy="53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6C014D-1BE2-4C20-A126-9BEE0523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E08385-4A5F-4C8F-BBDB-A616E740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601511-6FB8-4404-8341-59C279B0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E7A819-91EA-4D46-BC38-1331A5BA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961E5F-8B63-45FD-BCBA-72EE7512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E534FD-199A-42F8-88DF-504B94C5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7237440" cy="53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0739C-0474-4F21-8F63-98A74339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1BEDAC-1D75-4758-BC37-AD0E600BE7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F6DCB-2DFA-49B9-912F-18CF795A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18D49-CF1A-40CA-9DB5-4203F9E6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7D322-20B9-4ACC-9352-E84539B2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150400" y="-6480"/>
            <a:ext cx="998280" cy="6869160"/>
            <a:chOff x="8150400" y="-6480"/>
            <a:chExt cx="998280" cy="686916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9982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892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560" y="6499080"/>
            <a:ext cx="2000160" cy="2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512040"/>
            <a:ext cx="3657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251400" y="6499080"/>
            <a:ext cx="587520" cy="2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9AF97D-BE96-4467-8250-FF428289E0E4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664000" y="-6480"/>
            <a:ext cx="6484680" cy="6869160"/>
            <a:chOff x="2664000" y="-6480"/>
            <a:chExt cx="6484680" cy="686916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46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56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"/>
          <p:cNvSpPr/>
          <p:nvPr/>
        </p:nvSpPr>
        <p:spPr>
          <a:xfrm flipV="1">
            <a:off x="2666880" y="-1440"/>
            <a:ext cx="1800" cy="686088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5870160" y="6558120"/>
            <a:ext cx="20019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880040" y="6555960"/>
            <a:ext cx="58716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A5FD9B-2886-498E-92D9-58289DF7EF9C}" type="slidenum">
              <a:rPr b="0" lang="ru-RU" sz="11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8150400" y="-6480"/>
            <a:ext cx="998280" cy="6869160"/>
            <a:chOff x="8150400" y="-6480"/>
            <a:chExt cx="998280" cy="6869160"/>
          </a:xfrm>
        </p:grpSpPr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9982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892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4723920" y="6556320"/>
            <a:ext cx="200052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4617b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35200" y="6556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6"/>
          </p:nvPr>
        </p:nvSpPr>
        <p:spPr>
          <a:xfrm>
            <a:off x="6733800" y="6554880"/>
            <a:ext cx="585720" cy="2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04617b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D166D0-8FEE-4408-AF87-605DC1BC1951}" type="slidenum">
              <a:rPr b="0" lang="ru-RU" sz="11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rot="21240000">
            <a:off x="596880" y="1006560"/>
            <a:ext cx="4319640" cy="4311720"/>
          </a:xfrm>
          <a:prstGeom prst="rect">
            <a:avLst/>
          </a:prstGeom>
          <a:solidFill>
            <a:srgbClr val="fafafa"/>
          </a:solidFill>
          <a:ln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24656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dbf5f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dbf5f9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8"/>
          </p:nvPr>
        </p:nvSpPr>
        <p:spPr>
          <a:xfrm>
            <a:off x="6251400" y="6555960"/>
            <a:ext cx="5875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dbf5f9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2A2859-F9E9-4BA4-BFE0-6C2B79D93804}" type="slidenum">
              <a:rPr b="0" lang="ru-RU" sz="1100" spc="-1" strike="noStrike">
                <a:solidFill>
                  <a:srgbClr val="dbf5f9"/>
                </a:solidFill>
                <a:latin typeface="Times New Roman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8150400" y="-6480"/>
            <a:ext cx="998280" cy="6869160"/>
            <a:chOff x="8150400" y="-6480"/>
            <a:chExt cx="998280" cy="686916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9982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892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424332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4617b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65563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0"/>
          </p:nvPr>
        </p:nvSpPr>
        <p:spPr>
          <a:xfrm>
            <a:off x="6254280" y="6551280"/>
            <a:ext cx="5857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04617b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03E948-1583-4A74-8828-38BF7436328B}" type="slidenum">
              <a:rPr b="0" lang="ru-RU" sz="11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360360" y="928800"/>
            <a:ext cx="8513640" cy="4289400"/>
            <a:chOff x="360360" y="928800"/>
            <a:chExt cx="8513640" cy="4289400"/>
          </a:xfrm>
        </p:grpSpPr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360360" y="928800"/>
              <a:ext cx="8513640" cy="42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60360" y="928800"/>
              <a:ext cx="8513640" cy="428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463680" y="420840"/>
            <a:ext cx="7399080" cy="5825880"/>
            <a:chOff x="463680" y="420840"/>
            <a:chExt cx="7399080" cy="582588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463680" y="420840"/>
              <a:ext cx="7399080" cy="58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63680" y="420840"/>
              <a:ext cx="7399080" cy="58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450720" y="225360"/>
            <a:ext cx="7253280" cy="1284480"/>
            <a:chOff x="450720" y="225360"/>
            <a:chExt cx="7253280" cy="1284480"/>
          </a:xfrm>
        </p:grpSpPr>
        <p:pic>
          <p:nvPicPr>
            <p:cNvPr id="271" name="" descr=""/>
            <p:cNvPicPr/>
            <p:nvPr/>
          </p:nvPicPr>
          <p:blipFill>
            <a:blip r:embed="rId1"/>
            <a:stretch/>
          </p:blipFill>
          <p:spPr>
            <a:xfrm>
              <a:off x="450720" y="225360"/>
              <a:ext cx="7253280" cy="12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450720" y="225360"/>
              <a:ext cx="725328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0" y="1643040"/>
            <a:ext cx="814392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 algn="ctr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больший акцент делается на рациональной психотерапии и специализированной аутогенной тренировк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14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285920" y="3071880"/>
            <a:ext cx="5715000" cy="34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281160" y="208080"/>
            <a:ext cx="7654680" cy="2625480"/>
            <a:chOff x="281160" y="208080"/>
            <a:chExt cx="7654680" cy="262548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281160" y="208080"/>
              <a:ext cx="7654680" cy="26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281160" y="208080"/>
              <a:ext cx="7654680" cy="26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95280" y="3933720"/>
            <a:ext cx="3071880" cy="1618560"/>
          </a:xfrm>
          <a:prstGeom prst="rect">
            <a:avLst/>
          </a:prstGeom>
          <a:solidFill>
            <a:srgbClr val="6d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Работа с пациентами, страдающих невротической формой заикани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"/>
          <p:cNvSpPr/>
          <p:nvPr/>
        </p:nvSpPr>
        <p:spPr>
          <a:xfrm>
            <a:off x="4356000" y="3933720"/>
            <a:ext cx="2932200" cy="1618560"/>
          </a:xfrm>
          <a:prstGeom prst="rect">
            <a:avLst/>
          </a:prstGeom>
          <a:solidFill>
            <a:srgbClr val="6d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Работа с пациентами, страдающих неврозоподобной формо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икани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122560" y="2997360"/>
            <a:ext cx="218880" cy="718920"/>
          </a:xfrm>
          <a:prstGeom prst="line">
            <a:avLst/>
          </a:prstGeom>
          <a:ln w="63360">
            <a:solidFill>
              <a:srgbClr val="0461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997360"/>
            <a:ext cx="215640" cy="718920"/>
          </a:xfrm>
          <a:prstGeom prst="line">
            <a:avLst/>
          </a:prstGeom>
          <a:ln w="63360">
            <a:solidFill>
              <a:srgbClr val="0461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86c1b"/>
                </a:solidFill>
                <a:uFillTx/>
                <a:latin typeface="Arial"/>
              </a:rPr>
              <a:t>Пациенты с невротической формой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7967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Проводится массивная психотерапевтическая работа, которая в процессе логопедической работы принимает характер усложненных функциональных тренировок вне стен стационара, а в условиях логопедического кабинета используется метод моделирования различных ситуаций общения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86c1b"/>
                </a:solidFill>
                <a:uFillTx/>
                <a:latin typeface="Trebuchet MS"/>
              </a:rPr>
              <a:t>Пациенты с неврозоподобной формой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609200"/>
            <a:ext cx="80280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Основным направлением логопедической работы является нормализация двигательных речевых стереотипов, расширение словарного запаса и развитие речи как средства общения. Эти пациенты в большей мере нуждаются в индивидуальных логопедических занятиях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79460d"/>
                </a:solidFill>
                <a:uFillTx/>
                <a:latin typeface="Trebuchet MS"/>
              </a:rPr>
              <a:t>Особенности данной методики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1609200"/>
            <a:ext cx="82440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63680" indent="-46368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Trebuchet MS"/>
              <a:buAutoNum type="arabicPeriod"/>
              <a:tabLst>
                <a:tab algn="l" pos="1133640"/>
                <a:tab algn="l" pos="2048040"/>
                <a:tab algn="l" pos="2962440"/>
                <a:tab algn="l" pos="3876840"/>
                <a:tab algn="l" pos="4791240"/>
                <a:tab algn="l" pos="5705640"/>
                <a:tab algn="l" pos="6620040"/>
                <a:tab algn="l" pos="7534440"/>
                <a:tab algn="l" pos="8448840"/>
                <a:tab algn="l" pos="9363240"/>
                <a:tab algn="l" pos="1027764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обязательная дифференциация заикающихся с учетом клинической принадлежност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Trebuchet MS"/>
              <a:buAutoNum type="arabicPeriod"/>
              <a:tabLst>
                <a:tab algn="l" pos="1133640"/>
                <a:tab algn="l" pos="2048040"/>
                <a:tab algn="l" pos="2962440"/>
                <a:tab algn="l" pos="3876840"/>
                <a:tab algn="l" pos="4791240"/>
                <a:tab algn="l" pos="5705640"/>
                <a:tab algn="l" pos="6620040"/>
                <a:tab algn="l" pos="7534440"/>
                <a:tab algn="l" pos="8448840"/>
                <a:tab algn="l" pos="9363240"/>
                <a:tab algn="l" pos="1027764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применение всего арсенала комплексного медико-педагогического воздействия: психотерапии, лекарственной терапии, логопедических и логоритмических занятий, функциональных тренировок, индивидуальных, групповых и коллективных занятий, лечебной физкультуры, физиотерапии и общеукрепляющего лечения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04617b"/>
                </a:solidFill>
                <a:uFillTx/>
                <a:latin typeface="Trebuchet MS"/>
              </a:rPr>
              <a:t>Спасибо за внимание!!!</a:t>
            </a:r>
            <a:endParaRPr b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1143000" y="0"/>
            <a:ext cx="5784840" cy="4422600"/>
            <a:chOff x="1143000" y="0"/>
            <a:chExt cx="5784840" cy="4422600"/>
          </a:xfrm>
        </p:grpSpPr>
        <p:pic>
          <p:nvPicPr>
            <p:cNvPr id="224" name="" descr=""/>
            <p:cNvPicPr/>
            <p:nvPr/>
          </p:nvPicPr>
          <p:blipFill>
            <a:blip r:embed="rId1"/>
            <a:stretch/>
          </p:blipFill>
          <p:spPr>
            <a:xfrm>
              <a:off x="1143000" y="0"/>
              <a:ext cx="5784840" cy="44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1143000" y="0"/>
              <a:ext cx="5784840" cy="44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14240" y="4643280"/>
            <a:ext cx="678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урс реабилитации включает комплекс медико-педагогических мероприятий, включающих медикаментозное, психотерапевтическое, логопедическое и логоритмическое воздействие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условиях стационара длится 45 дней и подразделяется на несколько этапов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71680" y="2357280"/>
            <a:ext cx="71244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2640" indent="-512640">
              <a:spcBef>
                <a:spcPts val="601"/>
              </a:spcBef>
              <a:buClr>
                <a:srgbClr val="04617b"/>
              </a:buClr>
              <a:buSzPct val="73000"/>
              <a:buFont typeface="Trebuchet MS"/>
              <a:buAutoNum type="arabicPeriod"/>
              <a:tabLst>
                <a:tab algn="l" pos="1152360"/>
                <a:tab algn="l" pos="2066760"/>
                <a:tab algn="l" pos="2981160"/>
                <a:tab algn="l" pos="3895560"/>
                <a:tab algn="l" pos="4809960"/>
                <a:tab algn="l" pos="5724360"/>
                <a:tab algn="l" pos="6638760"/>
                <a:tab algn="l" pos="7553160"/>
                <a:tab algn="l" pos="8467560"/>
                <a:tab algn="l" pos="9381960"/>
                <a:tab algn="l" pos="102963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Подготовительный этап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512640" indent="-512640">
              <a:spcBef>
                <a:spcPts val="601"/>
              </a:spcBef>
              <a:buClr>
                <a:srgbClr val="04617b"/>
              </a:buClr>
              <a:buSzPct val="73000"/>
              <a:buFont typeface="Trebuchet MS"/>
              <a:buAutoNum type="arabicPeriod"/>
              <a:tabLst>
                <a:tab algn="l" pos="1152360"/>
                <a:tab algn="l" pos="2066760"/>
                <a:tab algn="l" pos="2981160"/>
                <a:tab algn="l" pos="3895560"/>
                <a:tab algn="l" pos="4809960"/>
                <a:tab algn="l" pos="5724360"/>
                <a:tab algn="l" pos="6638760"/>
                <a:tab algn="l" pos="7553160"/>
                <a:tab algn="l" pos="8467560"/>
                <a:tab algn="l" pos="9381960"/>
                <a:tab algn="l" pos="102963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Этап активной терапии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512640" indent="-512640">
              <a:spcBef>
                <a:spcPts val="601"/>
              </a:spcBef>
              <a:buClr>
                <a:srgbClr val="04617b"/>
              </a:buClr>
              <a:buSzPct val="73000"/>
              <a:buFont typeface="Trebuchet MS"/>
              <a:buAutoNum type="arabicPeriod"/>
              <a:tabLst>
                <a:tab algn="l" pos="1152360"/>
                <a:tab algn="l" pos="2066760"/>
                <a:tab algn="l" pos="2981160"/>
                <a:tab algn="l" pos="3895560"/>
                <a:tab algn="l" pos="4809960"/>
                <a:tab algn="l" pos="5724360"/>
                <a:tab algn="l" pos="6638760"/>
                <a:tab algn="l" pos="7553160"/>
                <a:tab algn="l" pos="8467560"/>
                <a:tab algn="l" pos="9381960"/>
                <a:tab algn="l" pos="102963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Этап активных тренировок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512640" indent="-512640">
              <a:spcBef>
                <a:spcPts val="601"/>
              </a:spcBef>
              <a:buClr>
                <a:srgbClr val="04617b"/>
              </a:buClr>
              <a:buSzPct val="73000"/>
              <a:buFont typeface="Trebuchet MS"/>
              <a:buAutoNum type="arabicPeriod"/>
              <a:tabLst>
                <a:tab algn="l" pos="1152360"/>
                <a:tab algn="l" pos="2066760"/>
                <a:tab algn="l" pos="2981160"/>
                <a:tab algn="l" pos="3895560"/>
                <a:tab algn="l" pos="4809960"/>
                <a:tab algn="l" pos="5724360"/>
                <a:tab algn="l" pos="6638760"/>
                <a:tab algn="l" pos="7553160"/>
                <a:tab algn="l" pos="8467560"/>
                <a:tab algn="l" pos="9381960"/>
                <a:tab algn="l" pos="102963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Заключительный этап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512640" indent="-512640">
              <a:spcBef>
                <a:spcPts val="601"/>
              </a:spcBef>
              <a:tabLst>
                <a:tab algn="l" pos="0"/>
                <a:tab algn="l" pos="1152360"/>
                <a:tab algn="l" pos="2066760"/>
                <a:tab algn="l" pos="2981160"/>
                <a:tab algn="l" pos="3895560"/>
                <a:tab algn="l" pos="4809960"/>
                <a:tab algn="l" pos="5724360"/>
                <a:tab algn="l" pos="6638760"/>
                <a:tab algn="l" pos="7553160"/>
                <a:tab algn="l" pos="8467560"/>
                <a:tab algn="l" pos="9381960"/>
                <a:tab algn="l" pos="102963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9320" y="573120"/>
            <a:ext cx="8107200" cy="9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304920" y="317520"/>
            <a:ext cx="7538760" cy="826920"/>
            <a:chOff x="304920" y="317520"/>
            <a:chExt cx="7538760" cy="82692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304920" y="317520"/>
              <a:ext cx="753876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304920" y="317520"/>
              <a:ext cx="753876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457200" y="1609560"/>
            <a:ext cx="723888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 algn="ctr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Длительность - 5-7 дней. На этом этапе с целью угашения патологических навыков в первую неделю пребывания в клинике организуется "режим молчания" и режим "ограничения речи", на фоне которых начинают проводить психологические, психотерапевтические и логопедические занят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1440" algn="ctr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219240" y="378000"/>
            <a:ext cx="7759440" cy="809280"/>
            <a:chOff x="219240" y="378000"/>
            <a:chExt cx="7759440" cy="809280"/>
          </a:xfrm>
        </p:grpSpPr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219240" y="378000"/>
              <a:ext cx="7759440" cy="8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219240" y="378000"/>
              <a:ext cx="7759440" cy="80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-252360" y="1341360"/>
            <a:ext cx="867564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 algn="ctr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Длительность - 20 дней. На этом этапе проводятся систематические коллективные и индивидуальные занятия с логопедом, специализированная аутогенная тренировка, индивидуальная психотерапия и медикаментозное лечение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225360" y="317520"/>
            <a:ext cx="7532640" cy="826920"/>
            <a:chOff x="225360" y="317520"/>
            <a:chExt cx="7532640" cy="82692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225360" y="317520"/>
              <a:ext cx="753264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225360" y="317520"/>
              <a:ext cx="753264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Длительность - 10 дней. На этом этапе вводятся функциональные тренировки, во время которых пациенты тренируют свою речь за пределами стационара. Все лечебные воздействия направлены на реализацию речевого общения пациентов в усложняющихся речевых ситуациях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255600" y="298440"/>
            <a:ext cx="7643880" cy="846000"/>
            <a:chOff x="255600" y="298440"/>
            <a:chExt cx="7643880" cy="846000"/>
          </a:xfrm>
        </p:grpSpPr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255600" y="298440"/>
              <a:ext cx="7643880" cy="8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255600" y="298440"/>
              <a:ext cx="764388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428760" y="142884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 algn="ctr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Данный этап включает подготовку пациентов к наиболее сложной для них речевой ситуации - публичному выступлению перед многолюдной аудиторией, которое проводится в виде концертной программы. Все звенья комплексного лечебно-педагогического воздействия направлены на подготовку пациентов к этому серьезному речевому испытанию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57120" y="571680"/>
            <a:ext cx="75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Перед выпиской из стационара каждый из специалистов проводит с пациентами индивидуальную беседу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928800" y="2143080"/>
            <a:ext cx="6481800" cy="4284720"/>
            <a:chOff x="928800" y="2143080"/>
            <a:chExt cx="6481800" cy="428472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928800" y="2143080"/>
              <a:ext cx="6481800" cy="42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928800" y="2143080"/>
              <a:ext cx="6481800" cy="42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414360" y="225360"/>
            <a:ext cx="7350120" cy="846360"/>
            <a:chOff x="414360" y="225360"/>
            <a:chExt cx="7350120" cy="846360"/>
          </a:xfrm>
        </p:grpSpPr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414360" y="225360"/>
              <a:ext cx="735012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14360" y="225360"/>
              <a:ext cx="7350120" cy="8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14200" y="3500280"/>
            <a:ext cx="3071880" cy="1357560"/>
          </a:xfrm>
          <a:prstGeom prst="ellipse">
            <a:avLst/>
          </a:prstGeom>
          <a:solidFill>
            <a:srgbClr val="77d9e8"/>
          </a:solidFill>
          <a:ln w="399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"/>
          <p:cNvSpPr/>
          <p:nvPr/>
        </p:nvSpPr>
        <p:spPr>
          <a:xfrm>
            <a:off x="357120" y="1785960"/>
            <a:ext cx="2571840" cy="1357200"/>
          </a:xfrm>
          <a:prstGeom prst="ellipse">
            <a:avLst/>
          </a:prstGeom>
          <a:solidFill>
            <a:srgbClr val="77d9e8"/>
          </a:solidFill>
          <a:ln w="399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"/>
          <p:cNvSpPr/>
          <p:nvPr/>
        </p:nvSpPr>
        <p:spPr>
          <a:xfrm>
            <a:off x="4429080" y="1428840"/>
            <a:ext cx="3643200" cy="1357200"/>
          </a:xfrm>
          <a:prstGeom prst="ellipse">
            <a:avLst/>
          </a:prstGeom>
          <a:solidFill>
            <a:srgbClr val="77d9e8"/>
          </a:solidFill>
          <a:ln w="399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"/>
          <p:cNvSpPr/>
          <p:nvPr/>
        </p:nvSpPr>
        <p:spPr>
          <a:xfrm>
            <a:off x="1928880" y="5000760"/>
            <a:ext cx="3571920" cy="1357200"/>
          </a:xfrm>
          <a:prstGeom prst="ellipse">
            <a:avLst/>
          </a:prstGeom>
          <a:solidFill>
            <a:srgbClr val="77d9e8"/>
          </a:solidFill>
          <a:ln w="399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"/>
          <p:cNvSpPr/>
          <p:nvPr/>
        </p:nvSpPr>
        <p:spPr>
          <a:xfrm>
            <a:off x="4357800" y="3357720"/>
            <a:ext cx="3714480" cy="1357200"/>
          </a:xfrm>
          <a:prstGeom prst="ellipse">
            <a:avLst/>
          </a:prstGeom>
          <a:solidFill>
            <a:srgbClr val="77d9e8"/>
          </a:solidFill>
          <a:ln w="399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"/>
          <p:cNvSpPr/>
          <p:nvPr/>
        </p:nvSpPr>
        <p:spPr>
          <a:xfrm>
            <a:off x="2214720" y="5429160"/>
            <a:ext cx="307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сопряженная реч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"/>
          <p:cNvSpPr/>
          <p:nvPr/>
        </p:nvSpPr>
        <p:spPr>
          <a:xfrm>
            <a:off x="4929120" y="185724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отраженная реч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"/>
          <p:cNvSpPr/>
          <p:nvPr/>
        </p:nvSpPr>
        <p:spPr>
          <a:xfrm>
            <a:off x="4429080" y="378612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чтение стихов и проз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860640"/>
            <a:ext cx="335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вопросно-ответна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реч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"/>
          <p:cNvSpPr/>
          <p:nvPr/>
        </p:nvSpPr>
        <p:spPr>
          <a:xfrm>
            <a:off x="468360" y="2060640"/>
            <a:ext cx="235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спонтанная реч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62" name=""/>
          <p:cNvCxnSpPr/>
          <p:nvPr/>
        </p:nvCxnSpPr>
        <p:spPr>
          <a:xfrm flipH="1">
            <a:off x="1715760" y="1144440"/>
            <a:ext cx="714960" cy="286560"/>
          </a:xfrm>
          <a:prstGeom prst="straightConnector1">
            <a:avLst/>
          </a:prstGeom>
          <a:ln w="63360">
            <a:solidFill>
              <a:srgbClr val="0f6fc6"/>
            </a:solidFill>
            <a:miter/>
            <a:tailEnd len="med" type="triangle" w="med"/>
          </a:ln>
        </p:spPr>
      </p:cxnSp>
      <p:cxnSp>
        <p:nvCxnSpPr>
          <p:cNvPr id="263" name=""/>
          <p:cNvCxnSpPr/>
          <p:nvPr/>
        </p:nvCxnSpPr>
        <p:spPr>
          <a:xfrm flipH="1">
            <a:off x="431280" y="1144080"/>
            <a:ext cx="2501280" cy="358200"/>
          </a:xfrm>
          <a:prstGeom prst="straightConnector1">
            <a:avLst/>
          </a:prstGeom>
          <a:ln w="63360">
            <a:solidFill>
              <a:srgbClr val="0f6fc6"/>
            </a:solidFill>
            <a:miter/>
            <a:tailEnd len="med" type="triangle" w="med"/>
          </a:ln>
        </p:spPr>
      </p:cxnSp>
      <p:cxnSp>
        <p:nvCxnSpPr>
          <p:cNvPr id="264" name=""/>
          <p:cNvCxnSpPr/>
          <p:nvPr/>
        </p:nvCxnSpPr>
        <p:spPr>
          <a:xfrm>
            <a:off x="1716120" y="1144440"/>
            <a:ext cx="2358000" cy="572400"/>
          </a:xfrm>
          <a:prstGeom prst="straightConnector1">
            <a:avLst/>
          </a:prstGeom>
          <a:ln w="63360">
            <a:solidFill>
              <a:srgbClr val="0f6fc6"/>
            </a:solidFill>
            <a:miter/>
            <a:tailEnd len="med" type="triangle" w="med"/>
          </a:ln>
        </p:spPr>
      </p:cxnSp>
      <p:cxnSp>
        <p:nvCxnSpPr>
          <p:cNvPr id="265" name=""/>
          <p:cNvCxnSpPr/>
          <p:nvPr/>
        </p:nvCxnSpPr>
        <p:spPr>
          <a:xfrm flipH="1">
            <a:off x="-3960" y="1144080"/>
            <a:ext cx="3717000" cy="2520"/>
          </a:xfrm>
          <a:prstGeom prst="straightConnector1">
            <a:avLst/>
          </a:prstGeom>
          <a:ln w="63360">
            <a:solidFill>
              <a:srgbClr val="0f6fc6"/>
            </a:solidFill>
            <a:miter/>
            <a:tailEnd len="med" type="triangle" w="med"/>
          </a:ln>
        </p:spPr>
      </p:cxnSp>
      <p:cxnSp>
        <p:nvCxnSpPr>
          <p:cNvPr id="266" name=""/>
          <p:cNvCxnSpPr/>
          <p:nvPr/>
        </p:nvCxnSpPr>
        <p:spPr>
          <a:xfrm>
            <a:off x="4289040" y="1073160"/>
            <a:ext cx="500760" cy="288000"/>
          </a:xfrm>
          <a:prstGeom prst="straightConnector1">
            <a:avLst/>
          </a:prstGeom>
          <a:ln w="63360">
            <a:solidFill>
              <a:srgbClr val="0f6fc6"/>
            </a:solidFill>
            <a:miter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1:30:13Z</dcterms:created>
  <dc:creator>111</dc:creator>
  <dc:description/>
  <dc:language>en-US</dc:language>
  <cp:lastModifiedBy>user</cp:lastModifiedBy>
  <dcterms:modified xsi:type="dcterms:W3CDTF">2010-06-02T07:12:36Z</dcterms:modified>
  <cp:revision>13</cp:revision>
  <dc:subject/>
  <dc:title>Коррекция  заикания  по методике  Асатиани Н.М.</dc:title>
</cp:coreProperties>
</file>