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986-5E5C-44D4-BBFF-599355F4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F862-832E-4A2B-9967-A58FB330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4C2-1F2B-41F8-8609-BB4A5DC6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4090-A32B-4BDC-B22E-8D5AE47D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2F7C-7F69-486E-B577-ABDDF40A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E661-00C2-4CEC-953E-511642F3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378D-1EC6-4843-8481-00904D56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A62C-B1F0-43EB-9331-8D518EAE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C2C8-9035-4AF6-BFF5-75D65110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18F5-2B4A-42C3-BF01-BA3F0B01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39FF-219A-48BA-A55D-05B45726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0AB6-3F17-4937-B71B-6199D50E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A74F-1E6F-46FD-A53B-C350CCB9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2F87-49EB-4F80-896B-86515709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AB73-0AFF-4ED9-8530-CE509219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E01F-EFF4-414B-BE84-1B3BDAE9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6367-A2D0-4DF8-B5C7-6D254DA3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8908-F34B-4073-80A6-54B81950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462-92BB-47C2-B0D2-10D0A5CE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724-7025-49D4-92EA-58C441B6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ED6-A2C9-4BB3-B33A-C63ABD47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755B-6281-4DC2-AD62-9A2D58A0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4ABB-19FD-4E28-84F5-4F5EA01F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6247-828F-4C87-A706-212A8379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E72B-70B4-48D5-AF7C-26D136A2BED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9DA8-977C-4E23-A007-A9931CD18A2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Практическая работа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Получение оксида углерода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 и изучение его свойств. Распознавание карбонатов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Отчетные задания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1882800"/>
                <a:gridCol w="2087640"/>
                <a:gridCol w="2201760"/>
                <a:gridCol w="20574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опы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 дела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 наблюда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во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Рефлексия: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цените свою деятельность в роли исследователя (насколько успешно вы с ней справились, положительные моменты, недочет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ая роль  (исследователь, комментатор, контролер), по вашему мнению, является наиболее значимой при выполнении лабораторного опыта? Почем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е умения вы формировали, находясь в роли исследовател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ечислите положения правил техники безопасности при выполнении опыта №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2070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1628640"/>
            <a:ext cx="748836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бразовательн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репить теоретические знания о свойствах оксида углерода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и карбона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аботать экспериментальные умения в процессе проведения эксперимен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азвивающ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Развивать практические навыки проведения химических опы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спитательные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Воспитывать культуру проведения эксперимен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доровьесберегающ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репить навыки безопасного обращения с реактив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Девиз урок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Один опыт я ставлю выше, чем тысячу мнений, рожденных                                      только воображением.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92720" y="3141720"/>
            <a:ext cx="2932200" cy="345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318760" y="375912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М.В.Ломонос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Иоганн Баптист Ван Гельмонт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3595680" cy="4535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ибор для получения газо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Рисунок 3" descr="Получение-углекислого-газа.jpg"/>
          <p:cNvPicPr/>
          <p:nvPr/>
        </p:nvPicPr>
        <p:blipFill>
          <a:blip r:embed="rId1"/>
          <a:stretch/>
        </p:blipFill>
        <p:spPr>
          <a:xfrm>
            <a:off x="324000" y="1773360"/>
            <a:ext cx="4392360" cy="4881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одержание углекислого газа в природ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068720" cy="2716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0" y="3860640"/>
            <a:ext cx="4030560" cy="273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обачья пещера в Неапол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3168720" cy="2304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03640" y="2205000"/>
            <a:ext cx="3272040" cy="230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276720" y="4724280"/>
            <a:ext cx="2519280" cy="1916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Джозеф Пристл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2770200" cy="3778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932360" y="2060640"/>
            <a:ext cx="2662200" cy="373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талактиты и сталагмит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103560" cy="3456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651640" y="1752480"/>
            <a:ext cx="2952720" cy="1963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651640" y="3952800"/>
            <a:ext cx="2736720" cy="1924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203640" y="4797360"/>
            <a:ext cx="2305080" cy="180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5T08:03:58Z</dcterms:created>
  <dc:creator>User</dc:creator>
  <dc:description/>
  <dc:language>en-US</dc:language>
  <cp:lastModifiedBy>User</cp:lastModifiedBy>
  <dcterms:modified xsi:type="dcterms:W3CDTF">2012-11-27T08:26:36Z</dcterms:modified>
  <cp:revision>10</cp:revision>
  <dc:subject/>
  <dc:title>Практическая работа</dc:title>
</cp:coreProperties>
</file>