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823-CA7D-4F07-BE47-B0B3A470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F12-6586-4FC1-9C53-E0A1AE9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922-3378-43A0-BF89-F0B70739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426-A38A-470A-B083-CBD2E426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EBED-3618-459F-A1D0-03EA1F66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A715-DE84-4F66-BF65-59272C9C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CDE-1859-4AFB-A256-67FF8A68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549A-4B08-4D3A-94C9-9DFCBD73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288-F059-4C02-9D6A-C45E2F82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214C-33C6-4BED-8E3F-5AEFC669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0171-BD93-44F1-A52F-EB6D6A9F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E7B-EDF2-4EA7-B27B-7568857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202-1EAF-4AE0-9F49-B4782FA2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281-BA04-4C74-A650-E47A7DB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2415-24CF-4150-A7E5-42380129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13C0-14AD-4E04-9F00-5747E40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CF1-89C6-4037-8E95-594E95E4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5CFD-5BC2-4B78-B1FF-14DD7094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5B0-4D27-4E51-9414-EAFA2F27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A23-FD84-4596-B33B-2AA2D353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518-3FA1-4EBA-91AB-8C753A5B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DF8-171E-45F5-8A59-DE56BAAE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50A-8238-4BDA-9C85-B5DE7842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3F1-11E4-4B01-9967-D274EC7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855F-A438-4E0D-B9F5-B696FA5D41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644-054D-480C-988B-3D176EB3EC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рактическая работа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олучение оксида углерода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 и изучение его свойств. Распознавание карбонато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Отчетные задания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882800"/>
                <a:gridCol w="2087640"/>
                <a:gridCol w="2201760"/>
                <a:gridCol w="20574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мер опы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наблюдал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вод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Рефлексия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ите свою деятельность в роли исследователя (насколько успешно вы с ней справились, положительные моменты, недочет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ая роль  (исследователь, комментатор, контролер), по вашему мнению, является наиболее значимой при выполнении лабораторного опыта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умения вы формировали, находясь в роли исследовател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числите положения правил техники безопасности при выполнении опыта №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070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628640"/>
            <a:ext cx="7488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бразов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ить теоретические знания о свойствах оксида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карбон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аботать экспериментальные умения в процессе проведения эксперимен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звив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Развивать практические навыки проведения химических опы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питательные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Воспитывать культуру проведения эксперимен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доровьесберег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ить навыки безопасного обращения с реактив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евиз урок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дин опыт я ставлю выше, чем тысячу мнений, рожденных                                      только воображением.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29322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18760" y="375912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М.В.Ломонос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Иоганн Баптист Ван Гельмонт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3595680" cy="453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бор для получения газов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Рисунок 3" descr="Получение-углекислого-газа.jpg"/>
          <p:cNvPicPr/>
          <p:nvPr/>
        </p:nvPicPr>
        <p:blipFill>
          <a:blip r:embed="rId1"/>
          <a:stretch/>
        </p:blipFill>
        <p:spPr>
          <a:xfrm>
            <a:off x="324000" y="1773360"/>
            <a:ext cx="4392360" cy="488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одержание углекислого газа в природ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4068720" cy="2716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4030560" cy="273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обачья пещера в Неапол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3168720" cy="230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272040" cy="230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76720" y="4724280"/>
            <a:ext cx="251928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Джозеф Пристл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2770200" cy="3778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32360" y="2060640"/>
            <a:ext cx="2662200" cy="373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талактиты и сталагми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03560" cy="3456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51640" y="1752480"/>
            <a:ext cx="2952720" cy="1963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651640" y="3952800"/>
            <a:ext cx="273672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203640" y="4797360"/>
            <a:ext cx="2305080" cy="180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8:03:58Z</dcterms:created>
  <dc:creator>User</dc:creator>
  <dc:description/>
  <dc:language>en-US</dc:language>
  <cp:lastModifiedBy>User</cp:lastModifiedBy>
  <dcterms:modified xsi:type="dcterms:W3CDTF">2012-11-27T08:26:36Z</dcterms:modified>
  <cp:revision>10</cp:revision>
  <dc:subject/>
  <dc:title>Практическая работа</dc:title>
</cp:coreProperties>
</file>