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2.png" ContentType="image/png"/>
  <Override PartName="/ppt/media/image20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ECF-00FF-4150-AAB4-285FCC38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5F5-B20A-44B9-AA13-39E040B3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8C9-F3F0-4DB3-BD26-3C6DB6B1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3B4-D10C-4B8B-90FC-AC040BC0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FD2-1E7D-452F-AC2D-7D0AD697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0DC-24CD-447F-B82F-D073DECF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A9F-4027-41AA-8C3B-7F47398D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1B2-3DF6-4360-BB10-6E25AC02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0F3-8E0D-451E-8CFA-166CC279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FF5-CCC4-4108-9442-8097DA99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840-8BEA-4B0A-9349-83B47F72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1E1-6FFF-4277-82F6-644C863B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6334-143F-4640-AA3E-879DB4C9C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49.radikal.ru/i126/1003/63/1b4bac4db35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017.radikal.ru/i434/1111/1f/84b20c63ce95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lt-shop.biz/published/publicdata/AMATEUR1ALT/attachments/SC/products_pictures/&#1079;&#1077;_enl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og41173.ucoz.ru/bukvoed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s301310.userapi.com/u77396936/-14/x_da07eeea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ihi.ru/pics/2010/10/14/915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oshkolu.ru/content/media/pic/std/3000000/2622000/2621051-9b0cd1ef0435c62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img1.liveinternet.ru/images/attach/c/0/63/307/63307062_osenlistiki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810/61888641.ab/0_9f0a4_7a6248f5_XL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>
            <a:off x="3492360" y="2781360"/>
            <a:ext cx="5183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2" name="WordArt 11"/>
          <p:cNvGrpSpPr/>
          <p:nvPr/>
        </p:nvGrpSpPr>
        <p:grpSpPr>
          <a:xfrm>
            <a:off x="2335320" y="1841400"/>
            <a:ext cx="6205320" cy="2170080"/>
            <a:chOff x="2335320" y="1841400"/>
            <a:chExt cx="6205320" cy="2170080"/>
          </a:xfrm>
        </p:grpSpPr>
        <p:pic>
          <p:nvPicPr>
            <p:cNvPr id="43" name="WordArt 11" descr=""/>
            <p:cNvPicPr/>
            <p:nvPr/>
          </p:nvPicPr>
          <p:blipFill>
            <a:blip r:embed="rId2"/>
            <a:stretch/>
          </p:blipFill>
          <p:spPr>
            <a:xfrm>
              <a:off x="2335320" y="1841400"/>
              <a:ext cx="620532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40000" y="1844640"/>
              <a:ext cx="61927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Праздник 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первой отметки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b4bac4db3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6"/>
          <p:cNvSpPr txBox="1"/>
          <p:nvPr/>
        </p:nvSpPr>
        <p:spPr>
          <a:xfrm>
            <a:off x="395280" y="5734080"/>
            <a:ext cx="3672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ктябр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84b20c63ce95">
            <a:hlinkClick r:id="rId1"/>
          </p:cNvPr>
          <p:cNvPicPr/>
          <p:nvPr/>
        </p:nvPicPr>
        <p:blipFill>
          <a:blip r:embed="rId2"/>
          <a:srcRect l="5067" t="7979" r="5209" b="75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6"/>
          <p:cNvSpPr txBox="1"/>
          <p:nvPr/>
        </p:nvSpPr>
        <p:spPr>
          <a:xfrm>
            <a:off x="611280" y="5805360"/>
            <a:ext cx="3240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ябр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шарики"/>
          <p:cNvPicPr/>
          <p:nvPr/>
        </p:nvPicPr>
        <p:blipFill>
          <a:blip r:embed="rId1"/>
          <a:stretch/>
        </p:blipFill>
        <p:spPr>
          <a:xfrm>
            <a:off x="755640" y="907920"/>
            <a:ext cx="1346040" cy="218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шарики"/>
          <p:cNvPicPr/>
          <p:nvPr/>
        </p:nvPicPr>
        <p:blipFill>
          <a:blip r:embed="rId2"/>
          <a:stretch/>
        </p:blipFill>
        <p:spPr>
          <a:xfrm>
            <a:off x="7308720" y="836640"/>
            <a:ext cx="134640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шарики"/>
          <p:cNvPicPr/>
          <p:nvPr/>
        </p:nvPicPr>
        <p:blipFill>
          <a:blip r:embed="rId3"/>
          <a:stretch/>
        </p:blipFill>
        <p:spPr>
          <a:xfrm>
            <a:off x="1619280" y="3213000"/>
            <a:ext cx="1347840" cy="218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шарики"/>
          <p:cNvPicPr/>
          <p:nvPr/>
        </p:nvPicPr>
        <p:blipFill>
          <a:blip r:embed="rId4"/>
          <a:stretch/>
        </p:blipFill>
        <p:spPr>
          <a:xfrm>
            <a:off x="6372360" y="3357720"/>
            <a:ext cx="134748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шарики"/>
          <p:cNvPicPr/>
          <p:nvPr/>
        </p:nvPicPr>
        <p:blipFill>
          <a:blip r:embed="rId5"/>
          <a:stretch/>
        </p:blipFill>
        <p:spPr>
          <a:xfrm>
            <a:off x="3851280" y="1557360"/>
            <a:ext cx="2076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292360" y="105264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%D0%B7%D0%B5_en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549360"/>
            <a:ext cx="4035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bukvoed">
            <a:hlinkClick r:id="rId1"/>
          </p:cNvPr>
          <p:cNvPicPr/>
          <p:nvPr/>
        </p:nvPicPr>
        <p:blipFill>
          <a:blip r:embed="rId2"/>
          <a:srcRect l="2721" t="1113" r="693" b="72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547640" y="1844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О К А Й 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1042920" y="1989000"/>
            <a:ext cx="72835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ОЙ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547640" y="1844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Е Т Е Р К А Ч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042920" y="1989000"/>
            <a:ext cx="72835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ТВЁР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1547640" y="1844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 Е К Я Р А П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042920" y="1989000"/>
            <a:ext cx="72835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ЯТЁР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1547640" y="1844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А Й О Р 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042920" y="1989000"/>
            <a:ext cx="72835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ОЙ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x_da07eeea">
            <a:hlinkClick r:id="rId1"/>
          </p:cNvPr>
          <p:cNvPicPr/>
          <p:nvPr/>
        </p:nvPicPr>
        <p:blipFill>
          <a:blip r:embed="rId2"/>
          <a:srcRect l="0" t="0" r="4876" b="8836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6" name="Picture 7" descr="9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74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2621051-9b0cd1ef0435c6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npzngu%20rtkomlopj"/>
          <p:cNvPicPr/>
          <p:nvPr/>
        </p:nvPicPr>
        <p:blipFill>
          <a:blip r:embed="rId1"/>
          <a:stretch/>
        </p:blipFill>
        <p:spPr>
          <a:xfrm>
            <a:off x="2627280" y="765000"/>
            <a:ext cx="3816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ig_6740_oboi_tverdaja_pjaterka"/>
          <p:cNvPicPr/>
          <p:nvPr/>
        </p:nvPicPr>
        <p:blipFill>
          <a:blip r:embed="rId1"/>
          <a:srcRect l="7938" t="11318" r="19624" b="2569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золотая бабочка"/>
          <p:cNvPicPr/>
          <p:nvPr/>
        </p:nvPicPr>
        <p:blipFill>
          <a:blip r:embed="rId1"/>
          <a:stretch/>
        </p:blipFill>
        <p:spPr>
          <a:xfrm>
            <a:off x="2268360" y="1484280"/>
            <a:ext cx="4762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4i5"/>
          <p:cNvPicPr/>
          <p:nvPr/>
        </p:nvPicPr>
        <p:blipFill>
          <a:blip r:embed="rId1"/>
          <a:stretch/>
        </p:blipFill>
        <p:spPr>
          <a:xfrm>
            <a:off x="1763640" y="549360"/>
            <a:ext cx="5761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x_9ac658a5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Наш герб"/>
          <p:cNvPicPr/>
          <p:nvPr/>
        </p:nvPicPr>
        <p:blipFill>
          <a:blip r:embed="rId1"/>
          <a:stretch/>
        </p:blipFill>
        <p:spPr>
          <a:xfrm>
            <a:off x="3203640" y="1125360"/>
            <a:ext cx="3395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8"/>
          <p:cNvSpPr/>
          <p:nvPr/>
        </p:nvSpPr>
        <p:spPr>
          <a:xfrm>
            <a:off x="468360" y="1700280"/>
            <a:ext cx="8207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" name="Picture 21" descr="63307062_osenlistik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0" name="WordArt 22"/>
          <p:cNvSpPr txBox="1"/>
          <p:nvPr/>
        </p:nvSpPr>
        <p:spPr>
          <a:xfrm>
            <a:off x="611280" y="333360"/>
            <a:ext cx="79200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 И С Т О П А 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ма слив в саду нар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ребят он угощ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у сливу дал Ната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у Лене, одну Са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е остались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было слив все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Какие оценки в школе?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осил Серёжа у К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Все предметы я уч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 баллов получ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по математике, 4 – по чтени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– по русс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что у меня по пени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ова Мурка в обед дала 6 литров молока. 3 литра Матроскин отдал телёнку, 1 литр выпил сам. Вечером он заглянул в ведро и обнаружил, что осталось 2 литра. Пил ли молоко Шари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 думаете, ребя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зитор Моцарт с 4 лет играл на скрипке, а ещё через 2 года стал сочинять музы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 сколько лет Моцарт стал сочинять музы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-под  ворот выглядывают 8 собачьих лап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олько собак за ворот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_9f0a4_7a6248f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>
            <a:off x="324000" y="5877000"/>
            <a:ext cx="3887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нтябр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User</cp:lastModifiedBy>
  <dcterms:modified xsi:type="dcterms:W3CDTF">2013-04-16T11:21:23Z</dcterms:modified>
  <cp:revision>39</cp:revision>
  <dc:subject/>
  <dc:title>Слайд 1</dc:title>
</cp:coreProperties>
</file>