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12.png" ContentType="image/png"/>
  <Override PartName="/ppt/media/image20.jpeg" ContentType="image/jpeg"/>
  <Override PartName="/ppt/media/image11.gif" ContentType="image/gif"/>
  <Override PartName="/ppt/media/image10.jpeg" ContentType="image/jpeg"/>
  <Override PartName="/ppt/media/image5.png" ContentType="image/png"/>
  <Override PartName="/ppt/media/image9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8.gif" ContentType="image/gif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3BA6-5260-46F7-BCBF-C25C03560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D2F1-9151-4B92-B414-4123055D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519C-35B4-48F1-AA34-9C32C75E9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CAC9-D98C-478B-88A9-D86AE279B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AEB7-D2B5-43B2-B86B-8F09F4C2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C085-6D37-4970-8321-E86B4688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C000-69FD-4612-8F3D-5039A897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0D1E-BB90-4CA8-B9CB-74531A44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C960-A730-4718-AC34-C0994075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C983-99A6-4180-866C-A2BF6673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1B32-6530-46F3-A483-8D521E78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BED3-70BD-4F60-9A39-04097982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0490-8FF6-4099-986C-508E56726B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49.radikal.ru/i126/1003/63/1b4bac4db353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017.radikal.ru/i434/1111/1f/84b20c63ce95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alt-shop.biz/published/publicdata/AMATEUR1ALT/attachments/SC/products_pictures/&#1079;&#1077;_enl.png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log41173.ucoz.ru/bukvoed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cs301310.userapi.com/u77396936/-14/x_da07eeea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ihi.ru/pics/2010/10/14/9155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proshkolu.ru/content/media/pic/std/3000000/2622000/2621051-9b0cd1ef0435c623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img1.liveinternet.ru/images/attach/c/0/63/307/63307062_osenlistiki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5810/61888641.ab/0_9f0a4_7a6248f5_XL" TargetMode="Externa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8"/>
          <p:cNvSpPr/>
          <p:nvPr/>
        </p:nvSpPr>
        <p:spPr>
          <a:xfrm>
            <a:off x="3492360" y="2781360"/>
            <a:ext cx="51832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42" name="WordArt 11"/>
          <p:cNvGrpSpPr/>
          <p:nvPr/>
        </p:nvGrpSpPr>
        <p:grpSpPr>
          <a:xfrm>
            <a:off x="2335320" y="1841400"/>
            <a:ext cx="6205320" cy="2170080"/>
            <a:chOff x="2335320" y="1841400"/>
            <a:chExt cx="6205320" cy="2170080"/>
          </a:xfrm>
        </p:grpSpPr>
        <p:pic>
          <p:nvPicPr>
            <p:cNvPr id="43" name="WordArt 11" descr=""/>
            <p:cNvPicPr/>
            <p:nvPr/>
          </p:nvPicPr>
          <p:blipFill>
            <a:blip r:embed="rId2"/>
            <a:stretch/>
          </p:blipFill>
          <p:spPr>
            <a:xfrm>
              <a:off x="2335320" y="1841400"/>
              <a:ext cx="6205320" cy="21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340000" y="1844640"/>
              <a:ext cx="6192720" cy="21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Impact"/>
                </a:rPr>
                <a:t>Праздник </a:t>
              </a:r>
              <a:endParaRPr b="0" lang="en-US" sz="3600" spc="-1" strike="noStrike">
                <a:solidFill>
                  <a:srgbClr val="000000"/>
                </a:solidFill>
                <a:latin typeface="Georg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Impact"/>
                </a:rPr>
                <a:t>первой отметки</a:t>
              </a:r>
              <a:endParaRPr b="0" lang="en-US" sz="36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1b4bac4db3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WordArt 6"/>
          <p:cNvSpPr txBox="1"/>
          <p:nvPr/>
        </p:nvSpPr>
        <p:spPr>
          <a:xfrm>
            <a:off x="395280" y="5734080"/>
            <a:ext cx="367200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ктябрь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84b20c63ce95">
            <a:hlinkClick r:id="rId1"/>
          </p:cNvPr>
          <p:cNvPicPr/>
          <p:nvPr/>
        </p:nvPicPr>
        <p:blipFill>
          <a:blip r:embed="rId2"/>
          <a:srcRect l="5067" t="7979" r="5209" b="755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WordArt 6"/>
          <p:cNvSpPr txBox="1"/>
          <p:nvPr/>
        </p:nvSpPr>
        <p:spPr>
          <a:xfrm>
            <a:off x="611280" y="5805360"/>
            <a:ext cx="324000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оябрь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шарики"/>
          <p:cNvPicPr/>
          <p:nvPr/>
        </p:nvPicPr>
        <p:blipFill>
          <a:blip r:embed="rId1"/>
          <a:stretch/>
        </p:blipFill>
        <p:spPr>
          <a:xfrm>
            <a:off x="755640" y="907920"/>
            <a:ext cx="1346040" cy="2186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шарики"/>
          <p:cNvPicPr/>
          <p:nvPr/>
        </p:nvPicPr>
        <p:blipFill>
          <a:blip r:embed="rId2"/>
          <a:stretch/>
        </p:blipFill>
        <p:spPr>
          <a:xfrm>
            <a:off x="7308720" y="836640"/>
            <a:ext cx="134640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шарики"/>
          <p:cNvPicPr/>
          <p:nvPr/>
        </p:nvPicPr>
        <p:blipFill>
          <a:blip r:embed="rId3"/>
          <a:stretch/>
        </p:blipFill>
        <p:spPr>
          <a:xfrm>
            <a:off x="1619280" y="3213000"/>
            <a:ext cx="1347840" cy="218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шарики"/>
          <p:cNvPicPr/>
          <p:nvPr/>
        </p:nvPicPr>
        <p:blipFill>
          <a:blip r:embed="rId4"/>
          <a:stretch/>
        </p:blipFill>
        <p:spPr>
          <a:xfrm>
            <a:off x="6372360" y="3357720"/>
            <a:ext cx="1347480" cy="2187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шарики"/>
          <p:cNvPicPr/>
          <p:nvPr/>
        </p:nvPicPr>
        <p:blipFill>
          <a:blip r:embed="rId5"/>
          <a:stretch/>
        </p:blipFill>
        <p:spPr>
          <a:xfrm>
            <a:off x="3851280" y="1557360"/>
            <a:ext cx="20764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292360" y="1052640"/>
            <a:ext cx="325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%D0%B7%D0%B5_en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549360"/>
            <a:ext cx="403560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bukvoed">
            <a:hlinkClick r:id="rId1"/>
          </p:cNvPr>
          <p:cNvPicPr/>
          <p:nvPr/>
        </p:nvPicPr>
        <p:blipFill>
          <a:blip r:embed="rId2"/>
          <a:srcRect l="2721" t="1113" r="693" b="72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1547640" y="1844640"/>
            <a:ext cx="5977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О К А Й Д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WordArt 5"/>
          <p:cNvSpPr txBox="1"/>
          <p:nvPr/>
        </p:nvSpPr>
        <p:spPr>
          <a:xfrm>
            <a:off x="1042920" y="1989000"/>
            <a:ext cx="728352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ВОЙК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3"/>
          <p:cNvSpPr txBox="1"/>
          <p:nvPr/>
        </p:nvSpPr>
        <p:spPr>
          <a:xfrm>
            <a:off x="1547640" y="1844640"/>
            <a:ext cx="5977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Е Т Е Р К А Ч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1042920" y="1989000"/>
            <a:ext cx="728352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ТВЁРК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3"/>
          <p:cNvSpPr txBox="1"/>
          <p:nvPr/>
        </p:nvSpPr>
        <p:spPr>
          <a:xfrm>
            <a:off x="1547640" y="1844640"/>
            <a:ext cx="5977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 Е К Я Р А П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1042920" y="1989000"/>
            <a:ext cx="728352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ЯТЁРК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3"/>
          <p:cNvSpPr txBox="1"/>
          <p:nvPr/>
        </p:nvSpPr>
        <p:spPr>
          <a:xfrm>
            <a:off x="1547640" y="1844640"/>
            <a:ext cx="5977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 А Й О Р 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1042920" y="1989000"/>
            <a:ext cx="728352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ОЙК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x_da07eeea">
            <a:hlinkClick r:id="rId1"/>
          </p:cNvPr>
          <p:cNvPicPr/>
          <p:nvPr/>
        </p:nvPicPr>
        <p:blipFill>
          <a:blip r:embed="rId2"/>
          <a:srcRect l="0" t="0" r="4876" b="8836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8"/>
          <p:cNvSpPr/>
          <p:nvPr/>
        </p:nvSpPr>
        <p:spPr>
          <a:xfrm>
            <a:off x="539640" y="2060640"/>
            <a:ext cx="82076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6" name="Picture 7" descr="91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60280"/>
            <a:ext cx="8748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2621051-9b0cd1ef0435c6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tnpzngu%20rtkomlopj"/>
          <p:cNvPicPr/>
          <p:nvPr/>
        </p:nvPicPr>
        <p:blipFill>
          <a:blip r:embed="rId1"/>
          <a:stretch/>
        </p:blipFill>
        <p:spPr>
          <a:xfrm>
            <a:off x="2627280" y="765000"/>
            <a:ext cx="3816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big_6740_oboi_tverdaja_pjaterka"/>
          <p:cNvPicPr/>
          <p:nvPr/>
        </p:nvPicPr>
        <p:blipFill>
          <a:blip r:embed="rId1"/>
          <a:srcRect l="7938" t="11318" r="19624" b="2569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золотая бабочка"/>
          <p:cNvPicPr/>
          <p:nvPr/>
        </p:nvPicPr>
        <p:blipFill>
          <a:blip r:embed="rId1"/>
          <a:stretch/>
        </p:blipFill>
        <p:spPr>
          <a:xfrm>
            <a:off x="2268360" y="1484280"/>
            <a:ext cx="4762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4i5"/>
          <p:cNvPicPr/>
          <p:nvPr/>
        </p:nvPicPr>
        <p:blipFill>
          <a:blip r:embed="rId1"/>
          <a:stretch/>
        </p:blipFill>
        <p:spPr>
          <a:xfrm>
            <a:off x="1763640" y="549360"/>
            <a:ext cx="576108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x_9ac658a5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Наш герб"/>
          <p:cNvPicPr/>
          <p:nvPr/>
        </p:nvPicPr>
        <p:blipFill>
          <a:blip r:embed="rId1"/>
          <a:stretch/>
        </p:blipFill>
        <p:spPr>
          <a:xfrm>
            <a:off x="3203640" y="1125360"/>
            <a:ext cx="33955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8"/>
          <p:cNvSpPr/>
          <p:nvPr/>
        </p:nvSpPr>
        <p:spPr>
          <a:xfrm>
            <a:off x="468360" y="1700280"/>
            <a:ext cx="820728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Text Box 18"/>
          <p:cNvSpPr/>
          <p:nvPr/>
        </p:nvSpPr>
        <p:spPr>
          <a:xfrm>
            <a:off x="1332000" y="3284640"/>
            <a:ext cx="7343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9" name="Picture 21" descr="63307062_osenlistiki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50" name="WordArt 22"/>
          <p:cNvSpPr txBox="1"/>
          <p:nvPr/>
        </p:nvSpPr>
        <p:spPr>
          <a:xfrm>
            <a:off x="611280" y="333360"/>
            <a:ext cx="7920000" cy="14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 И С Т О П А Д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ма слив в саду нарва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ребят он угощ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ну сливу дал Наташ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ну Лене, одну Са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ве остались у н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лько было слив всег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Какие оценки в школе?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росил Серёжа у Ко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Все предметы я уч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 баллов получ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 – по математике, 4 – по чтени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 – по русск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что у меня по пению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рова Мурка в обед дала 6 литров молока. 3 литра Матроскин отдал телёнку, 1 литр выпил сам. Вечером он заглянул в ведро и обнаружил, что осталось 2 литра. Пил ли молоко Шари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вы думаете, ребя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позитор Моцарт с 4 лет играл на скрипке, а ещё через 2 года стал сочинять музык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 сколько лет Моцарт стал сочинять музык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з-под  ворот выглядывают 8 собачьих лап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колько собак за воротами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0_9f0a4_7a6248f5_X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62" name="WordArt 6"/>
          <p:cNvSpPr txBox="1"/>
          <p:nvPr/>
        </p:nvSpPr>
        <p:spPr>
          <a:xfrm>
            <a:off x="324000" y="5877000"/>
            <a:ext cx="38876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нтябрь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08:50:27Z</dcterms:created>
  <dc:creator>Елена</dc:creator>
  <dc:description/>
  <dc:language>en-US</dc:language>
  <cp:lastModifiedBy>User</cp:lastModifiedBy>
  <dcterms:modified xsi:type="dcterms:W3CDTF">2013-04-16T11:21:23Z</dcterms:modified>
  <cp:revision>39</cp:revision>
  <dc:subject/>
  <dc:title>Слайд 1</dc:title>
</cp:coreProperties>
</file>