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1.png" ContentType="image/png"/>
  <Override PartName="/ppt/media/image43.png" ContentType="image/png"/>
  <Override PartName="/ppt/media/image53.jpeg" ContentType="image/jpeg"/>
  <Override PartName="/ppt/media/image44.jpeg" ContentType="image/jpeg"/>
  <Override PartName="/ppt/media/image34.png" ContentType="image/png"/>
  <Override PartName="/ppt/media/image40.jpeg" ContentType="image/jpeg"/>
  <Override PartName="/ppt/media/image45.jpeg" ContentType="image/jpe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54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5DF-391A-4A61-B881-F05A0922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EBF-0CC3-4EEB-AC41-ED610A9F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2F6A8-BF19-4742-9193-89C39DB8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41F7D-90C6-401E-A5CF-8E0BC16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9197-A855-47A1-9D06-CB9E288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5332F-FD13-41EB-8171-DB1995B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16EFE-F79F-4D18-B9B6-3F2661B6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97A19-625C-4BCE-BA0F-4C9C89C2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CA9DA-E67F-4EE0-97F4-73032B44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749AC-175C-457B-9674-5C94D555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E7EB4-853A-450F-A66B-275232FD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449-708E-40E5-A560-CB2C4A56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D91-0E7C-45D3-B7EA-A97D38A3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640F-7508-4043-8FEF-F46F136E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02A2-ECB1-44AB-B424-F188F48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9A7A-AD2B-4665-BF94-6650896B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27F2-D408-4BE4-B1BB-66AFD8A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5C1B-7BB5-4B2B-A47C-ABCCDC8B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19AD-2FEA-4B6B-A46F-6FB6E583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029-319D-4372-8588-69A9928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5FC9-E345-44AC-A9D5-86DF85F5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32B3-120A-4ECC-87ED-9599D7D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8AFB-1E85-4A77-A1C5-373939E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96A2-9EBF-47A4-AA9B-1F77A706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D8A-9B06-4684-938C-A0D38080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6E9F-845D-4680-9651-58C4842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A0CBD-6839-4913-800D-33D34B5F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8F670-680D-4DC8-B8D1-F2D2D03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5591-3343-434F-B4BB-AE6DCED6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F284B-E762-460B-A71B-53E4D985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0B9E9-DCBE-4053-A501-BA20686C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E31-9A2D-4507-89E7-C97B225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B2EB-281B-4516-9C80-70C63D5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62BE-294F-40A9-B530-3EB7959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67C1-880A-46F1-B686-C67648E0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7E89-2D9F-4C54-993A-5FBFF7C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25D1-120D-4E13-9474-FB0C007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979C-93F1-4E59-B338-F8455DA6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5D0B-CB92-4AFD-BEAC-EDCEF554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B3D3-9ECE-45A8-B833-400DBE9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AC35-4051-49ED-B7FE-2B556798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79653-99CC-4FCD-A9EF-AF415A77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2A8-DE5E-410D-9BCF-5B043EF4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85D2-5CD0-40C4-9C65-9A82C671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C54C-588D-418D-836C-1D5E342D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DC65C-B2E4-4527-A177-9646273A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A4D93-C2D4-491E-BFEC-AE2E81F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CD92-50E8-42B8-B3C8-5936C916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284F5-D1E1-4C6D-8BF8-216F497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D8B89-CC01-4583-B79F-C6A9CC3E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D4A5-A151-4AFB-9535-BE0EA7CD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DCC0-288B-4594-8BF3-EDAC0330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4528-DD2F-43E8-BD83-58EDA25A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D75-4206-40BF-8432-74AC95AF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D1C8-D65D-40FD-B1CC-00BE3A96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BA4FB-656E-4885-A206-4778240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B452D-120F-4DF3-99D2-E910888B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CA95-0101-4DAF-B61F-C390ED3C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18C1-3C11-4F27-81E0-26E47B92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CAAD-4003-43CA-B1E8-C5EC8A4F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661B-6F78-4417-A63C-5962C46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ED8F-0B7C-45ED-9D8A-47DF5326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9BA2-EA5C-4146-BA3C-B0093A2D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2F38-6D47-4C61-80B2-BC236C51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924-8CF2-4181-ABB0-73BC443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EE05-957B-45CD-9BE8-1D50D605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1B42-AF76-42FD-AAF6-E3AC3A45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6D699-8BB3-46BB-BCC6-417C16F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617C-5A88-4E1B-B6E9-C5F9FD3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1E4F-9256-45B6-A7F2-A00ACFB6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B79B-BB57-46DE-A487-0376BD9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20F9D-E0D1-4147-8909-827E3EAC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B039-5659-4AE2-868E-766CB6B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0DB68-1F48-45A9-9E9B-ECED01B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DA56-0B8B-4DAC-860D-1CA85378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446-463D-45B6-98F6-F20248B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0C8C2-9BDF-438D-8A8D-4B663482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9FE43-E69C-4D38-9CC1-12101F82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43C47-5F89-40AD-900E-4D9AF5DE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43869-FE04-467E-A757-6C8F7FCC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A53A6-F66D-4E61-870D-4E8E2B84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D7DC0-340A-41D0-891F-77B188FF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CF4C-162C-4DB1-851F-B7A7D755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19AB-1FB9-41CD-8FB8-8A870F7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153B2-3572-4EE2-AFDB-83C8297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A49B7-093A-4D71-BEE5-F92C73B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E23-2FB1-4174-A3F0-60AF7F8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C51D6-4DBF-4BAD-820F-B05A453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663BA-47D1-45E6-9133-991F2EA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E00A-1D69-40AC-B412-F63081F0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8779-740D-48C3-9656-FD81342E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78A28-78C7-4003-9869-AC314300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6E330-AD55-4249-B953-C032804D7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B1384-0F51-4B11-8514-6286565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FC87-DC15-4AF9-89EA-0BE6A907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88376-7DA1-476E-BA44-EBEFEA92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687BE-7830-49BC-A9B6-5750F305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7A5-7C83-49B2-A362-FAD34809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48A64-48DC-4BB2-8C2D-CB73F738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8C0E1-8468-43BB-A495-E4E9928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A1528-F879-490E-9603-AA363C3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C331B-ED29-4BB2-9A48-6EF8AD69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39640-EDBA-488F-9A67-206D4AD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EB8D-1673-40E8-B91E-7A39419E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97675-C94D-4F13-BFD4-C4B7B9B4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CD5D8-9595-4A82-96C7-9164FBA8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41879-F8C2-4969-8F8C-8AD4AAAC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22B6B-ADAA-46EE-B0B3-79E2CE8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49BC-FEFC-4203-B0AE-FABFF2E1D308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70FF-7098-4757-81DC-AC075CF3E69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7E79-21A1-4A1A-90CF-CD5EF2A3C226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bf5f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f5f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bf5f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2E5C-91A7-45CE-8EF2-AAAC282EAB00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228C-2E8F-4FD4-81BE-8FB9B3D7669D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75FE-60DB-447F-9654-943EB686A033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9D58-1FB4-4F65-9FC5-955C86D41BCB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D2EB-1A33-4690-9D6D-2AC21C8F786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f6fc6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f6fc6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4617b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c61a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9100-55A6-4707-9288-85E93F3443FA}" type="slidenum">
              <a:rPr b="0" lang="ru-RU" sz="1200" spc="-1" strike="noStrike">
                <a:solidFill>
                  <a:srgbClr val="0c61a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7.png"/><Relationship Id="rId13" Type="http://schemas.openxmlformats.org/officeDocument/2006/relationships/image" Target="../media/image37.png"/><Relationship Id="rId14" Type="http://schemas.openxmlformats.org/officeDocument/2006/relationships/image" Target="../media/image39.png"/><Relationship Id="rId1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574560" y="558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Крошечная девочка под листиком ж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И зимой холодною ласточку спа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Не милы ей женихи: жаба, жук и кр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алеко, в стране цветов, ее счастье ждё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Рисунок 4" descr=""/>
          <p:cNvPicPr/>
          <p:nvPr/>
        </p:nvPicPr>
        <p:blipFill>
          <a:blip r:embed="rId2"/>
          <a:stretch/>
        </p:blipFill>
        <p:spPr>
          <a:xfrm>
            <a:off x="2268360" y="2708280"/>
            <a:ext cx="4896000" cy="3889440"/>
          </a:xfrm>
          <a:prstGeom prst="rect">
            <a:avLst/>
          </a:prstGeom>
          <a:ln w="0">
            <a:noFill/>
          </a:ln>
        </p:spPr>
      </p:pic>
      <p:pic>
        <p:nvPicPr>
          <p:cNvPr id="401" name="Прямоугольник 3" descr=""/>
          <p:cNvPicPr/>
          <p:nvPr/>
        </p:nvPicPr>
        <p:blipFill>
          <a:blip r:embed="rId3"/>
          <a:stretch/>
        </p:blipFill>
        <p:spPr>
          <a:xfrm>
            <a:off x="1676520" y="-92160"/>
            <a:ext cx="540072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Прямоугольник 2"/>
          <p:cNvSpPr/>
          <p:nvPr/>
        </p:nvSpPr>
        <p:spPr>
          <a:xfrm>
            <a:off x="2924280" y="476280"/>
            <a:ext cx="273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о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"/>
          <p:cNvSpPr/>
          <p:nvPr/>
        </p:nvSpPr>
        <p:spPr>
          <a:xfrm>
            <a:off x="5088240" y="836640"/>
            <a:ext cx="1296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Franklin Gothic Book"/>
              </a:rPr>
              <a:t>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4" descr=""/>
          <p:cNvPicPr/>
          <p:nvPr/>
        </p:nvPicPr>
        <p:blipFill>
          <a:blip r:embed="rId2"/>
          <a:stretch/>
        </p:blipFill>
        <p:spPr>
          <a:xfrm>
            <a:off x="2411280" y="836640"/>
            <a:ext cx="1136880" cy="170172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5" descr=""/>
          <p:cNvPicPr/>
          <p:nvPr/>
        </p:nvPicPr>
        <p:blipFill>
          <a:blip r:embed="rId3"/>
          <a:stretch/>
        </p:blipFill>
        <p:spPr>
          <a:xfrm>
            <a:off x="1835280" y="2924280"/>
            <a:ext cx="1517400" cy="1522440"/>
          </a:xfrm>
          <a:prstGeom prst="rect">
            <a:avLst/>
          </a:prstGeom>
          <a:ln w="0">
            <a:noFill/>
          </a:ln>
        </p:spPr>
      </p:pic>
      <p:pic>
        <p:nvPicPr>
          <p:cNvPr id="480" name="i-main-pic" descr="Картинка 52 из 132835"/>
          <p:cNvPicPr/>
          <p:nvPr/>
        </p:nvPicPr>
        <p:blipFill>
          <a:blip r:embed="rId4"/>
          <a:stretch/>
        </p:blipFill>
        <p:spPr>
          <a:xfrm>
            <a:off x="5076720" y="2565360"/>
            <a:ext cx="1616040" cy="182880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7" descr=""/>
          <p:cNvPicPr/>
          <p:nvPr/>
        </p:nvPicPr>
        <p:blipFill>
          <a:blip r:embed="rId5"/>
          <a:stretch/>
        </p:blipFill>
        <p:spPr>
          <a:xfrm>
            <a:off x="4932360" y="1052640"/>
            <a:ext cx="1511280" cy="15127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8" descr=""/>
          <p:cNvPicPr/>
          <p:nvPr/>
        </p:nvPicPr>
        <p:blipFill>
          <a:blip r:embed="rId6"/>
          <a:stretch/>
        </p:blipFill>
        <p:spPr>
          <a:xfrm>
            <a:off x="1908000" y="4724280"/>
            <a:ext cx="1441800" cy="16210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7"/>
          <a:stretch/>
        </p:blipFill>
        <p:spPr>
          <a:xfrm>
            <a:off x="5364000" y="4653000"/>
            <a:ext cx="1247760" cy="194292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2"/>
          <p:cNvSpPr/>
          <p:nvPr/>
        </p:nvSpPr>
        <p:spPr>
          <a:xfrm>
            <a:off x="2583720" y="2349360"/>
            <a:ext cx="432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о  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3"/>
          <p:cNvSpPr/>
          <p:nvPr/>
        </p:nvSpPr>
        <p:spPr>
          <a:xfrm>
            <a:off x="4565520" y="2349360"/>
            <a:ext cx="108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14"/>
          <p:cNvSpPr/>
          <p:nvPr/>
        </p:nvSpPr>
        <p:spPr>
          <a:xfrm>
            <a:off x="2978640" y="476280"/>
            <a:ext cx="3806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у   и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15"/>
          <p:cNvSpPr/>
          <p:nvPr/>
        </p:nvSpPr>
        <p:spPr>
          <a:xfrm>
            <a:off x="3623040" y="4076640"/>
            <a:ext cx="342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едя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16"/>
          <p:cNvSpPr/>
          <p:nvPr/>
        </p:nvSpPr>
        <p:spPr>
          <a:xfrm>
            <a:off x="3004920" y="2349360"/>
            <a:ext cx="2719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Franklin Gothic Book"/>
              </a:rPr>
              <a:t>м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17"/>
          <p:cNvSpPr/>
          <p:nvPr/>
        </p:nvSpPr>
        <p:spPr>
          <a:xfrm>
            <a:off x="2496240" y="4076640"/>
            <a:ext cx="46231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Franklin Gothic Book"/>
              </a:rPr>
              <a:t>анда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18"/>
          <p:cNvSpPr/>
          <p:nvPr/>
        </p:nvSpPr>
        <p:spPr>
          <a:xfrm>
            <a:off x="1908000" y="4076640"/>
            <a:ext cx="1270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б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19"/>
          <p:cNvSpPr/>
          <p:nvPr/>
        </p:nvSpPr>
        <p:spPr>
          <a:xfrm>
            <a:off x="3825000" y="549360"/>
            <a:ext cx="1878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ш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20"/>
          <p:cNvSpPr/>
          <p:nvPr/>
        </p:nvSpPr>
        <p:spPr>
          <a:xfrm>
            <a:off x="3884040" y="476280"/>
            <a:ext cx="171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ж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21"/>
          <p:cNvSpPr/>
          <p:nvPr/>
        </p:nvSpPr>
        <p:spPr>
          <a:xfrm>
            <a:off x="1883160" y="4076640"/>
            <a:ext cx="1323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2"/>
          <p:cNvSpPr/>
          <p:nvPr/>
        </p:nvSpPr>
        <p:spPr>
          <a:xfrm>
            <a:off x="4536720" y="2349360"/>
            <a:ext cx="11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3"/>
          <p:cNvSpPr/>
          <p:nvPr/>
        </p:nvSpPr>
        <p:spPr>
          <a:xfrm>
            <a:off x="5154480" y="476280"/>
            <a:ext cx="1149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4"/>
          <p:cNvSpPr/>
          <p:nvPr/>
        </p:nvSpPr>
        <p:spPr>
          <a:xfrm>
            <a:off x="5045760" y="2349360"/>
            <a:ext cx="12657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к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25"/>
          <p:cNvSpPr/>
          <p:nvPr/>
        </p:nvSpPr>
        <p:spPr>
          <a:xfrm>
            <a:off x="5115960" y="2349360"/>
            <a:ext cx="10188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26"/>
          <p:cNvSpPr/>
          <p:nvPr/>
        </p:nvSpPr>
        <p:spPr>
          <a:xfrm>
            <a:off x="2444760" y="4076640"/>
            <a:ext cx="16880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Franklin Gothic Book"/>
              </a:rPr>
              <a:t>Ф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оугольник 27"/>
          <p:cNvSpPr/>
          <p:nvPr/>
        </p:nvSpPr>
        <p:spPr>
          <a:xfrm>
            <a:off x="2825280" y="4076640"/>
            <a:ext cx="1358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Рисунок 28" descr=""/>
          <p:cNvPicPr/>
          <p:nvPr/>
        </p:nvPicPr>
        <p:blipFill>
          <a:blip r:embed="rId8"/>
          <a:stretch/>
        </p:blipFill>
        <p:spPr>
          <a:xfrm>
            <a:off x="250920" y="620640"/>
            <a:ext cx="1657080" cy="180036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9" descr=""/>
          <p:cNvPicPr/>
          <p:nvPr/>
        </p:nvPicPr>
        <p:blipFill>
          <a:blip r:embed="rId9"/>
          <a:stretch/>
        </p:blipFill>
        <p:spPr>
          <a:xfrm>
            <a:off x="324000" y="2637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502" name="Рисунок 30" descr=""/>
          <p:cNvPicPr/>
          <p:nvPr/>
        </p:nvPicPr>
        <p:blipFill>
          <a:blip r:embed="rId10"/>
          <a:stretch/>
        </p:blipFill>
        <p:spPr>
          <a:xfrm>
            <a:off x="179280" y="465300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31" descr=""/>
          <p:cNvPicPr/>
          <p:nvPr/>
        </p:nvPicPr>
        <p:blipFill>
          <a:blip r:embed="rId11"/>
          <a:stretch/>
        </p:blipFill>
        <p:spPr>
          <a:xfrm>
            <a:off x="6948360" y="69228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32" descr=""/>
          <p:cNvPicPr/>
          <p:nvPr/>
        </p:nvPicPr>
        <p:blipFill>
          <a:blip r:embed="rId12"/>
          <a:stretch/>
        </p:blipFill>
        <p:spPr>
          <a:xfrm>
            <a:off x="6948360" y="2781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33" descr=""/>
          <p:cNvPicPr/>
          <p:nvPr/>
        </p:nvPicPr>
        <p:blipFill>
          <a:blip r:embed="rId13"/>
          <a:stretch/>
        </p:blipFill>
        <p:spPr>
          <a:xfrm>
            <a:off x="7020000" y="479736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506" name="Прямоугольник 31" descr=""/>
          <p:cNvPicPr/>
          <p:nvPr/>
        </p:nvPicPr>
        <p:blipFill>
          <a:blip r:embed="rId14"/>
          <a:stretch/>
        </p:blipFill>
        <p:spPr>
          <a:xfrm>
            <a:off x="1889280" y="92160"/>
            <a:ext cx="51447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7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70" fill="hold"/>
                                        <p:tgtEl>
                                          <p:spTgt spid="4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7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4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4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4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7" descr=""/>
          <p:cNvPicPr/>
          <p:nvPr/>
        </p:nvPicPr>
        <p:blipFill>
          <a:blip r:embed="rId2"/>
          <a:stretch/>
        </p:blipFill>
        <p:spPr>
          <a:xfrm>
            <a:off x="2050920" y="620640"/>
            <a:ext cx="5185080" cy="37450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8"/>
          <p:cNvSpPr/>
          <p:nvPr/>
        </p:nvSpPr>
        <p:spPr>
          <a:xfrm>
            <a:off x="2571840" y="4653000"/>
            <a:ext cx="421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4e6d"/>
                </a:solidFill>
                <a:latin typeface="Franklin Gothic Book"/>
              </a:rPr>
              <a:t>шутк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Рисунок 9" descr=""/>
          <p:cNvPicPr/>
          <p:nvPr/>
        </p:nvPicPr>
        <p:blipFill>
          <a:blip r:embed="rId3"/>
          <a:stretch/>
        </p:blipFill>
        <p:spPr>
          <a:xfrm>
            <a:off x="1908000" y="476280"/>
            <a:ext cx="5400720" cy="403236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11"/>
          <p:cNvSpPr/>
          <p:nvPr/>
        </p:nvSpPr>
        <p:spPr>
          <a:xfrm>
            <a:off x="2740680" y="4869000"/>
            <a:ext cx="386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f0"/>
                </a:solidFill>
                <a:latin typeface="Franklin Gothic Book"/>
              </a:rPr>
              <a:t>шар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3097080" y="4724280"/>
            <a:ext cx="329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e9632"/>
                </a:solidFill>
                <a:latin typeface="Franklin Gothic Book"/>
              </a:rPr>
              <a:t>бус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3"/>
          <p:cNvSpPr/>
          <p:nvPr/>
        </p:nvSpPr>
        <p:spPr>
          <a:xfrm>
            <a:off x="2686320" y="4869000"/>
            <a:ext cx="387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Franklin Gothic Book"/>
              </a:rPr>
              <a:t>экра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4"/>
          <p:cNvSpPr/>
          <p:nvPr/>
        </p:nvSpPr>
        <p:spPr>
          <a:xfrm>
            <a:off x="2891520" y="4653000"/>
            <a:ext cx="370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Franklin Gothic Book"/>
              </a:rPr>
              <a:t>гроз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Рисунок 15" descr=""/>
          <p:cNvPicPr/>
          <p:nvPr/>
        </p:nvPicPr>
        <p:blipFill>
          <a:blip r:embed="rId4"/>
          <a:stretch/>
        </p:blipFill>
        <p:spPr>
          <a:xfrm>
            <a:off x="2124000" y="189000"/>
            <a:ext cx="5543640" cy="49687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6" descr=""/>
          <p:cNvPicPr/>
          <p:nvPr/>
        </p:nvPicPr>
        <p:blipFill>
          <a:blip r:embed="rId5"/>
          <a:stretch/>
        </p:blipFill>
        <p:spPr>
          <a:xfrm>
            <a:off x="2340000" y="0"/>
            <a:ext cx="5256360" cy="494172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7" descr=""/>
          <p:cNvPicPr/>
          <p:nvPr/>
        </p:nvPicPr>
        <p:blipFill>
          <a:blip r:embed="rId6"/>
          <a:stretch/>
        </p:blipFill>
        <p:spPr>
          <a:xfrm>
            <a:off x="2411280" y="333360"/>
            <a:ext cx="4681800" cy="468000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8" descr=""/>
          <p:cNvPicPr/>
          <p:nvPr/>
        </p:nvPicPr>
        <p:blipFill>
          <a:blip r:embed="rId7"/>
          <a:stretch/>
        </p:blipFill>
        <p:spPr>
          <a:xfrm>
            <a:off x="2556000" y="260280"/>
            <a:ext cx="5040360" cy="659772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10"/>
          <p:cNvSpPr/>
          <p:nvPr/>
        </p:nvSpPr>
        <p:spPr>
          <a:xfrm>
            <a:off x="3448440" y="4365720"/>
            <a:ext cx="323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Franklin Gothic Book"/>
              </a:rPr>
              <a:t>пар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Прямоугольник 19" descr=""/>
          <p:cNvPicPr/>
          <p:nvPr/>
        </p:nvPicPr>
        <p:blipFill>
          <a:blip r:embed="rId8"/>
          <a:stretch/>
        </p:blipFill>
        <p:spPr>
          <a:xfrm>
            <a:off x="-328680" y="12600"/>
            <a:ext cx="30528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Рисунок 1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129440" cy="518472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3" descr=""/>
          <p:cNvPicPr/>
          <p:nvPr/>
        </p:nvPicPr>
        <p:blipFill>
          <a:blip r:embed="rId3"/>
          <a:stretch/>
        </p:blipFill>
        <p:spPr>
          <a:xfrm>
            <a:off x="3035160" y="158760"/>
            <a:ext cx="27068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Лента лицом вверх 10"/>
          <p:cNvSpPr/>
          <p:nvPr/>
        </p:nvSpPr>
        <p:spPr>
          <a:xfrm>
            <a:off x="431640" y="620640"/>
            <a:ext cx="8712360" cy="1152720"/>
          </a:xfrm>
          <a:custGeom>
            <a:avLst/>
            <a:gdLst>
              <a:gd name="textAreaLeft" fmla="*/ 1089000 w 8712360"/>
              <a:gd name="textAreaRight" fmla="*/ 7623360 w 8712360"/>
              <a:gd name="textAreaTop" fmla="*/ 0 h 1152720"/>
              <a:gd name="textAreaBottom" fmla="*/ 932400 h 1152720"/>
            </a:gdLst>
            <a:ahLst/>
            <a:rect l="textAreaLeft" t="textAreaTop" r="textAreaRight" b="textAreaBottom"/>
            <a:pathLst>
              <a:path w="21600" h="21600">
                <a:moveTo>
                  <a:pt x="5400" y="17472"/>
                </a:moveTo>
                <a:lnTo>
                  <a:pt x="5400" y="20568"/>
                </a:lnTo>
                <a:cubicBezTo>
                  <a:pt x="5400" y="21084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864"/>
                </a:lnTo>
                <a:lnTo>
                  <a:pt x="0" y="4128"/>
                </a:lnTo>
                <a:lnTo>
                  <a:pt x="2700" y="4128"/>
                </a:lnTo>
                <a:lnTo>
                  <a:pt x="2700" y="1032"/>
                </a:lnTo>
                <a:cubicBezTo>
                  <a:pt x="2700" y="516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516"/>
                  <a:pt x="18900" y="1032"/>
                </a:cubicBezTo>
                <a:lnTo>
                  <a:pt x="18900" y="4128"/>
                </a:lnTo>
                <a:lnTo>
                  <a:pt x="21600" y="4128"/>
                </a:lnTo>
                <a:lnTo>
                  <a:pt x="18850" y="12864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084"/>
                  <a:pt x="16200" y="20568"/>
                </a:cubicBezTo>
                <a:lnTo>
                  <a:pt x="16200" y="17472"/>
                </a:lnTo>
                <a:close/>
              </a:path>
              <a:path fill="darkenLess" w="21600" h="21600">
                <a:moveTo>
                  <a:pt x="5400" y="17472"/>
                </a:moveTo>
                <a:lnTo>
                  <a:pt x="5400" y="20568"/>
                </a:lnTo>
                <a:cubicBezTo>
                  <a:pt x="5400" y="20052"/>
                  <a:pt x="4980" y="19536"/>
                  <a:pt x="4560" y="19536"/>
                </a:cubicBezTo>
                <a:lnTo>
                  <a:pt x="3540" y="19536"/>
                </a:lnTo>
                <a:cubicBezTo>
                  <a:pt x="3120" y="19536"/>
                  <a:pt x="2700" y="19020"/>
                  <a:pt x="2700" y="18504"/>
                </a:cubicBezTo>
                <a:cubicBezTo>
                  <a:pt x="2700" y="17988"/>
                  <a:pt x="3120" y="17472"/>
                  <a:pt x="3540" y="17472"/>
                </a:cubicBezTo>
                <a:close/>
              </a:path>
              <a:path fill="darkenLess" w="21600" h="21600">
                <a:moveTo>
                  <a:pt x="16200" y="17472"/>
                </a:moveTo>
                <a:lnTo>
                  <a:pt x="16200" y="20568"/>
                </a:lnTo>
                <a:cubicBezTo>
                  <a:pt x="16200" y="20052"/>
                  <a:pt x="16620" y="19536"/>
                  <a:pt x="17040" y="19536"/>
                </a:cubicBezTo>
                <a:lnTo>
                  <a:pt x="18060" y="19536"/>
                </a:lnTo>
                <a:cubicBezTo>
                  <a:pt x="18480" y="19536"/>
                  <a:pt x="18900" y="19020"/>
                  <a:pt x="18900" y="18504"/>
                </a:cubicBezTo>
                <a:cubicBezTo>
                  <a:pt x="18900" y="17988"/>
                  <a:pt x="18480" y="17472"/>
                  <a:pt x="18060" y="17472"/>
                </a:cubicBezTo>
                <a:close/>
              </a:path>
              <a:path fill="darkenLess" w="21600" h="21600">
                <a:moveTo>
                  <a:pt x="2700" y="18504"/>
                </a:moveTo>
                <a:lnTo>
                  <a:pt x="2700" y="4128"/>
                </a:lnTo>
              </a:path>
              <a:path fill="darkenLess" w="21600" h="21600">
                <a:moveTo>
                  <a:pt x="18900" y="18504"/>
                </a:moveTo>
                <a:lnTo>
                  <a:pt x="18900" y="4128"/>
                </a:lnTo>
              </a:path>
            </a:pathLst>
          </a:cu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Картинка 41 из 475621"/>
          <p:cNvPicPr/>
          <p:nvPr/>
        </p:nvPicPr>
        <p:blipFill>
          <a:blip r:embed="rId2"/>
          <a:stretch/>
        </p:blipFill>
        <p:spPr>
          <a:xfrm>
            <a:off x="2987640" y="2565360"/>
            <a:ext cx="3257640" cy="345600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12"/>
          <p:cNvSpPr/>
          <p:nvPr/>
        </p:nvSpPr>
        <p:spPr>
          <a:xfrm>
            <a:off x="1619280" y="7668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3763"/>
                </a:solidFill>
                <a:latin typeface="Times New Roman"/>
              </a:rPr>
              <a:t>Книга мала, а ума прид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1567440" y="76680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Книги читать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</a:rPr>
              <a:t> скуки не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6"/>
          <p:cNvSpPr/>
          <p:nvPr/>
        </p:nvSpPr>
        <p:spPr>
          <a:xfrm>
            <a:off x="1715400" y="767160"/>
            <a:ext cx="613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Times New Roman"/>
              </a:rPr>
              <a:t>Книга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–</a:t>
            </a:r>
            <a:r>
              <a:rPr b="1" lang="en-US" sz="4000" spc="-1" strike="noStrike">
                <a:solidFill>
                  <a:srgbClr val="04617b"/>
                </a:solidFill>
                <a:latin typeface="Times New Roman"/>
              </a:rPr>
              <a:t> лучший под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1" descr="Картинка 123 из 163321"/>
          <p:cNvPicPr/>
          <p:nvPr/>
        </p:nvPicPr>
        <p:blipFill>
          <a:blip r:embed="rId3"/>
          <a:stretch/>
        </p:blipFill>
        <p:spPr>
          <a:xfrm>
            <a:off x="2771640" y="22050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Картинка 220 из 475619"/>
          <p:cNvPicPr/>
          <p:nvPr/>
        </p:nvPicPr>
        <p:blipFill>
          <a:blip r:embed="rId4"/>
          <a:stretch/>
        </p:blipFill>
        <p:spPr>
          <a:xfrm>
            <a:off x="3132000" y="2421000"/>
            <a:ext cx="3029040" cy="380988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7"/>
          <p:cNvSpPr/>
          <p:nvPr/>
        </p:nvSpPr>
        <p:spPr>
          <a:xfrm>
            <a:off x="1569960" y="90900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нига учит жить,  книгой надо до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4" descr="http://www.pollsb.com/photos/50/435136.jpg"/>
          <p:cNvPicPr/>
          <p:nvPr/>
        </p:nvPicPr>
        <p:blipFill>
          <a:blip r:embed="rId5"/>
          <a:stretch/>
        </p:blipFill>
        <p:spPr>
          <a:xfrm>
            <a:off x="2916360" y="2349360"/>
            <a:ext cx="3497040" cy="3672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Картинка 7 из 147953"/>
          <p:cNvPicPr/>
          <p:nvPr/>
        </p:nvPicPr>
        <p:blipFill>
          <a:blip r:embed="rId6"/>
          <a:stretch/>
        </p:blipFill>
        <p:spPr>
          <a:xfrm>
            <a:off x="2987640" y="1844640"/>
            <a:ext cx="3529080" cy="47055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18"/>
          <p:cNvSpPr/>
          <p:nvPr/>
        </p:nvSpPr>
        <p:spPr>
          <a:xfrm>
            <a:off x="2296080" y="693720"/>
            <a:ext cx="52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Чтение - лучшее у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Прямоугольник 12" descr=""/>
          <p:cNvPicPr/>
          <p:nvPr/>
        </p:nvPicPr>
        <p:blipFill>
          <a:blip r:embed="rId7"/>
          <a:stretch/>
        </p:blipFill>
        <p:spPr>
          <a:xfrm>
            <a:off x="3292560" y="-60480"/>
            <a:ext cx="22730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4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5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3"/>
          <p:cNvSpPr/>
          <p:nvPr/>
        </p:nvSpPr>
        <p:spPr>
          <a:xfrm>
            <a:off x="826920" y="836640"/>
            <a:ext cx="610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Ты меня, дружок, послушай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У него большие уши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Он коричневого цвета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Его любят все на свете,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Знает каждая дворняжка</a:t>
            </a:r>
            <a:br>
              <a:rPr sz="3200"/>
            </a:b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Друга Гены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Рисунок 4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4680000" cy="3384360"/>
          </a:xfrm>
          <a:prstGeom prst="rect">
            <a:avLst/>
          </a:prstGeom>
          <a:ln w="0">
            <a:noFill/>
          </a:ln>
        </p:spPr>
      </p:pic>
      <p:pic>
        <p:nvPicPr>
          <p:cNvPr id="404" name="Прямоугольник 5" descr=""/>
          <p:cNvPicPr/>
          <p:nvPr/>
        </p:nvPicPr>
        <p:blipFill>
          <a:blip r:embed="rId3"/>
          <a:stretch/>
        </p:blipFill>
        <p:spPr>
          <a:xfrm>
            <a:off x="167652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3"/>
          <p:cNvSpPr/>
          <p:nvPr/>
        </p:nvSpPr>
        <p:spPr>
          <a:xfrm>
            <a:off x="611280" y="1125360"/>
            <a:ext cx="631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Формой он похож на мяч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Был когда-то он горяч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Спрыгнул со стола на пол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И от бабушки ушёл.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У него румяный бок…</a:t>
            </a:r>
            <a:br>
              <a:rPr sz="3200"/>
            </a:br>
            <a:r>
              <a:rPr b="1" lang="en-US" sz="3200" spc="-1" strike="noStrike">
                <a:solidFill>
                  <a:srgbClr val="03495c"/>
                </a:solidFill>
                <a:latin typeface="Times New Roman"/>
                <a:ea typeface="Arial Unicode MS"/>
              </a:rPr>
              <a:t>Кто же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4" descr=""/>
          <p:cNvPicPr/>
          <p:nvPr/>
        </p:nvPicPr>
        <p:blipFill>
          <a:blip r:embed="rId2"/>
          <a:stretch/>
        </p:blipFill>
        <p:spPr>
          <a:xfrm>
            <a:off x="4859280" y="2924280"/>
            <a:ext cx="3960720" cy="3600360"/>
          </a:xfrm>
          <a:prstGeom prst="rect">
            <a:avLst/>
          </a:prstGeom>
          <a:ln w="0">
            <a:noFill/>
          </a:ln>
        </p:spPr>
      </p:pic>
      <p:pic>
        <p:nvPicPr>
          <p:cNvPr id="407" name="Прямоугольник 5" descr=""/>
          <p:cNvPicPr/>
          <p:nvPr/>
        </p:nvPicPr>
        <p:blipFill>
          <a:blip r:embed="rId3"/>
          <a:stretch/>
        </p:blipFill>
        <p:spPr>
          <a:xfrm>
            <a:off x="1822320" y="237960"/>
            <a:ext cx="54007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0" y="845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Мальчишка деревянный, весёлый, озор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В подарок получает он ключик золо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И потайную дверцу он скоро отопр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В мир радости и счастья с друзьями попад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Рисунок 2" descr=""/>
          <p:cNvPicPr/>
          <p:nvPr/>
        </p:nvPicPr>
        <p:blipFill>
          <a:blip r:embed="rId2"/>
          <a:stretch/>
        </p:blipFill>
        <p:spPr>
          <a:xfrm>
            <a:off x="2627280" y="2852640"/>
            <a:ext cx="4175280" cy="381636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3" descr=""/>
          <p:cNvPicPr/>
          <p:nvPr/>
        </p:nvPicPr>
        <p:blipFill>
          <a:blip r:embed="rId3"/>
          <a:stretch/>
        </p:blipFill>
        <p:spPr>
          <a:xfrm>
            <a:off x="1822320" y="9216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"/>
          <p:cNvSpPr/>
          <p:nvPr/>
        </p:nvSpPr>
        <p:spPr>
          <a:xfrm>
            <a:off x="539640" y="990000"/>
            <a:ext cx="57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Мальчик-луковка – бедня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Но не ун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Из беды своих дру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3763"/>
                </a:solidFill>
                <a:latin typeface="Times New Roman"/>
                <a:ea typeface="Arial Unicode MS"/>
              </a:rPr>
              <a:t>Смело выруч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5041800" cy="396072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3" descr=""/>
          <p:cNvPicPr/>
          <p:nvPr/>
        </p:nvPicPr>
        <p:blipFill>
          <a:blip r:embed="rId3"/>
          <a:stretch/>
        </p:blipFill>
        <p:spPr>
          <a:xfrm>
            <a:off x="160344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95280" y="1133640"/>
            <a:ext cx="69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Медвежонок любит мё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Песни сочиня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Ходит в гости по утра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5395"/>
                </a:solidFill>
                <a:latin typeface="Times New Roman"/>
                <a:ea typeface="Arial Unicode MS"/>
              </a:rPr>
              <a:t>Кто его не зн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2" descr=""/>
          <p:cNvPicPr/>
          <p:nvPr/>
        </p:nvPicPr>
        <p:blipFill>
          <a:blip r:embed="rId2"/>
          <a:stretch/>
        </p:blipFill>
        <p:spPr>
          <a:xfrm>
            <a:off x="4284720" y="2637000"/>
            <a:ext cx="4174920" cy="396072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3" descr=""/>
          <p:cNvPicPr/>
          <p:nvPr/>
        </p:nvPicPr>
        <p:blipFill>
          <a:blip r:embed="rId3"/>
          <a:stretch/>
        </p:blipFill>
        <p:spPr>
          <a:xfrm>
            <a:off x="1676520" y="165240"/>
            <a:ext cx="54007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1"/>
          <p:cNvSpPr/>
          <p:nvPr/>
        </p:nvSpPr>
        <p:spPr>
          <a:xfrm>
            <a:off x="1332000" y="90792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Бабушка девочку очень любил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Шапочку красную ей подарила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Девочка имя забыла свое.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А ну, подскажите имя её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Прямоугольник 3" descr=""/>
          <p:cNvPicPr/>
          <p:nvPr/>
        </p:nvPicPr>
        <p:blipFill>
          <a:blip r:embed="rId2"/>
          <a:stretch/>
        </p:blipFill>
        <p:spPr>
          <a:xfrm>
            <a:off x="2036880" y="165240"/>
            <a:ext cx="5400720" cy="749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3"/>
          <a:stretch/>
        </p:blipFill>
        <p:spPr>
          <a:xfrm>
            <a:off x="1979640" y="2997360"/>
            <a:ext cx="52941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576080" cy="100836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"/>
          <p:cNvPicPr/>
          <p:nvPr/>
        </p:nvPicPr>
        <p:blipFill>
          <a:blip r:embed="rId3"/>
          <a:stretch/>
        </p:blipFill>
        <p:spPr>
          <a:xfrm>
            <a:off x="6443640" y="4221000"/>
            <a:ext cx="2449440" cy="194472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4" descr=""/>
          <p:cNvPicPr/>
          <p:nvPr/>
        </p:nvPicPr>
        <p:blipFill>
          <a:blip r:embed="rId4"/>
          <a:stretch/>
        </p:blipFill>
        <p:spPr>
          <a:xfrm>
            <a:off x="4834080" y="92160"/>
            <a:ext cx="365112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3" name=""/>
          <p:cNvGraphicFramePr/>
          <p:nvPr/>
        </p:nvGraphicFramePr>
        <p:xfrm>
          <a:off x="1763640" y="1557360"/>
          <a:ext cx="4608720" cy="4464000"/>
        </p:xfrm>
        <a:graphic>
          <a:graphicData uri="http://schemas.openxmlformats.org/drawingml/2006/table">
            <a:tbl>
              <a:tblPr/>
              <a:tblGrid>
                <a:gridCol w="459000"/>
                <a:gridCol w="527040"/>
                <a:gridCol w="507960"/>
                <a:gridCol w="536400"/>
                <a:gridCol w="438120"/>
                <a:gridCol w="507960"/>
                <a:gridCol w="551160"/>
                <a:gridCol w="544320"/>
                <a:gridCol w="536760"/>
              </a:tblGrid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Ъ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4" name="Прямоугольник 8"/>
          <p:cNvSpPr/>
          <p:nvPr/>
        </p:nvSpPr>
        <p:spPr>
          <a:xfrm>
            <a:off x="1763640" y="1484280"/>
            <a:ext cx="4320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10"/>
          <p:cNvSpPr/>
          <p:nvPr/>
        </p:nvSpPr>
        <p:spPr>
          <a:xfrm>
            <a:off x="1766520" y="2133720"/>
            <a:ext cx="435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11"/>
          <p:cNvSpPr/>
          <p:nvPr/>
        </p:nvSpPr>
        <p:spPr>
          <a:xfrm>
            <a:off x="2198520" y="2133720"/>
            <a:ext cx="436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2"/>
          <p:cNvSpPr/>
          <p:nvPr/>
        </p:nvSpPr>
        <p:spPr>
          <a:xfrm>
            <a:off x="2198160" y="2781360"/>
            <a:ext cx="37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13"/>
          <p:cNvSpPr/>
          <p:nvPr/>
        </p:nvSpPr>
        <p:spPr>
          <a:xfrm>
            <a:off x="2198880" y="3429000"/>
            <a:ext cx="488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4"/>
          <p:cNvSpPr/>
          <p:nvPr/>
        </p:nvSpPr>
        <p:spPr>
          <a:xfrm>
            <a:off x="2198520" y="4005360"/>
            <a:ext cx="403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5"/>
          <p:cNvSpPr/>
          <p:nvPr/>
        </p:nvSpPr>
        <p:spPr>
          <a:xfrm>
            <a:off x="2198520" y="4653000"/>
            <a:ext cx="403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6"/>
          <p:cNvSpPr/>
          <p:nvPr/>
        </p:nvSpPr>
        <p:spPr>
          <a:xfrm>
            <a:off x="2703600" y="4653000"/>
            <a:ext cx="561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17"/>
          <p:cNvSpPr/>
          <p:nvPr/>
        </p:nvSpPr>
        <p:spPr>
          <a:xfrm>
            <a:off x="2702520" y="4005360"/>
            <a:ext cx="40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18"/>
          <p:cNvSpPr/>
          <p:nvPr/>
        </p:nvSpPr>
        <p:spPr>
          <a:xfrm>
            <a:off x="2703240" y="3357720"/>
            <a:ext cx="479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19"/>
          <p:cNvSpPr/>
          <p:nvPr/>
        </p:nvSpPr>
        <p:spPr>
          <a:xfrm>
            <a:off x="2703240" y="2781360"/>
            <a:ext cx="479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20"/>
          <p:cNvSpPr/>
          <p:nvPr/>
        </p:nvSpPr>
        <p:spPr>
          <a:xfrm>
            <a:off x="3206880" y="2781360"/>
            <a:ext cx="438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21"/>
          <p:cNvSpPr/>
          <p:nvPr/>
        </p:nvSpPr>
        <p:spPr>
          <a:xfrm>
            <a:off x="3206520" y="213372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22"/>
          <p:cNvSpPr/>
          <p:nvPr/>
        </p:nvSpPr>
        <p:spPr>
          <a:xfrm>
            <a:off x="3207960" y="1484280"/>
            <a:ext cx="579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23"/>
          <p:cNvSpPr/>
          <p:nvPr/>
        </p:nvSpPr>
        <p:spPr>
          <a:xfrm>
            <a:off x="3783600" y="148428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25"/>
          <p:cNvSpPr/>
          <p:nvPr/>
        </p:nvSpPr>
        <p:spPr>
          <a:xfrm>
            <a:off x="3783240" y="2133720"/>
            <a:ext cx="489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26"/>
          <p:cNvSpPr/>
          <p:nvPr/>
        </p:nvSpPr>
        <p:spPr>
          <a:xfrm>
            <a:off x="3782880" y="2781360"/>
            <a:ext cx="468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7"/>
          <p:cNvSpPr/>
          <p:nvPr/>
        </p:nvSpPr>
        <p:spPr>
          <a:xfrm>
            <a:off x="3782880" y="3429000"/>
            <a:ext cx="424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8"/>
          <p:cNvSpPr/>
          <p:nvPr/>
        </p:nvSpPr>
        <p:spPr>
          <a:xfrm flipH="1">
            <a:off x="3779280" y="4076640"/>
            <a:ext cx="431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9"/>
          <p:cNvSpPr/>
          <p:nvPr/>
        </p:nvSpPr>
        <p:spPr>
          <a:xfrm>
            <a:off x="4214880" y="4005360"/>
            <a:ext cx="407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4215240" y="3429000"/>
            <a:ext cx="430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31"/>
          <p:cNvSpPr/>
          <p:nvPr/>
        </p:nvSpPr>
        <p:spPr>
          <a:xfrm>
            <a:off x="4215240" y="2781360"/>
            <a:ext cx="511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2"/>
          <p:cNvSpPr/>
          <p:nvPr/>
        </p:nvSpPr>
        <p:spPr>
          <a:xfrm>
            <a:off x="4215240" y="2133720"/>
            <a:ext cx="432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3"/>
          <p:cNvSpPr/>
          <p:nvPr/>
        </p:nvSpPr>
        <p:spPr>
          <a:xfrm>
            <a:off x="4214880" y="1484280"/>
            <a:ext cx="4809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4"/>
          <p:cNvSpPr/>
          <p:nvPr/>
        </p:nvSpPr>
        <p:spPr>
          <a:xfrm>
            <a:off x="4719600" y="1484280"/>
            <a:ext cx="441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5"/>
          <p:cNvSpPr/>
          <p:nvPr/>
        </p:nvSpPr>
        <p:spPr>
          <a:xfrm>
            <a:off x="4720320" y="2133720"/>
            <a:ext cx="590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6"/>
          <p:cNvSpPr/>
          <p:nvPr/>
        </p:nvSpPr>
        <p:spPr>
          <a:xfrm>
            <a:off x="4720320" y="2781360"/>
            <a:ext cx="604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7"/>
          <p:cNvSpPr/>
          <p:nvPr/>
        </p:nvSpPr>
        <p:spPr>
          <a:xfrm>
            <a:off x="4719240" y="3429000"/>
            <a:ext cx="473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8"/>
          <p:cNvSpPr/>
          <p:nvPr/>
        </p:nvSpPr>
        <p:spPr>
          <a:xfrm>
            <a:off x="4719240" y="4005360"/>
            <a:ext cx="5464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9"/>
          <p:cNvSpPr/>
          <p:nvPr/>
        </p:nvSpPr>
        <p:spPr>
          <a:xfrm>
            <a:off x="4719240" y="4653000"/>
            <a:ext cx="433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40"/>
          <p:cNvSpPr/>
          <p:nvPr/>
        </p:nvSpPr>
        <p:spPr>
          <a:xfrm>
            <a:off x="4719240" y="5300640"/>
            <a:ext cx="427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1"/>
          <p:cNvSpPr/>
          <p:nvPr/>
        </p:nvSpPr>
        <p:spPr>
          <a:xfrm>
            <a:off x="5223600" y="5300640"/>
            <a:ext cx="5983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42"/>
          <p:cNvSpPr/>
          <p:nvPr/>
        </p:nvSpPr>
        <p:spPr>
          <a:xfrm>
            <a:off x="5799240" y="5300640"/>
            <a:ext cx="442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3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1557360" cy="1728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6" descr=""/>
          <p:cNvPicPr/>
          <p:nvPr/>
        </p:nvPicPr>
        <p:blipFill>
          <a:blip r:embed="rId3"/>
          <a:stretch/>
        </p:blipFill>
        <p:spPr>
          <a:xfrm>
            <a:off x="8037360" y="2349360"/>
            <a:ext cx="1106640" cy="1944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54040" y="765000"/>
            <a:ext cx="8589960" cy="1440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"/>
          <p:cNvPicPr/>
          <p:nvPr/>
        </p:nvPicPr>
        <p:blipFill>
          <a:blip r:embed="rId5"/>
          <a:stretch/>
        </p:blipFill>
        <p:spPr>
          <a:xfrm>
            <a:off x="-181080" y="4221000"/>
            <a:ext cx="9649080" cy="2808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7" descr=""/>
          <p:cNvPicPr/>
          <p:nvPr/>
        </p:nvPicPr>
        <p:blipFill>
          <a:blip r:embed="rId6"/>
          <a:stretch/>
        </p:blipFill>
        <p:spPr>
          <a:xfrm>
            <a:off x="2195640" y="2349360"/>
            <a:ext cx="2016000" cy="2376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250920" y="2997360"/>
            <a:ext cx="1919160" cy="172692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9" descr=""/>
          <p:cNvPicPr/>
          <p:nvPr/>
        </p:nvPicPr>
        <p:blipFill>
          <a:blip r:embed="rId8"/>
          <a:stretch/>
        </p:blipFill>
        <p:spPr>
          <a:xfrm>
            <a:off x="3995640" y="3284640"/>
            <a:ext cx="1584360" cy="15127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Рисунок 15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1511280" cy="13683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Прямоугольник 13" descr=""/>
          <p:cNvPicPr/>
          <p:nvPr/>
        </p:nvPicPr>
        <p:blipFill>
          <a:blip r:embed="rId10"/>
          <a:stretch/>
        </p:blipFill>
        <p:spPr>
          <a:xfrm>
            <a:off x="208080" y="-92160"/>
            <a:ext cx="8972280" cy="7444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5"/>
          <p:cNvSpPr/>
          <p:nvPr/>
        </p:nvSpPr>
        <p:spPr>
          <a:xfrm>
            <a:off x="2340000" y="52336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Эта буква ши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И похожа на ж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6"/>
          <p:cNvSpPr/>
          <p:nvPr/>
        </p:nvSpPr>
        <p:spPr>
          <a:xfrm>
            <a:off x="1619280" y="523368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На эту букву посмотри </a:t>
            </a:r>
            <a:r>
              <a:rPr b="1" lang="en-US" sz="3600" spc="-1" strike="noStrike">
                <a:solidFill>
                  <a:srgbClr val="115964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Она совсем как цифра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7"/>
          <p:cNvSpPr/>
          <p:nvPr/>
        </p:nvSpPr>
        <p:spPr>
          <a:xfrm>
            <a:off x="1476360" y="523368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На хоккее, на футб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Буква эта </a:t>
            </a:r>
            <a:r>
              <a:rPr b="1" lang="en-US" sz="3600" spc="-1" strike="noStrike">
                <a:solidFill>
                  <a:srgbClr val="115964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 ворота в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1042920" y="5233680"/>
            <a:ext cx="70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Что за буква свет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5964"/>
                </a:solidFill>
                <a:latin typeface="Times New Roman"/>
              </a:rPr>
              <a:t>Старым ясным месяце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-360360" y="5113080"/>
            <a:ext cx="95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5964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В этой букве нет угла,      До того она круг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Оттого она кругла.           Покатиться бы мог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20"/>
          <p:cNvSpPr/>
          <p:nvPr/>
        </p:nvSpPr>
        <p:spPr>
          <a:xfrm>
            <a:off x="1403280" y="523368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Молоток стучит: тук </a:t>
            </a:r>
            <a:r>
              <a:rPr b="1" lang="en-US" sz="3200" spc="-1" strike="noStrike">
                <a:solidFill>
                  <a:srgbClr val="115964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 тук-ту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5964"/>
                </a:solidFill>
                <a:latin typeface="Times New Roman"/>
              </a:rPr>
              <a:t>Какой же букве был он дру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1:49:31Z</dcterms:created>
  <dc:creator>Круц</dc:creator>
  <dc:description/>
  <dc:language>en-US</dc:language>
  <cp:lastModifiedBy>Львова</cp:lastModifiedBy>
  <dcterms:modified xsi:type="dcterms:W3CDTF">2013-04-16T10:26:40Z</dcterms:modified>
  <cp:revision>51</cp:revision>
  <dc:subject/>
  <dc:title>Слайд 1</dc:title>
</cp:coreProperties>
</file>