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732-0D2E-4755-B00C-FCBA53B5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1EE-E5A5-49C7-BD6C-7BFF333E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3BD-A12C-4F8D-9F4F-60F6C628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6E1-C532-4E34-B01A-1C7FA582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7909-39BB-4A5E-B097-7DBC1F09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AC31-FACF-470C-897F-6A2EF4FD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AA42-7F42-45A1-9F1C-2252FBF2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1AA0-A352-49D0-AB7F-8402AA86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981D-299F-4196-9C5D-F60552BE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7B76-ADD8-4A90-B46C-0F06D1DF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DB65-CE62-4570-A230-DC73C26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09E-AE24-4848-B6E5-439D32FE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DCA8-128A-4063-86FA-6F5D0818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5AA9-C237-41D0-991D-78F37B4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D68F-0660-4DCA-AD5F-DE1C82E3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51A5-2E9C-4298-A310-515CEBD0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F0F0-2792-48CE-9CA5-98E77529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39611-A94F-453E-A178-8653D70A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ABB9A-F259-4C1C-850C-CC1D7A89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94E95-7A8D-47BF-B49B-17167E3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B2040-4763-480A-8091-1836430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68C16-3D10-450B-8B2A-1F9ABB6C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5D0-6C2C-435D-BD95-CF1CA25F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ACEE3-AAC9-4C44-BF9D-4B8DA992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07317-C7BE-4A84-A3C2-36A4B98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5E30E-C803-4352-9D5D-8399084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3BE84-F237-483B-8408-6557BB6A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15BF7-7108-44C2-BF64-5F2A7B24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89C27-F688-476B-AFD2-9CAAEFF1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36555A-E13C-4F18-B2AE-DA14F4A2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52B5-6AA4-4CEB-BFF0-F0106CD5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87DFA-D222-4056-B0C9-0DA04CEB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FB8A-8E1E-45FC-8FEA-12A3A9C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FA7-FD43-45DC-9144-E0886B90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6700-392E-4587-9B33-EE19EC4E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A3B5A-E9A4-40A9-A86B-E041066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A52D5-CE2E-4674-A9B9-1BB03B6A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C15B-F655-4EC7-B529-DDDE7CD0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3D7F-DF2C-4AC9-829B-3EB1E26F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49572-97CF-46FF-ABC7-6D7985A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7D7C-39ED-4EE4-B3F1-EB8955E5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8EB9F-F85E-4223-8173-DCCB0EB1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06D9F-BED4-4C32-9E53-FEB538CE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2369-E2E5-400D-A3B5-0C0A7D4C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AFA-B7B1-4AAE-BC07-82C871C8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010-4E2F-44C7-8919-4C99FA2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340-AF67-4FCF-A964-1CB83224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190-9052-4746-99DE-E3BC3ECF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1229-66A7-4120-9EE5-6CF1D5B1EDEF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22EA-139F-4243-B071-A6D72EFD1768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D084-25CA-4C72-8D45-154B106A2A6C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CB1E-2BF3-4CD8-BF02-233E12459278}" type="slidenum">
              <a:rPr b="0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ewsru.com/pict/big/749653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www.newsru.com/pict/big/749653.html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480" y="1143000"/>
            <a:ext cx="8629560" cy="27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их знаний и отличного настроения!</a:t>
            </a:r>
            <a:endParaRPr b="0" lang="en-US" sz="66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есток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руж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ж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нави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43080"/>
            <a:ext cx="66866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Доброта - зл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Жестокость - жал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Дружба - вражд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Нежность - грубост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Ненависть - любовь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Имя существительное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го? Чег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му? Чем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ем? 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ком? О чё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Имя прилагательное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 предм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? Какая? Какое? Каки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уд человека требовал выносливости и силы, умения охотиться, ловить рыбу, выкапывать коренья. Поэтому взрослые учили своих детей бегать, плавать, бросать камни, дротики, копья, прыгать, лазить по дерев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Глагол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 предм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делать? Что сдел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__ Ванкувера 2010 __ Сочи 2014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Выбрана эмблема Олимпиады-2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467080"/>
            <a:ext cx="3786120" cy="2828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http://www.zlyuk.ru/wp-content/uploads/2009/12/sochi-2014-logo.jpg"/>
          <p:cNvPicPr/>
          <p:nvPr/>
        </p:nvPicPr>
        <p:blipFill>
          <a:blip r:embed="rId3"/>
          <a:stretch/>
        </p:blipFill>
        <p:spPr>
          <a:xfrm>
            <a:off x="5143680" y="28576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Из Ванкувера 2010 в Сочи 2014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лог – служебная часть речи.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не изменяются, к ним нельзя задать вопрос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служат для связи слов в предложении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глаголами предлоги не употребляются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пишутся раздельно с другими частями речи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предлогом и словом можно вставить другое слово или вопрос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Organization Chart 2"/>
          <p:cNvGrpSpPr/>
          <p:nvPr/>
        </p:nvGrpSpPr>
        <p:grpSpPr>
          <a:xfrm>
            <a:off x="-96480" y="1460520"/>
            <a:ext cx="9145440" cy="4221720"/>
            <a:chOff x="-96480" y="1460520"/>
            <a:chExt cx="9145440" cy="4221720"/>
          </a:xfrm>
        </p:grpSpPr>
        <p:cxnSp>
          <p:nvCxnSpPr>
            <p:cNvPr id="255" name="_s1028"/>
            <p:cNvCxnSpPr/>
            <p:nvPr/>
          </p:nvCxnSpPr>
          <p:spPr>
            <a:xfrm flipV="1" rot="16200000">
              <a:off x="4784040" y="1051200"/>
              <a:ext cx="1494000" cy="48466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56" name="_s1029"/>
            <p:cNvCxnSpPr/>
            <p:nvPr/>
          </p:nvCxnSpPr>
          <p:spPr>
            <a:xfrm flipV="1" rot="16200000">
              <a:off x="5243040" y="2683080"/>
              <a:ext cx="1736280" cy="1253160"/>
            </a:xfrm>
            <a:prstGeom prst="bentConnector3">
              <a:avLst>
                <a:gd name="adj1" fmla="val 5591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57" name="_s1030"/>
            <p:cNvCxnSpPr/>
            <p:nvPr/>
          </p:nvCxnSpPr>
          <p:spPr>
            <a:xfrm flipH="1" flipV="1" rot="5400000">
              <a:off x="2472120" y="1996560"/>
              <a:ext cx="2302560" cy="2039040"/>
            </a:xfrm>
            <a:prstGeom prst="bentConnector3">
              <a:avLst>
                <a:gd name="adj1" fmla="val 43221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58" name="_s1031"/>
            <p:cNvCxnSpPr/>
            <p:nvPr/>
          </p:nvCxnSpPr>
          <p:spPr>
            <a:xfrm flipH="1" flipV="1" rot="5400000">
              <a:off x="2900880" y="848160"/>
              <a:ext cx="1725840" cy="54849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59" name="_s1032"/>
            <p:cNvSpPr/>
            <p:nvPr/>
          </p:nvSpPr>
          <p:spPr>
            <a:xfrm>
              <a:off x="1523160" y="1460520"/>
              <a:ext cx="6122880" cy="1248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dedede"/>
                  </a:solidFill>
                  <a:latin typeface="Tahoma"/>
                </a:rPr>
                <a:t>Части речи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-96480" y="4169160"/>
              <a:ext cx="2412720" cy="1513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 </a:t>
              </a: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существите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4"/>
            <p:cNvSpPr/>
            <p:nvPr/>
          </p:nvSpPr>
          <p:spPr>
            <a:xfrm>
              <a:off x="2390040" y="4169160"/>
              <a:ext cx="2445480" cy="144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Им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прилагате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035"/>
            <p:cNvSpPr/>
            <p:nvPr/>
          </p:nvSpPr>
          <p:spPr>
            <a:xfrm>
              <a:off x="4907160" y="4169160"/>
              <a:ext cx="1946160" cy="144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2a874"/>
                  </a:solidFill>
                  <a:latin typeface="Tahoma"/>
                </a:rPr>
                <a:t>Глаг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036"/>
            <p:cNvSpPr/>
            <p:nvPr/>
          </p:nvSpPr>
          <p:spPr>
            <a:xfrm>
              <a:off x="6924600" y="4169160"/>
              <a:ext cx="2124360" cy="144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2a874"/>
                  </a:solidFill>
                  <a:latin typeface="Tahoma"/>
                </a:rPr>
                <a:t>Предлог</a:t>
              </a:r>
              <a:r>
                <a:rPr b="0" lang="ru-RU" sz="2300" spc="-1" strike="noStrike">
                  <a:solidFill>
                    <a:srgbClr val="c2a874"/>
                  </a:solidFill>
                  <a:latin typeface="Tahoma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ьки, морозный, работать, хороший, заняли, сантиметр</a:t>
            </a:r>
            <a:endParaRPr b="0" lang="en-US" sz="48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Схема 6" descr=""/>
          <p:cNvPicPr/>
          <p:nvPr/>
        </p:nvPicPr>
        <p:blipFill>
          <a:blip r:embed="rId1"/>
          <a:stretch/>
        </p:blipFill>
        <p:spPr>
          <a:xfrm>
            <a:off x="1494000" y="2200320"/>
            <a:ext cx="6107040" cy="40971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Реклама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400" y="2356920"/>
            <a:ext cx="4143240" cy="42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8" descr="http://www.zlyuk.ru/wp-content/uploads/2009/12/sochi-2014-logo.jpg"/>
          <p:cNvPicPr/>
          <p:nvPr/>
        </p:nvPicPr>
        <p:blipFill>
          <a:blip r:embed="rId2"/>
          <a:stretch/>
        </p:blipFill>
        <p:spPr>
          <a:xfrm>
            <a:off x="5572080" y="642960"/>
            <a:ext cx="3048120" cy="1792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5" descr="http://festival.1september.ru/articles/501926/Image4857.jpg"/>
          <p:cNvPicPr/>
          <p:nvPr/>
        </p:nvPicPr>
        <p:blipFill>
          <a:blip r:embed="rId3"/>
          <a:stretch/>
        </p:blipFill>
        <p:spPr>
          <a:xfrm>
            <a:off x="6715080" y="4786200"/>
            <a:ext cx="1866960" cy="971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6" descr="http://festival.1september.ru/articles/501926/Image4858.jpg"/>
          <p:cNvPicPr/>
          <p:nvPr/>
        </p:nvPicPr>
        <p:blipFill>
          <a:blip r:embed="rId4"/>
          <a:stretch/>
        </p:blipFill>
        <p:spPr>
          <a:xfrm>
            <a:off x="6929280" y="2500200"/>
            <a:ext cx="1400400" cy="962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4" descr="http://festival.1september.ru/articles/501926/Image4856.jpg"/>
          <p:cNvPicPr/>
          <p:nvPr/>
        </p:nvPicPr>
        <p:blipFill>
          <a:blip r:embed="rId5"/>
          <a:stretch/>
        </p:blipFill>
        <p:spPr>
          <a:xfrm>
            <a:off x="6929280" y="3714840"/>
            <a:ext cx="1686240" cy="1028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8" descr="Выбрана эмблема Олимпиады-20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214280" y="785880"/>
            <a:ext cx="17859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Прямоугольник 3" descr=""/>
          <p:cNvPicPr/>
          <p:nvPr/>
        </p:nvPicPr>
        <p:blipFill>
          <a:blip r:embed="rId1"/>
          <a:stretch/>
        </p:blipFill>
        <p:spPr>
          <a:xfrm>
            <a:off x="963720" y="2792520"/>
            <a:ext cx="721656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и обобщить 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я отличать 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Calibri"/>
              </a:rPr>
              <a:t>Части речи</a:t>
            </a:r>
            <a:endParaRPr b="0" lang="en-US" sz="40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и обобщить знания о частях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я отличать их друг от дру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Коньки, морозный, работать, хороший, заняли, сантиметр</a:t>
            </a:r>
            <a:endParaRPr b="0" lang="en-US" sz="44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Calibri"/>
              </a:rPr>
              <a:t>Деловая игра «Заседание редакционного совета газеты «Спортивная жизнь» по теме «Части речи»</a:t>
            </a:r>
            <a:endParaRPr b="0" lang="en-US" sz="36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99680" y="2786040"/>
            <a:ext cx="818676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ить и обобщить знания о частях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ть умения отличать их друг от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накомиться с новыми словами, понятиями, событи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Calibri"/>
              </a:rPr>
              <a:t>Вставьте пропущенные слова, запишите их в тетрадь,  определите части речи.</a:t>
            </a:r>
            <a:endParaRPr b="0" lang="en-US" sz="3200" spc="-1" strike="noStrike">
              <a:solidFill>
                <a:srgbClr val="424456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лимпиаде в Ванкувере наши спортсмены _____ 3 первых места, 5 – вторых и 7 – треть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й чемпион Н. Крюков в лыжном виде спорта выиграл гонку у серебряного медалиста А. Панжинского, просунув кончик своей лыжи за финишную линию на ____ раньше друга-сопер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 И. Скобрев просто пытался ____ делать свою ____  и завоевал серебряную и бронзовую медал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ладная, но не ____ погода способствова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 медалям наших женщин-биатлонистов, среди которых наша землячка А. Богалий-Титовец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 для справок: конькобежец, морозная , сантиметр, хорошо, заняли, раб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лимпиаде в Ванкувере наши спортсмены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первых места, 5 – вторых и 7 – треть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й чемпион Н. Крюков в лыжном виде спорта выиграл гонку у серебряного медалиста А. Панжинского, просунув кончик своей лыжи за финишную линию н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антиметр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ьше друга-соперн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ькобеже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. Скобрев просто пытал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орош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лать свою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аботу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воевал серебряную и бронзовую мед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ладная, но н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оз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ода способствов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м медалям наших женщин-биатлонистов, среди которых наша землячка А. Богалий-Титов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4:19:07Z</dcterms:created>
  <dc:creator>Дом</dc:creator>
  <dc:description/>
  <dc:language>en-US</dc:language>
  <cp:lastModifiedBy>Школа</cp:lastModifiedBy>
  <dcterms:modified xsi:type="dcterms:W3CDTF">2013-04-16T08:17:04Z</dcterms:modified>
  <cp:revision>34</cp:revision>
  <dc:subject/>
  <dc:title>Коньки, морозный, работать, хороший, заняли, сантиметр</dc:title>
</cp:coreProperties>
</file>