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25C-60EC-4FA3-A88E-46983DD8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C85-1D85-4417-BEC3-A3EE72D1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2280-B77D-4D33-B6AE-59CD8099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8A4D-1F84-4452-B43C-055AB0C0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FDDC-4C3F-4CBB-9C97-0EC22153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ECD4-CE03-4B6F-9341-0E6BD1E7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A3A6-4A03-42F7-A3EB-D091C460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71DF-CD75-45BF-8789-57E6CF92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010A-8897-48C8-8365-0AF5A100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DD43-386E-46B2-A106-8402716F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7E8F-E7B4-4657-8087-D429FAA8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9D54-06E0-42F5-A2F2-B10707F3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65E5-89F1-4AB5-9586-12C87214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AF50-6376-462D-8855-B035753F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A1AA-91F6-438C-9567-FF4C8157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F29C-60E1-42CD-BCD3-152A5C9F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BAF8-5F39-4F20-A6E5-8124DC79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279190-CDE4-4D44-BE51-F0EA4BCB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8CCF8-A2C1-4034-A227-592A6CE3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9D475-1339-49F7-B56E-79FF0DB3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D3D26-4F49-42B9-AABB-CC1F5F94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34A04-CAE1-49A9-AF55-EACFC106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438-8912-4339-AA99-31888F39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3F6F9-6715-4434-AF6B-8D65562E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7051B-76D8-4C62-A350-545AFBC9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4F65A-BA5E-4391-B54C-C2D7D74F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91BE7-A067-4604-A97E-E1397B15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01E9C-6E7B-4ADA-8F79-A27B1B67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CAED5-6084-4CF8-93FF-5FE9F604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F33A0-BA11-4805-A499-B9AA043B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251DB-08F1-4E9B-9D25-5E326BFB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E755A-71CF-479F-94B0-CA0041D7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48A06-9847-4C10-BF3E-2BA7AFFE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14C-CF7A-425C-BFFD-D80C8386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D8BE6-11F8-466F-B7F8-B6B05E3C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DA1AD-CDF1-4206-A06A-B3932356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09743-EA01-4D16-AEAA-8D5218D7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F1F27-85EC-4AEB-9D7B-5A151CBA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E3097-637F-4AD9-9DA7-D2CB5DFC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71CF6-1353-44ED-B9C5-F596BE5B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6BEB5-ED27-4B16-B9BC-E2B51CFE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45D7C-3D99-4DD4-91FD-10D7025B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20C6C-C57D-47D8-A673-F7CC63FF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E81C-5598-45C3-905D-5EE73124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975-7AF4-4E54-9F02-B293BEA5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44E4-E2EB-4A5B-9C32-2C7E7A6E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552-B4CD-4A64-AA69-67B4E3E9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B8A-4052-4BB5-9E0B-EC43054D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3A23-0EF3-4B61-A916-8469008D22E3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3BF9-4888-4A89-BBDD-39605F6C3626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1DAB-C5B2-4BBD-87B4-12563330FB4B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60F4-4947-4971-A8BA-D4CABE3928ED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ewsru.com/pict/big/749653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www.newsru.com/pict/big/749653.html" TargetMode="External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5480" y="1143000"/>
            <a:ext cx="8629560" cy="27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роших знаний и отличного настроения!</a:t>
            </a:r>
            <a:endParaRPr b="0" lang="en-US" sz="6600" spc="-1" strike="noStrike">
              <a:solidFill>
                <a:srgbClr val="424456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Части речи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обознача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бр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есток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ружб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ж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нави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143080"/>
            <a:ext cx="66866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Доброта - злость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Жестокость - жалость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Дружба - вражда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Нежность - грубость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Ненависть - любовь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Имя существительное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обознача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то? Чт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го? Чег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му? Чем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ем? Ч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 ком? О чё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Имя прилагательное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87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обознач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знак предм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й? Какая? Какое? Как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уд человека требовал выносливости и силы, умения охотиться, ловить рыбу, выкапывать коренья. Поэтому взрослые учили своих детей бегать, плавать, бросать камни, дротики, копья, прыгать, лазить по деревь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Глагол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обознач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йствие предм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делать? Что сдел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__ Ванкувера 2010 __ Сочи 2014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Выбрана эмблема Олимпиады-20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2467080"/>
            <a:ext cx="3786120" cy="2828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6" descr="http://www.zlyuk.ru/wp-content/uploads/2009/12/sochi-2014-logo.jpg"/>
          <p:cNvPicPr/>
          <p:nvPr/>
        </p:nvPicPr>
        <p:blipFill>
          <a:blip r:embed="rId3"/>
          <a:stretch/>
        </p:blipFill>
        <p:spPr>
          <a:xfrm>
            <a:off x="5143680" y="28576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Из Ванкувера 2010 в Сочи 2014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едлог – служебная часть речи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 не изменяются, к ним нельзя задать вопрос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 служат для связи слов в предложении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глаголами предлоги не употребляются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 пишутся раздельно с другими частями речи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предлогом и словом можно вставить другое слово или вопро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Organization Chart 2"/>
          <p:cNvGrpSpPr/>
          <p:nvPr/>
        </p:nvGrpSpPr>
        <p:grpSpPr>
          <a:xfrm>
            <a:off x="-96480" y="1460520"/>
            <a:ext cx="9145440" cy="4221720"/>
            <a:chOff x="-96480" y="1460520"/>
            <a:chExt cx="9145440" cy="4221720"/>
          </a:xfrm>
        </p:grpSpPr>
        <p:cxnSp>
          <p:nvCxnSpPr>
            <p:cNvPr id="255" name="_s1028"/>
            <p:cNvCxnSpPr/>
            <p:nvPr/>
          </p:nvCxnSpPr>
          <p:spPr>
            <a:xfrm flipV="1" rot="16200000">
              <a:off x="4784040" y="1051200"/>
              <a:ext cx="1494000" cy="48466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56" name="_s1029"/>
            <p:cNvCxnSpPr/>
            <p:nvPr/>
          </p:nvCxnSpPr>
          <p:spPr>
            <a:xfrm flipV="1" rot="16200000">
              <a:off x="5243040" y="2683080"/>
              <a:ext cx="1736280" cy="1253160"/>
            </a:xfrm>
            <a:prstGeom prst="bentConnector3">
              <a:avLst>
                <a:gd name="adj1" fmla="val 5591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57" name="_s1030"/>
            <p:cNvCxnSpPr/>
            <p:nvPr/>
          </p:nvCxnSpPr>
          <p:spPr>
            <a:xfrm flipH="1" flipV="1" rot="5400000">
              <a:off x="2472120" y="1996560"/>
              <a:ext cx="2302560" cy="2039040"/>
            </a:xfrm>
            <a:prstGeom prst="bentConnector3">
              <a:avLst>
                <a:gd name="adj1" fmla="val 43221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58" name="_s1031"/>
            <p:cNvCxnSpPr/>
            <p:nvPr/>
          </p:nvCxnSpPr>
          <p:spPr>
            <a:xfrm flipH="1" flipV="1" rot="5400000">
              <a:off x="2900880" y="848160"/>
              <a:ext cx="1725840" cy="54849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259" name="_s1032"/>
            <p:cNvSpPr/>
            <p:nvPr/>
          </p:nvSpPr>
          <p:spPr>
            <a:xfrm>
              <a:off x="1523160" y="1460520"/>
              <a:ext cx="6122880" cy="1248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dedede"/>
                  </a:solidFill>
                  <a:latin typeface="Tahoma"/>
                </a:rPr>
                <a:t>Части речи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-96480" y="4169160"/>
              <a:ext cx="2412720" cy="1513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2a874"/>
                  </a:solidFill>
                  <a:latin typeface="Tahoma"/>
                </a:rPr>
                <a:t>Им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2a874"/>
                  </a:solidFill>
                  <a:latin typeface="Tahoma"/>
                </a:rPr>
                <a:t> </a:t>
              </a:r>
              <a:r>
                <a:rPr b="1" lang="ru-RU" sz="2000" spc="-1" strike="noStrike">
                  <a:solidFill>
                    <a:srgbClr val="c2a874"/>
                  </a:solidFill>
                  <a:latin typeface="Tahoma"/>
                </a:rPr>
                <a:t>существитель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4"/>
            <p:cNvSpPr/>
            <p:nvPr/>
          </p:nvSpPr>
          <p:spPr>
            <a:xfrm>
              <a:off x="2390040" y="4169160"/>
              <a:ext cx="2445480" cy="144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2a874"/>
                  </a:solidFill>
                  <a:latin typeface="Tahoma"/>
                </a:rPr>
                <a:t>Им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2a874"/>
                  </a:solidFill>
                  <a:latin typeface="Tahoma"/>
                </a:rPr>
                <a:t>прилагатель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035"/>
            <p:cNvSpPr/>
            <p:nvPr/>
          </p:nvSpPr>
          <p:spPr>
            <a:xfrm>
              <a:off x="4907160" y="4169160"/>
              <a:ext cx="1946160" cy="144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2a874"/>
                  </a:solidFill>
                  <a:latin typeface="Tahoma"/>
                </a:rPr>
                <a:t>Глагол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036"/>
            <p:cNvSpPr/>
            <p:nvPr/>
          </p:nvSpPr>
          <p:spPr>
            <a:xfrm>
              <a:off x="6924600" y="4169160"/>
              <a:ext cx="2124360" cy="144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2a874"/>
                  </a:solidFill>
                  <a:latin typeface="Tahoma"/>
                </a:rPr>
                <a:t>Предлог</a:t>
              </a:r>
              <a:r>
                <a:rPr b="0" lang="ru-RU" sz="2300" spc="-1" strike="noStrike">
                  <a:solidFill>
                    <a:srgbClr val="c2a874"/>
                  </a:solidFill>
                  <a:latin typeface="Tahoma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ьки, морозный, работать, хороший, заняли, сантиметр</a:t>
            </a:r>
            <a:endParaRPr b="0" lang="en-US" sz="4800" spc="-1" strike="noStrike">
              <a:solidFill>
                <a:srgbClr val="42445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Схема 6" descr=""/>
          <p:cNvPicPr/>
          <p:nvPr/>
        </p:nvPicPr>
        <p:blipFill>
          <a:blip r:embed="rId1"/>
          <a:stretch/>
        </p:blipFill>
        <p:spPr>
          <a:xfrm>
            <a:off x="1494000" y="2200320"/>
            <a:ext cx="6107040" cy="40971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Реклама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28400" y="2356920"/>
            <a:ext cx="4143240" cy="42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18" descr="http://www.zlyuk.ru/wp-content/uploads/2009/12/sochi-2014-logo.jpg"/>
          <p:cNvPicPr/>
          <p:nvPr/>
        </p:nvPicPr>
        <p:blipFill>
          <a:blip r:embed="rId2"/>
          <a:stretch/>
        </p:blipFill>
        <p:spPr>
          <a:xfrm>
            <a:off x="5572080" y="642960"/>
            <a:ext cx="3048120" cy="17924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5" descr="http://festival.1september.ru/articles/501926/Image4857.jpg"/>
          <p:cNvPicPr/>
          <p:nvPr/>
        </p:nvPicPr>
        <p:blipFill>
          <a:blip r:embed="rId3"/>
          <a:stretch/>
        </p:blipFill>
        <p:spPr>
          <a:xfrm>
            <a:off x="6715080" y="4786200"/>
            <a:ext cx="1866960" cy="971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6" descr="http://festival.1september.ru/articles/501926/Image4858.jpg"/>
          <p:cNvPicPr/>
          <p:nvPr/>
        </p:nvPicPr>
        <p:blipFill>
          <a:blip r:embed="rId4"/>
          <a:stretch/>
        </p:blipFill>
        <p:spPr>
          <a:xfrm>
            <a:off x="6929280" y="2500200"/>
            <a:ext cx="1400400" cy="962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4" descr="http://festival.1september.ru/articles/501926/Image4856.jpg"/>
          <p:cNvPicPr/>
          <p:nvPr/>
        </p:nvPicPr>
        <p:blipFill>
          <a:blip r:embed="rId5"/>
          <a:stretch/>
        </p:blipFill>
        <p:spPr>
          <a:xfrm>
            <a:off x="6929280" y="3714840"/>
            <a:ext cx="1686240" cy="1028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8" descr="Выбрана эмблема Олимпиады-201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214280" y="785880"/>
            <a:ext cx="17859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Прямоугольник 3" descr=""/>
          <p:cNvPicPr/>
          <p:nvPr/>
        </p:nvPicPr>
        <p:blipFill>
          <a:blip r:embed="rId1"/>
          <a:stretch/>
        </p:blipFill>
        <p:spPr>
          <a:xfrm>
            <a:off x="963720" y="2792520"/>
            <a:ext cx="72165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Части речи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Части речи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торить и обобщить 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умения отличать 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ся с 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Части речи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торить и обобщить знания о частях р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умения отличать их друг от дру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ся с 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оньки, морозный, работать, хороший, заняли, сантиметр</a:t>
            </a:r>
            <a:endParaRPr b="0" lang="en-US" sz="44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2445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Calibri"/>
              </a:rPr>
              <a:t>Деловая игра «Заседание редакционного совета газеты «Спортивная жизнь» по теме «Части речи»</a:t>
            </a:r>
            <a:endParaRPr b="0" lang="en-US" sz="36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99680" y="2786040"/>
            <a:ext cx="818676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торить и обобщить знания о частях ре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умения отличать их друг от дру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ся с новыми словами, понятиями, событи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libri"/>
              </a:rPr>
              <a:t>Вставьте пропущенные слова, запишите их в тетрадь,  определите части речи.</a:t>
            </a:r>
            <a:endParaRPr b="0" lang="en-US" sz="32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42884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лимпиаде в Ванкувере наши спортсмены _____ 3 первых места, 5 – вторых и 7 – третьи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йский чемпион Н. Крюков в лыжном виде спорта выиграл гонку у серебряного медалиста А. Панжинского, просунув кончик своей лыжи за финишную линию на ____ раньше друга-соперни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 И. Скобрев просто пытался ____ делать свою ____  и завоевал серебряную и бронзовую меда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ладная, но не ____ погода способствовал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ым медалям наших женщин-биатлонистов, среди которых наша землячка А. Богалий-Титовец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а для справок: конькобежец, морозная , сантиметр, хорошо, заняли, рабо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лимпиаде в Ванкувере наши спортсмены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нял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первых места, 5 – вторых и 7 – треть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йский чемпион Н. Крюков в лыжном виде спорта выиграл гонку у серебряного медалиста А. Панжинского, просунув кончик своей лыжи за финишную линию н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антиметр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ьше друга-соперн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ькобеже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. Скобрев просто пытал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рош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лать свою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работу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воевал серебряную и бронзовую мед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ладная, но н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роз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года способствов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ым медалям наших женщин-биатлонистов, среди которых наша землячка А. Богалий-Титове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4:19:07Z</dcterms:created>
  <dc:creator>Дом</dc:creator>
  <dc:description/>
  <dc:language>en-US</dc:language>
  <cp:lastModifiedBy>Школа</cp:lastModifiedBy>
  <dcterms:modified xsi:type="dcterms:W3CDTF">2013-04-16T08:17:04Z</dcterms:modified>
  <cp:revision>34</cp:revision>
  <dc:subject/>
  <dc:title>Коньки, морозный, работать, хороший, заняли, сантиметр</dc:title>
</cp:coreProperties>
</file>