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7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42C1-B52F-4934-AB3F-0AF5F717B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7BEA-4792-4B2C-8DB5-836CF7CDD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AA9A-0D8B-41F5-A564-75DC5BC11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94F0-B33B-456B-96A7-F8DEDFC9C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43531-5B4D-4601-A633-8C6FFB345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C0A44-B7D6-4B38-B280-E63642CFB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6DD9D-1602-419E-BE66-58EAEEBEC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5061C-0C19-4A8B-8EF1-2A0AB56D2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61904-E68F-4BF9-92E3-43AA69359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35268-16A0-4885-B778-738A91576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F29BC-E903-49BA-AB5A-1A8FE3CF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45B7-77AD-4D16-BE64-56D2EE3E4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2A1C8-4E4A-474B-84A9-BA5B281B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8A0E2-21F5-4B3D-B95D-CA50AEC8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0FC67-2B5C-4F89-92C7-4A5BBC448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3CC03-0A31-4E5F-9C1A-9C0D88308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BD825-43B2-4997-9377-5F7484347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782D-AC36-4807-BEAA-53E688BDB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92F9-8BC3-4074-B769-BFDFADC89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EC4E-75D0-49D4-A41B-62EB1EE42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2CC1-9175-4460-A2D0-A065A6430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5E7E-2E12-4458-8642-1FCF8F57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282B-0838-4AC5-A5CB-F0E27BD2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39C3-189C-4902-9FBA-0AAAFFDD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A5ECD-8773-4378-8F57-29E27CEFC01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42193-25B0-4A27-9AF8-B2769836493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aforizm.info/author/genrikh-geyne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1280" y="907920"/>
            <a:ext cx="7772400" cy="3897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900" spc="-1" strike="noStrike">
                <a:solidFill>
                  <a:srgbClr val="ccecff"/>
                </a:solidFill>
                <a:latin typeface="Arial"/>
              </a:rPr>
              <a:t>«Береги платье снову, здоровье – смолоду»</a:t>
            </a:r>
            <a:endParaRPr b="0" lang="en-US" sz="79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med" advTm="5000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7" name="Picture 5" descr="1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ver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Picture 4" descr="2"/>
          <p:cNvPicPr/>
          <p:nvPr/>
        </p:nvPicPr>
        <p:blipFill>
          <a:blip r:embed="rId1"/>
          <a:stretch/>
        </p:blipFill>
        <p:spPr>
          <a:xfrm>
            <a:off x="0" y="-60480"/>
            <a:ext cx="9352080" cy="69454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3" name="Picture 4" descr="3"/>
          <p:cNvPicPr/>
          <p:nvPr/>
        </p:nvPicPr>
        <p:blipFill>
          <a:blip r:embed="rId1"/>
          <a:stretch/>
        </p:blipFill>
        <p:spPr>
          <a:xfrm>
            <a:off x="0" y="-93600"/>
            <a:ext cx="9186840" cy="69516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ver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6" name="Picture 5" descr="4"/>
          <p:cNvPicPr/>
          <p:nvPr/>
        </p:nvPicPr>
        <p:blipFill>
          <a:blip r:embed="rId1"/>
          <a:stretch/>
        </p:blipFill>
        <p:spPr>
          <a:xfrm>
            <a:off x="-12600" y="27000"/>
            <a:ext cx="91566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cover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85560" y="285840"/>
            <a:ext cx="7311960" cy="79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то опасно для органов дыхания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13840" y="1142640"/>
            <a:ext cx="7829640" cy="163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рганы дыхания очищают вдыхаемый воздух от пыли, но не могут оградить организм от ядовитых газов и микробов. Опасны для здоровья выхлопные газы автомобилей, ядовитые газы, выбрасываемые в воздух заводами, а также табачный дым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9" name="Picture 5" descr="Картинка 2 из 6214"/>
          <p:cNvPicPr/>
          <p:nvPr/>
        </p:nvPicPr>
        <p:blipFill>
          <a:blip r:embed="rId1"/>
          <a:stretch/>
        </p:blipFill>
        <p:spPr>
          <a:xfrm>
            <a:off x="250920" y="2997360"/>
            <a:ext cx="5357880" cy="3543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90" name="Rectangle 6"/>
          <p:cNvSpPr/>
          <p:nvPr/>
        </p:nvSpPr>
        <p:spPr>
          <a:xfrm>
            <a:off x="5715000" y="5719320"/>
            <a:ext cx="342900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Выхлопные газы сокращают продолжительность жизни на 6 месяцев.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1" name="Picture 8" descr="Картинка 8 из 24137"/>
          <p:cNvPicPr/>
          <p:nvPr/>
        </p:nvPicPr>
        <p:blipFill>
          <a:blip r:embed="rId2"/>
          <a:stretch/>
        </p:blipFill>
        <p:spPr>
          <a:xfrm>
            <a:off x="5857920" y="3143160"/>
            <a:ext cx="2987640" cy="2106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85560" y="285840"/>
            <a:ext cx="7311960" cy="79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то опасно для органов дыхания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28400" y="1071360"/>
            <a:ext cx="7786440" cy="144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Никотин проникает в кровь, и она разносит его по всем органам. Этот яд притупляет зрение, слух, внимание, заставляет усиленно работать сердце. У курильщиков часто возникают опасные, а порой смертельные заболевания легких и сердц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94" name="Группа 5"/>
          <p:cNvGrpSpPr/>
          <p:nvPr/>
        </p:nvGrpSpPr>
        <p:grpSpPr>
          <a:xfrm>
            <a:off x="0" y="2786040"/>
            <a:ext cx="9144000" cy="4071960"/>
            <a:chOff x="0" y="2786040"/>
            <a:chExt cx="9144000" cy="4071960"/>
          </a:xfrm>
        </p:grpSpPr>
        <p:pic>
          <p:nvPicPr>
            <p:cNvPr id="195" name="Picture 2" descr="Картинка 13 из 66660"/>
            <p:cNvPicPr/>
            <p:nvPr/>
          </p:nvPicPr>
          <p:blipFill>
            <a:blip r:embed="rId1"/>
            <a:stretch/>
          </p:blipFill>
          <p:spPr>
            <a:xfrm>
              <a:off x="0" y="2786040"/>
              <a:ext cx="9096840" cy="397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3" descr="H:\кур.gif"/>
            <p:cNvPicPr/>
            <p:nvPr/>
          </p:nvPicPr>
          <p:blipFill>
            <a:blip r:embed="rId2"/>
            <a:stretch/>
          </p:blipFill>
          <p:spPr>
            <a:xfrm>
              <a:off x="7936200" y="5857920"/>
              <a:ext cx="1207800" cy="100008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</p:spTree>
  </p:cSld>
  <p:transition spd="med"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85560" y="285840"/>
            <a:ext cx="7311960" cy="79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то опасно для органов дыхания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13840" y="1196640"/>
            <a:ext cx="8929800" cy="166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За последние 100 лет вредная привычка к курению распространилась по всему миру. Вслед за взрослыми к курению стали приобщаться и дети. Врачи назвали курение чумой двадцатого столетия. Во многих странах курильщиков стараются не брать на работу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9" name="Picture 2" descr="Картинка 39 из 73601"/>
          <p:cNvPicPr/>
          <p:nvPr/>
        </p:nvPicPr>
        <p:blipFill>
          <a:blip r:embed="rId1"/>
          <a:srcRect l="17189" t="0" r="10933" b="0"/>
          <a:stretch/>
        </p:blipFill>
        <p:spPr>
          <a:xfrm>
            <a:off x="324000" y="3068640"/>
            <a:ext cx="3286080" cy="342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00" name="Picture 6" descr="Картинка 111 из 73601"/>
          <p:cNvPicPr/>
          <p:nvPr/>
        </p:nvPicPr>
        <p:blipFill>
          <a:blip r:embed="rId2"/>
          <a:stretch/>
        </p:blipFill>
        <p:spPr>
          <a:xfrm>
            <a:off x="4716360" y="3200400"/>
            <a:ext cx="3726000" cy="3657600"/>
          </a:xfrm>
          <a:prstGeom prst="rect">
            <a:avLst/>
          </a:prstGeom>
          <a:ln w="0">
            <a:noFill/>
          </a:ln>
        </p:spPr>
      </p:pic>
      <p:sp>
        <p:nvSpPr>
          <p:cNvPr id="201" name="TextBox 6"/>
          <p:cNvSpPr/>
          <p:nvPr/>
        </p:nvSpPr>
        <p:spPr>
          <a:xfrm>
            <a:off x="4643280" y="4643280"/>
            <a:ext cx="28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курить!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85560" y="285840"/>
            <a:ext cx="7311960" cy="79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то опасно для органов дыхания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85840" y="1071360"/>
            <a:ext cx="7929360" cy="144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Частицы дыма оседают на стенках легочных пузырьков и мешают поступлению кислорода в кровь. Вместе с дымом сигареты в легкие курильщика и находящихся рядом людей попадает яд </a:t>
            </a: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– </a:t>
            </a:r>
            <a:r>
              <a:rPr b="1" i="1" lang="ru-RU" sz="2000" spc="-1" strike="noStrike">
                <a:solidFill>
                  <a:srgbClr val="ff0000"/>
                </a:solidFill>
                <a:latin typeface="Verdana"/>
              </a:rPr>
              <a:t>никотин</a:t>
            </a: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4" name="Picture 2" descr="Картинка 29 из 4026"/>
          <p:cNvPicPr/>
          <p:nvPr/>
        </p:nvPicPr>
        <p:blipFill>
          <a:blip r:embed="rId1"/>
          <a:srcRect l="3126" t="9722" r="2084" b="23612"/>
          <a:stretch/>
        </p:blipFill>
        <p:spPr>
          <a:xfrm>
            <a:off x="1143000" y="2428920"/>
            <a:ext cx="6500880" cy="342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05" name="Picture 3" descr="H:\кур.gif"/>
          <p:cNvPicPr/>
          <p:nvPr/>
        </p:nvPicPr>
        <p:blipFill>
          <a:blip r:embed="rId2"/>
          <a:stretch/>
        </p:blipFill>
        <p:spPr>
          <a:xfrm>
            <a:off x="3286080" y="4500720"/>
            <a:ext cx="1928880" cy="2162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06" name="TextBox 5"/>
          <p:cNvSpPr/>
          <p:nvPr/>
        </p:nvSpPr>
        <p:spPr>
          <a:xfrm>
            <a:off x="857160" y="5929200"/>
            <a:ext cx="2500560" cy="6426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Verdana"/>
              </a:rPr>
              <a:t>Легкие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Verdana"/>
              </a:rPr>
              <a:t>курильщик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TextBox 6"/>
          <p:cNvSpPr/>
          <p:nvPr/>
        </p:nvSpPr>
        <p:spPr>
          <a:xfrm>
            <a:off x="5435640" y="5877000"/>
            <a:ext cx="3214800" cy="6426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Verdana"/>
              </a:rPr>
              <a:t>Легкие некурящего человек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Домашнее задание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50920" y="1413000"/>
          <a:ext cx="8640720" cy="4846680"/>
        </p:xfrm>
        <a:graphic>
          <a:graphicData uri="http://schemas.openxmlformats.org/drawingml/2006/table">
            <a:tbl>
              <a:tblPr/>
              <a:tblGrid>
                <a:gridCol w="7111800"/>
                <a:gridCol w="1528920"/>
              </a:tblGrid>
              <a:tr h="4846680"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учебнике стр. 34 – 35. Знать органы дыхательной системы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бочая тетрадь стр. 18 № 35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ворческое задание: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чинить рассказ по теме «Сохрани свои легкие здоровыми»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  <p:transition spd="med"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23640" y="907920"/>
            <a:ext cx="8373960" cy="561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ecff"/>
                </a:solidFill>
                <a:latin typeface="Arial"/>
              </a:rPr>
              <a:t>Единственная красота, которую я знаю, - это 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здоровье</a:t>
            </a:r>
            <a:r>
              <a:rPr b="1" lang="ru-RU" sz="6000" spc="-1" strike="noStrike">
                <a:solidFill>
                  <a:srgbClr val="ccecff"/>
                </a:solidFill>
                <a:latin typeface="Arial"/>
              </a:rPr>
              <a:t>.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ru-RU" sz="40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Генрих Гейн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Verdana"/>
              </a:rPr>
              <a:t>Человек может прожить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Verdana"/>
              </a:rPr>
              <a:t>Неделю – без воды,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Verdana"/>
              </a:rPr>
              <a:t>Месяц – без еды, 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ffff"/>
                </a:solidFill>
                <a:latin typeface="Verdana"/>
              </a:rPr>
              <a:t>Несколько дней – без сна,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Verdana"/>
              </a:rPr>
              <a:t>Но без чего человек не может прожить и 2 – 3 минут?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5000"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72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0" spc="-1" strike="noStrike">
                <a:solidFill>
                  <a:srgbClr val="ccecff"/>
                </a:solidFill>
                <a:latin typeface="Arial"/>
              </a:rPr>
              <a:t>Спасибо за внимание!</a:t>
            </a:r>
            <a:endParaRPr b="0" lang="en-US" sz="10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6319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ccecff"/>
                </a:solidFill>
                <a:latin typeface="Arial"/>
              </a:rPr>
              <a:t>Тема урока</a:t>
            </a:r>
            <a:br>
              <a:rPr sz="8000"/>
            </a:br>
            <a:br>
              <a:rPr sz="8000"/>
            </a:br>
            <a:br>
              <a:rPr sz="8000"/>
            </a:b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9" name="Прямоугольник 4" descr=""/>
          <p:cNvPicPr/>
          <p:nvPr/>
        </p:nvPicPr>
        <p:blipFill>
          <a:blip r:embed="rId1"/>
          <a:stretch/>
        </p:blipFill>
        <p:spPr>
          <a:xfrm>
            <a:off x="-695160" y="2548080"/>
            <a:ext cx="10534320" cy="39859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Носовая полос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Picture 4" descr="нннннннннннос"/>
          <p:cNvPicPr/>
          <p:nvPr/>
        </p:nvPicPr>
        <p:blipFill>
          <a:blip r:embed="rId1"/>
          <a:stretch/>
        </p:blipFill>
        <p:spPr>
          <a:xfrm>
            <a:off x="2195640" y="1557360"/>
            <a:ext cx="4657680" cy="46814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Гортан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Picture 4" descr="гортань"/>
          <p:cNvPicPr/>
          <p:nvPr/>
        </p:nvPicPr>
        <p:blipFill>
          <a:blip r:embed="rId1"/>
          <a:stretch/>
        </p:blipFill>
        <p:spPr>
          <a:xfrm>
            <a:off x="2484360" y="1484280"/>
            <a:ext cx="4370400" cy="47530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рахея и бронх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8" name="Picture 4" descr="трахеи и бронхи"/>
          <p:cNvPicPr/>
          <p:nvPr/>
        </p:nvPicPr>
        <p:blipFill>
          <a:blip r:embed="rId1"/>
          <a:stretch/>
        </p:blipFill>
        <p:spPr>
          <a:xfrm>
            <a:off x="2268360" y="1268280"/>
            <a:ext cx="4767480" cy="53006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Лёгк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1" name="Picture 4" descr="легкие"/>
          <p:cNvPicPr/>
          <p:nvPr/>
        </p:nvPicPr>
        <p:blipFill>
          <a:blip r:embed="rId1"/>
          <a:stretch/>
        </p:blipFill>
        <p:spPr>
          <a:xfrm>
            <a:off x="2195640" y="1557360"/>
            <a:ext cx="4362480" cy="49388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6" descr="C:\Documents and Settings\LG\Рабочий стол\биология\Органы дыхания человека.files\07020502.gif"/>
          <p:cNvPicPr/>
          <p:nvPr/>
        </p:nvPicPr>
        <p:blipFill>
          <a:blip r:embed="rId1"/>
          <a:stretch/>
        </p:blipFill>
        <p:spPr>
          <a:xfrm>
            <a:off x="1908000" y="1171440"/>
            <a:ext cx="4967640" cy="56865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Бронхиолы и альвеол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газообмен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5" name="Picture 3" descr=""/>
          <p:cNvPicPr/>
          <p:nvPr/>
        </p:nvPicPr>
        <p:blipFill>
          <a:blip r:embed="rId1"/>
          <a:stretch/>
        </p:blipFill>
        <p:spPr>
          <a:xfrm>
            <a:off x="250920" y="1600200"/>
            <a:ext cx="8713800" cy="47991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9T16:23:06Z</dcterms:created>
  <dc:creator>PX</dc:creator>
  <dc:description/>
  <dc:language>en-US</dc:language>
  <cp:lastModifiedBy>катя</cp:lastModifiedBy>
  <dcterms:modified xsi:type="dcterms:W3CDTF">2012-02-15T18:46:05Z</dcterms:modified>
  <cp:revision>16</cp:revision>
  <dc:subject/>
  <dc:title>Для чего и как мы  дышим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