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7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5DD9-3B62-4B57-A0FC-6BECC402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BAFA-37CE-4F3A-8D22-B2FC8EC3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51D8-8498-4CF4-BA6E-22FE78B3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8A4B-AD77-4C17-8854-74B12E0E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7F08-7CAB-4D1F-9845-2AE3A3C4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10C7-FBE7-40A5-A221-413EAF5C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B184-ED59-4A97-BD53-3A2F615E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9E08-5D14-4D95-875F-79FFA3CC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1166-9B38-4D05-BF57-8DFF80DF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9ECC-6678-4786-B8DE-E9F7899E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70E2-1E3D-48B3-8BC4-0D9B335B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4A59-D7A8-4BE4-9DD5-8BA1320B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E33F-A0D3-4735-B6ED-97514F9A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09A9-B2F6-4078-A883-7E8E95D0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C89D-917F-4C7E-AA54-66D3A6C3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BA7E-4F9E-406E-A983-97BD24B2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AE43-16FB-4864-B74C-94048F8C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651B-5681-4D2E-8C7A-52AF7E25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3046-5F32-4AAD-9771-9F817308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22E8-3634-4030-9CF3-203056ED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3AC7-50D9-46DD-8D23-B2E97265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3930-5FC5-4CAF-94AF-9351FD90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BFD7-F158-441C-A963-3BE591FF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6F8E-FBCA-4117-86F1-64D09108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5BC8-CFD2-4B93-B6E6-20ED3FA3EFE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8561-A7E7-4490-8460-0D6707BE6CA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forizm.info/author/genrikh-geyne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3897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900" spc="-1" strike="noStrike">
                <a:solidFill>
                  <a:srgbClr val="ccecff"/>
                </a:solidFill>
                <a:latin typeface="Arial"/>
              </a:rPr>
              <a:t>«Береги платье снову, здоровье – смолоду»</a:t>
            </a:r>
            <a:endParaRPr b="0" lang="en-US" sz="79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 advTm="5000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5" descr="1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4" descr="2"/>
          <p:cNvPicPr/>
          <p:nvPr/>
        </p:nvPicPr>
        <p:blipFill>
          <a:blip r:embed="rId1"/>
          <a:stretch/>
        </p:blipFill>
        <p:spPr>
          <a:xfrm>
            <a:off x="0" y="-60480"/>
            <a:ext cx="9352080" cy="6945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Picture 4" descr="3"/>
          <p:cNvPicPr/>
          <p:nvPr/>
        </p:nvPicPr>
        <p:blipFill>
          <a:blip r:embed="rId1"/>
          <a:stretch/>
        </p:blipFill>
        <p:spPr>
          <a:xfrm>
            <a:off x="0" y="-93600"/>
            <a:ext cx="9186840" cy="6951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5" descr="4"/>
          <p:cNvPicPr/>
          <p:nvPr/>
        </p:nvPicPr>
        <p:blipFill>
          <a:blip r:embed="rId1"/>
          <a:stretch/>
        </p:blipFill>
        <p:spPr>
          <a:xfrm>
            <a:off x="-12600" y="27000"/>
            <a:ext cx="91566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85560" y="285840"/>
            <a:ext cx="731196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опасно для органов дыхан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13840" y="1142640"/>
            <a:ext cx="7829640" cy="16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рганы дыхания очищают вдыхаемый воздух от пыли, но не могут оградить организм от ядовитых газов и микробов. Опасны для здоровья выхлопные газы автомобилей, ядовитые газы, выбрасываемые в воздух заводами, а также табачный ды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5" descr="Картинка 2 из 6214"/>
          <p:cNvPicPr/>
          <p:nvPr/>
        </p:nvPicPr>
        <p:blipFill>
          <a:blip r:embed="rId1"/>
          <a:stretch/>
        </p:blipFill>
        <p:spPr>
          <a:xfrm>
            <a:off x="250920" y="2997360"/>
            <a:ext cx="5357880" cy="354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0" name="Rectangle 6"/>
          <p:cNvSpPr/>
          <p:nvPr/>
        </p:nvSpPr>
        <p:spPr>
          <a:xfrm>
            <a:off x="5715000" y="5719320"/>
            <a:ext cx="34290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Выхлопные газы сокращают продолжительность жизни на 6 месяцев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8" descr="Картинка 8 из 24137"/>
          <p:cNvPicPr/>
          <p:nvPr/>
        </p:nvPicPr>
        <p:blipFill>
          <a:blip r:embed="rId2"/>
          <a:stretch/>
        </p:blipFill>
        <p:spPr>
          <a:xfrm>
            <a:off x="5857920" y="3143160"/>
            <a:ext cx="2987640" cy="210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85560" y="285840"/>
            <a:ext cx="731196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опасно для органов дыхан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8400" y="1071360"/>
            <a:ext cx="778644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икотин проникает в кровь, и она разносит его по всем органам. Этот яд притупляет зрение, слух, внимание, заставляет усиленно работать сердце. У курильщиков часто возникают опасные, а порой смертельные заболевания легких и сердц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4" name="Группа 5"/>
          <p:cNvGrpSpPr/>
          <p:nvPr/>
        </p:nvGrpSpPr>
        <p:grpSpPr>
          <a:xfrm>
            <a:off x="0" y="2786040"/>
            <a:ext cx="9144000" cy="4071960"/>
            <a:chOff x="0" y="2786040"/>
            <a:chExt cx="9144000" cy="4071960"/>
          </a:xfrm>
        </p:grpSpPr>
        <p:pic>
          <p:nvPicPr>
            <p:cNvPr id="195" name="Picture 2" descr="Картинка 13 из 66660"/>
            <p:cNvPicPr/>
            <p:nvPr/>
          </p:nvPicPr>
          <p:blipFill>
            <a:blip r:embed="rId1"/>
            <a:stretch/>
          </p:blipFill>
          <p:spPr>
            <a:xfrm>
              <a:off x="0" y="2786040"/>
              <a:ext cx="9096840" cy="397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3" descr="H:\кур.gif"/>
            <p:cNvPicPr/>
            <p:nvPr/>
          </p:nvPicPr>
          <p:blipFill>
            <a:blip r:embed="rId2"/>
            <a:stretch/>
          </p:blipFill>
          <p:spPr>
            <a:xfrm>
              <a:off x="7936200" y="5857920"/>
              <a:ext cx="1207800" cy="10000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</p:spTree>
  </p:cSld>
  <p:transition spd="med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85560" y="285840"/>
            <a:ext cx="731196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опасно для органов дыхан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13840" y="1196640"/>
            <a:ext cx="8929800" cy="16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За последние 100 лет вредная привычка к курению распространилась по всему миру. Вслед за взрослыми к курению стали приобщаться и дети. Врачи назвали курение чумой двадцатого столетия. Во многих странах курильщиков стараются не брать на работ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2" descr="Картинка 39 из 73601"/>
          <p:cNvPicPr/>
          <p:nvPr/>
        </p:nvPicPr>
        <p:blipFill>
          <a:blip r:embed="rId1"/>
          <a:srcRect l="17189" t="0" r="10933" b="0"/>
          <a:stretch/>
        </p:blipFill>
        <p:spPr>
          <a:xfrm>
            <a:off x="324000" y="3068640"/>
            <a:ext cx="328608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0" name="Picture 6" descr="Картинка 111 из 73601"/>
          <p:cNvPicPr/>
          <p:nvPr/>
        </p:nvPicPr>
        <p:blipFill>
          <a:blip r:embed="rId2"/>
          <a:stretch/>
        </p:blipFill>
        <p:spPr>
          <a:xfrm>
            <a:off x="4716360" y="3200400"/>
            <a:ext cx="3726000" cy="36576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6"/>
          <p:cNvSpPr/>
          <p:nvPr/>
        </p:nvSpPr>
        <p:spPr>
          <a:xfrm>
            <a:off x="4643280" y="464328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е курить!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85560" y="285840"/>
            <a:ext cx="731196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опасно для органов дыхани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85840" y="1071360"/>
            <a:ext cx="792936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Частицы дыма оседают на стенках легочных пузырьков и мешают поступлению кислорода в кровь. Вместе с дымом сигареты в легкие курильщика и находящихся рядом людей попадает яд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никотин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Picture 2" descr="Картинка 29 из 4026"/>
          <p:cNvPicPr/>
          <p:nvPr/>
        </p:nvPicPr>
        <p:blipFill>
          <a:blip r:embed="rId1"/>
          <a:srcRect l="3126" t="9722" r="2084" b="23612"/>
          <a:stretch/>
        </p:blipFill>
        <p:spPr>
          <a:xfrm>
            <a:off x="1143000" y="2428920"/>
            <a:ext cx="650088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5" name="Picture 3" descr="H:\кур.gif"/>
          <p:cNvPicPr/>
          <p:nvPr/>
        </p:nvPicPr>
        <p:blipFill>
          <a:blip r:embed="rId2"/>
          <a:stretch/>
        </p:blipFill>
        <p:spPr>
          <a:xfrm>
            <a:off x="3286080" y="4500720"/>
            <a:ext cx="1928880" cy="2162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6" name="TextBox 5"/>
          <p:cNvSpPr/>
          <p:nvPr/>
        </p:nvSpPr>
        <p:spPr>
          <a:xfrm>
            <a:off x="857160" y="5929200"/>
            <a:ext cx="2500560" cy="642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Легки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курильщи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5435640" y="5877000"/>
            <a:ext cx="3214800" cy="642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Легкие некурящего челове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50920" y="1413000"/>
          <a:ext cx="8640720" cy="4846680"/>
        </p:xfrm>
        <a:graphic>
          <a:graphicData uri="http://schemas.openxmlformats.org/drawingml/2006/table">
            <a:tbl>
              <a:tblPr/>
              <a:tblGrid>
                <a:gridCol w="7111800"/>
                <a:gridCol w="1528920"/>
              </a:tblGrid>
              <a:tr h="4846680">
                <a:tc>
                  <a:txBody>
                    <a:bodyPr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учебнике стр. 34 – 35. Знать органы дыхательной системы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чая тетрадь стр. 18 № 35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орческое задание: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чинить рассказ по теме «Сохрани свои легкие здоровыми»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p:transition spd="med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3640" y="907920"/>
            <a:ext cx="8373960" cy="561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ecff"/>
                </a:solidFill>
                <a:latin typeface="Arial"/>
              </a:rPr>
              <a:t>Единственная красота, которую я знаю, - это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здоровье</a:t>
            </a:r>
            <a:r>
              <a:rPr b="1" lang="ru-RU" sz="6000" spc="-1" strike="noStrike">
                <a:solidFill>
                  <a:srgbClr val="ccecff"/>
                </a:solidFill>
                <a:latin typeface="Arial"/>
              </a:rPr>
              <a:t>.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ru-RU" sz="4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Генрих Гейн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Verdana"/>
              </a:rPr>
              <a:t>Человек может прожить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Verdana"/>
              </a:rPr>
              <a:t>Неделю – без воды,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Verdana"/>
              </a:rPr>
              <a:t>Месяц – без еды, 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Verdana"/>
              </a:rPr>
              <a:t>Несколько дней – без сна,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Verdana"/>
              </a:rPr>
              <a:t>Но без чего человек не может прожить и 2 – 3 минут?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5000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7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0" spc="-1" strike="noStrike">
                <a:solidFill>
                  <a:srgbClr val="ccecff"/>
                </a:solidFill>
                <a:latin typeface="Arial"/>
              </a:rPr>
              <a:t>Спасибо за внимание!</a:t>
            </a:r>
            <a:endParaRPr b="0" lang="en-US" sz="10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6319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ecff"/>
                </a:solidFill>
                <a:latin typeface="Arial"/>
              </a:rPr>
              <a:t>Тема урока</a:t>
            </a:r>
            <a:br>
              <a:rPr sz="8000"/>
            </a:b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Прямоугольник 4" descr=""/>
          <p:cNvPicPr/>
          <p:nvPr/>
        </p:nvPicPr>
        <p:blipFill>
          <a:blip r:embed="rId1"/>
          <a:stretch/>
        </p:blipFill>
        <p:spPr>
          <a:xfrm>
            <a:off x="-695160" y="2548080"/>
            <a:ext cx="10534320" cy="3985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осовая пол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4" descr="нннннннннннос"/>
          <p:cNvPicPr/>
          <p:nvPr/>
        </p:nvPicPr>
        <p:blipFill>
          <a:blip r:embed="rId1"/>
          <a:stretch/>
        </p:blipFill>
        <p:spPr>
          <a:xfrm>
            <a:off x="2195640" y="1557360"/>
            <a:ext cx="4657680" cy="4681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орта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4" descr="гортань"/>
          <p:cNvPicPr/>
          <p:nvPr/>
        </p:nvPicPr>
        <p:blipFill>
          <a:blip r:embed="rId1"/>
          <a:stretch/>
        </p:blipFill>
        <p:spPr>
          <a:xfrm>
            <a:off x="2484360" y="1484280"/>
            <a:ext cx="4370400" cy="4753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рахея и бронх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4" descr="трахеи и бронхи"/>
          <p:cNvPicPr/>
          <p:nvPr/>
        </p:nvPicPr>
        <p:blipFill>
          <a:blip r:embed="rId1"/>
          <a:stretch/>
        </p:blipFill>
        <p:spPr>
          <a:xfrm>
            <a:off x="2268360" y="1268280"/>
            <a:ext cx="4767480" cy="5300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ёгк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4" descr="легкие"/>
          <p:cNvPicPr/>
          <p:nvPr/>
        </p:nvPicPr>
        <p:blipFill>
          <a:blip r:embed="rId1"/>
          <a:stretch/>
        </p:blipFill>
        <p:spPr>
          <a:xfrm>
            <a:off x="2195640" y="1557360"/>
            <a:ext cx="4362480" cy="49388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6" descr="C:\Documents and Settings\LG\Рабочий стол\биология\Органы дыхания человека.files\07020502.gif"/>
          <p:cNvPicPr/>
          <p:nvPr/>
        </p:nvPicPr>
        <p:blipFill>
          <a:blip r:embed="rId1"/>
          <a:stretch/>
        </p:blipFill>
        <p:spPr>
          <a:xfrm>
            <a:off x="1908000" y="1171440"/>
            <a:ext cx="4967640" cy="5686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ронхиолы и альвеол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азообме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250920" y="1600200"/>
            <a:ext cx="8713800" cy="47991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6:23:06Z</dcterms:created>
  <dc:creator>PX</dc:creator>
  <dc:description/>
  <dc:language>en-US</dc:language>
  <cp:lastModifiedBy>катя</cp:lastModifiedBy>
  <dcterms:modified xsi:type="dcterms:W3CDTF">2012-02-15T18:46:05Z</dcterms:modified>
  <cp:revision>16</cp:revision>
  <dc:subject/>
  <dc:title>Для чего и как мы  дышим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