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4E74-879B-4DE9-A8FE-98510C5FC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CC5F-3911-4BF6-827C-65CF00D70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F8CE-CA00-466B-9EFE-D48F31771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1B3C-DE1E-4ABA-BAFA-E24330B38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E5221-A29B-4B88-BE1C-4DE044312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581FD-31EA-4E60-BD5B-1BBFFD49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B6550-F7EE-4457-B1D5-5D4E87607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F3FA3-732A-43EF-BC4A-9ABD60BC0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98C6B-F6F1-4C8C-84C7-6ACE0C72C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9855F-7CEA-4363-8A08-BEA755906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044DD-E85F-4EBE-A9EA-68296C00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B7BD-AB8B-440F-83EC-E9EAAF26A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0E949-2B17-4C92-B7AA-7673F6C3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1DA0C-41BF-48DD-A2B7-8452C537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CBEC0-CEB7-4D84-B56B-ACFF91783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D5F06-CAB3-4145-A958-741F38B66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56BE6-1EA0-4E26-819A-849A57995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51FE-29A5-43F3-98BE-F3C434960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379E-B01C-40F2-86A3-8F69EC8D9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2929-42A5-4ECD-A6DB-B2FA02976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6B6D-9380-4102-A874-F010CDB0E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0B76-13E1-4D33-8756-6B636031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5346-9150-4F9B-8D29-58AC0ED0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A45E-35A2-4623-83F1-10496699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27288-C3CE-47FD-8ABD-75AE53748DD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B7CB2-9D19-406A-B0BC-328EF4DBA86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3238560" cy="9381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cc"/>
                </a:solidFill>
                <a:latin typeface="Tahoma"/>
              </a:rPr>
              <a:t>Тема: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187280" y="2491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ffccff"/>
                </a:solidFill>
                <a:latin typeface="Monotype Corsiva"/>
              </a:rPr>
              <a:t>Рифма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6" descr="10310"/>
          <p:cNvPicPr/>
          <p:nvPr/>
        </p:nvPicPr>
        <p:blipFill>
          <a:blip r:embed="rId1"/>
          <a:stretch/>
        </p:blipFill>
        <p:spPr>
          <a:xfrm>
            <a:off x="5867280" y="3141720"/>
            <a:ext cx="2989440" cy="30956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250560" y="2060640"/>
            <a:ext cx="86756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ccff"/>
                </a:solidFill>
                <a:latin typeface="Tahoma"/>
              </a:rPr>
              <a:t>- это созвучия в конце стихотворных строк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395280" y="40464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ffccff"/>
                </a:solidFill>
                <a:latin typeface="Monotype Corsiva"/>
              </a:rPr>
              <a:t>Рифма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9" descr="10313"/>
          <p:cNvPicPr/>
          <p:nvPr/>
        </p:nvPicPr>
        <p:blipFill>
          <a:blip r:embed="rId1"/>
          <a:stretch/>
        </p:blipFill>
        <p:spPr>
          <a:xfrm>
            <a:off x="5148360" y="4076640"/>
            <a:ext cx="3633840" cy="22352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27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Белая береза под моим </a:t>
            </a:r>
            <a:r>
              <a:rPr b="0" lang="ru-RU" sz="3600" spc="-1" strike="noStrike" u="sng">
                <a:solidFill>
                  <a:srgbClr val="ffffcc"/>
                </a:solidFill>
                <a:uFillTx/>
                <a:latin typeface="Tahoma"/>
              </a:rPr>
              <a:t>окном</a:t>
            </a:r>
            <a:br>
              <a:rPr sz="3600"/>
            </a:b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Принакрылась снегом, точно </a:t>
            </a:r>
            <a:r>
              <a:rPr b="0" lang="ru-RU" sz="3600" spc="-1" strike="noStrike" u="sng">
                <a:solidFill>
                  <a:srgbClr val="ffffcc"/>
                </a:solidFill>
                <a:uFillTx/>
                <a:latin typeface="Tahoma"/>
              </a:rPr>
              <a:t>серебром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Line 5"/>
          <p:cNvSpPr/>
          <p:nvPr/>
        </p:nvSpPr>
        <p:spPr>
          <a:xfrm>
            <a:off x="4643280" y="2349360"/>
            <a:ext cx="0" cy="9352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250920" y="3429000"/>
            <a:ext cx="8675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cff"/>
                </a:solidFill>
                <a:latin typeface="Tahoma"/>
              </a:rPr>
              <a:t>парная рифм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7" descr="10313"/>
          <p:cNvPicPr/>
          <p:nvPr/>
        </p:nvPicPr>
        <p:blipFill>
          <a:blip r:embed="rId1"/>
          <a:stretch/>
        </p:blipFill>
        <p:spPr>
          <a:xfrm>
            <a:off x="5148360" y="4076640"/>
            <a:ext cx="3633840" cy="22352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27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Осыпаются астры 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Tahoma"/>
              </a:rPr>
              <a:t>в садах.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Стройный клен под окошком </a:t>
            </a:r>
            <a:r>
              <a:rPr b="1" i="1" lang="ru-RU" sz="3200" spc="-1" strike="noStrike">
                <a:solidFill>
                  <a:srgbClr val="ff3300"/>
                </a:solidFill>
                <a:latin typeface="Tahoma"/>
              </a:rPr>
              <a:t>желтеет.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И холодный туман 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Tahoma"/>
              </a:rPr>
              <a:t>на полях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Целый день неподвижно </a:t>
            </a:r>
            <a:r>
              <a:rPr b="1" i="1" lang="ru-RU" sz="3200" spc="-1" strike="noStrike">
                <a:solidFill>
                  <a:srgbClr val="ff3300"/>
                </a:solidFill>
                <a:latin typeface="Tahoma"/>
              </a:rPr>
              <a:t>белеет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Line 3"/>
          <p:cNvSpPr/>
          <p:nvPr/>
        </p:nvSpPr>
        <p:spPr>
          <a:xfrm>
            <a:off x="4643280" y="2924280"/>
            <a:ext cx="0" cy="9349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324000" y="4076640"/>
            <a:ext cx="8675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cff"/>
                </a:solidFill>
                <a:latin typeface="Tahoma"/>
              </a:rPr>
              <a:t>перекрестная рифм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5" descr="10313"/>
          <p:cNvPicPr/>
          <p:nvPr/>
        </p:nvPicPr>
        <p:blipFill>
          <a:blip r:embed="rId1"/>
          <a:stretch/>
        </p:blipFill>
        <p:spPr>
          <a:xfrm>
            <a:off x="5148360" y="4076640"/>
            <a:ext cx="3633840" cy="22352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27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Клали перстень золотой, серьги 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Tahoma"/>
              </a:rPr>
              <a:t>изумрудны;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Расстилали белый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ff3300"/>
                </a:solidFill>
                <a:latin typeface="Tahoma"/>
              </a:rPr>
              <a:t>плат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И над чашей пели </a:t>
            </a:r>
            <a:r>
              <a:rPr b="1" i="1" lang="ru-RU" sz="3200" spc="-1" strike="noStrike">
                <a:solidFill>
                  <a:srgbClr val="ff3300"/>
                </a:solidFill>
                <a:latin typeface="Tahoma"/>
              </a:rPr>
              <a:t>в лад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Песенки </a:t>
            </a:r>
            <a:r>
              <a:rPr b="0" lang="ru-RU" sz="3200" spc="-1" strike="noStrike" u="sng">
                <a:solidFill>
                  <a:srgbClr val="ffffcc"/>
                </a:solidFill>
                <a:uFillTx/>
                <a:latin typeface="Tahoma"/>
              </a:rPr>
              <a:t>подблюдны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Line 3"/>
          <p:cNvSpPr/>
          <p:nvPr/>
        </p:nvSpPr>
        <p:spPr>
          <a:xfrm>
            <a:off x="4500720" y="2924280"/>
            <a:ext cx="0" cy="9349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179280" y="4221000"/>
            <a:ext cx="8675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cff"/>
                </a:solidFill>
                <a:latin typeface="Tahoma"/>
              </a:rPr>
              <a:t>кольцевая (опоясывающая) рифм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5" descr="10313"/>
          <p:cNvPicPr/>
          <p:nvPr/>
        </p:nvPicPr>
        <p:blipFill>
          <a:blip r:embed="rId1"/>
          <a:stretch/>
        </p:blipFill>
        <p:spPr>
          <a:xfrm>
            <a:off x="5148360" y="4076640"/>
            <a:ext cx="3633840" cy="22352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03:33:04Z</dcterms:created>
  <dc:creator>психолог</dc:creator>
  <dc:description/>
  <dc:language>en-US</dc:language>
  <cp:lastModifiedBy>Пользователь</cp:lastModifiedBy>
  <dcterms:modified xsi:type="dcterms:W3CDTF">2013-01-17T12:09:27Z</dcterms:modified>
  <cp:revision>8</cp:revision>
  <dc:subject/>
  <dc:title>Тема:</dc:title>
</cp:coreProperties>
</file>