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A359-A74B-47F5-9DEE-01FED869D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E61F-39A0-4211-A6C9-AEE6FFA8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F547-308D-4675-B721-21BFF0B6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9365-94DE-4699-89B8-C46236B38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AD01-8A68-405C-91E5-13AACB582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8F0B-5F57-4E57-874B-5BD6E252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B103-1931-4B06-84DA-F0A6ED82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DB4D-5597-441C-AC26-FFFF1EFC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4606-92F0-4320-9DAF-F4C22194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0ED6-B0D0-4C44-A150-E420F4D9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EAAC-47B6-4358-84E4-C4D65581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2800-61BF-4DE8-9E36-66F324D2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B791-B23E-4836-ACDA-65FFA1E8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4A76-3B47-4E8C-8545-CE322C98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A01A-C9BF-43D9-92D1-A4DFBD6D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6F01-7756-4C03-B187-46971702D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F9E2-63C9-4376-9053-9642D151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7186-2886-442A-BA81-4AD3ABF6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70D0-FB4B-45F3-BCEA-B18103EE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0889-6CB2-4666-BB98-CCBE2E12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E5F3-A024-434C-B022-0A585D9E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70CB-C4CE-40A4-AEC9-7A98196B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1D1F-4299-4E8A-A74F-9A6766D7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AD8A-43DD-4380-988A-A90F0C46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5D95-EE9E-4C33-8BE7-00812BAD4F0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E580-980D-47F7-B2D6-852C042F5A8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3238560" cy="938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cc"/>
                </a:solidFill>
                <a:latin typeface="Tahoma"/>
              </a:rPr>
              <a:t>Тема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8728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ccff"/>
                </a:solidFill>
                <a:latin typeface="Monotype Corsiva"/>
              </a:rPr>
              <a:t>Рифма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6" descr="10310"/>
          <p:cNvPicPr/>
          <p:nvPr/>
        </p:nvPicPr>
        <p:blipFill>
          <a:blip r:embed="rId1"/>
          <a:stretch/>
        </p:blipFill>
        <p:spPr>
          <a:xfrm>
            <a:off x="5867280" y="3141720"/>
            <a:ext cx="2989440" cy="30956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50560" y="2060640"/>
            <a:ext cx="8675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ccff"/>
                </a:solidFill>
                <a:latin typeface="Tahoma"/>
              </a:rPr>
              <a:t>- это созвучия в конце стихотворных строк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95280" y="4046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ccff"/>
                </a:solidFill>
                <a:latin typeface="Monotype Corsiva"/>
              </a:rPr>
              <a:t>Рифма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9" descr="10313"/>
          <p:cNvPicPr/>
          <p:nvPr/>
        </p:nvPicPr>
        <p:blipFill>
          <a:blip r:embed="rId1"/>
          <a:stretch/>
        </p:blipFill>
        <p:spPr>
          <a:xfrm>
            <a:off x="5148360" y="4076640"/>
            <a:ext cx="3633840" cy="2235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Белая береза под моим </a:t>
            </a:r>
            <a:r>
              <a:rPr b="0" lang="ru-RU" sz="3600" spc="-1" strike="noStrike" u="sng">
                <a:solidFill>
                  <a:srgbClr val="ffffcc"/>
                </a:solidFill>
                <a:uFillTx/>
                <a:latin typeface="Tahoma"/>
              </a:rPr>
              <a:t>окном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Принакрылась снегом, точно </a:t>
            </a:r>
            <a:r>
              <a:rPr b="0" lang="ru-RU" sz="3600" spc="-1" strike="noStrike" u="sng">
                <a:solidFill>
                  <a:srgbClr val="ffffcc"/>
                </a:solidFill>
                <a:uFillTx/>
                <a:latin typeface="Tahoma"/>
              </a:rPr>
              <a:t>серебром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Line 5"/>
          <p:cNvSpPr/>
          <p:nvPr/>
        </p:nvSpPr>
        <p:spPr>
          <a:xfrm>
            <a:off x="4643280" y="2349360"/>
            <a:ext cx="0" cy="935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50920" y="3429000"/>
            <a:ext cx="8675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ff"/>
                </a:solidFill>
                <a:latin typeface="Tahoma"/>
              </a:rPr>
              <a:t>парная рифм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7" descr="10313"/>
          <p:cNvPicPr/>
          <p:nvPr/>
        </p:nvPicPr>
        <p:blipFill>
          <a:blip r:embed="rId1"/>
          <a:stretch/>
        </p:blipFill>
        <p:spPr>
          <a:xfrm>
            <a:off x="5148360" y="4076640"/>
            <a:ext cx="3633840" cy="2235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Осыпаются астры 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</a:rPr>
              <a:t>в садах.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тройный клен под окошком </a:t>
            </a:r>
            <a:r>
              <a:rPr b="1" i="1" lang="ru-RU" sz="3200" spc="-1" strike="noStrike">
                <a:solidFill>
                  <a:srgbClr val="ff3300"/>
                </a:solidFill>
                <a:latin typeface="Tahoma"/>
              </a:rPr>
              <a:t>желтеет.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 холодный туман 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</a:rPr>
              <a:t>на полях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Целый день неподвижно </a:t>
            </a:r>
            <a:r>
              <a:rPr b="1" i="1" lang="ru-RU" sz="3200" spc="-1" strike="noStrike">
                <a:solidFill>
                  <a:srgbClr val="ff3300"/>
                </a:solidFill>
                <a:latin typeface="Tahoma"/>
              </a:rPr>
              <a:t>белеет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Line 3"/>
          <p:cNvSpPr/>
          <p:nvPr/>
        </p:nvSpPr>
        <p:spPr>
          <a:xfrm>
            <a:off x="4643280" y="2924280"/>
            <a:ext cx="0" cy="934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24000" y="4076640"/>
            <a:ext cx="8675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ff"/>
                </a:solidFill>
                <a:latin typeface="Tahoma"/>
              </a:rPr>
              <a:t>перекрестная рифм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10313"/>
          <p:cNvPicPr/>
          <p:nvPr/>
        </p:nvPicPr>
        <p:blipFill>
          <a:blip r:embed="rId1"/>
          <a:stretch/>
        </p:blipFill>
        <p:spPr>
          <a:xfrm>
            <a:off x="5148360" y="4076640"/>
            <a:ext cx="3633840" cy="2235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Клали перстень золотой, серьги 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</a:rPr>
              <a:t>изумрудны;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асстилали белы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3300"/>
                </a:solidFill>
                <a:latin typeface="Tahoma"/>
              </a:rPr>
              <a:t>плат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 над чашей пели </a:t>
            </a:r>
            <a:r>
              <a:rPr b="1" i="1" lang="ru-RU" sz="3200" spc="-1" strike="noStrike">
                <a:solidFill>
                  <a:srgbClr val="ff3300"/>
                </a:solidFill>
                <a:latin typeface="Tahoma"/>
              </a:rPr>
              <a:t>в лад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есенки 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</a:rPr>
              <a:t>подблюдны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4500720" y="2924280"/>
            <a:ext cx="0" cy="934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79280" y="4221000"/>
            <a:ext cx="8675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ff"/>
                </a:solidFill>
                <a:latin typeface="Tahoma"/>
              </a:rPr>
              <a:t>кольцевая (опоясывающая) рифм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10313"/>
          <p:cNvPicPr/>
          <p:nvPr/>
        </p:nvPicPr>
        <p:blipFill>
          <a:blip r:embed="rId1"/>
          <a:stretch/>
        </p:blipFill>
        <p:spPr>
          <a:xfrm>
            <a:off x="5148360" y="4076640"/>
            <a:ext cx="3633840" cy="2235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3:33:04Z</dcterms:created>
  <dc:creator>психолог</dc:creator>
  <dc:description/>
  <dc:language>en-US</dc:language>
  <cp:lastModifiedBy>Пользователь</cp:lastModifiedBy>
  <dcterms:modified xsi:type="dcterms:W3CDTF">2013-01-17T12:09:27Z</dcterms:modified>
  <cp:revision>8</cp:revision>
  <dc:subject/>
  <dc:title>Тема:</dc:title>
</cp:coreProperties>
</file>