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1E2-8BC8-4000-8965-BCC7C70A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B9F-91A6-4CD7-A411-52B6B4A5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72E01-C997-44F3-8010-3A80BCFB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1724D-E8DD-426B-ADF3-9623CE25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422BC-590A-4B03-9D75-020095FB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3EED0-CE33-4C8E-A567-EA912175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192A1-F1BE-40DE-8C7B-517B6737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3D197-711C-460F-A307-4EA13C62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BDB00-32F9-42B0-93CE-F03980A1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EF6D8-1A69-4D7D-919E-939BE737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A3F43-4193-4EAE-B82A-814A93D9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8D9F6-36A6-41E9-8CB2-984F8886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CBB-BC25-4A2C-A34C-2ADE5C45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C957A-5F4D-42FD-A7A3-EB61C3BD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52D4D-AA0B-4C9A-8A02-B4509FFA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A4284-C727-4835-BA0D-C8246C8F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DE56F-DB4D-4523-9572-7764DEDF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1E57B-689E-44A5-8B88-6DE90D73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76397-15B2-4FEF-BB4E-47F79326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C8426-FFB2-4074-80DC-D600FE76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07B14-6400-47DD-98E5-9ACDD11A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2942D-8C62-4A67-A880-DE078716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581627-40A0-4756-946E-C06808CF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59C-5220-4A77-9C41-FA8DB9CB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1A75F-B173-4717-A009-0D71C10F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A9BC-EB83-4611-8E97-AE47441C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8103-9C41-4037-9D31-C0E5B947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AAEC-57A2-458D-B481-1FA21BFA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CEF2-612D-4FFE-AFE2-993D6CA9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42A7-D773-40DC-B824-8FEB473C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0A41-C8FE-4AAD-946D-37F6CC9B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43D5-9376-4C51-88EB-8D225C6E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8A3D-BB62-487D-A608-40445E16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2DC6-B401-447E-AEA5-8CB2A75E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7DA8-FFB4-4A68-A57C-4F52CAFB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9109-0ADB-434A-991E-72C39477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1B5B-A2B3-4856-A5EA-52A7D558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CD83-DEE9-4C2C-929F-D4E2E0CB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48F5-D561-4A99-9125-E3259577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31BE2-9BBB-4A12-9BDF-8192BFB1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0808E-5B70-4DC9-ACE0-A74ACEF8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7C531-4D84-437C-AA75-BD964D3A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F8D52-FEF1-49B9-B204-DD1FDDC5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B9C-9439-4B0E-889B-200A65D0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67AF5-95C3-42EF-9103-19FF8C50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934F7-BD69-43DA-B00F-54B280B5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F31F6-8676-40C7-A639-28347CDF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61030-A6A1-41C9-AF35-29F716D3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30B4-3D39-4F43-9CA5-9000B15F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D1F9-9059-4011-B12F-DFF9B5AF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AA91-8013-47D6-A5A6-A5FC626D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EF6CC-CED3-4E4C-8C08-FFBE11D9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6136E-B789-4F25-A7CF-B212C86A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842E1-CB9C-4772-88FF-C4FF490B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24C-7CD7-4C5D-8CA2-8EEA6180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AB85A-D96E-453D-AD45-8843E1A3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B19F3-7970-44D4-AE78-AA0A5C69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BADC2-0440-45A5-AF3E-4BD869B8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DD411-25E7-4300-A6C5-E3C5E883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14182-038B-4300-BC73-FAB4551A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CE078-8B43-472A-B942-83A0D8B7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00AE0-9A1C-4606-80D8-160FEB40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7EC03-E393-4EAC-AC1D-9114F319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01A48-3497-43FC-902B-05A86296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FFEFA-2818-42D6-9EC0-3D9ACE3B6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E50C-F741-4B8C-81D8-DCEC9AD2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9FE79-9F2D-4B7C-B5F7-2FF5C3E2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9F0EA-8DDE-4BC1-8173-DD6A6063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1D7CF-F551-4084-91E5-10648BA6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723B6-7909-4C6F-9FF2-4B61ACF2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4267B-0BC7-4674-8504-78D6165F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939C5-C032-4550-BBF7-375A6B2C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5D1A6-D860-4DA1-BFBF-EC90CE7B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B8639-9261-4FA7-A218-7C367E0B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4CD7E-0458-47DA-84C1-149FBAD6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5179F-F160-446F-A9D4-3F02D25B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437-980B-4BA3-B927-268038F6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60356-2998-4CDC-A5BE-06E90EF6D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987EF-FADB-4413-B62F-EF28526D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69052-3AF4-4BEA-BC1A-BEBB1C3F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A004A-51EB-4463-8448-9F8D2610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CB0AB-CA9A-4F53-8ED6-C96090E5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F3AB3-E151-4462-8A5A-145D2FF0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87F77-E479-4180-9F7E-0FA13D9F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730AF-DE44-46B4-A7F8-232C134F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08DC0-B4E9-49DA-BA40-F07679B0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369A4-6568-443D-9CFE-A62FCEFF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BBD-69E3-474A-8ADC-2D7D6D1B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7ACFF-B568-40FD-858D-F47DC7E4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5C28D-2324-4A97-82B7-6477A60D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5A7CA-117E-4E55-B3FA-03754F4B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B4EAA-B919-47CA-B008-1E5FD6AB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07AB7-BE79-4F6B-91A4-B7FBEE8B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77174-464A-4A8B-93C4-BE8B3A66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263ED-451C-407F-BADD-523F245F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65647-4CB8-481A-ACDE-AB5417A6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740CC-B479-4BEA-A12D-EF010FE5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2E9A7-5E99-4935-8417-62C372D2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0BD-1223-4097-BD96-FBE5CC57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876D4-1657-44C1-9C59-550B6B5A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4F442-A0FA-45A9-83A7-F8D8A06B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8158F-88A5-4ABF-A661-58A89AF4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5A66B-08EB-432C-8113-B78FB2C5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EF180-D02D-49A2-B068-9306A80B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38168-E281-4537-9FC3-73541F58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8BCD6-14A1-4A42-B042-D5FA9C96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E0EB9-6509-4D0E-B701-3F92ED50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26990-BEA1-44BD-AE7E-154B8950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1EADE-5356-4F8D-B4A0-D73D4EB7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843-5495-4A20-B762-FA2F1D80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6E5B8-7E92-462A-824A-5B9A3761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6A404-3EAB-4C1F-A19F-E5852C8A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00C89-2E12-47E3-ACEC-C0CBAA81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7EDF9-90D9-4304-A52A-B8B1E92E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6EAAC-F2C3-4E69-AEF9-169CAEEF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EE459-B778-4BBC-B6F6-5657D43F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0E6F0-3AED-4ADB-8559-AFE90A06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94839-F4A4-43E1-99B9-222458E3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3E483-CAA1-4BEA-A1A8-496D2A9B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0C808-8000-4026-A0B1-63BF8CB2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971F-C48D-4F70-8373-66B84BDDB41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DE33-54B7-4B70-949B-F2539CF09A8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CAA0-B41F-4A97-8B49-A212DE9C818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27CC-B773-4195-B7B6-25DA44E25C2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8464-156C-40A7-B765-3B80BCAF04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B473-6030-43B1-BFCB-3F7CBEC5C5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F560-F050-44D7-869D-A3F715391A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A3EB-E710-4036-B607-28462BF876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D4E3-DCD2-48E7-A6E3-6FA99AD893F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0FCE-86C2-4A96-AF41-211BC8A11B6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4"/>
          <p:cNvSpPr txBox="1"/>
          <p:nvPr/>
        </p:nvSpPr>
        <p:spPr>
          <a:xfrm>
            <a:off x="539640" y="2276640"/>
            <a:ext cx="7272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703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Урок русского язы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703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703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 2 «Б» класс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703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703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ема:"Словарные слов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703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0" name="WordArt 5"/>
          <p:cNvSpPr txBox="1"/>
          <p:nvPr/>
        </p:nvSpPr>
        <p:spPr>
          <a:xfrm>
            <a:off x="1692360" y="5229360"/>
            <a:ext cx="52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703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Учитель: Смирнова О.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703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WordArt 2"/>
          <p:cNvSpPr txBox="1"/>
          <p:nvPr/>
        </p:nvSpPr>
        <p:spPr>
          <a:xfrm>
            <a:off x="1116000" y="2924280"/>
            <a:ext cx="698508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РОКА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8" name="Line 4"/>
          <p:cNvSpPr/>
          <p:nvPr/>
        </p:nvSpPr>
        <p:spPr>
          <a:xfrm flipH="1">
            <a:off x="5219640" y="249228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 spokes="8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WordArt 4"/>
          <p:cNvSpPr txBox="1"/>
          <p:nvPr/>
        </p:nvSpPr>
        <p:spPr>
          <a:xfrm>
            <a:off x="1258920" y="549360"/>
            <a:ext cx="633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ОРОБЕЙ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0" name="WordArt 6"/>
          <p:cNvSpPr txBox="1"/>
          <p:nvPr/>
        </p:nvSpPr>
        <p:spPr>
          <a:xfrm>
            <a:off x="1332000" y="256536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ОРОНА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1" name="WordArt 7"/>
          <p:cNvSpPr txBox="1"/>
          <p:nvPr/>
        </p:nvSpPr>
        <p:spPr>
          <a:xfrm>
            <a:off x="1258920" y="4292640"/>
            <a:ext cx="65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РОКА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2" name="Line 8"/>
          <p:cNvSpPr/>
          <p:nvPr/>
        </p:nvSpPr>
        <p:spPr>
          <a:xfrm flipH="1">
            <a:off x="4716360" y="220500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Line 9"/>
          <p:cNvSpPr/>
          <p:nvPr/>
        </p:nvSpPr>
        <p:spPr>
          <a:xfrm flipH="1">
            <a:off x="6804000" y="33336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10"/>
          <p:cNvSpPr/>
          <p:nvPr/>
        </p:nvSpPr>
        <p:spPr>
          <a:xfrm flipH="1">
            <a:off x="4932360" y="393372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11"/>
          <p:cNvSpPr/>
          <p:nvPr/>
        </p:nvSpPr>
        <p:spPr>
          <a:xfrm>
            <a:off x="2050920" y="1628640"/>
            <a:ext cx="2880000" cy="0"/>
          </a:xfrm>
          <a:prstGeom prst="line">
            <a:avLst/>
          </a:prstGeom>
          <a:ln w="284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12"/>
          <p:cNvSpPr/>
          <p:nvPr/>
        </p:nvSpPr>
        <p:spPr>
          <a:xfrm>
            <a:off x="2484360" y="3429000"/>
            <a:ext cx="2879640" cy="0"/>
          </a:xfrm>
          <a:prstGeom prst="line">
            <a:avLst/>
          </a:prstGeom>
          <a:ln w="284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Line 13"/>
          <p:cNvSpPr/>
          <p:nvPr/>
        </p:nvSpPr>
        <p:spPr>
          <a:xfrm>
            <a:off x="2556000" y="5013360"/>
            <a:ext cx="2879640" cy="0"/>
          </a:xfrm>
          <a:prstGeom prst="line">
            <a:avLst/>
          </a:prstGeom>
          <a:ln w="28440">
            <a:solidFill>
              <a:srgbClr val="4e3b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0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1198585698"/>
          <p:cNvPicPr/>
          <p:nvPr/>
        </p:nvPicPr>
        <p:blipFill>
          <a:blip r:embed="rId1"/>
          <a:stretch/>
        </p:blipFill>
        <p:spPr>
          <a:xfrm>
            <a:off x="1486080" y="5335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4"/>
          <p:cNvSpPr txBox="1"/>
          <p:nvPr/>
        </p:nvSpPr>
        <p:spPr>
          <a:xfrm>
            <a:off x="1332000" y="2852640"/>
            <a:ext cx="655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  Р  БЕЙ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2340000" y="3068640"/>
            <a:ext cx="719280" cy="865080"/>
          </a:xfrm>
          <a:prstGeom prst="rect">
            <a:avLst/>
          </a:prstGeom>
          <a:solidFill>
            <a:srgbClr val="f0a22e"/>
          </a:solidFill>
          <a:ln w="936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4140360" y="3068640"/>
            <a:ext cx="718920" cy="865080"/>
          </a:xfrm>
          <a:prstGeom prst="rect">
            <a:avLst/>
          </a:prstGeom>
          <a:solidFill>
            <a:srgbClr val="f0a22e"/>
          </a:solidFill>
          <a:ln w="936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WordArt 2"/>
          <p:cNvSpPr txBox="1"/>
          <p:nvPr/>
        </p:nvSpPr>
        <p:spPr>
          <a:xfrm>
            <a:off x="1332000" y="2852640"/>
            <a:ext cx="655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  Р  БЕЙ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6" name="WordArt 5"/>
          <p:cNvSpPr txBox="1"/>
          <p:nvPr/>
        </p:nvSpPr>
        <p:spPr>
          <a:xfrm>
            <a:off x="2268360" y="3068640"/>
            <a:ext cx="863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7" name="WordArt 6"/>
          <p:cNvSpPr txBox="1"/>
          <p:nvPr/>
        </p:nvSpPr>
        <p:spPr>
          <a:xfrm>
            <a:off x="4067280" y="3068640"/>
            <a:ext cx="863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8" name="Line 7"/>
          <p:cNvSpPr/>
          <p:nvPr/>
        </p:nvSpPr>
        <p:spPr>
          <a:xfrm flipV="1">
            <a:off x="6588000" y="2565360"/>
            <a:ext cx="2160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l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6" descr="corvus_cornix2"/>
          <p:cNvPicPr/>
          <p:nvPr/>
        </p:nvPicPr>
        <p:blipFill>
          <a:blip r:embed="rId1"/>
          <a:stretch/>
        </p:blipFill>
        <p:spPr>
          <a:xfrm>
            <a:off x="1790640" y="771480"/>
            <a:ext cx="5486400" cy="40957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WordArt 2"/>
          <p:cNvSpPr txBox="1"/>
          <p:nvPr/>
        </p:nvSpPr>
        <p:spPr>
          <a:xfrm>
            <a:off x="1116000" y="2997360"/>
            <a:ext cx="698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  РОНА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2340000" y="2997360"/>
            <a:ext cx="719280" cy="792000"/>
          </a:xfrm>
          <a:prstGeom prst="rect">
            <a:avLst/>
          </a:prstGeom>
          <a:solidFill>
            <a:srgbClr val="f0a22e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l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2"/>
          <p:cNvSpPr txBox="1"/>
          <p:nvPr/>
        </p:nvSpPr>
        <p:spPr>
          <a:xfrm>
            <a:off x="1116000" y="2997360"/>
            <a:ext cx="698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ВОРОНА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3" name="Line 4"/>
          <p:cNvSpPr/>
          <p:nvPr/>
        </p:nvSpPr>
        <p:spPr>
          <a:xfrm flipH="1">
            <a:off x="5148000" y="2492280"/>
            <a:ext cx="21564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l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4" descr="pica_pica"/>
          <p:cNvPicPr/>
          <p:nvPr/>
        </p:nvPicPr>
        <p:blipFill>
          <a:blip r:embed="rId1"/>
          <a:stretch/>
        </p:blipFill>
        <p:spPr>
          <a:xfrm>
            <a:off x="3297240" y="2011320"/>
            <a:ext cx="2473200" cy="1616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WordArt 4"/>
          <p:cNvSpPr txBox="1"/>
          <p:nvPr/>
        </p:nvSpPr>
        <p:spPr>
          <a:xfrm>
            <a:off x="1116000" y="2924280"/>
            <a:ext cx="698508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66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  РОКА</a:t>
            </a:r>
            <a:endParaRPr b="1" lang="en-US" sz="1800" spc="1" strike="noStrike">
              <a:ln w="9360">
                <a:solidFill>
                  <a:srgbClr val="cc66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340000" y="2924280"/>
            <a:ext cx="863640" cy="792000"/>
          </a:xfrm>
          <a:prstGeom prst="rect">
            <a:avLst/>
          </a:prstGeom>
          <a:solidFill>
            <a:srgbClr val="f0a22e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0:32:31Z</dcterms:created>
  <dc:creator>Admin</dc:creator>
  <dc:description/>
  <dc:language>en-US</dc:language>
  <cp:lastModifiedBy>school</cp:lastModifiedBy>
  <dcterms:modified xsi:type="dcterms:W3CDTF">2013-04-03T12:10:10Z</dcterms:modified>
  <cp:revision>33</cp:revision>
  <dc:subject/>
  <dc:title>Слайд 1</dc:title>
</cp:coreProperties>
</file>