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CE3-D987-43F1-B07D-9B5471B6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868-BAB0-4993-B46E-B2579A6A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A203C-7D59-4660-9CFE-1B269EA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52AE-6B0E-473D-A9A0-1A5320F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2675-470E-410E-AC85-451E8B15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C666D-F694-4ECE-9C9E-613EAE5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AECA-E7E9-4EFC-A1B4-4B0AD06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73E01-E006-4C1B-B322-8F876E3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735D3-F899-4767-BA46-3EE56709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B05BB-47F7-484D-B08D-36DDA5B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DAA9-0AF3-47FC-A1A4-795D6537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7D18-21C9-487E-9C72-53D07EE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6B0-72B3-4E10-80F9-45C4694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ECC71-E77C-40D4-8FE1-F05A145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3090D-3739-4A35-9EB4-77BE1ADE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C4202-DF26-4CEC-BF73-17B537B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134AE-C76F-491F-AC78-75C1E85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BAD1D-3E2F-4B8C-9970-658CF412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56E9C-D13D-4254-8091-27046D1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5F847-FAE6-470F-AE2D-BB5AC44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1B0FF-A743-4A15-AB46-11815C0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DCB47-598F-49B2-AC45-CF8D105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06E5-88C8-4491-99BB-E7BC8E1E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602-FF8B-41C6-9E66-CDD08758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29A4F-547F-42F0-807E-AEFF48DA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BA8-5E69-47F8-90C2-C10CE1AC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F117-3DDC-4B16-AA47-EF0B103A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FC3-2AED-4F06-9391-DAFCA7E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E42-D775-4930-B3CA-D8572449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FC7-A6C5-45D7-AF4A-CAEF285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31BD-422A-44EC-BE1F-8AA205E1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06C-1117-4E5B-8E33-ED2DDB9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40C-9189-496A-A374-9DFCAB07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72F1-495C-4BE5-893A-48D092C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C0C-E05D-4D01-9F64-CD99D55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FA6-BCC2-457D-85B2-1F2CA1AE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93D-5B8F-4312-9BD6-6692126D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E902-6D4D-408F-AB03-AAAE18CF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C2C5-D12C-4019-8300-83C6143B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483E-3B30-4F1C-81DD-B3A882E6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9611-C790-4A38-A3E0-593B279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8FA6-FD6D-470E-8E04-B778886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36B7-2783-4BEB-8EE4-FAC97D58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3ED-2CBB-4CD3-B0C2-61DDDBF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68CE-4B55-48F4-9D3A-11E360D8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48BA-744B-4A61-8147-1F5BF96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EAFC-C5C2-464A-A68D-C104ED7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DAEC-8151-4A14-B112-E68707B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66DC-BCD4-4581-881C-4EC3905E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D9A1-CCDA-4C29-8281-23FD101E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1BA0-0C26-4285-8152-6CAC5B2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DF8F-BB00-4BD3-A7F3-38B18020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757E-6FF4-4571-8885-2160510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4023-B3B2-4719-B432-8B58356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3CF-3002-4CCE-9B7B-87ACF02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8EF0-C5C5-4E03-9075-7EA2479F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0046-D785-4767-8B14-42B56A2B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269B-A0F1-419C-BCC9-22BE5166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B841-9F34-4732-9DD8-C377CB9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CCD4-6446-43EB-8BF6-9B1B4D5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7B56-BB0C-448A-A3EF-9F8146F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D298-2357-406E-AB9C-328B8EBD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BA69-0A54-414F-8BEE-DAF469B2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7FEA-26C4-4B18-A42D-B7D69E72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F1C7-296A-42F4-9A8D-B1BC8E8E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8EB-68F0-493A-8A2F-B446CD46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7473-2E0E-44E2-9BF3-77FF94E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A69F-4408-464B-8A35-0073855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F0AA-AB78-4410-BBD3-82B6E41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2786-F7EE-47D5-828A-57ECBDA1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055F-FCE0-4125-A7FD-D83E82A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BAB6-AD0B-4FA8-98E1-7CC9355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2CE1-F37A-4635-830F-1F2A80B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075B-3272-4613-9DA3-9394232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A783-B9CF-444A-9A86-51E08198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6096-4837-447A-88C7-5F197F13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F66-3AFC-4E11-B69E-190C7563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85E7-2C10-49C5-A5A2-C1F56D0E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B1EC-4E59-4973-8473-5BA898C5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EA99D-58CA-471D-A5A0-E70E597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F6A39-5998-44EE-9167-3C8947A2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D5392-2610-4C86-8CE9-03AB44C5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DC8B-B7E3-4355-BD2F-7D4948F6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929E-FA07-4E04-8E7D-323B97F8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7922-18CD-4C1E-AEC6-CC8EA83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8224-C8C3-4F31-B36D-D7AED69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5FC3-E682-4CB8-ADD2-B9DB9F6E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56E-C1DD-481D-97E6-4E43ED0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335A-23EE-4306-A578-AF9A137B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A050-01F6-4F76-BBD8-415A680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BC5D-6F35-4C37-AC4D-52B18B09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7EBC-8BAE-4319-857C-EE1D6DAF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BFF0-71AC-452B-B15D-AE19BFE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560B-BE95-4801-B04E-A2A7E70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1F95-ACF4-4166-B69B-EAD1623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80CA-7887-437B-9F1D-B2085701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8C86-74C3-44DF-B5E3-6C51073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C1E85-F41C-4FB5-8280-A53BED8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0BC-DD0B-402C-8BD0-B05B16B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45F29-7507-47AF-A0D8-201FEB0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A54CC-F924-487D-AEFC-6959B81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A355-323D-4D8A-9349-46CD9AE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AB01-6C0C-465D-97D8-9D9B8BC0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0B95-A40E-42DC-A333-E2171985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E8B9-320E-400B-8FB1-4DD64B62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D35EA-B480-4EF3-ADDD-87019C1F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275F-0DA8-4873-998B-E78F750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5780-38E8-45F1-9C13-A71BFE7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AD40-BE9B-4276-BBAD-DBDC117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8BE-0BCA-4F94-BFC1-4EAB28E6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FB83-2E1E-4593-9426-F018BD3B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90C34-181F-471C-8AE7-407AD9C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A5B7-022D-4312-8031-D62F9F7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F873-7330-476C-9CF5-3FF3773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B777-A46A-4781-BF8E-0338261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2078-ACBF-4AB7-A4B7-5EB3A49E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10C18-E2B2-426D-AF3D-F2D9A242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6137-B0E0-4047-96C1-3164A0B6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88740-37D2-4A3F-A13D-F16A00D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27807-B509-4614-8ABE-10CC757A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12F-D1E6-46A2-94E0-ECC83A003A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01A-978A-47C5-8FAC-FC5DF5DB4C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F67-0BCE-4C6A-9E5E-D8C86F807B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927-3040-4460-B5A0-F33E49D347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DC6C-BFBC-468A-A1C6-20FAFFB649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829-F58A-493F-88E8-95C3457CA5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E16-0D6C-413D-9AF4-F061F29904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A5C5-DD2B-4748-B5E2-A1C93C797F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9427-A3E2-4676-BFED-9D42930D1E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315D-85A8-47A7-A101-DEC6694E2F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539640" y="2276640"/>
            <a:ext cx="7272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рок русского язы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2 «Б» кла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ма:"Словарные слов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WordArt 5"/>
          <p:cNvSpPr txBox="1"/>
          <p:nvPr/>
        </p:nvSpPr>
        <p:spPr>
          <a:xfrm>
            <a:off x="1692360" y="5229360"/>
            <a:ext cx="52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читель: Смирнова О.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1116000" y="2924280"/>
            <a:ext cx="6985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Line 4"/>
          <p:cNvSpPr/>
          <p:nvPr/>
        </p:nvSpPr>
        <p:spPr>
          <a:xfrm flipH="1">
            <a:off x="5219640" y="2492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4"/>
          <p:cNvSpPr txBox="1"/>
          <p:nvPr/>
        </p:nvSpPr>
        <p:spPr>
          <a:xfrm>
            <a:off x="1258920" y="549360"/>
            <a:ext cx="633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0" name="WordArt 6"/>
          <p:cNvSpPr txBox="1"/>
          <p:nvPr/>
        </p:nvSpPr>
        <p:spPr>
          <a:xfrm>
            <a:off x="1332000" y="2565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1258920" y="4292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2" name="Line 8"/>
          <p:cNvSpPr/>
          <p:nvPr/>
        </p:nvSpPr>
        <p:spPr>
          <a:xfrm flipH="1">
            <a:off x="4716360" y="220500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9"/>
          <p:cNvSpPr/>
          <p:nvPr/>
        </p:nvSpPr>
        <p:spPr>
          <a:xfrm flipH="1">
            <a:off x="6804000" y="333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10"/>
          <p:cNvSpPr/>
          <p:nvPr/>
        </p:nvSpPr>
        <p:spPr>
          <a:xfrm flipH="1">
            <a:off x="4932360" y="3933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11"/>
          <p:cNvSpPr/>
          <p:nvPr/>
        </p:nvSpPr>
        <p:spPr>
          <a:xfrm>
            <a:off x="2050920" y="1628640"/>
            <a:ext cx="288000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12"/>
          <p:cNvSpPr/>
          <p:nvPr/>
        </p:nvSpPr>
        <p:spPr>
          <a:xfrm>
            <a:off x="2484360" y="3429000"/>
            <a:ext cx="287964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2556000" y="5013360"/>
            <a:ext cx="287964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1198585698"/>
          <p:cNvPicPr/>
          <p:nvPr/>
        </p:nvPicPr>
        <p:blipFill>
          <a:blip r:embed="rId1"/>
          <a:stretch/>
        </p:blipFill>
        <p:spPr>
          <a:xfrm>
            <a:off x="1486080" y="533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332000" y="285264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  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340000" y="3068640"/>
            <a:ext cx="719280" cy="865080"/>
          </a:xfrm>
          <a:prstGeom prst="rect">
            <a:avLst/>
          </a:prstGeom>
          <a:solidFill>
            <a:srgbClr val="f0a22e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4140360" y="3068640"/>
            <a:ext cx="718920" cy="865080"/>
          </a:xfrm>
          <a:prstGeom prst="rect">
            <a:avLst/>
          </a:prstGeom>
          <a:solidFill>
            <a:srgbClr val="f0a22e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2"/>
          <p:cNvSpPr txBox="1"/>
          <p:nvPr/>
        </p:nvSpPr>
        <p:spPr>
          <a:xfrm>
            <a:off x="1332000" y="285264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  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6" name="WordArt 5"/>
          <p:cNvSpPr txBox="1"/>
          <p:nvPr/>
        </p:nvSpPr>
        <p:spPr>
          <a:xfrm>
            <a:off x="2268360" y="3068640"/>
            <a:ext cx="86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4067280" y="3068640"/>
            <a:ext cx="86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Line 7"/>
          <p:cNvSpPr/>
          <p:nvPr/>
        </p:nvSpPr>
        <p:spPr>
          <a:xfrm flipV="1">
            <a:off x="6588000" y="2565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corvus_cornix2"/>
          <p:cNvPicPr/>
          <p:nvPr/>
        </p:nvPicPr>
        <p:blipFill>
          <a:blip r:embed="rId1"/>
          <a:stretch/>
        </p:blipFill>
        <p:spPr>
          <a:xfrm>
            <a:off x="1790640" y="77148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2"/>
          <p:cNvSpPr txBox="1"/>
          <p:nvPr/>
        </p:nvSpPr>
        <p:spPr>
          <a:xfrm>
            <a:off x="1116000" y="2997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340000" y="2997360"/>
            <a:ext cx="719280" cy="792000"/>
          </a:xfrm>
          <a:prstGeom prst="rect">
            <a:avLst/>
          </a:prstGeom>
          <a:solidFill>
            <a:srgbClr val="f0a22e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2"/>
          <p:cNvSpPr txBox="1"/>
          <p:nvPr/>
        </p:nvSpPr>
        <p:spPr>
          <a:xfrm>
            <a:off x="1116000" y="2997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Line 4"/>
          <p:cNvSpPr/>
          <p:nvPr/>
        </p:nvSpPr>
        <p:spPr>
          <a:xfrm flipH="1">
            <a:off x="5148000" y="249228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pica_pica"/>
          <p:cNvPicPr/>
          <p:nvPr/>
        </p:nvPicPr>
        <p:blipFill>
          <a:blip r:embed="rId1"/>
          <a:stretch/>
        </p:blipFill>
        <p:spPr>
          <a:xfrm>
            <a:off x="3297240" y="2011320"/>
            <a:ext cx="2473200" cy="161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"/>
          <p:cNvSpPr txBox="1"/>
          <p:nvPr/>
        </p:nvSpPr>
        <p:spPr>
          <a:xfrm>
            <a:off x="1116000" y="2924280"/>
            <a:ext cx="6985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  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340000" y="2924280"/>
            <a:ext cx="863640" cy="792000"/>
          </a:xfrm>
          <a:prstGeom prst="rect">
            <a:avLst/>
          </a:prstGeom>
          <a:solidFill>
            <a:srgbClr val="f0a22e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32:31Z</dcterms:created>
  <dc:creator>Admin</dc:creator>
  <dc:description/>
  <dc:language>en-US</dc:language>
  <cp:lastModifiedBy>school</cp:lastModifiedBy>
  <dcterms:modified xsi:type="dcterms:W3CDTF">2013-04-03T12:10:10Z</dcterms:modified>
  <cp:revision>33</cp:revision>
  <dc:subject/>
  <dc:title>Слайд 1</dc:title>
</cp:coreProperties>
</file>