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317-957E-4C53-9330-92B8F267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706-0384-4988-B962-0B8205C7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ADF-4EED-4B4A-9448-D73DF640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CA8-700E-4DDF-AE56-37C673EC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DB91-00D3-4AD4-8F58-B3F9C90C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947B-EB7C-4306-B3AF-27D56FD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2E87-96D5-46F7-B903-EC4D199B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5C43-3D31-4768-A5A3-711AB07D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469D-555E-4D3A-8A0C-CDCC4975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028C-F7D9-461F-8A9B-ED2A3A68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480A-86AE-40E1-BEC6-7C7D8CD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1C6-D456-45BE-B315-ADC05944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6856-6413-497B-AA64-4ABCFF3C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4DF3-D38C-4E02-A43B-B14FBA90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48C7-5AEE-46A4-9AFD-76161DF8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33EB-BFFA-4939-B9C2-297C30DE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72B0-E50D-4E1A-830F-91D4F767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A6F-E910-4C71-BF55-2C285CFC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E3C-C8C8-42B8-90D1-A1575948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089-95EE-4688-AB3A-8B24C0CC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BFD-A944-43BB-AD31-B437FDFB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2C2-4E9D-499C-9CC2-122ACCD5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548-8921-4332-A8AC-1B6A0216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0EB-0382-42FE-A541-939F6D0E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6D57-85CE-4EAD-A2C9-C3CEE2C41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49CB-3653-49A6-A7E0-578349F10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Tahoma"/>
              </a:rPr>
              <a:t>СУЗДАЛЬ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ahoma"/>
              </a:rPr>
              <a:t>Подготовила ученица 2 «А» Скудная Соф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16360" y="3357720"/>
            <a:ext cx="3311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Суздальская тюрь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34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Мест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9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Ров на реке Каменке. Раньше был защитой города от врагов, а теперь – отличная горка!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70581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Музей Деревянного Зодчества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56144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Дом зажиточного крестьян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6978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Старинная деревянная церков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4248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Суздальский крем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727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545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Каждый дом в городе – памятник архитектур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Благовещенская церковь в Спасо-Ефимиевом монастыр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82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Внутреннее убранство одной из церквей монастыр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27280" y="1773360"/>
            <a:ext cx="56894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43:23Z</dcterms:created>
  <dc:creator>Наташа</dc:creator>
  <dc:description/>
  <dc:language>en-US</dc:language>
  <cp:lastModifiedBy>Наташа</cp:lastModifiedBy>
  <dcterms:modified xsi:type="dcterms:W3CDTF">2013-04-14T14:07:53Z</dcterms:modified>
  <cp:revision>4</cp:revision>
  <dc:subject/>
  <dc:title>СУЗДАЛЬ</dc:title>
</cp:coreProperties>
</file>