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3F9-9207-4B91-83E1-44B617B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81D-A20C-4623-BF56-26660429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3C5-3DF1-4490-A34A-E1E4CF3F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6D5-63D4-4C2B-A55C-33321C47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D157-3A1E-418D-9FC1-20BFBC2C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5BC8-DCDE-4C66-84D2-81EF56E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B7AC-E566-4BD4-BE4D-0AC00221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9357-2C64-4918-907F-0ACA197F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196F-3E88-4283-A4FE-AE5A8594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DBBF-51DA-425B-A848-4152647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010-48D0-442D-B2A7-9FC45554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DA8-874D-4248-879B-1AE4A7D6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DD45-7695-4A79-AE67-930A52BC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691-8812-4806-8235-FA3B276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F457-4E51-4692-A392-7D76708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7016-BA39-4B39-AE4E-96A2C647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35CC-DFDB-4EB2-8FE1-8B942656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FA6-A349-40A6-BFC7-F5D670A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413-4DEA-433E-B865-0CE9CA84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B9B-468C-4830-A687-34C3CC6A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275-D563-4D42-A07F-C150895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B05-21F2-4F4C-8FDD-23B5C3F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4C3-3DFF-4531-87CE-8A90184C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ECFF-691A-41A0-8A27-901F2138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E324-4264-4729-B634-43BBBABCE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1CE0-2722-4AA4-BD97-EC49E4685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9999"/>
                </a:solidFill>
                <a:latin typeface="Tahoma"/>
              </a:rPr>
              <a:t>СУЗДАЛЬ</a:t>
            </a:r>
            <a:endParaRPr b="0" lang="en-US" sz="9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51628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ahoma"/>
              </a:rPr>
              <a:t>Подготовила ученица 2 «А» Скудная Соф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16360" y="3357720"/>
            <a:ext cx="3311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Суздальская тюрь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345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Местный транспор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9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Ров на реке Каменке. Раньше был защитой города от врагов, а теперь – отличная горка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1989000"/>
            <a:ext cx="70581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Музей Деревянного Зодчества</a:t>
            </a:r>
            <a:r>
              <a:rPr b="0" lang="en-US" sz="1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756144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Дом зажиточного крестьян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6978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Старинная деревянная церковь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248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Суздальский крем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7272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545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Каждый дом в городе – памятник архитектуры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27280" y="1916280"/>
            <a:ext cx="56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ahoma"/>
              </a:rPr>
              <a:t>Благовещенская церковь в Спасо-Ефимиевом монастыр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82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Внутреннее убранство одной из церквей монастыр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27280" y="1773360"/>
            <a:ext cx="568944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43:23Z</dcterms:created>
  <dc:creator>Наташа</dc:creator>
  <dc:description/>
  <dc:language>en-US</dc:language>
  <cp:lastModifiedBy>Наташа</cp:lastModifiedBy>
  <dcterms:modified xsi:type="dcterms:W3CDTF">2013-04-14T14:07:53Z</dcterms:modified>
  <cp:revision>4</cp:revision>
  <dc:subject/>
  <dc:title>СУЗДАЛЬ</dc:title>
</cp:coreProperties>
</file>