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4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6.wmf" ContentType="image/x-wmf"/>
  <Override PartName="/ppt/media/image15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37C4-CB62-4E70-92B2-8F697EEC4B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9512-E689-4C17-BEF2-CDDD542D3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899-9009-421C-87E0-54924AA1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CE1-DC91-492C-A16F-E0AD211F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811-BF3C-4DC5-A71C-5D68857B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60B-FC06-4A9A-8D6C-85B84209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6162-61BB-4730-94C2-B2B19894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3D38-C5A1-4810-9E59-5F24656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C49E-1A77-4724-8D44-6EF4467A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A609-BF8C-4EE0-98E1-8C563D4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CCFE-153E-4AFF-9214-07B4A2F6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39A6-55FD-4B10-A337-3F5125A5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72BB-9140-4CFA-8073-43D3BBF0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D27-8495-4268-B30F-EDDF47CC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D1F3-16FB-43E8-99DF-87DDA96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CFB2-9C08-472E-A667-3E5DBC4A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DD12-78A2-427D-B07F-863815B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4607-59A6-4F3F-A12A-C663F8AA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9BE8-4239-4A56-A9DF-EED56E08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4DE1-1353-4DAD-A486-ED5CCE51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CE56-F770-4BA3-A5BB-725704E7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9C21-F9B6-4BB9-8CD1-B09E78D4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F9EB-FFA2-4E80-B2EC-27C69C4A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FAD3-ACA8-4382-84FC-97F8585B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D87-7D34-4F92-AB6C-03E547B7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D4F0-290D-492F-B12D-3DE4213F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00A91-EE67-46F3-9FA3-A68B46F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BDF0-0876-4997-BEFF-4B33C70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AD249-C08C-49E7-8CC3-E3A2549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30F2-69D0-4F1A-97CE-B18A394A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18E7-8FB1-4C2D-8BC8-259E5428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4A70-E9F4-475F-811D-11CC2BB4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F8712-9FE5-43B8-92AB-51427998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8DE6-4110-49F2-957C-C1817CF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F3F94-F05A-4B64-A170-F1BAF146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057-12D1-44C6-8F1A-85C7332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75993-E141-475C-9285-9712AFD4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EFC2-3803-4972-A0C7-995EA8AA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0843-4DA9-47DB-A8F0-4464419A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5FB76-B44A-4289-A5BC-99C7B627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884B-812D-40F1-8F8D-5815A1C8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B388E-1EDB-4D58-9820-4CBE444A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E5450-5BB0-430F-8665-C7DA6F2A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35111-2FD8-480D-9DA9-FE13BFDD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5A8E6-80D1-4C79-9389-28613554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576-1C5A-423C-B4E7-C47F8D7A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D93-376A-4B59-A8DC-5E3C8163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CED-4D3D-4185-A834-1F03C4EA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902-1936-4FF0-BD45-7E06B510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D42-A9BC-4A93-8AEA-EE3F5BA4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0D27-2500-4F99-B92D-87880D9979C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7DFA-4DB8-4760-8D1B-8A87CDB555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1293-E358-4CE4-ABB1-5D33AC59A12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BE12-B671-439C-8E4E-C62F3A56C67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341280"/>
            <a:ext cx="7864560" cy="2157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user\Рабочий стол\электронный конспект\sfile_14.jpg"/>
          <p:cNvPicPr/>
          <p:nvPr/>
        </p:nvPicPr>
        <p:blipFill>
          <a:blip r:embed="rId2"/>
          <a:stretch/>
        </p:blipFill>
        <p:spPr>
          <a:xfrm>
            <a:off x="1500120" y="2643120"/>
            <a:ext cx="5543640" cy="36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дание театра состояло из трёх частей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Documents and Settings\user\Рабочий стол\электронный конспект\sfile_10.jpg"/>
          <p:cNvPicPr/>
          <p:nvPr/>
        </p:nvPicPr>
        <p:blipFill>
          <a:blip r:embed="rId1"/>
          <a:stretch/>
        </p:blipFill>
        <p:spPr>
          <a:xfrm>
            <a:off x="1357200" y="1785960"/>
            <a:ext cx="6072480" cy="4700520"/>
          </a:xfrm>
          <a:prstGeom prst="rect">
            <a:avLst/>
          </a:prstGeom>
          <a:ln w="0">
            <a:noFill/>
          </a:ln>
        </p:spPr>
      </p:pic>
      <p:sp>
        <p:nvSpPr>
          <p:cNvPr id="228" name="Стрелка вправо 4"/>
          <p:cNvSpPr/>
          <p:nvPr/>
        </p:nvSpPr>
        <p:spPr>
          <a:xfrm>
            <a:off x="3429000" y="2143080"/>
            <a:ext cx="2143080" cy="1143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ста   для  зр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Театрон –</a:t>
            </a: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о места для почётных  зрителей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Орхестра –</a:t>
            </a: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углая или полукруглая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площадка, на которой  выступали актёры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 хор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Скене –</a:t>
            </a: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пристройка, примыкавшая к орхестре.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 её стене прикрепляли  полотнища, изображавшие то вход во дворец, то берег  моря. Внутри скене хранились костюмы и маски актёров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2976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Буква на билете означала  сектор,  а мест не было, можно было занять любое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место , начиная со второго ряда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3" descr="4a4"/>
          <p:cNvPicPr/>
          <p:nvPr/>
        </p:nvPicPr>
        <p:blipFill>
          <a:blip r:embed="rId1"/>
          <a:stretch/>
        </p:blipFill>
        <p:spPr>
          <a:xfrm>
            <a:off x="785880" y="2571840"/>
            <a:ext cx="7500960" cy="335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Феорикон   -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2303e"/>
                </a:solidFill>
                <a:latin typeface="Calibri"/>
              </a:rPr>
              <a:t>«ЗРЕЛИЩНЫЕ      ДЕНЬГИ»</a:t>
            </a:r>
            <a:br>
              <a:rPr sz="54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840" y="1428480"/>
            <a:ext cx="8472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Constantia"/>
              </a:rPr>
              <a:t>Их раздавали бедны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Constantia"/>
              </a:rPr>
              <a:t>гражданам  для посеще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2303e"/>
                </a:solidFill>
                <a:latin typeface="Constantia"/>
              </a:rPr>
              <a:t>театральных зрели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«зрелищ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8" descr="Рисунок9"/>
          <p:cNvPicPr/>
          <p:nvPr/>
        </p:nvPicPr>
        <p:blipFill>
          <a:blip r:embed="rId1"/>
          <a:stretch/>
        </p:blipFill>
        <p:spPr>
          <a:xfrm>
            <a:off x="5143680" y="1714680"/>
            <a:ext cx="3444840" cy="428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Актёрами были только мужчин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3" descr="C:\Documents and Settings\user\Рабочий стол\бинарка\Картинки театра\актёры\133rt5.jpg"/>
          <p:cNvPicPr/>
          <p:nvPr/>
        </p:nvPicPr>
        <p:blipFill>
          <a:blip r:embed="rId1"/>
          <a:stretch/>
        </p:blipFill>
        <p:spPr>
          <a:xfrm>
            <a:off x="4071960" y="1928880"/>
            <a:ext cx="1666800" cy="45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user\Рабочий стол\электронный конспект\sfile_24.JPG"/>
          <p:cNvPicPr/>
          <p:nvPr/>
        </p:nvPicPr>
        <p:blipFill>
          <a:blip r:embed="rId2"/>
          <a:stretch/>
        </p:blipFill>
        <p:spPr>
          <a:xfrm>
            <a:off x="6143760" y="2286000"/>
            <a:ext cx="1666800" cy="36687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9" descr="2a2"/>
          <p:cNvPicPr/>
          <p:nvPr/>
        </p:nvPicPr>
        <p:blipFill>
          <a:blip r:embed="rId3"/>
          <a:stretch/>
        </p:blipFill>
        <p:spPr>
          <a:xfrm>
            <a:off x="357120" y="2857680"/>
            <a:ext cx="3643560" cy="3429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714320"/>
            <a:ext cx="854388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nstantia"/>
              </a:rPr>
              <a:t>Котурны –</a:t>
            </a:r>
            <a:r>
              <a:rPr b="1" lang="ru-RU" sz="4800" spc="-1" strike="noStrike">
                <a:solidFill>
                  <a:srgbClr val="04617b"/>
                </a:solidFill>
                <a:latin typeface="Constantia"/>
              </a:rPr>
              <a:t>это  специальна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onstantia"/>
              </a:rPr>
              <a:t>                   </a:t>
            </a:r>
            <a:r>
              <a:rPr b="1" lang="ru-RU" sz="4800" spc="-1" strike="noStrike">
                <a:solidFill>
                  <a:srgbClr val="04617b"/>
                </a:solidFill>
                <a:latin typeface="Constantia"/>
              </a:rPr>
              <a:t>деревянная обувь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АСКИ    ДЛЯ     АКТЁР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C:\Documents and Settings\user\Рабочий стол\электронный конспект\sfile_18.JPG"/>
          <p:cNvPicPr/>
          <p:nvPr/>
        </p:nvPicPr>
        <p:blipFill>
          <a:blip r:embed="rId1"/>
          <a:stretch/>
        </p:blipFill>
        <p:spPr>
          <a:xfrm>
            <a:off x="642960" y="2643120"/>
            <a:ext cx="4046400" cy="3087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Рисунок6"/>
          <p:cNvPicPr/>
          <p:nvPr/>
        </p:nvPicPr>
        <p:blipFill>
          <a:blip r:embed="rId2"/>
          <a:stretch/>
        </p:blipFill>
        <p:spPr>
          <a:xfrm>
            <a:off x="4857840" y="2214720"/>
            <a:ext cx="3343320" cy="385272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579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214200"/>
          <a:ext cx="8229600" cy="635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опросы  для  срав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ревнегреческий   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де   происходят   представления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   открытым   неб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часто  происходят  представления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ин  раз в год , три дня под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олько представлений давалось в один ден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 по 5  в д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астники   представ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ктёры, только муж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анры     пье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гедии   и комед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   награждают    актёров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ёл, корзина с инжиром  и амфора с  вином, аплодис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на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  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48" name="Прямоугольник 4"/>
          <p:cNvSpPr/>
          <p:nvPr/>
        </p:nvSpPr>
        <p:spPr>
          <a:xfrm>
            <a:off x="4643280" y="1071720"/>
            <a:ext cx="40006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4643280" y="1857240"/>
            <a:ext cx="400068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643280" y="2714760"/>
            <a:ext cx="392940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4643280" y="4143240"/>
            <a:ext cx="392940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4643280" y="3429000"/>
            <a:ext cx="392940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4643280" y="5000760"/>
            <a:ext cx="3929400" cy="785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4643280" y="5929200"/>
            <a:ext cx="392940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3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3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9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nstantia"/>
              </a:rPr>
              <a:t>Пьеса – </a:t>
            </a:r>
            <a:r>
              <a:rPr b="1" lang="ru-RU" sz="4800" spc="-1" strike="noStrike">
                <a:solidFill>
                  <a:srgbClr val="04617b"/>
                </a:solidFill>
                <a:latin typeface="Constantia"/>
              </a:rPr>
              <a:t>литературное произведение, предназначенное для постановки на сцен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alibri"/>
              </a:rPr>
              <a:t>Пьеса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состоит из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Структура пьесы включает в себя текст действующих лиц (диалоги и монологи) и функциональные авторские ремарки (примечания, содержащие обозначение места действия, особенностей интерьера, внешности персонажей, их манеры поведения и т.д.). Как правило, пьеса предваряется списком действующих лиц, иногда – с указанием их возраста, профессии, титулов, родственных связей и т.п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дельная законченная смысловая часть пьесы называется актом или действием, которое может включать в себя более мелкие составляющие – явления, эпизоды, карт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2" descr=""/>
          <p:cNvPicPr/>
          <p:nvPr/>
        </p:nvPicPr>
        <p:blipFill>
          <a:blip r:embed="rId1"/>
          <a:stretch/>
        </p:blipFill>
        <p:spPr>
          <a:xfrm>
            <a:off x="201600" y="1798560"/>
            <a:ext cx="8558280" cy="4638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Жанр </a:t>
            </a: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-  вид художественного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                </a:t>
            </a: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произведен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594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КОМЕДИЯ </a:t>
            </a:r>
            <a:r>
              <a:rPr b="1" lang="ru-RU" sz="2000" spc="-1" strike="noStrike">
                <a:solidFill>
                  <a:srgbClr val="009dd9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( от греч.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komos –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весёлая толпа и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oide –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песнь)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произведение, 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изображающее  такие жизненные положения и  характеры,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которые вызывают смех.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 комедии  - действующими  лицами являлись обычные  люди, современники  автора и зрителей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РАГЕДИЯ-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(от греч.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tragos –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козёл и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 oide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– песнь - буквально «козлиная песнь»)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произведение, изображающее борьбу,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личную или общественную катастрофу,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обычно  оканчивающуюся    гибелью героя.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 трагедии    действовали герои мифов, боги   и геро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ДРАМА -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это пьеса  с острым конфликтом,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который,  в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                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отличие  от трагического, не столь возвышен   и   разрешим. 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Соединяет в себе    трагическое и  комическо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010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ВОСПОЛНИ  ПОТЕРЯННУЮ  ИНФОРМАЦИЮ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– я  пьеса;                     2 -  я  пье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АНР  ДРАМАТИЧЕСКОГО ПРОИЗВЕДЕНИЯ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Е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ЙСТВУЮЩИЕ ЛИЦА 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234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4" descr="Фото"/>
          <p:cNvPicPr/>
          <p:nvPr/>
        </p:nvPicPr>
        <p:blipFill>
          <a:blip r:embed="rId1"/>
          <a:stretch/>
        </p:blipFill>
        <p:spPr>
          <a:xfrm>
            <a:off x="714240" y="714240"/>
            <a:ext cx="7656480" cy="582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7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я  пье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АНР  ДРАМАТИЧЕСКОГО ПРОИЗВЕДЕНИЯ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ТРАГЕД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Е –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«АНТИГОН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ЙСТВУЮЩИЕ    ЛИЦА –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Антигона , Исмена, Креонт, Прорицатель, Ведущий, Стражник, Гем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7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я  пье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АНР  ДРАМАТИЧЕСКОГО ПРОИЗВЕДЕНИЯ –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КОМЕД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Е –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« ЛЯГУШКИ 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ЙСТВУЮЩИЕ ЛИЦ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Эсхил, Еврипид, Дионис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хо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чень часто древнегреческие авторы брали сюжеты для своих  пьес  из  мифов 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Picture 3" descr="C:\Documents and Settings\user\Рабочий стол\электронный конспект\sfile_8.jpg"/>
          <p:cNvPicPr/>
          <p:nvPr/>
        </p:nvPicPr>
        <p:blipFill>
          <a:blip r:embed="rId1"/>
          <a:stretch/>
        </p:blipFill>
        <p:spPr>
          <a:xfrm>
            <a:off x="928800" y="2000160"/>
            <a:ext cx="2714400" cy="4372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C:\Documents and Settings\user\Рабочий стол\электронный конспект\sfile_7.jpg"/>
          <p:cNvPicPr/>
          <p:nvPr/>
        </p:nvPicPr>
        <p:blipFill>
          <a:blip r:embed="rId2"/>
          <a:stretch/>
        </p:blipFill>
        <p:spPr>
          <a:xfrm>
            <a:off x="4857840" y="2071800"/>
            <a:ext cx="3179520" cy="4241520"/>
          </a:xfrm>
          <a:prstGeom prst="rect">
            <a:avLst/>
          </a:prstGeom>
          <a:ln w="0">
            <a:noFill/>
          </a:ln>
        </p:spPr>
      </p:pic>
      <p:sp>
        <p:nvSpPr>
          <p:cNvPr id="274" name="Скругленный прямоугольник 6"/>
          <p:cNvSpPr/>
          <p:nvPr/>
        </p:nvSpPr>
        <p:spPr>
          <a:xfrm>
            <a:off x="642960" y="6357960"/>
            <a:ext cx="3286080" cy="5000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льпомена – муза траге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7"/>
          <p:cNvSpPr/>
          <p:nvPr/>
        </p:nvSpPr>
        <p:spPr>
          <a:xfrm>
            <a:off x="4714920" y="6286680"/>
            <a:ext cx="3429000" cy="5713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алия – муза коме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5234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57120" y="285840"/>
          <a:ext cx="8329680" cy="6286320"/>
        </p:xfrm>
        <a:graphic>
          <a:graphicData uri="http://schemas.openxmlformats.org/drawingml/2006/table">
            <a:tbl>
              <a:tblPr/>
              <a:tblGrid>
                <a:gridCol w="2776680"/>
                <a:gridCol w="2776320"/>
                <a:gridCol w="2776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ревнегреческий те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временный    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де происходят предст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 открытым   неб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специальном закрытом зд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часто происходят представления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ин раз в год, три дня подря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стоянно (регуляр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олько представлений давалось в один день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 по пять в 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-2 спектакля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астники  представ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ктёры, только мужч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ктёры, мужчины и женщ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анры  пье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гедии и коме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гедии , комед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дра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награждают актёров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ёл, корзина с инжиром  и амфора с вином, аплодис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плодисменты, цветы, театральные   пре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нав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8" name="Прямоугольник 4"/>
          <p:cNvSpPr/>
          <p:nvPr/>
        </p:nvSpPr>
        <p:spPr>
          <a:xfrm>
            <a:off x="6000840" y="857160"/>
            <a:ext cx="26431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6000840" y="1714680"/>
            <a:ext cx="264312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6000840" y="2571840"/>
            <a:ext cx="264312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6000840" y="3357720"/>
            <a:ext cx="264312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8"/>
          <p:cNvSpPr/>
          <p:nvPr/>
        </p:nvSpPr>
        <p:spPr>
          <a:xfrm>
            <a:off x="6000840" y="4214880"/>
            <a:ext cx="264312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9"/>
          <p:cNvSpPr/>
          <p:nvPr/>
        </p:nvSpPr>
        <p:spPr>
          <a:xfrm>
            <a:off x="6000840" y="5072040"/>
            <a:ext cx="2714400" cy="857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1"/>
          <p:cNvSpPr/>
          <p:nvPr/>
        </p:nvSpPr>
        <p:spPr>
          <a:xfrm>
            <a:off x="6000840" y="6143760"/>
            <a:ext cx="264312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ПРОСЫ ДЛЯ ТЕС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13840" y="642960"/>
            <a:ext cx="8572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едия –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это произведение,  изображающее такие жизненные положения и характеры, которые вызывают сме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гедия –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это произведение, изображающее борьбу, личную или общественную катастрофу, обычно оканчивающуюся гибелью геро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ьеса –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комедийное произведени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4.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РАМА -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(от греч.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drama –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действие) - это пьеса</a:t>
            </a: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 острым конфликтом, который, в отличие от трагического, не столь возвышен и разрешим. Соединяет в себе трагическое и комическ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5.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раматическое произведение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остоит из реплик, монологов, диалогов, ремарок, актов или действий, которые могут включать в себя более мелкие составляющие – явления, эпизоды, карт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офокл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– афинский драматург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ристофан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– древнегреческий комедиограф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ьеса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 состоит только из диалог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9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фирамбы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- хвалебные пес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5" descr="j0299125"/>
          <p:cNvPicPr/>
          <p:nvPr/>
        </p:nvPicPr>
        <p:blipFill>
          <a:blip r:embed="rId1"/>
          <a:stretch/>
        </p:blipFill>
        <p:spPr>
          <a:xfrm>
            <a:off x="571680" y="0"/>
            <a:ext cx="357120" cy="50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7628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ДА           2.ДА      3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ДА           5.ДА        6.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ДА            8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9.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Театр возник в Древней Греции более 2500 лет назад в честь Великих Дионис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Documents and Settings\user\Рабочий стол\бинарка\Картинки театра\Дионис\Dionis.jpg"/>
          <p:cNvPicPr/>
          <p:nvPr/>
        </p:nvPicPr>
        <p:blipFill>
          <a:blip r:embed="rId1"/>
          <a:stretch/>
        </p:blipFill>
        <p:spPr>
          <a:xfrm>
            <a:off x="2933640" y="1935000"/>
            <a:ext cx="3276720" cy="43894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2714760" y="639612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Бог    Дион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    ЗАДАНИЕ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 любых сюжетов из истории Древней Греции  написать пьесу (комедию или трагедию) и красиво оформить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  10  мар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тир – спутник Диони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Documents and Settings\user\Рабочий стол\бинарка\Картинки театра\Дионис\satir.jpg"/>
          <p:cNvPicPr/>
          <p:nvPr/>
        </p:nvPicPr>
        <p:blipFill>
          <a:blip r:embed="rId1"/>
          <a:stretch/>
        </p:blipFill>
        <p:spPr>
          <a:xfrm>
            <a:off x="1733400" y="2143080"/>
            <a:ext cx="6226200" cy="43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4521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Содержимое 2"/>
          <p:cNvGrpSpPr/>
          <p:nvPr/>
        </p:nvGrpSpPr>
        <p:grpSpPr>
          <a:xfrm>
            <a:off x="208080" y="420840"/>
            <a:ext cx="8557920" cy="6016320"/>
            <a:chOff x="208080" y="420840"/>
            <a:chExt cx="8557920" cy="6016320"/>
          </a:xfrm>
        </p:grpSpPr>
        <p:pic>
          <p:nvPicPr>
            <p:cNvPr id="21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08080" y="420840"/>
              <a:ext cx="85579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7200" y="571680"/>
              <a:ext cx="8229600" cy="57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1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9dd9"/>
                  </a:solidFill>
                  <a:latin typeface="Constantia"/>
                </a:rPr>
                <a:t>Дифирамбы-</a:t>
              </a:r>
              <a:r>
                <a:rPr b="0" lang="ru-RU" sz="4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4400" spc="-1" strike="noStrike">
                  <a:solidFill>
                    <a:srgbClr val="04617b"/>
                  </a:solidFill>
                  <a:latin typeface="Constantia"/>
                </a:rPr>
                <a:t>хвалебные песни</a:t>
              </a:r>
              <a:r>
                <a:rPr b="1" lang="ru-RU" sz="4400" spc="-1" strike="noStrike">
                  <a:solidFill>
                    <a:srgbClr val="04617b"/>
                  </a:solidFill>
                  <a:latin typeface="Constantia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1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9dd9"/>
                  </a:solidFill>
                  <a:latin typeface="Constantia"/>
                </a:rPr>
                <a:t>Корифей –</a:t>
              </a:r>
              <a:r>
                <a:rPr b="0" lang="ru-RU" sz="4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i="1" lang="ru-RU" sz="4400" spc="-1" strike="noStrike" u="sng">
                  <a:solidFill>
                    <a:srgbClr val="096d1a"/>
                  </a:solidFill>
                  <a:uFillTx/>
                  <a:latin typeface="Constantia"/>
                </a:rPr>
                <a:t>предводитель сатиров</a:t>
              </a:r>
              <a:r>
                <a:rPr b="1" lang="ru-RU" sz="4400" spc="-1" strike="noStrike" u="sng">
                  <a:solidFill>
                    <a:srgbClr val="04617b"/>
                  </a:solidFill>
                  <a:uFillTx/>
                  <a:latin typeface="Constantia"/>
                </a:rPr>
                <a:t>,</a:t>
              </a:r>
              <a:r>
                <a:rPr b="0" lang="ru-RU" sz="4400" spc="-1" strike="noStrike" u="sng">
                  <a:solidFill>
                    <a:srgbClr val="04617b"/>
                  </a:solidFill>
                  <a:uFillTx/>
                  <a:latin typeface="Constantia"/>
                </a:rPr>
                <a:t> </a:t>
              </a:r>
              <a:r>
                <a:rPr b="0" lang="ru-RU" sz="4400" spc="-1" strike="noStrike">
                  <a:solidFill>
                    <a:srgbClr val="04617b"/>
                  </a:solidFill>
                  <a:latin typeface="Constantia"/>
                </a:rPr>
                <a:t>позже и главного в хоре называли корифей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1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ЕНЬ   РОЖДЕНИЯ   ТЕАТ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7" name="Содержимое 2"/>
          <p:cNvGrpSpPr/>
          <p:nvPr/>
        </p:nvGrpSpPr>
        <p:grpSpPr>
          <a:xfrm>
            <a:off x="384120" y="1054080"/>
            <a:ext cx="8809200" cy="5627880"/>
            <a:chOff x="384120" y="1054080"/>
            <a:chExt cx="8809200" cy="5627880"/>
          </a:xfrm>
        </p:grpSpPr>
        <p:pic>
          <p:nvPicPr>
            <p:cNvPr id="21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84120" y="1054080"/>
              <a:ext cx="8809200" cy="56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57200" y="1214280"/>
              <a:ext cx="82296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авитель   Писистрат  установил трёхдневные  театральные представления   в праздник  Дионисий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27 марта 534 года до н.э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лушая рассказ – заполняй таблиц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642960"/>
          <a:ext cx="8229600" cy="5857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опросы  дл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ревнегреческий  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временный  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де  происходят представления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часто происходят представлени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олько представлений даётся в один ден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астники предста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анры  пь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награждают  актё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на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30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аждый полис имел свой театр.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н строился у подножия холма  под открытым   небом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user\Рабочий стол\бинарка\Картинки театра\image002.jpg"/>
          <p:cNvPicPr/>
          <p:nvPr/>
        </p:nvPicPr>
        <p:blipFill>
          <a:blip r:embed="rId1"/>
          <a:stretch/>
        </p:blipFill>
        <p:spPr>
          <a:xfrm>
            <a:off x="1353960" y="1935000"/>
            <a:ext cx="643608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 первом ряду сидели почётные гости: жрецы Диониса, стратеги, олимпионики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C:\Documents and Settings\user\Рабочий стол\электронный конспект\sfile_11.jpg"/>
          <p:cNvPicPr/>
          <p:nvPr/>
        </p:nvPicPr>
        <p:blipFill>
          <a:blip r:embed="rId1"/>
          <a:stretch/>
        </p:blipFill>
        <p:spPr>
          <a:xfrm>
            <a:off x="1339920" y="1935000"/>
            <a:ext cx="646416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09-02-21T14:58:31Z</dcterms:modified>
  <cp:revision>45</cp:revision>
  <dc:subject/>
  <dc:title>ТЕАТР      ДРЕВНЕЙ  ГРЕЦИИ</dc:title>
</cp:coreProperties>
</file>