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4.jpeg" ContentType="image/jpeg"/>
  <Override PartName="/ppt/media/image1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6.wmf" ContentType="image/x-wmf"/>
  <Override PartName="/ppt/media/image15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DD1A-A0B7-4D7E-8B3F-AF4E16F43C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0D58-F4F8-4A6A-B53F-6F72996052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8FED-B20D-462C-850E-9936443E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F0EC-EA1A-4903-93F5-5D14390D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3454-E571-4741-921E-1987F1399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B028-82C4-4794-A9E5-DF871993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DE24-1CBD-45B9-94F9-113AABB0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B2F9-61F4-40C8-9399-C4E96E41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FC00-0A71-4E79-925C-F9E12B7B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FE72-CE4A-49CD-BF4A-41F73169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691E-66FC-43F0-8FC3-5A56C1A5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9F17-4DB2-4DB5-8D17-198F66F4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E164-7538-4364-9945-0708FDE3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9923-EF92-4A89-9E6A-03F78BC0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9C02-9A87-4627-9481-2EC79C27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5853-C86F-414B-82D7-F708D3F6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1AC0-0ABD-45D5-B5C4-0E5A9E98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3B8B-629A-42B4-9691-756A1DA2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8850-0C37-4223-8267-49817F11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CE0A4-1461-4535-8980-503DF8FE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0EE0C-F3AB-4708-9F93-C48930DF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86882-4375-4A17-8A36-0347D93D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CAEE2-A246-4990-AB30-CF57716D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6BEA7-7847-4A6A-BBE7-551FC4D8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E136-C85C-4774-B59E-050C2176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0DA7E-E8A9-4452-A556-C31E96E1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AD7D9-B17D-4576-92A7-7C087D4F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BFB98-BDF6-4608-BF9A-72253431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FC87F-1BEE-4DCC-BE18-D7A98AD4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7E00E-B381-478C-AE32-E5D616E2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AB697-A5D4-4C58-904F-A626A9C5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B0819-B1E4-494C-B934-FACF006B7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B9B36-9AC1-440F-8674-82754675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0CC6D-F6EE-4061-B197-05FA1E5D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A2EC9-2A72-4003-BD97-EDF29E53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A583-BD75-4701-9E57-D1F3F5FE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C1805-14BF-4179-A257-7B82566B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24FF4-F992-4764-8030-42F6BCB9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F9A2E-A2D1-4A69-902A-9ECAEDC3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FC906-D0EC-4C31-BDE6-5A709947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7EEE5-77C1-469A-91BC-8C5E8D98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F6873-6AE6-497F-8FDC-197A3A6A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0D819-6C8C-4C01-801F-A8489D42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E4FD8-D6D8-438A-8998-2F9A68CE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F8DA2-E791-427C-B349-B2BD7281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6703-C942-48FC-9F2A-1D45F0CF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C297-695E-47AC-BB3C-6C327831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4568-B20E-452A-B18B-8DB3E30D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D63B-AE13-4708-9AF2-58BE18C9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065C-4950-4EA1-A593-B1D58832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1410-6AF4-4684-BDF5-25D2855FF50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E481-AFD3-4CA6-BA48-9B3693C09DF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C28E-7D36-4C50-A6B6-42754A3B889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2BA1-FE52-41E1-AB52-832295C7F96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0280" y="341280"/>
            <a:ext cx="7864560" cy="21574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2" descr="C:\Documents and Settings\user\Рабочий стол\электронный конспект\sfile_14.jpg"/>
          <p:cNvPicPr/>
          <p:nvPr/>
        </p:nvPicPr>
        <p:blipFill>
          <a:blip r:embed="rId2"/>
          <a:stretch/>
        </p:blipFill>
        <p:spPr>
          <a:xfrm>
            <a:off x="1500120" y="2643120"/>
            <a:ext cx="5543640" cy="3643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Здание театра состояло из трёх частей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Picture 2" descr="C:\Documents and Settings\user\Рабочий стол\электронный конспект\sfile_10.jpg"/>
          <p:cNvPicPr/>
          <p:nvPr/>
        </p:nvPicPr>
        <p:blipFill>
          <a:blip r:embed="rId1"/>
          <a:stretch/>
        </p:blipFill>
        <p:spPr>
          <a:xfrm>
            <a:off x="1357200" y="1785960"/>
            <a:ext cx="6072480" cy="4700520"/>
          </a:xfrm>
          <a:prstGeom prst="rect">
            <a:avLst/>
          </a:prstGeom>
          <a:ln w="0">
            <a:noFill/>
          </a:ln>
        </p:spPr>
      </p:pic>
      <p:sp>
        <p:nvSpPr>
          <p:cNvPr id="228" name="Стрелка вправо 4"/>
          <p:cNvSpPr/>
          <p:nvPr/>
        </p:nvSpPr>
        <p:spPr>
          <a:xfrm>
            <a:off x="3429000" y="2143080"/>
            <a:ext cx="2143080" cy="11430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еста   для  зр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Театрон –</a:t>
            </a:r>
            <a:r>
              <a:rPr b="0" lang="ru-RU" sz="36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это места для почётных  зрителей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Орхестра –</a:t>
            </a:r>
            <a:r>
              <a:rPr b="0" lang="ru-RU" sz="36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руглая или полукруглая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onstantia"/>
              </a:rPr>
              <a:t>площадка, на которой  выступали актёры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и хор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Скене –</a:t>
            </a:r>
            <a:r>
              <a:rPr b="0" lang="ru-RU" sz="36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onstantia"/>
              </a:rPr>
              <a:t>пристройка, примыкавшая к орхестре. </a:t>
            </a: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 её стене прикрепляли  полотнища, изображавшие то вход во дворец, то берег  моря. Внутри скене хранились костюмы и маски актёров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429760" cy="221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Буква на билете означала  сектор,  а мест не было, можно было занять любое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место , начиная со второго ряда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Содержимое 3" descr="4a4"/>
          <p:cNvPicPr/>
          <p:nvPr/>
        </p:nvPicPr>
        <p:blipFill>
          <a:blip r:embed="rId1"/>
          <a:stretch/>
        </p:blipFill>
        <p:spPr>
          <a:xfrm>
            <a:off x="785880" y="2571840"/>
            <a:ext cx="7500960" cy="335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Феорикон   - 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2303e"/>
                </a:solidFill>
                <a:latin typeface="Calibri"/>
              </a:rPr>
              <a:t>«ЗРЕЛИЩНЫЕ      ДЕНЬГИ»</a:t>
            </a:r>
            <a:br>
              <a:rPr sz="54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13840" y="1428480"/>
            <a:ext cx="8472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303e"/>
                </a:solidFill>
                <a:latin typeface="Constantia"/>
              </a:rPr>
              <a:t>Их раздавали бедным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303e"/>
                </a:solidFill>
                <a:latin typeface="Constantia"/>
              </a:rPr>
              <a:t>гражданам  для посещения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303e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2303e"/>
                </a:solidFill>
                <a:latin typeface="Constantia"/>
              </a:rPr>
              <a:t>театральных зрелищ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«зрелищны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Picture 8" descr="Рисунок9"/>
          <p:cNvPicPr/>
          <p:nvPr/>
        </p:nvPicPr>
        <p:blipFill>
          <a:blip r:embed="rId1"/>
          <a:stretch/>
        </p:blipFill>
        <p:spPr>
          <a:xfrm>
            <a:off x="5143680" y="1714680"/>
            <a:ext cx="3444840" cy="4286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Актёрами были только мужчин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Picture 3" descr="C:\Documents and Settings\user\Рабочий стол\бинарка\Картинки театра\актёры\133rt5.jpg"/>
          <p:cNvPicPr/>
          <p:nvPr/>
        </p:nvPicPr>
        <p:blipFill>
          <a:blip r:embed="rId1"/>
          <a:stretch/>
        </p:blipFill>
        <p:spPr>
          <a:xfrm>
            <a:off x="4071960" y="1928880"/>
            <a:ext cx="1666800" cy="4500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C:\Documents and Settings\user\Рабочий стол\электронный конспект\sfile_24.JPG"/>
          <p:cNvPicPr/>
          <p:nvPr/>
        </p:nvPicPr>
        <p:blipFill>
          <a:blip r:embed="rId2"/>
          <a:stretch/>
        </p:blipFill>
        <p:spPr>
          <a:xfrm>
            <a:off x="6143760" y="2286000"/>
            <a:ext cx="1666800" cy="366876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9" descr="2a2"/>
          <p:cNvPicPr/>
          <p:nvPr/>
        </p:nvPicPr>
        <p:blipFill>
          <a:blip r:embed="rId3"/>
          <a:stretch/>
        </p:blipFill>
        <p:spPr>
          <a:xfrm>
            <a:off x="357120" y="2857680"/>
            <a:ext cx="3643560" cy="3429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1714320"/>
            <a:ext cx="854388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onstantia"/>
              </a:rPr>
              <a:t>Котурны –</a:t>
            </a:r>
            <a:r>
              <a:rPr b="1" lang="ru-RU" sz="4800" spc="-1" strike="noStrike">
                <a:solidFill>
                  <a:srgbClr val="04617b"/>
                </a:solidFill>
                <a:latin typeface="Constantia"/>
              </a:rPr>
              <a:t>это  специальная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Constantia"/>
              </a:rPr>
              <a:t>                   </a:t>
            </a:r>
            <a:r>
              <a:rPr b="1" lang="ru-RU" sz="4800" spc="-1" strike="noStrike">
                <a:solidFill>
                  <a:srgbClr val="04617b"/>
                </a:solidFill>
                <a:latin typeface="Constantia"/>
              </a:rPr>
              <a:t>деревянная обувь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АСКИ    ДЛЯ     АКТЁР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2" descr="C:\Documents and Settings\user\Рабочий стол\электронный конспект\sfile_18.JPG"/>
          <p:cNvPicPr/>
          <p:nvPr/>
        </p:nvPicPr>
        <p:blipFill>
          <a:blip r:embed="rId1"/>
          <a:stretch/>
        </p:blipFill>
        <p:spPr>
          <a:xfrm>
            <a:off x="642960" y="2643120"/>
            <a:ext cx="4046400" cy="3087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Рисунок6"/>
          <p:cNvPicPr/>
          <p:nvPr/>
        </p:nvPicPr>
        <p:blipFill>
          <a:blip r:embed="rId2"/>
          <a:stretch/>
        </p:blipFill>
        <p:spPr>
          <a:xfrm>
            <a:off x="4857840" y="2214720"/>
            <a:ext cx="3343320" cy="3852720"/>
          </a:xfrm>
          <a:prstGeom prst="rect">
            <a:avLst/>
          </a:prstGeom>
          <a:ln w="76320">
            <a:solidFill>
              <a:srgbClr val="04617b"/>
            </a:solidFill>
            <a:miter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5796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57200" y="214200"/>
          <a:ext cx="8229600" cy="635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опросы  для  сравн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ревнегреческий   теа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де   происходят   представления 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д   открытым   неб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к часто  происходят  представления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дин  раз в год , три дня под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колько представлений давалось в один день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сего по 5  в ден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частники   представл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ктёры, только мужчи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Жанры     пье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рагедии   и комед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к    награждают    актёров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зёл, корзина с инжиром  и амфора с  вином, аплодис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6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нав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   бы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248" name="Прямоугольник 4"/>
          <p:cNvSpPr/>
          <p:nvPr/>
        </p:nvSpPr>
        <p:spPr>
          <a:xfrm>
            <a:off x="4643280" y="1071720"/>
            <a:ext cx="400068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4643280" y="1857240"/>
            <a:ext cx="4000680" cy="5000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4643280" y="2714760"/>
            <a:ext cx="3929400" cy="5000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7"/>
          <p:cNvSpPr/>
          <p:nvPr/>
        </p:nvSpPr>
        <p:spPr>
          <a:xfrm>
            <a:off x="4643280" y="4143240"/>
            <a:ext cx="3929400" cy="5000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8"/>
          <p:cNvSpPr/>
          <p:nvPr/>
        </p:nvSpPr>
        <p:spPr>
          <a:xfrm>
            <a:off x="4643280" y="3429000"/>
            <a:ext cx="3929400" cy="5000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9"/>
          <p:cNvSpPr/>
          <p:nvPr/>
        </p:nvSpPr>
        <p:spPr>
          <a:xfrm>
            <a:off x="4643280" y="5000760"/>
            <a:ext cx="3929400" cy="7855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0"/>
          <p:cNvSpPr/>
          <p:nvPr/>
        </p:nvSpPr>
        <p:spPr>
          <a:xfrm>
            <a:off x="4643280" y="5929200"/>
            <a:ext cx="3929400" cy="571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3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3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3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3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3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3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3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988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onstantia"/>
              </a:rPr>
              <a:t>Пьеса – </a:t>
            </a:r>
            <a:r>
              <a:rPr b="1" lang="ru-RU" sz="4800" spc="-1" strike="noStrike">
                <a:solidFill>
                  <a:srgbClr val="04617b"/>
                </a:solidFill>
                <a:latin typeface="Constantia"/>
              </a:rPr>
              <a:t>литературное произведение, предназначенное для постановки на сцене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Calibri"/>
              </a:rPr>
              <a:t>Пьеса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 состоит из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Структура пьесы включает в себя текст действующих лиц (диалоги и монологи) и функциональные авторские ремарки (примечания, содержащие обозначение места действия, особенностей интерьера, внешности персонажей, их манеры поведения и т.д.). Как правило, пьеса предваряется списком действующих лиц, иногда – с указанием их возраста, профессии, титулов, родственных связей и т.п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Отдельная законченная смысловая часть пьесы называется актом или действием, которое может включать в себя более мелкие составляющие – явления, эпизоды, карти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Содержимое 2" descr=""/>
          <p:cNvPicPr/>
          <p:nvPr/>
        </p:nvPicPr>
        <p:blipFill>
          <a:blip r:embed="rId1"/>
          <a:stretch/>
        </p:blipFill>
        <p:spPr>
          <a:xfrm>
            <a:off x="201600" y="1798560"/>
            <a:ext cx="8558280" cy="4638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934640"/>
            <a:ext cx="8472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nstantia"/>
              </a:rPr>
              <a:t>Жанр </a:t>
            </a:r>
            <a:r>
              <a:rPr b="1" lang="ru-RU" sz="4400" spc="-1" strike="noStrike">
                <a:solidFill>
                  <a:srgbClr val="04617b"/>
                </a:solidFill>
                <a:latin typeface="Constantia"/>
              </a:rPr>
              <a:t>-  вид художественного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onstantia"/>
              </a:rPr>
              <a:t>                </a:t>
            </a:r>
            <a:r>
              <a:rPr b="1" lang="ru-RU" sz="4400" spc="-1" strike="noStrike">
                <a:solidFill>
                  <a:srgbClr val="04617b"/>
                </a:solidFill>
                <a:latin typeface="Constantia"/>
              </a:rPr>
              <a:t>произведения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59472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1384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КОМЕДИЯ </a:t>
            </a:r>
            <a:r>
              <a:rPr b="1" lang="ru-RU" sz="2000" spc="-1" strike="noStrike">
                <a:solidFill>
                  <a:srgbClr val="009dd9"/>
                </a:solidFill>
                <a:latin typeface="Constantia"/>
              </a:rPr>
              <a:t>- </a:t>
            </a: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( от греч.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komos –</a:t>
            </a: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 весёлая толпа и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oide –</a:t>
            </a: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песнь) </a:t>
            </a:r>
            <a:r>
              <a:rPr b="1" i="1" lang="ru-RU" sz="2000" spc="-1" strike="noStrike" u="sng">
                <a:solidFill>
                  <a:srgbClr val="096d1a"/>
                </a:solidFill>
                <a:uFillTx/>
                <a:latin typeface="Constantia"/>
              </a:rPr>
              <a:t>произведение,  </a:t>
            </a: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изображающее  такие жизненные положения и  характеры, </a:t>
            </a:r>
            <a:r>
              <a:rPr b="1" i="1" lang="ru-RU" sz="2000" spc="-1" strike="noStrike" u="sng">
                <a:solidFill>
                  <a:srgbClr val="096d1a"/>
                </a:solidFill>
                <a:uFillTx/>
                <a:latin typeface="Constantia"/>
              </a:rPr>
              <a:t>которые вызывают смех. </a:t>
            </a: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В комедии  - действующими  лицами являлись обычные  люди, современники  автора и зрителей 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ТРАГЕДИЯ-</a:t>
            </a: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(от греч.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tragos –</a:t>
            </a: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 козёл и </a:t>
            </a:r>
            <a:r>
              <a:rPr b="1" lang="en-US" sz="2000" spc="-1" strike="noStrike">
                <a:solidFill>
                  <a:srgbClr val="04617b"/>
                </a:solidFill>
                <a:latin typeface="Constantia"/>
              </a:rPr>
              <a:t> oide </a:t>
            </a: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– песнь - буквально «козлиная песнь») </a:t>
            </a:r>
            <a:r>
              <a:rPr b="1" i="1" lang="ru-RU" sz="2000" spc="-1" strike="noStrike" u="sng">
                <a:solidFill>
                  <a:srgbClr val="096d1a"/>
                </a:solidFill>
                <a:uFillTx/>
                <a:latin typeface="Constantia"/>
              </a:rPr>
              <a:t>произведение, изображающее борьбу, </a:t>
            </a: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личную или общественную катастрофу, </a:t>
            </a:r>
            <a:r>
              <a:rPr b="1" i="1" lang="ru-RU" sz="2000" spc="-1" strike="noStrike" u="sng">
                <a:solidFill>
                  <a:srgbClr val="096d1a"/>
                </a:solidFill>
                <a:uFillTx/>
                <a:latin typeface="Constantia"/>
              </a:rPr>
              <a:t>обычно  оканчивающуюся    гибелью героя. </a:t>
            </a: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В трагедии    действовали герои мифов, боги   и геро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ДРАМА - </a:t>
            </a:r>
            <a:r>
              <a:rPr b="1" i="1" lang="ru-RU" sz="2000" spc="-1" strike="noStrike" u="sng">
                <a:solidFill>
                  <a:srgbClr val="096d1a"/>
                </a:solidFill>
                <a:uFillTx/>
                <a:latin typeface="Constantia"/>
              </a:rPr>
              <a:t>это пьеса  с острым конфликтом, </a:t>
            </a: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который,  в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                  </a:t>
            </a:r>
            <a:r>
              <a:rPr b="1" lang="ru-RU" sz="2000" spc="-1" strike="noStrike">
                <a:solidFill>
                  <a:srgbClr val="04617b"/>
                </a:solidFill>
                <a:latin typeface="Constantia"/>
              </a:rPr>
              <a:t>отличие  от трагического, не столь возвышен   и   разрешим.  </a:t>
            </a:r>
            <a:r>
              <a:rPr b="1" i="1" lang="ru-RU" sz="2000" spc="-1" strike="noStrike" u="sng">
                <a:solidFill>
                  <a:srgbClr val="096d1a"/>
                </a:solidFill>
                <a:uFillTx/>
                <a:latin typeface="Constantia"/>
              </a:rPr>
              <a:t>Соединяет в себе    трагическое и  комическо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2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50104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d0d0d"/>
                </a:solidFill>
                <a:latin typeface="Calibri"/>
              </a:rPr>
              <a:t>ВОСПОЛНИ  ПОТЕРЯННУЮ  ИНФОРМАЦИЮ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– я  пьеса;                     2 -  я  пьес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АНР  ДРАМАТИЧЕСКОГО ПРОИЗВЕДЕНИЯ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ЗВАНИЕ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ЕЙСТВУЮЩИЕ ЛИЦА 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234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6" name="Picture 4" descr="Фото"/>
          <p:cNvPicPr/>
          <p:nvPr/>
        </p:nvPicPr>
        <p:blipFill>
          <a:blip r:embed="rId1"/>
          <a:stretch/>
        </p:blipFill>
        <p:spPr>
          <a:xfrm>
            <a:off x="714240" y="714240"/>
            <a:ext cx="7656480" cy="5829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788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– я  пьес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АНР  ДРАМАТИЧЕСКОГО ПРОИЗВЕДЕНИЯ –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ТРАГЕД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ЗВАНИЕ – 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«АНТИГОНА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ЕЙСТВУЮЩИЕ    ЛИЦА – 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Антигона , Исмена, Креонт, Прорицатель, Ведущий, Стражник, Гемо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788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я  пьес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ЖАНР  ДРАМАТИЧЕСКОГО ПРОИЗВЕДЕНИЯ –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 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КОМЕД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ЗВАНИЕ – 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« ЛЯГУШКИ 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ЕЙСТВУЮЩИЕ ЛИЦА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Эсхил, Еврипид, Дионис,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хор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Очень часто древнегреческие авторы брали сюжеты для своих  пьес  из  мифов 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2" name="Picture 3" descr="C:\Documents and Settings\user\Рабочий стол\электронный конспект\sfile_8.jpg"/>
          <p:cNvPicPr/>
          <p:nvPr/>
        </p:nvPicPr>
        <p:blipFill>
          <a:blip r:embed="rId1"/>
          <a:stretch/>
        </p:blipFill>
        <p:spPr>
          <a:xfrm>
            <a:off x="928800" y="2000160"/>
            <a:ext cx="2714400" cy="4372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C:\Documents and Settings\user\Рабочий стол\электронный конспект\sfile_7.jpg"/>
          <p:cNvPicPr/>
          <p:nvPr/>
        </p:nvPicPr>
        <p:blipFill>
          <a:blip r:embed="rId2"/>
          <a:stretch/>
        </p:blipFill>
        <p:spPr>
          <a:xfrm>
            <a:off x="4857840" y="2071800"/>
            <a:ext cx="3179520" cy="4241520"/>
          </a:xfrm>
          <a:prstGeom prst="rect">
            <a:avLst/>
          </a:prstGeom>
          <a:ln w="0">
            <a:noFill/>
          </a:ln>
        </p:spPr>
      </p:pic>
      <p:sp>
        <p:nvSpPr>
          <p:cNvPr id="274" name="Скругленный прямоугольник 6"/>
          <p:cNvSpPr/>
          <p:nvPr/>
        </p:nvSpPr>
        <p:spPr>
          <a:xfrm>
            <a:off x="642960" y="6357960"/>
            <a:ext cx="3286080" cy="5000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ельпомена – муза трагед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Скругленный прямоугольник 7"/>
          <p:cNvSpPr/>
          <p:nvPr/>
        </p:nvSpPr>
        <p:spPr>
          <a:xfrm>
            <a:off x="4714920" y="6286680"/>
            <a:ext cx="3429000" cy="5713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Талия – муза комед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52344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57120" y="285840"/>
          <a:ext cx="8329680" cy="6286320"/>
        </p:xfrm>
        <a:graphic>
          <a:graphicData uri="http://schemas.openxmlformats.org/drawingml/2006/table">
            <a:tbl>
              <a:tblPr/>
              <a:tblGrid>
                <a:gridCol w="2776680"/>
                <a:gridCol w="2776320"/>
                <a:gridCol w="2776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опросы для срав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ревнегреческий теа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овременный    теа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де происходят предст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д открытым   неб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 специальном закрытом зда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к часто происходят представления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дин раз в год, три дня подря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стоянно (регулярн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колько представлений давалось в один день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сего по пять в д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-2 спектакля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4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частники  представл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ктёры, только мужч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ктёры, мужчины и женщ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Жанры  пье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рагедии и комед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рагедии , комеди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дра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к награждают актёров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зёл, корзина с инжиром  и амфора с вином, аплодисм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плодисменты, цветы, театральные   прем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нав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278" name="Прямоугольник 4"/>
          <p:cNvSpPr/>
          <p:nvPr/>
        </p:nvSpPr>
        <p:spPr>
          <a:xfrm>
            <a:off x="6000840" y="857160"/>
            <a:ext cx="2643120" cy="571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5"/>
          <p:cNvSpPr/>
          <p:nvPr/>
        </p:nvSpPr>
        <p:spPr>
          <a:xfrm>
            <a:off x="6000840" y="1714680"/>
            <a:ext cx="264312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6"/>
          <p:cNvSpPr/>
          <p:nvPr/>
        </p:nvSpPr>
        <p:spPr>
          <a:xfrm>
            <a:off x="6000840" y="2571840"/>
            <a:ext cx="2643120" cy="5000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7"/>
          <p:cNvSpPr/>
          <p:nvPr/>
        </p:nvSpPr>
        <p:spPr>
          <a:xfrm>
            <a:off x="6000840" y="3357720"/>
            <a:ext cx="2643120" cy="5713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8"/>
          <p:cNvSpPr/>
          <p:nvPr/>
        </p:nvSpPr>
        <p:spPr>
          <a:xfrm>
            <a:off x="6000840" y="4214880"/>
            <a:ext cx="2643120" cy="6429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9"/>
          <p:cNvSpPr/>
          <p:nvPr/>
        </p:nvSpPr>
        <p:spPr>
          <a:xfrm>
            <a:off x="6000840" y="5072040"/>
            <a:ext cx="2714400" cy="8571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11"/>
          <p:cNvSpPr/>
          <p:nvPr/>
        </p:nvSpPr>
        <p:spPr>
          <a:xfrm>
            <a:off x="6000840" y="6143760"/>
            <a:ext cx="2643120" cy="357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3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3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3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3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3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3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3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3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ОПРОСЫ ДЛЯ ТЕСТА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13840" y="642960"/>
            <a:ext cx="8572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медия –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это произведение,  изображающее такие жизненные положения и характеры, которые вызывают сме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рагедия –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это произведение, изображающее борьбу, личную или общественную катастрофу, обычно оканчивающуюся гибелью геро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ьеса –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комедийное произведени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4.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РАМА -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(от греч. 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drama –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действие) - это пьеса</a:t>
            </a: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с острым конфликтом, который, в отличие от трагического, не столь возвышен и разрешим. Соединяет в себе трагическое и комическо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5.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раматическое произведение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состоит из реплик, монологов, диалогов, ремарок, актов или действий, которые могут включать в себя более мелкие составляющие – явления, эпизоды, картин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Софокл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– афинский драматург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7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ристофан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– древнегреческий комедиограф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8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ьеса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 состоит только из диалогов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9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ифирамбы </a:t>
            </a:r>
            <a:r>
              <a:rPr b="0" lang="ru-RU" sz="2400" spc="-1" strike="noStrike">
                <a:solidFill>
                  <a:srgbClr val="04617b"/>
                </a:solidFill>
                <a:latin typeface="Constantia"/>
              </a:rPr>
              <a:t>- хвалебные песн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7" name="Picture 5" descr="j0299125"/>
          <p:cNvPicPr/>
          <p:nvPr/>
        </p:nvPicPr>
        <p:blipFill>
          <a:blip r:embed="rId1"/>
          <a:stretch/>
        </p:blipFill>
        <p:spPr>
          <a:xfrm>
            <a:off x="571680" y="0"/>
            <a:ext cx="357120" cy="503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76284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21384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ДА           2.ДА      3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ДА           5.ДА        6.Д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.ДА            8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9.Д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Театр возник в Древней Греции более 2500 лет назад в честь Великих Дионисий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Picture 2" descr="C:\Documents and Settings\user\Рабочий стол\бинарка\Картинки театра\Дионис\Dionis.jpg"/>
          <p:cNvPicPr/>
          <p:nvPr/>
        </p:nvPicPr>
        <p:blipFill>
          <a:blip r:embed="rId1"/>
          <a:stretch/>
        </p:blipFill>
        <p:spPr>
          <a:xfrm>
            <a:off x="2933640" y="1935000"/>
            <a:ext cx="3276720" cy="43894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4"/>
          <p:cNvSpPr/>
          <p:nvPr/>
        </p:nvSpPr>
        <p:spPr>
          <a:xfrm>
            <a:off x="2714760" y="6396120"/>
            <a:ext cx="38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onstantia"/>
              </a:rPr>
              <a:t>Бог    Дион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МАШНЕЕ     ЗАДАНИЕ 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 любых сюжетов из истории Древней Греции  написать пьесу (комедию или трагедию) и красиво оформить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До  10  март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Сатир – спутник Дионис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2" descr="C:\Documents and Settings\user\Рабочий стол\бинарка\Картинки театра\Дионис\satir.jpg"/>
          <p:cNvPicPr/>
          <p:nvPr/>
        </p:nvPicPr>
        <p:blipFill>
          <a:blip r:embed="rId1"/>
          <a:stretch/>
        </p:blipFill>
        <p:spPr>
          <a:xfrm>
            <a:off x="1733400" y="2143080"/>
            <a:ext cx="6226200" cy="4357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45216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3" name="Содержимое 2"/>
          <p:cNvGrpSpPr/>
          <p:nvPr/>
        </p:nvGrpSpPr>
        <p:grpSpPr>
          <a:xfrm>
            <a:off x="208080" y="420840"/>
            <a:ext cx="8557920" cy="6016320"/>
            <a:chOff x="208080" y="420840"/>
            <a:chExt cx="8557920" cy="6016320"/>
          </a:xfrm>
        </p:grpSpPr>
        <p:pic>
          <p:nvPicPr>
            <p:cNvPr id="214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208080" y="420840"/>
              <a:ext cx="85579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57200" y="571680"/>
              <a:ext cx="8229600" cy="57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1100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9dd9"/>
                  </a:solidFill>
                  <a:latin typeface="Constantia"/>
                </a:rPr>
                <a:t>Дифирамбы-</a:t>
              </a:r>
              <a:r>
                <a:rPr b="0" lang="ru-RU" sz="4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0" lang="ru-RU" sz="4400" spc="-1" strike="noStrike">
                  <a:solidFill>
                    <a:srgbClr val="04617b"/>
                  </a:solidFill>
                  <a:latin typeface="Constantia"/>
                </a:rPr>
                <a:t>хвалебные песни</a:t>
              </a:r>
              <a:r>
                <a:rPr b="1" lang="ru-RU" sz="4400" spc="-1" strike="noStrike">
                  <a:solidFill>
                    <a:srgbClr val="04617b"/>
                  </a:solidFill>
                  <a:latin typeface="Constantia"/>
                </a:rPr>
                <a:t>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100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9dd9"/>
                  </a:solidFill>
                  <a:latin typeface="Constantia"/>
                </a:rPr>
                <a:t>Корифей –</a:t>
              </a:r>
              <a:r>
                <a:rPr b="0" lang="ru-RU" sz="44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i="1" lang="ru-RU" sz="4400" spc="-1" strike="noStrike" u="sng">
                  <a:solidFill>
                    <a:srgbClr val="096d1a"/>
                  </a:solidFill>
                  <a:uFillTx/>
                  <a:latin typeface="Constantia"/>
                </a:rPr>
                <a:t>предводитель сатиров</a:t>
              </a:r>
              <a:r>
                <a:rPr b="1" lang="ru-RU" sz="4400" spc="-1" strike="noStrike" u="sng">
                  <a:solidFill>
                    <a:srgbClr val="04617b"/>
                  </a:solidFill>
                  <a:uFillTx/>
                  <a:latin typeface="Constantia"/>
                </a:rPr>
                <a:t>,</a:t>
              </a:r>
              <a:r>
                <a:rPr b="0" lang="ru-RU" sz="4400" spc="-1" strike="noStrike" u="sng">
                  <a:solidFill>
                    <a:srgbClr val="04617b"/>
                  </a:solidFill>
                  <a:uFillTx/>
                  <a:latin typeface="Constantia"/>
                </a:rPr>
                <a:t> </a:t>
              </a:r>
              <a:r>
                <a:rPr b="0" lang="ru-RU" sz="4400" spc="-1" strike="noStrike">
                  <a:solidFill>
                    <a:srgbClr val="04617b"/>
                  </a:solidFill>
                  <a:latin typeface="Constantia"/>
                </a:rPr>
                <a:t>позже и главного в хоре называли корифей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1100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ЕНЬ   РОЖДЕНИЯ   ТЕАТ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7" name="Содержимое 2"/>
          <p:cNvGrpSpPr/>
          <p:nvPr/>
        </p:nvGrpSpPr>
        <p:grpSpPr>
          <a:xfrm>
            <a:off x="384120" y="1054080"/>
            <a:ext cx="8809200" cy="5627880"/>
            <a:chOff x="384120" y="1054080"/>
            <a:chExt cx="8809200" cy="5627880"/>
          </a:xfrm>
        </p:grpSpPr>
        <p:pic>
          <p:nvPicPr>
            <p:cNvPr id="218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384120" y="1054080"/>
              <a:ext cx="8809200" cy="562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457200" y="1214280"/>
              <a:ext cx="822960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равитель   Писистрат  установил трёхдневные  театральные представления   в праздник  Дионисий 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 u="sng">
                  <a:solidFill>
                    <a:srgbClr val="c00000"/>
                  </a:solidFill>
                  <a:uFillTx/>
                  <a:latin typeface="Times New Roman"/>
                  <a:ea typeface="Times New Roman"/>
                </a:rPr>
                <a:t>27 марта 534 года до н.э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Слушая рассказ – заполняй таблицу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0" y="642960"/>
          <a:ext cx="8229600" cy="5857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0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опросы  для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ревнегреческий  теа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овременный  теа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де  происходят представления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0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к часто происходят представления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колько представлений даётся в один ден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0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частники представлен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Жанры  пь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0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ак награждают  актё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анав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30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Каждый полис имел свой театр.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Он строился у подножия холма  под открытым   небом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2" descr="C:\Documents and Settings\user\Рабочий стол\бинарка\Картинки театра\image002.jpg"/>
          <p:cNvPicPr/>
          <p:nvPr/>
        </p:nvPicPr>
        <p:blipFill>
          <a:blip r:embed="rId1"/>
          <a:stretch/>
        </p:blipFill>
        <p:spPr>
          <a:xfrm>
            <a:off x="1353960" y="1935000"/>
            <a:ext cx="6436080" cy="4389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В первом ряду сидели почётные гости: жрецы Диониса, стратеги, олимпионики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Picture 2" descr="C:\Documents and Settings\user\Рабочий стол\электронный конспект\sfile_11.jpg"/>
          <p:cNvPicPr/>
          <p:nvPr/>
        </p:nvPicPr>
        <p:blipFill>
          <a:blip r:embed="rId1"/>
          <a:stretch/>
        </p:blipFill>
        <p:spPr>
          <a:xfrm>
            <a:off x="1339920" y="1935000"/>
            <a:ext cx="6464160" cy="4389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09-02-21T14:58:31Z</dcterms:modified>
  <cp:revision>45</cp:revision>
  <dc:subject/>
  <dc:title>ТЕАТР      ДРЕВНЕЙ  ГРЕЦИИ</dc:title>
</cp:coreProperties>
</file>