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C19-8F25-4EF4-8363-E02A379C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461-18C2-4AFB-BFAE-D203973A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265-ED80-413F-849B-05A456E0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B74-2EC6-4E87-B9CB-713B8C1A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019-9BA9-4A99-85EB-C8DA953C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B8F-32CF-44F3-9A79-F7FBF5DB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948-9F63-4FA2-9239-484814E0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2F9-DEDD-4B1A-BF7F-331C7654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E58-C34D-49E1-BDF5-024FA83E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768-954C-4225-833E-BEC6E58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7A9-D14F-4423-9835-FABB6660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200-7C11-47D1-B788-31ED3375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598F-A1E7-46D7-BFC4-5D0E134A9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503880" cy="446400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684360" y="1341360"/>
            <a:ext cx="316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повес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.И.Купр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3429000"/>
            <a:ext cx="23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"/>
              </a:rPr>
              <a:t>"Олес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47" name="Подзаголовок 2"/>
          <p:cNvSpPr/>
          <p:nvPr/>
        </p:nvSpPr>
        <p:spPr>
          <a:xfrm>
            <a:off x="0" y="5013360"/>
            <a:ext cx="46432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р: Раевская Е.В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БОУ Уметская СО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мбовской об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4160" y="328464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sa-in-se.com/m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960" y="3645000"/>
            <a:ext cx="34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ookvoed.ru/one_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6880" y="400536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dk-arbat.ru/book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6160" y="43657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elek.by/Pages/Move.asp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8880" y="472428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kachiivatbiistro-prog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0880" y="5084640"/>
            <a:ext cx="31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vida.ru/tvgrid/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87700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ileti-tut.ru/event/o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565360"/>
            <a:ext cx="4562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laycast.ru/view/1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6520" y="292428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kidki-i-akciy.kiev.u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6880" y="220500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ibe.ru/page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7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44500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0080" y="5445000"/>
            <a:ext cx="39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.М.Мордас.Творческая мастерская учи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Учитель»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1338000">
            <a:off x="5363640" y="1413000"/>
            <a:ext cx="2232360" cy="223200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95280" y="1611000"/>
            <a:ext cx="3600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обытия, описанные в произведении, происход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на Укра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 Белору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 средней полосе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в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2.</a:t>
            </a:r>
            <a:r>
              <a:rPr b="0" i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путник героя повести Ярмола бы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леснич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браконье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колдун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сталк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88000" y="3213000"/>
            <a:ext cx="1538280" cy="259236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710400" y="3789360"/>
            <a:ext cx="1663560" cy="251928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1482480"/>
            <a:ext cx="331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3.</a:t>
            </a:r>
            <a:r>
              <a:rPr b="0" i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Чем закончилась первая охота на зай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Богатой добы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Б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Знакомством с «колдуньям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Веселой пиру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4.</a:t>
            </a:r>
            <a:r>
              <a:rPr b="0" i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Настоящее имя Оле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Ал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ле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Ма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56000" y="1197000"/>
            <a:ext cx="2521080" cy="188100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932360" y="2924280"/>
            <a:ext cx="2664000" cy="199080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227640" y="4724280"/>
            <a:ext cx="2519640" cy="166212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148284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5.</a:t>
            </a:r>
            <a:r>
              <a:rPr b="0" i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Сколько раз встречался главный герой с Олес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2.           в)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3.           г) Был част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тем в ее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6.</a:t>
            </a:r>
            <a:r>
              <a:rPr b="0" i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Сбылось ли предсказанное на карт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Наполов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Не сбы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Получилось хуже, чем предсказыва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20925600">
            <a:off x="4716360" y="1413000"/>
            <a:ext cx="3167280" cy="237780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rot="370800">
            <a:off x="5364000" y="3933360"/>
            <a:ext cx="3024360" cy="226872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022560" cy="360036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24000" y="13176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7.</a:t>
            </a:r>
            <a:r>
              <a:rPr b="0" i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Какая беда приключилась с колдунья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отребовали их срочного вы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Забол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горел 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Затопило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8.</a:t>
            </a:r>
            <a:r>
              <a:rPr b="0" i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Как звали местного уряд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ван Тимофее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Евпсихий Африкано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Андрей Аполлоно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Владимир Владимиро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1342800"/>
            <a:ext cx="411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9.</a:t>
            </a:r>
            <a:r>
              <a:rPr b="0" i="1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Как сложились отношения главного героя с Олесей после оказанной колдуньям «помощ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ереросли в пылкий ром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тали сдержанными и прохлад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екратились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Завершились венч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10. Какая   неприятность  случилась  с  главным  героем ближе к развязке произвед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Заболел полесской лихорад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Занемог от колдо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ыл приворо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отерялся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3959280" cy="297036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1492200"/>
            <a:ext cx="3717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11.</a:t>
            </a:r>
            <a:r>
              <a:rPr b="0" i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Сумели ли познать герои настоящую любов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Не в полной м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Даже намека на это не 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12.</a:t>
            </a:r>
            <a:r>
              <a:rPr b="0" i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На   какой  безрассудный   поступок  толкнула  любовь Олес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На самоуби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На гуляния в ночном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На опасное колдов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На посещение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0" r="0" b="12634"/>
          <a:stretch/>
        </p:blipFill>
        <p:spPr>
          <a:xfrm>
            <a:off x="4859280" y="1844640"/>
            <a:ext cx="3406680" cy="446400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920" y="1264320"/>
            <a:ext cx="406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13. Чем заканчивается произвед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Свадь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мертью главных гер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Разл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еследованием переброд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14. Данное произвед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является автобиографическ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основано частично на реальных факт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реалистично лишь в описании природы тех мест, где происходят собы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является перев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15. По жанру это произведе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ром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новел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расск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ов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2928960" cy="439272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2205000"/>
            <a:ext cx="3240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б.2б.3в. 4а. 5г. 6а. 7а. 8б. 9б. 10а. 11а. 12г. 13в. 14в. 1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16:17:59Z</dcterms:created>
  <dc:creator>user</dc:creator>
  <dc:description/>
  <dc:language>en-US</dc:language>
  <cp:lastModifiedBy>user</cp:lastModifiedBy>
  <dcterms:modified xsi:type="dcterms:W3CDTF">2013-03-29T17:06:32Z</dcterms:modified>
  <cp:revision>3</cp:revision>
  <dc:subject/>
  <dc:title>Слайд 1</dc:title>
</cp:coreProperties>
</file>