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3B5-5087-4B4A-BB81-CD8DC6CFD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617-0D81-49B2-B88D-86D7F192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A6E-183C-4B33-8F16-97A440E32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01D-22F5-4A9C-BCB8-89DE974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63E-83C2-4162-A0AC-90AB9E51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AD9-574F-47E6-94EF-DABB11B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786-2588-4B96-BC3B-F57553A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688-DFAF-4BAB-9C34-3F543B3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E60-00CD-48C8-AC6E-6F7BCC71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9C6-BD36-49D0-ADED-F2FFEB3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83D-9FA8-426F-B899-049DBD88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90D-145A-4E90-9301-C7C8815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660-988E-4E5C-815D-851846AD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503880" cy="4464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45" name=""/>
          <p:cNvSpPr txBox="1"/>
          <p:nvPr/>
        </p:nvSpPr>
        <p:spPr>
          <a:xfrm>
            <a:off x="684360" y="1341360"/>
            <a:ext cx="3168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с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повест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.И.Куп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16000" y="3429000"/>
            <a:ext cx="23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3500000"/>
                </a:gradFill>
                <a:latin typeface="Arial"/>
              </a:rPr>
              <a:t>"Олес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0" y="5013360"/>
            <a:ext cx="4643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Раевская Е.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 Уметская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мбов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4160" y="3284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cosa-in-se.com/m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960" y="364500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bookvoed.ru/one_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6880" y="400536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dk-arbat.ru/book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6160" y="43657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telek.by/Pages/Move.as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8880" y="472428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kachiivatbiistro-prog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0880" y="50846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vida.ru/tvgrid/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87700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ileti-tut.ru/event/o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565360"/>
            <a:ext cx="4562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laycast.ru/view/12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6520" y="292428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kidki-i-akciy.kiev.u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20500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bibe.ru/page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7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5445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0080" y="5445000"/>
            <a:ext cx="39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.М.Мордас.Творческая мастерская учи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читель»-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1338000">
            <a:off x="5363640" y="1413000"/>
            <a:ext cx="2232360" cy="2232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1611000"/>
            <a:ext cx="360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обытия, описанные в произведении, происход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на Украи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 Белору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 средней полосе Ро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2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Спутник героя повести Ярмола бы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лесничи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раконьер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колдун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сталк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1538280" cy="2592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710400" y="3789360"/>
            <a:ext cx="1663560" cy="251928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1482480"/>
            <a:ext cx="3311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Чем закончилась первая охота на за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огатой добыч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Б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Знакомством с «колдунья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еселой пир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4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Настоящее имя Оле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Але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ле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Ма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56000" y="1197000"/>
            <a:ext cx="2521080" cy="1881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932360" y="2924280"/>
            <a:ext cx="2664000" cy="19908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27640" y="4724280"/>
            <a:ext cx="2519640" cy="16621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1482840"/>
            <a:ext cx="381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5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колько раз встречался главный герой с Олес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2.           в)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3.           г) Был част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стем в ее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6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былось ли предсказанное на кар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аполов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е сбы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Получилось хуже, чем предсказыва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925600">
            <a:off x="4716360" y="1413000"/>
            <a:ext cx="3167280" cy="23778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370800">
            <a:off x="5364000" y="3933360"/>
            <a:ext cx="3024360" cy="22687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022560" cy="3600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24000" y="13176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7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ая беда приключилась с колдунь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отребовали их срочного вы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бол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Сгорел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Затопило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8.</a:t>
            </a:r>
            <a:r>
              <a:rPr b="0" i="1" lang="ru-RU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 звали местного уряд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ван Тимофее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впсихий Африкан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Андрей Аполлон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Владимир Владимиров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79280" y="1342800"/>
            <a:ext cx="411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9.</a:t>
            </a:r>
            <a:r>
              <a:rPr b="0" i="1" lang="ru-RU" sz="1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Как сложились отношения главного героя с Олесей после оказанной колдуньям «помощ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Переросли в пылкий ром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тали сдержанными и прохлад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Прекратились вооб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Завершились венч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0. Какая   неприятность  случилась  с  главным  героем ближе к развязке произве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Заболел полесской лихорад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Занемог от колдов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Был приворож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терялся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3959280" cy="297036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1492200"/>
            <a:ext cx="3717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11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Сумели ли познать герои настоящую любов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е в полной м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Даже намека на это не бы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12.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9900cc"/>
                </a:solidFill>
                <a:latin typeface="Arial"/>
              </a:rPr>
              <a:t>На   какой  безрассудный   поступок  толкнула  любовь Олес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На самоуби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На гуляния в ночном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) На опасное колд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) На посещение церк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0" t="0" r="0" b="12634"/>
          <a:stretch/>
        </p:blipFill>
        <p:spPr>
          <a:xfrm>
            <a:off x="4859280" y="1844640"/>
            <a:ext cx="3406680" cy="446400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0920" y="1264320"/>
            <a:ext cx="406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3. Чем заканчивается произ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Свадь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мертью главных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азл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реследованием переброд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4. Данное произвед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является автобиографическ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основано частично на реальных факт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еалистично лишь в описании природы тех мест, где происходят собы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является перево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cc"/>
                </a:solidFill>
                <a:latin typeface="Arial"/>
              </a:rPr>
              <a:t>15. По жанру это произведение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ром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новел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расска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пов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2928960" cy="4392720"/>
          </a:xfrm>
          <a:prstGeom prst="rect">
            <a:avLst/>
          </a:prstGeom>
          <a:ln w="28440">
            <a:solidFill>
              <a:srgbClr val="99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5906" t="0" r="1951" b="12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2205000"/>
            <a:ext cx="3240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б.2б.3в. 4а. 5г. 6а. 7а. 8б. 9б. 10а. 11а. 12г. 13в. 14в. 15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16:17:59Z</dcterms:created>
  <dc:creator>user</dc:creator>
  <dc:description/>
  <dc:language>en-US</dc:language>
  <cp:lastModifiedBy>user</cp:lastModifiedBy>
  <dcterms:modified xsi:type="dcterms:W3CDTF">2013-03-29T17:06:32Z</dcterms:modified>
  <cp:revision>3</cp:revision>
  <dc:subject/>
  <dc:title>Слайд 1</dc:title>
</cp:coreProperties>
</file>