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wmf" ContentType="image/x-wmf"/>
  <Override PartName="/ppt/media/image27.jpeg" ContentType="image/jpeg"/>
  <Override PartName="/ppt/media/image12.jpeg" ContentType="image/jpeg"/>
  <Override PartName="/ppt/media/image7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23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1.wmf" ContentType="image/x-wmf"/>
  <Override PartName="/ppt/media/image19.wmf" ContentType="image/x-wmf"/>
  <Override PartName="/ppt/media/image28.gif" ContentType="image/gif"/>
  <Override PartName="/ppt/media/image14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3282-02FA-4852-9185-0A221E0B8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5337-3D49-4CD6-85C0-73F85C1A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A3F0-5031-4BFB-B052-37C40D0D4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5FF7-0DB9-4F65-BFEC-F20558F3B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124D-D4E2-4FBC-9949-BC995BC7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400B-FD4D-42D7-83A5-02512403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8D8E-0F16-4D01-978B-0D59C379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40EE-F64A-4B67-B6EC-5F8D2977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BD69-BE59-4415-8888-17A49ED5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D241-FEEE-4E75-87AB-847D5421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51FF-C355-47C1-A339-B943D33C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14FE-93C2-4DE0-8F61-CCB89F76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66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ACA78-B004-47B7-B2F5-8764E2584560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4200" y="2421000"/>
            <a:ext cx="70578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i="1" lang="en-US" sz="6000" spc="-1" strike="noStrike">
                <a:solidFill>
                  <a:srgbClr val="0000ff"/>
                </a:solidFill>
                <a:latin typeface="Arial"/>
              </a:rPr>
              <a:t>«Решение задач </a:t>
            </a:r>
            <a:br>
              <a:rPr sz="6000"/>
            </a:br>
            <a:r>
              <a:rPr b="1" i="1" lang="en-US" sz="6000" spc="-1" strike="noStrike">
                <a:solidFill>
                  <a:srgbClr val="0000ff"/>
                </a:solidFill>
                <a:latin typeface="Arial"/>
              </a:rPr>
              <a:t>части В»</a:t>
            </a:r>
            <a:br>
              <a:rPr sz="6000"/>
            </a:br>
            <a:r>
              <a:rPr b="1" i="1" lang="en-US" sz="6000" spc="-1" strike="noStrike">
                <a:solidFill>
                  <a:srgbClr val="0000ff"/>
                </a:solidFill>
                <a:latin typeface="Arial"/>
              </a:rPr>
              <a:t>(В1, В4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59280" y="54936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Тема занят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7236000" y="4653000"/>
          <a:ext cx="1523880" cy="162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6000" y="4653000"/>
                    <a:ext cx="152388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57200" y="1841400"/>
            <a:ext cx="6670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1)  6 </a:t>
            </a:r>
            <a:r>
              <a:rPr b="1" lang="en-US" sz="2800" spc="-1" strike="noStrike">
                <a:solidFill>
                  <a:srgbClr val="009999"/>
                </a:solidFill>
                <a:latin typeface="Symbol"/>
                <a:ea typeface="Symbol"/>
              </a:rPr>
              <a:t>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16 = 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2) 96 : 10 = 9,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9,6 округляем 10, так как пакетик  в магазине не делится на ча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Ответ: 10 пакет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16360" y="4581360"/>
            <a:ext cx="6476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64000" y="4581360"/>
            <a:ext cx="6476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11640" y="4581360"/>
            <a:ext cx="6476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59280" y="4581360"/>
            <a:ext cx="6476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Задача (в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128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009999"/>
                </a:solidFill>
                <a:latin typeface="Arial"/>
              </a:rPr>
              <a:t>Тетрадь стоит 40 рублей. Какое наибольшее количество тетрадей можно купить на 550 рублей после понижения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9999"/>
                </a:solidFill>
                <a:latin typeface="Arial"/>
              </a:rPr>
              <a:t>цены на 15%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203640" y="4075200"/>
            <a:ext cx="3097080" cy="195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47640" y="1915920"/>
            <a:ext cx="777744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1) 15% = 0,1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2) 40 </a:t>
            </a:r>
            <a:r>
              <a:rPr b="1" lang="en-US" sz="2600" spc="-1" strike="noStrike">
                <a:solidFill>
                  <a:srgbClr val="009999"/>
                </a:solidFill>
                <a:latin typeface="Symbol"/>
                <a:ea typeface="Symbol"/>
              </a:rPr>
              <a:t>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0,15 = 6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3) 40 – 6 =  3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4) 550 : 34 = 275 : 17 = 16,176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Ответ: 16 тетрад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0360" y="4724280"/>
            <a:ext cx="71928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19640" y="4724280"/>
            <a:ext cx="71892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40360" y="4724280"/>
            <a:ext cx="64764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88000" y="4724280"/>
            <a:ext cx="64764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 rot="21266400">
            <a:off x="6353280" y="4448160"/>
            <a:ext cx="1208160" cy="1576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 rot="1328400">
            <a:off x="7149960" y="4549320"/>
            <a:ext cx="1208160" cy="157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Задача (в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6000" y="1267920"/>
            <a:ext cx="741672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Железнодорожный билет для взрослого стоит 530 рублей. Стоимость билета школьника составляет 50% от стоимости билета для взрослого. В группе 14 школьников и 3 взрослых. Сколько рублей стоят билеты на всю групп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771640" y="4579920"/>
            <a:ext cx="4176720" cy="20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816200" y="1701360"/>
            <a:ext cx="563544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1) 530 </a:t>
            </a:r>
            <a:r>
              <a:rPr b="1" lang="en-US" sz="2600" spc="-1" strike="noStrike">
                <a:solidFill>
                  <a:srgbClr val="009999"/>
                </a:solidFill>
                <a:latin typeface="Symbol"/>
                <a:ea typeface="Symbol"/>
              </a:rPr>
              <a:t>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3 = 159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2) 50% = 0,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3) 530 </a:t>
            </a:r>
            <a:r>
              <a:rPr b="1" lang="en-US" sz="2600" spc="-1" strike="noStrike">
                <a:solidFill>
                  <a:srgbClr val="009999"/>
                </a:solidFill>
                <a:latin typeface="Symbol"/>
                <a:ea typeface="Symbol"/>
              </a:rPr>
              <a:t>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0,5 = 26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4) 265 </a:t>
            </a:r>
            <a:r>
              <a:rPr b="1" lang="en-US" sz="2600" spc="-1" strike="noStrike">
                <a:solidFill>
                  <a:srgbClr val="009999"/>
                </a:solidFill>
                <a:latin typeface="Symbol"/>
                <a:ea typeface="Symbol"/>
              </a:rPr>
              <a:t>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14 = 37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5) 1590 + 3710 = 53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Ответ: 5300 рубл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16360" y="4867200"/>
            <a:ext cx="79200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08360" y="4867200"/>
            <a:ext cx="79236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92720" y="4869000"/>
            <a:ext cx="79200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00720" y="4867200"/>
            <a:ext cx="79200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156360" y="4797360"/>
            <a:ext cx="2448000" cy="176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Задача (в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6920" y="1268280"/>
            <a:ext cx="719964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9999"/>
                </a:solidFill>
                <a:latin typeface="Arial"/>
              </a:rPr>
              <a:t>Цена на электрический чайник была повышена на 22% и составила 1830 рублей. Сколько рублей стоил товар до повышения цены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                          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=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%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rcRect l="6096" t="0" r="8471" b="0"/>
          <a:stretch/>
        </p:blipFill>
        <p:spPr>
          <a:xfrm>
            <a:off x="1258920" y="4076640"/>
            <a:ext cx="3025800" cy="2185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rcRect l="11976" t="0" r="10458" b="0"/>
          <a:stretch/>
        </p:blipFill>
        <p:spPr>
          <a:xfrm>
            <a:off x="6084720" y="4437000"/>
            <a:ext cx="1872000" cy="149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58920" y="1628280"/>
            <a:ext cx="75340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       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1830 руб. - 10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           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х руб.    -  78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100 </a:t>
            </a:r>
            <a:r>
              <a:rPr b="1" lang="en-US" sz="2600" spc="-1" strike="noStrike">
                <a:solidFill>
                  <a:srgbClr val="009999"/>
                </a:solidFill>
                <a:latin typeface="Symbol"/>
                <a:ea typeface="Symbol"/>
              </a:rPr>
              <a:t>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х = 1830 </a:t>
            </a:r>
            <a:r>
              <a:rPr b="1" lang="en-US" sz="2600" spc="-1" strike="noStrike">
                <a:solidFill>
                  <a:srgbClr val="009999"/>
                </a:solidFill>
                <a:latin typeface="Symbol"/>
                <a:ea typeface="Symbol"/>
              </a:rPr>
              <a:t>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78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х = 142740 : 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х = 1427,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1427,4 округляем до 1427, так как речь идет о рубля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Ответ: 1427 рублей стоил товар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87640" y="551808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08360" y="551808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48360" y="551808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27640" y="551808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948360" y="5013360"/>
            <a:ext cx="1708200" cy="1716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050920" y="1773360"/>
            <a:ext cx="0" cy="79200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03640" y="1773360"/>
            <a:ext cx="0" cy="79200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1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58920" y="1628280"/>
            <a:ext cx="75340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       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1830 руб. - 122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           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х руб.    - 10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122 </a:t>
            </a:r>
            <a:r>
              <a:rPr b="1" lang="en-US" sz="2600" spc="-1" strike="noStrike">
                <a:solidFill>
                  <a:srgbClr val="009999"/>
                </a:solidFill>
                <a:latin typeface="Symbol"/>
                <a:ea typeface="Symbol"/>
              </a:rPr>
              <a:t>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х = 1830 </a:t>
            </a:r>
            <a:r>
              <a:rPr b="1" lang="en-US" sz="2600" spc="-1" strike="noStrike">
                <a:solidFill>
                  <a:srgbClr val="009999"/>
                </a:solidFill>
                <a:latin typeface="Symbol"/>
                <a:ea typeface="Symbol"/>
              </a:rPr>
              <a:t>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100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х = 183000 : 12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х = 15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Ответ: 1500 рублей стоил товар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87640" y="537372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08360" y="537372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48360" y="537372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27640" y="537372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948360" y="5013360"/>
            <a:ext cx="1708200" cy="1716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050920" y="1773360"/>
            <a:ext cx="0" cy="79200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03640" y="1773360"/>
            <a:ext cx="0" cy="79200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Задача (в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71640" y="1484280"/>
            <a:ext cx="74167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В супермаркете проходит рекламная акция: покупая 3 шоколадки, 4-ю шоколадку покупатель получает в подарок. Шоколадка стоит 25 рублей.  Какое наибольшее число шоколадок получит покупатель за 230 рубл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170160" y="4413240"/>
            <a:ext cx="3057480" cy="204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87040" y="311040"/>
            <a:ext cx="67597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18920" y="1773000"/>
            <a:ext cx="6481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1) 230 : 25 = 9,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9,2 округляем до 9, так как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продукты не делятся на ча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2) 9 : 3 =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3) 9 + 3 = 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Ответ: 12 шоколадок получи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покупател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27280" y="515772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88000" y="515772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348000" y="515772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067280" y="515772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724360" y="4581360"/>
            <a:ext cx="3124440" cy="204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1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10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6560" y="71280"/>
            <a:ext cx="758052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Схема решения практико-ориентированных зада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80560" y="1699920"/>
            <a:ext cx="7939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Прочитать задач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обдумать метод ре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Решить задач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Проверить решение на соответствие реальным услови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Записать ответ ( он может быть выражен целым числом или десятичной дробью с ограниченным количеством     десятичных знаков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6732720" y="4869000"/>
            <a:ext cx="2112840" cy="184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Задача (в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6920" y="1816200"/>
            <a:ext cx="698508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Футболка стоила 800 рублей. После снижения цены она стала стоить 680 рублей. На сколько процентов была снижена цена на футболк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637080" y="4149720"/>
            <a:ext cx="2447640" cy="23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18920" y="1601280"/>
            <a:ext cx="6499080" cy="41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800 рублей - 10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            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680 рублей  -   х 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1) 800х = 680 </a:t>
            </a:r>
            <a:r>
              <a:rPr b="1" lang="en-US" sz="2600" spc="-1" strike="noStrike">
                <a:solidFill>
                  <a:srgbClr val="009999"/>
                </a:solidFill>
                <a:latin typeface="Symbol"/>
                <a:ea typeface="Symbol"/>
              </a:rPr>
              <a:t>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     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Х = (680 </a:t>
            </a:r>
            <a:r>
              <a:rPr b="1" lang="en-US" sz="2600" spc="-1" strike="noStrike">
                <a:solidFill>
                  <a:srgbClr val="009999"/>
                </a:solidFill>
                <a:latin typeface="Symbol"/>
                <a:ea typeface="Symbol"/>
              </a:rPr>
              <a:t>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100) : 8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     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Х = 85 (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2)  100% - 85% = 15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Ответ: на 15% была снижена цена на футболк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16360" y="5734080"/>
            <a:ext cx="7189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35280" y="5734080"/>
            <a:ext cx="71928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56000" y="5734080"/>
            <a:ext cx="71928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76720" y="5734080"/>
            <a:ext cx="71928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00360" y="1773360"/>
            <a:ext cx="0" cy="8650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56360" y="1773360"/>
            <a:ext cx="0" cy="8650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1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10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827360" y="275760"/>
            <a:ext cx="67672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Задача (в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5640" y="836280"/>
            <a:ext cx="7343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Интернет-провайдер (компания, оказывающая услуги по подключению к сети Интернет) предлагает три тарифных плана. Пользователь планирует, что его трафик составит 570Мб и, исходя из этого выбирает наиболее дешевый тарифный план. Сколько рублей заплатит пользователь за месяц , если его трафик действительно будет  равен 570Мб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258920" y="3789360"/>
          <a:ext cx="6427800" cy="2879280"/>
        </p:xfrm>
        <a:graphic>
          <a:graphicData uri="http://schemas.openxmlformats.org/drawingml/2006/table">
            <a:tbl>
              <a:tblPr/>
              <a:tblGrid>
                <a:gridCol w="2142360"/>
                <a:gridCol w="2142720"/>
                <a:gridCol w="214272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арифный пл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бонентская пл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та за траф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План «0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5 рубля за 1М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План «500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0 р. за 500Мб трафика в меся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руб. за 1Мб сверх 500М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План «800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0 р. за 800Мб трафика в меся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 руб. за 1Мб сверх 800М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76000" y="1628280"/>
            <a:ext cx="67057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Arial"/>
              </a:rPr>
              <a:t>а)</a:t>
            </a:r>
            <a:r>
              <a:rPr b="0" lang="en-US" sz="2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6600"/>
                </a:solidFill>
                <a:latin typeface="Arial"/>
              </a:rPr>
              <a:t>570 </a:t>
            </a:r>
            <a:r>
              <a:rPr b="1" lang="en-US" sz="2600" spc="-1" strike="noStrike">
                <a:solidFill>
                  <a:srgbClr val="006600"/>
                </a:solidFill>
                <a:latin typeface="Symbol"/>
                <a:ea typeface="Symbol"/>
              </a:rPr>
              <a:t></a:t>
            </a:r>
            <a:r>
              <a:rPr b="1" lang="en-US" sz="2600" spc="-1" strike="noStrike">
                <a:solidFill>
                  <a:srgbClr val="006600"/>
                </a:solidFill>
                <a:latin typeface="Arial"/>
              </a:rPr>
              <a:t> 2,5 =1425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006600"/>
                </a:solidFill>
                <a:latin typeface="Arial"/>
              </a:rPr>
              <a:t>(рублей по плану «0»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б) 550 + 2 </a:t>
            </a:r>
            <a:r>
              <a:rPr b="1" lang="en-US" sz="2600" spc="-1" strike="noStrike">
                <a:solidFill>
                  <a:srgbClr val="0000ff"/>
                </a:solidFill>
                <a:latin typeface="Symbol"/>
                <a:ea typeface="Symbol"/>
              </a:rPr>
              <a:t>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70 = 550 + 140 = 690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(рублей по плану «500»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Arial"/>
              </a:rPr>
              <a:t>в) 700 рублей план «800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006600"/>
                </a:solidFill>
                <a:latin typeface="Arial"/>
              </a:rPr>
              <a:t>Ответ: 690 рублей заплатит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en-US" sz="2600" spc="-1" strike="noStrike">
                <a:solidFill>
                  <a:srgbClr val="006600"/>
                </a:solidFill>
                <a:latin typeface="Arial"/>
              </a:rPr>
              <a:t>пользователь за  месяц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40360" y="508644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59280" y="508644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19640" y="508644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00360" y="508644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372360" y="4869000"/>
            <a:ext cx="2376360" cy="169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1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10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10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Задача (в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42560" y="1123560"/>
            <a:ext cx="7489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Для транспортировки 45 тонн груза на 130 км можно использовать одного из трёх перевозчиков. Причем у каждого из них своя грузоподъемность используемых автомобилей. Сколько рублей придется заплатить за самую дешевую перевозку за один рейс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476360" y="3762360"/>
          <a:ext cx="6121440" cy="2835000"/>
        </p:xfrm>
        <a:graphic>
          <a:graphicData uri="http://schemas.openxmlformats.org/drawingml/2006/table">
            <a:tbl>
              <a:tblPr/>
              <a:tblGrid>
                <a:gridCol w="1584360"/>
                <a:gridCol w="2376360"/>
                <a:gridCol w="2160720"/>
              </a:tblGrid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еревозч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оимость перевозки одним автомобил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руб. на 100 к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рузоподъём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втомоби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00 рубл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0 рубл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00 рубл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23640" y="1555920"/>
            <a:ext cx="8101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а) 45 : 3,5 = 12,857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12,857 округляем до13 (целое число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3200 </a:t>
            </a:r>
            <a:r>
              <a:rPr b="1" lang="en-US" sz="2300" spc="-1" strike="noStrike">
                <a:solidFill>
                  <a:srgbClr val="009999"/>
                </a:solidFill>
                <a:latin typeface="Symbol"/>
                <a:ea typeface="Symbol"/>
              </a:rPr>
              <a:t></a:t>
            </a: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 13 = 4160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41600 </a:t>
            </a:r>
            <a:r>
              <a:rPr b="1" lang="en-US" sz="2300" spc="-1" strike="noStrike">
                <a:solidFill>
                  <a:srgbClr val="009999"/>
                </a:solidFill>
                <a:latin typeface="Symbol"/>
                <a:ea typeface="Symbol"/>
              </a:rPr>
              <a:t></a:t>
            </a: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 1,3 = 54080 (руб. - перевозчик А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б) 45 : 5 = 9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4100 </a:t>
            </a:r>
            <a:r>
              <a:rPr b="1" lang="en-US" sz="2300" spc="-1" strike="noStrike">
                <a:solidFill>
                  <a:srgbClr val="009999"/>
                </a:solidFill>
                <a:latin typeface="Symbol"/>
                <a:ea typeface="Symbol"/>
              </a:rPr>
              <a:t></a:t>
            </a: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9 = 3690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36900 </a:t>
            </a:r>
            <a:r>
              <a:rPr b="1" lang="en-US" sz="2300" spc="-1" strike="noStrike">
                <a:solidFill>
                  <a:srgbClr val="009999"/>
                </a:solidFill>
                <a:latin typeface="Symbol"/>
                <a:ea typeface="Symbol"/>
              </a:rPr>
              <a:t>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1,3 = 47970 (руб. - перевозчик Б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в) 45 : 12 = 3,7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3,75 округляем до 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9500 </a:t>
            </a:r>
            <a:r>
              <a:rPr b="1" lang="en-US" sz="2300" spc="-1" strike="noStrike">
                <a:solidFill>
                  <a:srgbClr val="009999"/>
                </a:solidFill>
                <a:latin typeface="Symbol"/>
                <a:ea typeface="Symbol"/>
              </a:rPr>
              <a:t></a:t>
            </a: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 4 = 3800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38000 </a:t>
            </a:r>
            <a:r>
              <a:rPr b="1" lang="en-US" sz="2300" spc="-1" strike="noStrike">
                <a:solidFill>
                  <a:srgbClr val="009999"/>
                </a:solidFill>
                <a:latin typeface="Symbol"/>
                <a:ea typeface="Symbol"/>
              </a:rPr>
              <a:t></a:t>
            </a: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 1,3 = 49400 (руб. - перевозчик В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Ответ: 47970 рублей – самая дешевая перевозка (перевозчик Б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101080" y="595008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80360" y="595008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659640" y="595008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595008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19640" y="595008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00720" y="595008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1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10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10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10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10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100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1000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1000"/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Проверь себя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48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Задача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Больному прописано лекарство, которое нужно пить по 0,25г 3 раза в день в течении 18 дней. Лекарство продаётся в упаковках по 8 таблеток по 0,25г. Какое наименьшее количество упаковок хватит на весь курс леч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Задача №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Для приготовления маринада для огурцов на 1 литр воды требуется 18г лимонной кислоты. Хозяйка готовит 7 литров маринада. В магазине продается пакетик лимонной  кислоты по10г. Какое наименьшее число пакетиков нужно купить хозяйке для приготовления марина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87040" y="311040"/>
            <a:ext cx="675972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Проверь себя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76000" y="1125360"/>
            <a:ext cx="720108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Задача №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en-US" sz="2700" spc="-1" strike="noStrike">
                <a:solidFill>
                  <a:srgbClr val="006600"/>
                </a:solidFill>
                <a:latin typeface="Arial"/>
              </a:rPr>
              <a:t>Флакон шампуня стоит 160 рублей. Какое наибольшее число флаконов   можно купить на 700 рублей во время распродажи, когда скидка составляет 35%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Задача №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2700" spc="-1" strike="noStrike">
                <a:solidFill>
                  <a:srgbClr val="006600"/>
                </a:solidFill>
                <a:latin typeface="Arial"/>
              </a:rPr>
              <a:t>В супермаркете проходит рекламная акция: покупая 2 шоколадки, 3-ю шоколадку покупатель получает в подарок. Шоколадка стоит 30 рублей.  Какое наибольшее число шоколадок получит покупатель за 500 рублей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1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15520" y="274320"/>
            <a:ext cx="8170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Проверь себя!!!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76000" y="763200"/>
            <a:ext cx="67150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Задача №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Для остекления веранды требуется заказать 28 одинаковых стекол в одной из трёх фирм. Площадь каждого стекла 0,25 кв.м. В таблице приведены цены на стекло, а также на резку стекол и шлифовку края. Сколько рублей нужно заплатить за самый выгодный заказ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979640" y="4005360"/>
          <a:ext cx="6121440" cy="2725560"/>
        </p:xfrm>
        <a:graphic>
          <a:graphicData uri="http://schemas.openxmlformats.org/drawingml/2006/table">
            <a:tbl>
              <a:tblPr/>
              <a:tblGrid>
                <a:gridCol w="1211400"/>
                <a:gridCol w="2690640"/>
                <a:gridCol w="22194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ир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оимость стекла (руб. за 1 кв.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зка и шлифовка (руб. за одно стекло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76360" y="115920"/>
            <a:ext cx="590544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Проверь себя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195640" y="1052640"/>
            <a:ext cx="55432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9999"/>
                </a:solidFill>
                <a:latin typeface="Arial"/>
              </a:rPr>
              <a:t>Ответ №1: 7 упаково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9999"/>
                </a:solidFill>
                <a:latin typeface="Arial"/>
              </a:rPr>
              <a:t>Ответ №2: 13 упаково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9999"/>
                </a:solidFill>
                <a:latin typeface="Arial"/>
              </a:rPr>
              <a:t>Ответ №3: 6 флакон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9999"/>
                </a:solidFill>
                <a:latin typeface="Arial"/>
              </a:rPr>
              <a:t>Ответ №4: 24 шоколадк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9999"/>
                </a:solidFill>
                <a:latin typeface="Arial"/>
              </a:rPr>
              <a:t>Ответ №4: 3465 рублей в фирме 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24360" y="263700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03640" y="263700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84360" y="263700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43280" y="263700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43280" y="148428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24360" y="148428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03640" y="148428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148428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16360" y="378936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95640" y="378936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378936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56000" y="378936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6360" y="4941720"/>
            <a:ext cx="720720" cy="6480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95640" y="4941720"/>
            <a:ext cx="720720" cy="6480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4941720"/>
            <a:ext cx="720720" cy="6480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56000" y="4941720"/>
            <a:ext cx="720720" cy="6480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716360" y="609300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95640" y="609300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76720" y="609300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56000" y="609300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1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10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1000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1000"/>
                                        <p:tgtEl>
                                          <p:spTgt spid="1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Задача (в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34364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Аня купила месячный проездной билет на автобус. За месяц она сделала 44 поездки. Сколько рублей она сэкономила, если проездной билет стоит 600рублей, а разовая поездка 20 рубл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700360" y="4292640"/>
            <a:ext cx="453708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55640" y="228240"/>
            <a:ext cx="730872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Схема решения заданий части 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63280" y="1844640"/>
            <a:ext cx="6481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олучило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да                     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 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снова дерз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484360" y="1341360"/>
            <a:ext cx="4248360" cy="517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>
                    <a:alpha val="73000"/>
                  </a:srgbClr>
                </a:solidFill>
                <a:latin typeface="Times New Roman"/>
              </a:rPr>
              <a:t>Дерзай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>
                  <a:alpha val="73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763640" y="2205000"/>
            <a:ext cx="5761080" cy="936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>
                    <a:alpha val="74000"/>
                  </a:srgbClr>
                </a:solidFill>
                <a:latin typeface="Times New Roman"/>
              </a:rPr>
              <a:t>У тебя всё получится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>
                  <a:alpha val="74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1552200">
            <a:off x="3563640" y="3789360"/>
            <a:ext cx="431640" cy="503280"/>
          </a:xfrm>
          <a:prstGeom prst="downArrow">
            <a:avLst>
              <a:gd name="adj1" fmla="val 50000"/>
              <a:gd name="adj2" fmla="val 29149"/>
            </a:avLst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20226600">
            <a:off x="5795640" y="3789000"/>
            <a:ext cx="431640" cy="503280"/>
          </a:xfrm>
          <a:prstGeom prst="downArrow">
            <a:avLst>
              <a:gd name="adj1" fmla="val 50000"/>
              <a:gd name="adj2" fmla="val 29149"/>
            </a:avLst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940360" y="4724280"/>
            <a:ext cx="432000" cy="503280"/>
          </a:xfrm>
          <a:prstGeom prst="downArrow">
            <a:avLst>
              <a:gd name="adj1" fmla="val 50000"/>
              <a:gd name="adj2" fmla="val 29125"/>
            </a:avLst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2411280" y="4724280"/>
            <a:ext cx="1873440" cy="201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050920" y="620640"/>
            <a:ext cx="540072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ff"/>
                </a:solidFill>
                <a:latin typeface="Arial"/>
              </a:rPr>
              <a:t>До новых задач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835280" y="2168640"/>
            <a:ext cx="6192720" cy="38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92360" y="1773360"/>
            <a:ext cx="652608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9999"/>
                </a:solidFill>
                <a:latin typeface="Arial"/>
              </a:rPr>
              <a:t>1) 44 </a:t>
            </a:r>
            <a:r>
              <a:rPr b="1" lang="en-US" sz="2500" spc="-1" strike="noStrike">
                <a:solidFill>
                  <a:srgbClr val="009999"/>
                </a:solidFill>
                <a:latin typeface="Symbol"/>
                <a:ea typeface="Symbol"/>
              </a:rPr>
              <a:t></a:t>
            </a:r>
            <a:r>
              <a:rPr b="1" lang="en-US" sz="2500" spc="-1" strike="noStrike">
                <a:solidFill>
                  <a:srgbClr val="009999"/>
                </a:solidFill>
                <a:latin typeface="Arial"/>
              </a:rPr>
              <a:t> 20 = 88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9999"/>
                </a:solidFill>
                <a:latin typeface="Arial"/>
              </a:rPr>
              <a:t>2) 880 – 600 = 28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9999"/>
                </a:solidFill>
                <a:latin typeface="Arial"/>
              </a:rPr>
              <a:t>Ответ: 280 рублей сэкономила Ан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59280" y="364500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40360" y="364500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19640" y="364500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00360" y="364500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rcRect l="8079" t="6916" r="10502" b="3418"/>
          <a:stretch/>
        </p:blipFill>
        <p:spPr>
          <a:xfrm>
            <a:off x="6300720" y="3860640"/>
            <a:ext cx="1827360" cy="23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Задача (в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7561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Теплоход рассчитан на 600 пассажиров и 20 членов команды. Каждая спасательная шлюпка может вместить 80 человек. Какое наименьшее число шлюпок должно быть на теплоходе, чтобы при необходимости в них можно было разместить всех пассажиров и всех членов команды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564000" y="4869000"/>
            <a:ext cx="3166920" cy="17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71280" y="1842840"/>
            <a:ext cx="7848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1) 600 + 20 = 6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2) 620 : 80 = 7,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7,75 округляем до 8, так как шлюпок должно быть целое чис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Ответ: 8 шлюп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367000" y="5326200"/>
            <a:ext cx="1670040" cy="780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59280" y="450864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450864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4508640"/>
            <a:ext cx="71892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19640" y="4508640"/>
            <a:ext cx="64944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08040" y="5326200"/>
            <a:ext cx="1671480" cy="780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5292720" y="5300640"/>
            <a:ext cx="1298520" cy="777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rcRect l="0" t="0" r="50125" b="0"/>
          <a:stretch/>
        </p:blipFill>
        <p:spPr>
          <a:xfrm rot="2416200">
            <a:off x="8100720" y="5300640"/>
            <a:ext cx="647640" cy="7779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6659640" y="5300640"/>
            <a:ext cx="1298520" cy="77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Задача (в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15640" y="1483920"/>
            <a:ext cx="72723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Больному прописано лекарство, которое нужно пить по 0,25г 2 раза в день в течении 20 дней. Лекарство продаётся в упаковках по 12 таблеток по 0,25г. Какое наименьшее количество упаковок хватит на весь курс леч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843280" y="486900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5580000" y="5084640"/>
            <a:ext cx="1905120" cy="127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71640" y="1670040"/>
            <a:ext cx="7750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1) 2 </a:t>
            </a:r>
            <a:r>
              <a:rPr b="1" lang="en-US" sz="2800" spc="-1" strike="noStrike">
                <a:solidFill>
                  <a:srgbClr val="009999"/>
                </a:solidFill>
                <a:latin typeface="Symbol"/>
                <a:ea typeface="Symbol"/>
              </a:rPr>
              <a:t>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 20 = 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2) 40 : 12 = 3,333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3,333… округляем до 4 шту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так как целостность упак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не может быть наруш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Ответ: 4 упаков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16360" y="4940280"/>
            <a:ext cx="6476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64000" y="4940280"/>
            <a:ext cx="6476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11640" y="4940280"/>
            <a:ext cx="6476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59280" y="4940280"/>
            <a:ext cx="6476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372360" y="5013360"/>
            <a:ext cx="219852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Задача (в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72738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Для приготовления маринада для огурцов на 1 литр воды требуется 16г лимонной кислоты. Хозяйка готовит 6 литров маринада. В магазине продается пакетик лимонной  кислоты по10г. Какое наименьшее число пакетиков нужно купить хозяйке для приготовления маринада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rcRect l="0" t="0" r="1315" b="16679"/>
          <a:stretch/>
        </p:blipFill>
        <p:spPr>
          <a:xfrm>
            <a:off x="2916360" y="4581360"/>
            <a:ext cx="3095640" cy="20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09:11:53Z</dcterms:created>
  <dc:creator>Надежда</dc:creator>
  <dc:description/>
  <dc:language>en-US</dc:language>
  <cp:lastModifiedBy>Admin</cp:lastModifiedBy>
  <dcterms:modified xsi:type="dcterms:W3CDTF">2011-12-09T08:28:41Z</dcterms:modified>
  <cp:revision>52</cp:revision>
  <dc:subject/>
  <dc:title>Решение задач части В </dc:title>
</cp:coreProperties>
</file>