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4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A0A-6508-4B6D-BF48-39FF267A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76F-5C9C-4EC8-8B74-D14F8F81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E25-66FF-495E-82AE-21B544DE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BFF-2D46-4629-A703-4ED0E0C7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9D9-06C1-4E04-AB6D-E2E26CD5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9DA-0994-4CBD-B36C-6BD3BB95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08E1-4CDA-4E20-8472-AEF413D4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7637-00D0-4224-B4E4-8195B5DB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51A-CCA7-458E-AC70-37395A15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CDB3-4990-4D61-A7F8-271FDC51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AECF-CD00-4757-B141-003CCA22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7AA-A20E-4877-AA56-6EBB3335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1916-822C-4D4B-B674-B002D6D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0FA1-49F8-42F4-90D8-8314C81C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5363-95A9-4DCA-8D3F-713FED9F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77E4-7E9F-4A9D-8491-58B37E14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F158-EA99-42F7-929E-A669BF42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CD10-6832-4031-9EF1-29EB0982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92BD-55A7-4E2F-A8B4-612D4D00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F12A-41D5-403E-AC13-BABBE55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3F196-9E36-4006-9FF5-B88B22DF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EEBE-C784-4AAC-9299-79FA251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229-8A1B-4989-AB59-F0FE8E17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EA7CD-C437-4E76-BD90-D7F320A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D534-2E17-4435-B3EB-57529990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22CD-6DC6-4324-B844-46ECC96C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A5C7-DF5A-47EE-8794-26BD56D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C8FF-9266-431E-A056-B47D0D58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9A7E-4DE5-411E-912B-086B2F92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1D26-64A8-476E-922B-2D0DA8A2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8490B-D8E4-43C6-B335-B8F410E1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3215-2C16-4295-81A6-A8C7D073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9272-53FB-40C3-9E8A-6BD3FDC4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0D10-9D3F-4B79-939A-2FCF274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7B02-ABB8-4E90-A14A-7ACBCB9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7FBE-D2C1-4B6F-9F6A-9382EFDD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AB45-2E9B-4F32-9485-426550CF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67419-BFD4-4E16-BC0B-C48C3DAC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4F9B4-F3AC-4B1D-AF07-F6CA68C9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4D54-6820-41A2-ADE3-7EA2866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B5F4-E802-4508-8C2B-1C0B79BF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BFC36-2289-4B0B-8B2D-F7A0996F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D88A-E9D9-49BC-B78E-5519CEC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1AF-8658-47E6-A35A-9D3E8855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8F3-B666-47D9-BF86-AF46B693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13D-8D44-4A24-B09C-4D1796A1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648-649D-483C-A597-58BFBCD7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971-9FB0-4FAE-8272-1E6A5200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F4F3-CAFB-46C2-BEA5-DEF4700F0C3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DE7E-65B5-45EC-9107-F8F932F5746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42F-F4E9-4CF2-AA1B-2C542AE9C19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92E1-CAD7-4C8F-BFB2-4C1E5616A9A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fenixclub.com%2Fuploads%2F52319%2Fimg-243129-004bfa0d27.JPG&amp;iorient=&amp;icolor=&amp;site=&amp;text=&#1089;&#1090;&#1072;&#1088;&#1080;&#1082;%20&#1093;&#1086;&#1090;&#1090;&#1072;&#1073;&#1099;&#1095;&amp;wp=&amp;pos=5&amp;isize=&amp;type=&amp;recent=&amp;rpt=simage&amp;itype=&amp;family=yes&amp;noj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http%3A%2F%2Fwww.testriffic.com%2Fresultfiles%2F1057cinderella.JPG&amp;iorient=&amp;icolor=&amp;site=&amp;text=&#1092;&#1077;&#1103;%20&#1080;&#1079;%20&#1079;&#1086;&#1083;&#1091;&#1096;&#1082;&#1080;&amp;wp=&amp;pos=0&amp;isize=&amp;type=&amp;recent=&amp;rpt=simage&amp;itype=&amp;family=yes&amp;nojs=1" TargetMode="External"/><Relationship Id="rId2" Type="http://schemas.openxmlformats.org/officeDocument/2006/relationships/hyperlink" Target="http://images.yandex.ru/yandsearch?img_url=http%3A%2F%2Fwww.testriffic.com%2Fresultfiles%2F1057cinderella.JPG&amp;iorient=&amp;icolor=&amp;site=&amp;text=&#1092;&#1077;&#1103;%20&#1080;&#1079;%20&#1079;&#1086;&#1083;&#1091;&#1096;&#1082;&#1080;&amp;wp=&amp;pos=0&amp;isize=&amp;type=&amp;recent=&amp;rpt=simage&amp;itype=&amp;family=yes&amp;nojs=1" TargetMode="External"/><Relationship Id="rId3" Type="http://schemas.openxmlformats.org/officeDocument/2006/relationships/hyperlink" Target="http://images.yandex.ru/yandsearch?img_url=http%3A%2F%2Fwww.testriffic.com%2Fresultfiles%2F1057cinderella.JPG&amp;iorient=&amp;icolor=&amp;site=&amp;text=&#1092;&#1077;&#1103;%20&#1080;&#1079;%20&#1079;&#1086;&#1083;&#1091;&#1096;&#1082;&#1080;&amp;wp=&amp;pos=0&amp;isize=&amp;type=&amp;recent=&amp;rpt=simage&amp;itype=&amp;family=yes&amp;nojs=1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videokids_-_woodpeckers_from_space.mp3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10" descr=""/>
          <p:cNvPicPr/>
          <p:nvPr/>
        </p:nvPicPr>
        <p:blipFill>
          <a:blip r:embed="rId2"/>
          <a:stretch/>
        </p:blipFill>
        <p:spPr>
          <a:xfrm>
            <a:off x="237960" y="1731960"/>
            <a:ext cx="83631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5e"/>
            </a:gs>
            <a:gs pos="50000">
              <a:srgbClr val="ffffcc"/>
            </a:gs>
            <a:gs pos="100000">
              <a:srgbClr val="76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4" descr=""/>
          <p:cNvPicPr/>
          <p:nvPr/>
        </p:nvPicPr>
        <p:blipFill>
          <a:blip r:embed="rId1"/>
          <a:stretch/>
        </p:blipFill>
        <p:spPr>
          <a:xfrm>
            <a:off x="281160" y="158760"/>
            <a:ext cx="8313480" cy="1273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2"/>
          <p:cNvPicPr/>
          <p:nvPr/>
        </p:nvPicPr>
        <p:blipFill>
          <a:blip r:embed="rId2"/>
          <a:stretch/>
        </p:blipFill>
        <p:spPr>
          <a:xfrm>
            <a:off x="2714760" y="1500120"/>
            <a:ext cx="3909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C20"/>
          <p:cNvPicPr/>
          <p:nvPr/>
        </p:nvPicPr>
        <p:blipFill>
          <a:blip r:embed="rId1"/>
          <a:stretch/>
        </p:blipFill>
        <p:spPr>
          <a:xfrm>
            <a:off x="324000" y="1268280"/>
            <a:ext cx="3743280" cy="2684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21"/>
          <p:cNvPicPr/>
          <p:nvPr/>
        </p:nvPicPr>
        <p:blipFill>
          <a:blip r:embed="rId2"/>
          <a:stretch/>
        </p:blipFill>
        <p:spPr>
          <a:xfrm>
            <a:off x="5003640" y="1268280"/>
            <a:ext cx="3743640" cy="2665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C25"/>
          <p:cNvPicPr/>
          <p:nvPr/>
        </p:nvPicPr>
        <p:blipFill>
          <a:blip r:embed="rId3"/>
          <a:stretch/>
        </p:blipFill>
        <p:spPr>
          <a:xfrm>
            <a:off x="324000" y="4076640"/>
            <a:ext cx="3816360" cy="2610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24"/>
          <p:cNvPicPr/>
          <p:nvPr/>
        </p:nvPicPr>
        <p:blipFill>
          <a:blip r:embed="rId4"/>
          <a:stretch/>
        </p:blipFill>
        <p:spPr>
          <a:xfrm>
            <a:off x="5003640" y="4076640"/>
            <a:ext cx="3816360" cy="2624040"/>
          </a:xfrm>
          <a:prstGeom prst="rect">
            <a:avLst/>
          </a:prstGeom>
          <a:ln w="0">
            <a:noFill/>
          </a:ln>
        </p:spPr>
      </p:pic>
      <p:sp>
        <p:nvSpPr>
          <p:cNvPr id="225" name="WordArt 9"/>
          <p:cNvSpPr txBox="1"/>
          <p:nvPr/>
        </p:nvSpPr>
        <p:spPr>
          <a:xfrm>
            <a:off x="468360" y="333360"/>
            <a:ext cx="8064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Город Помп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23"/>
          <p:cNvPicPr/>
          <p:nvPr/>
        </p:nvPicPr>
        <p:blipFill>
          <a:blip r:embed="rId2"/>
          <a:stretch/>
        </p:blipFill>
        <p:spPr>
          <a:xfrm>
            <a:off x="285840" y="857160"/>
            <a:ext cx="84963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2328840" y="798480"/>
            <a:ext cx="4059360" cy="11890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115920" y="2066760"/>
            <a:ext cx="908352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im5-tub-ru.yandex.net/i?id=199061820-26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8840" y="785880"/>
            <a:ext cx="6429240" cy="48466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"/>
          <p:cNvSpPr/>
          <p:nvPr/>
        </p:nvSpPr>
        <p:spPr>
          <a:xfrm>
            <a:off x="1571760" y="5786280"/>
            <a:ext cx="650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Старик Хоттабы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4">
            <a:hlinkClick r:id="rId1"/>
          </p:cNvPr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>
            <a:hlinkClick r:id="rId2"/>
          </p:cNvPr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>
            <a:hlinkClick r:id="rId3"/>
          </p:cNvPr>
          <p:cNvSpPr/>
          <p:nvPr/>
        </p:nvSpPr>
        <p:spPr>
          <a:xfrm>
            <a:off x="155520" y="-685800"/>
            <a:ext cx="21528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http://im2-tub-ru.yandex.net/i?id=9320585-41-72&amp;n=17"/>
          <p:cNvPicPr/>
          <p:nvPr/>
        </p:nvPicPr>
        <p:blipFill>
          <a:blip r:embed="rId4"/>
          <a:stretch/>
        </p:blipFill>
        <p:spPr>
          <a:xfrm>
            <a:off x="2643120" y="642960"/>
            <a:ext cx="4024440" cy="52498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2387160" y="5749920"/>
            <a:ext cx="465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6600" spc="-1" strike="noStrike">
                <a:solidFill>
                  <a:srgbClr val="000000"/>
                </a:solidFill>
                <a:latin typeface="Arial"/>
              </a:rPr>
              <a:t>Дед</a:t>
            </a:r>
            <a:r>
              <a:rPr b="0" lang="vi-V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vi-VN" sz="6600" spc="-1" strike="noStrike">
                <a:solidFill>
                  <a:srgbClr val="000000"/>
                </a:solidFill>
                <a:latin typeface="Arial"/>
              </a:rPr>
              <a:t>Моро́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http://im8-tub-ru.yandex.net/i?id=564262091-35-72&amp;n=17"/>
          <p:cNvPicPr/>
          <p:nvPr/>
        </p:nvPicPr>
        <p:blipFill>
          <a:blip r:embed="rId1"/>
          <a:stretch/>
        </p:blipFill>
        <p:spPr>
          <a:xfrm>
            <a:off x="2571840" y="642960"/>
            <a:ext cx="4143240" cy="535788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4"/>
          <p:cNvSpPr/>
          <p:nvPr/>
        </p:nvSpPr>
        <p:spPr>
          <a:xfrm>
            <a:off x="3866760" y="5657760"/>
            <a:ext cx="167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Narrow"/>
              </a:rPr>
              <a:t>Фе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im0-tub-ru.yandex.net/i?id=493748962-27-72&amp;n=17"/>
          <p:cNvPicPr/>
          <p:nvPr/>
        </p:nvPicPr>
        <p:blipFill>
          <a:blip r:embed="rId1"/>
          <a:stretch/>
        </p:blipFill>
        <p:spPr>
          <a:xfrm>
            <a:off x="6429240" y="785880"/>
            <a:ext cx="2543400" cy="3740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http://im6-tub-ru.yandex.net/i?id=16878274-25-72&amp;n=17"/>
          <p:cNvPicPr/>
          <p:nvPr/>
        </p:nvPicPr>
        <p:blipFill>
          <a:blip r:embed="rId2"/>
          <a:stretch/>
        </p:blipFill>
        <p:spPr>
          <a:xfrm>
            <a:off x="0" y="857160"/>
            <a:ext cx="2890800" cy="4292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ttp://im0-tub-ru.yandex.net/i?id=31797812-12-72&amp;n=21"/>
          <p:cNvPicPr/>
          <p:nvPr/>
        </p:nvPicPr>
        <p:blipFill>
          <a:blip r:embed="rId3"/>
          <a:stretch/>
        </p:blipFill>
        <p:spPr>
          <a:xfrm>
            <a:off x="3143160" y="2786040"/>
            <a:ext cx="340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7" descr="Картинки"/>
          <p:cNvPicPr/>
          <p:nvPr/>
        </p:nvPicPr>
        <p:blipFill>
          <a:blip r:embed="rId1"/>
          <a:stretch/>
        </p:blipFill>
        <p:spPr>
          <a:xfrm>
            <a:off x="2428920" y="857160"/>
            <a:ext cx="4572000" cy="4795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2"/>
          <p:cNvSpPr/>
          <p:nvPr/>
        </p:nvSpPr>
        <p:spPr>
          <a:xfrm>
            <a:off x="3087000" y="5715000"/>
            <a:ext cx="349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Narrow"/>
              </a:rPr>
              <a:t>Синий</a:t>
            </a:r>
            <a:r>
              <a:rPr b="0" lang="ru-RU" sz="6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 Narrow"/>
              </a:rPr>
              <a:t>йо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cc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-23760" y="79200"/>
            <a:ext cx="913752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5"/>
          <p:cNvPicPr/>
          <p:nvPr/>
        </p:nvPicPr>
        <p:blipFill>
          <a:blip r:embed="rId2"/>
          <a:stretch/>
        </p:blipFill>
        <p:spPr>
          <a:xfrm>
            <a:off x="0" y="1557360"/>
            <a:ext cx="5073480" cy="53006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4"/>
          <p:cNvPicPr/>
          <p:nvPr/>
        </p:nvPicPr>
        <p:blipFill>
          <a:blip r:embed="rId3"/>
          <a:stretch/>
        </p:blipFill>
        <p:spPr>
          <a:xfrm>
            <a:off x="450072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://im3-tub-ru.yandex.net/i?id=135428377-35-72&amp;n=21"/>
          <p:cNvPicPr/>
          <p:nvPr/>
        </p:nvPicPr>
        <p:blipFill>
          <a:blip r:embed="rId1"/>
          <a:stretch/>
        </p:blipFill>
        <p:spPr>
          <a:xfrm>
            <a:off x="1428840" y="928800"/>
            <a:ext cx="6213240" cy="47307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1500120" y="5572080"/>
            <a:ext cx="628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 Narrow"/>
              </a:rPr>
              <a:t>Дым без огн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4" descr=""/>
          <p:cNvPicPr/>
          <p:nvPr/>
        </p:nvPicPr>
        <p:blipFill>
          <a:blip r:embed="rId1"/>
          <a:stretch/>
        </p:blipFill>
        <p:spPr>
          <a:xfrm>
            <a:off x="85680" y="-6480"/>
            <a:ext cx="8620200" cy="1158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C33"/>
          <p:cNvPicPr/>
          <p:nvPr/>
        </p:nvPicPr>
        <p:blipFill>
          <a:blip r:embed="rId2"/>
          <a:stretch/>
        </p:blipFill>
        <p:spPr>
          <a:xfrm>
            <a:off x="250920" y="1341360"/>
            <a:ext cx="4073400" cy="525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C32"/>
          <p:cNvPicPr/>
          <p:nvPr/>
        </p:nvPicPr>
        <p:blipFill>
          <a:blip r:embed="rId3"/>
          <a:stretch/>
        </p:blipFill>
        <p:spPr>
          <a:xfrm>
            <a:off x="4572000" y="1341360"/>
            <a:ext cx="4321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08:06:40Z</dcterms:created>
  <dc:creator>Малецкая</dc:creator>
  <dc:description/>
  <dc:language>en-US</dc:language>
  <cp:lastModifiedBy>Учитель</cp:lastModifiedBy>
  <dcterms:modified xsi:type="dcterms:W3CDTF">2013-02-15T05:48:01Z</dcterms:modified>
  <cp:revision>69</cp:revision>
  <dc:subject/>
  <dc:title>Слайд 1</dc:title>
</cp:coreProperties>
</file>