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4.jpeg" ContentType="image/jpeg"/>
  <Override PartName="/ppt/media/image6.png" ContentType="image/png"/>
  <Override PartName="/ppt/media/image31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png" ContentType="image/png"/>
  <Override PartName="/ppt/media/image17.jpeg" ContentType="image/jpeg"/>
  <Override PartName="/ppt/media/image1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ABC4-1A55-46FA-ACCE-9079FEC9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2F2C-275E-44D4-90A9-951BCD4E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9C02-9FDE-4574-A69F-E15FF844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683B-69D8-4FE2-97C5-DE176558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64C2-E089-4694-8E4F-80C19F3B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DD60-8244-4458-AB07-FBF20A88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4CD8-7B8C-4F19-A72D-5BDD53DD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12A6-C36B-4109-A8AA-24176669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D4DD-5ACA-4D8C-922C-6EB25A44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A3CC-3816-4B0A-9F2A-FF63D2EC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B292-0D2E-4699-AE7C-DEA4F354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B1DC-E0B4-4C6F-B3A2-FE0763EE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A0D6-E3A7-46C3-A221-C03C52DC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13AD-26CA-4535-85C1-3EB795D6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ACF0-55B1-4E3E-87C7-9C7B495D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DF61-C98D-48F4-974D-8927A740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84B7-252F-4AFF-AEB4-FBC5CDB1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A8037-4105-4FAD-ADCF-CB31EFB6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0B7A9-AF0B-441D-85F3-6803A18B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1C0F8-4D17-4FC3-B149-6C263066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3ADA8-ABAD-4CAE-9F00-B7C187D0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D0243-B17A-4F15-A0D6-915819F0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A546-6A77-42AD-B938-8425D685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A877F-2B18-48E3-A801-9C2C2EFB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34EFD-6EEC-4453-B3CD-11D4CFCB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55838-CF02-4B6E-99CA-3F53446D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24BD9-8F01-4B10-8D18-74150A5C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1CAEF-27D1-4CE2-9100-43A7E75D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5D76D-01D6-496E-9B8B-3A6E2D0B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50528-1B4A-4F17-BA12-47AB1919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AF0DE-A708-46AF-B93E-D8F063BE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C9B85-4922-4206-8EBB-063DCB5F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EF07E-9E87-410B-AADE-88672B35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3329-D23F-4F5D-9114-C820431C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89120-A4EC-4030-BC0E-C9D340AF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CD1E1-3E7E-4705-A375-70B702FA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D436F-FEC6-4B32-8AF9-B08CB12D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31D42-03E5-4195-99C0-1847501D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9C18F-0AB1-4785-BBA0-0F61F397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9D9EE-9BC3-418F-B975-FC808DC0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B9CE4-2DCF-464C-907B-981DBD63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2FB1C-1C08-42FC-8E1D-B8DB8AD1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A67E9-919C-4B33-A0AA-7C0BD0E5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2431-8EAF-4971-AA07-790B3A9B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E5B8-F854-4E4F-AF76-D66DAE9A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F9EA-ADC7-4306-9455-0CC277BE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6633-3311-44C4-83F2-9BBE7DFE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90F4-54E1-45C0-BEE3-6652D41A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DF3C-8653-4736-86BD-F5EAE7C05E0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B4CA-73F6-4DCC-9444-5558EF819EF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A072-D805-4689-9AE4-C7B446ACC2C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1CCF-3C96-4BED-ACDF-FCB7DA04D6A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fenixclub.com%2Fuploads%2F52319%2Fimg-243129-004bfa0d27.JPG&amp;iorient=&amp;icolor=&amp;site=&amp;text=&#1089;&#1090;&#1072;&#1088;&#1080;&#1082;%20&#1093;&#1086;&#1090;&#1090;&#1072;&#1073;&#1099;&#1095;&amp;wp=&amp;pos=5&amp;isize=&amp;type=&amp;recent=&amp;rpt=simage&amp;itype=&amp;family=yes&amp;nojs=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www.testriffic.com%2Fresultfiles%2F1057cinderella.JPG&amp;iorient=&amp;icolor=&amp;site=&amp;text=&#1092;&#1077;&#1103;%20&#1080;&#1079;%20&#1079;&#1086;&#1083;&#1091;&#1096;&#1082;&#1080;&amp;wp=&amp;pos=0&amp;isize=&amp;type=&amp;recent=&amp;rpt=simage&amp;itype=&amp;family=yes&amp;nojs=1" TargetMode="External"/><Relationship Id="rId2" Type="http://schemas.openxmlformats.org/officeDocument/2006/relationships/hyperlink" Target="http://images.yandex.ru/yandsearch?img_url=http%3A%2F%2Fwww.testriffic.com%2Fresultfiles%2F1057cinderella.JPG&amp;iorient=&amp;icolor=&amp;site=&amp;text=&#1092;&#1077;&#1103;%20&#1080;&#1079;%20&#1079;&#1086;&#1083;&#1091;&#1096;&#1082;&#1080;&amp;wp=&amp;pos=0&amp;isize=&amp;type=&amp;recent=&amp;rpt=simage&amp;itype=&amp;family=yes&amp;nojs=1" TargetMode="External"/><Relationship Id="rId3" Type="http://schemas.openxmlformats.org/officeDocument/2006/relationships/hyperlink" Target="http://images.yandex.ru/yandsearch?img_url=http%3A%2F%2Fwww.testriffic.com%2Fresultfiles%2F1057cinderella.JPG&amp;iorient=&amp;icolor=&amp;site=&amp;text=&#1092;&#1077;&#1103;%20&#1080;&#1079;%20&#1079;&#1086;&#1083;&#1091;&#1096;&#1082;&#1080;&amp;wp=&amp;pos=0&amp;isize=&amp;type=&amp;recent=&amp;rpt=simage&amp;itype=&amp;family=yes&amp;nojs=1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videokids_-_woodpeckers_from_space.mp3" descr=""/>
          <p:cNvPicPr/>
          <p:nvPr/>
        </p:nvPicPr>
        <p:blipFill>
          <a:blip r:embed="rId1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10" descr=""/>
          <p:cNvPicPr/>
          <p:nvPr/>
        </p:nvPicPr>
        <p:blipFill>
          <a:blip r:embed="rId2"/>
          <a:stretch/>
        </p:blipFill>
        <p:spPr>
          <a:xfrm>
            <a:off x="237960" y="1731960"/>
            <a:ext cx="836316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5e"/>
            </a:gs>
            <a:gs pos="50000">
              <a:srgbClr val="ffffcc"/>
            </a:gs>
            <a:gs pos="100000">
              <a:srgbClr val="76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ectangle 4" descr=""/>
          <p:cNvPicPr/>
          <p:nvPr/>
        </p:nvPicPr>
        <p:blipFill>
          <a:blip r:embed="rId1"/>
          <a:stretch/>
        </p:blipFill>
        <p:spPr>
          <a:xfrm>
            <a:off x="281160" y="158760"/>
            <a:ext cx="8313480" cy="1273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C2"/>
          <p:cNvPicPr/>
          <p:nvPr/>
        </p:nvPicPr>
        <p:blipFill>
          <a:blip r:embed="rId2"/>
          <a:stretch/>
        </p:blipFill>
        <p:spPr>
          <a:xfrm>
            <a:off x="2714760" y="1500120"/>
            <a:ext cx="39099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5" descr="C20"/>
          <p:cNvPicPr/>
          <p:nvPr/>
        </p:nvPicPr>
        <p:blipFill>
          <a:blip r:embed="rId1"/>
          <a:stretch/>
        </p:blipFill>
        <p:spPr>
          <a:xfrm>
            <a:off x="324000" y="1268280"/>
            <a:ext cx="3743280" cy="2684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C21"/>
          <p:cNvPicPr/>
          <p:nvPr/>
        </p:nvPicPr>
        <p:blipFill>
          <a:blip r:embed="rId2"/>
          <a:stretch/>
        </p:blipFill>
        <p:spPr>
          <a:xfrm>
            <a:off x="5003640" y="1268280"/>
            <a:ext cx="3743640" cy="2665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C25"/>
          <p:cNvPicPr/>
          <p:nvPr/>
        </p:nvPicPr>
        <p:blipFill>
          <a:blip r:embed="rId3"/>
          <a:stretch/>
        </p:blipFill>
        <p:spPr>
          <a:xfrm>
            <a:off x="324000" y="4076640"/>
            <a:ext cx="3816360" cy="2610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C24"/>
          <p:cNvPicPr/>
          <p:nvPr/>
        </p:nvPicPr>
        <p:blipFill>
          <a:blip r:embed="rId4"/>
          <a:stretch/>
        </p:blipFill>
        <p:spPr>
          <a:xfrm>
            <a:off x="5003640" y="4076640"/>
            <a:ext cx="3816360" cy="2624040"/>
          </a:xfrm>
          <a:prstGeom prst="rect">
            <a:avLst/>
          </a:prstGeom>
          <a:ln w="0">
            <a:noFill/>
          </a:ln>
        </p:spPr>
      </p:pic>
      <p:sp>
        <p:nvSpPr>
          <p:cNvPr id="225" name="WordArt 9"/>
          <p:cNvSpPr txBox="1"/>
          <p:nvPr/>
        </p:nvSpPr>
        <p:spPr>
          <a:xfrm>
            <a:off x="468360" y="333360"/>
            <a:ext cx="806436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Город Помпе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C23"/>
          <p:cNvPicPr/>
          <p:nvPr/>
        </p:nvPicPr>
        <p:blipFill>
          <a:blip r:embed="rId2"/>
          <a:stretch/>
        </p:blipFill>
        <p:spPr>
          <a:xfrm>
            <a:off x="285840" y="857160"/>
            <a:ext cx="84963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2" descr=""/>
          <p:cNvPicPr/>
          <p:nvPr/>
        </p:nvPicPr>
        <p:blipFill>
          <a:blip r:embed="rId1"/>
          <a:stretch/>
        </p:blipFill>
        <p:spPr>
          <a:xfrm>
            <a:off x="2328840" y="798480"/>
            <a:ext cx="4059360" cy="118908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3" descr=""/>
          <p:cNvPicPr/>
          <p:nvPr/>
        </p:nvPicPr>
        <p:blipFill>
          <a:blip r:embed="rId2"/>
          <a:stretch/>
        </p:blipFill>
        <p:spPr>
          <a:xfrm>
            <a:off x="115920" y="2066760"/>
            <a:ext cx="908352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ttp://im5-tub-ru.yandex.net/i?id=199061820-26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8840" y="785880"/>
            <a:ext cx="6429240" cy="484668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2"/>
          <p:cNvSpPr/>
          <p:nvPr/>
        </p:nvSpPr>
        <p:spPr>
          <a:xfrm>
            <a:off x="1571760" y="5786280"/>
            <a:ext cx="650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Старик Хоттабыч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4">
            <a:hlinkClick r:id="rId1"/>
          </p:cNvPr>
          <p:cNvSpPr/>
          <p:nvPr/>
        </p:nvSpPr>
        <p:spPr>
          <a:xfrm>
            <a:off x="155520" y="-685800"/>
            <a:ext cx="21528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6">
            <a:hlinkClick r:id="rId2"/>
          </p:cNvPr>
          <p:cNvSpPr/>
          <p:nvPr/>
        </p:nvSpPr>
        <p:spPr>
          <a:xfrm>
            <a:off x="155520" y="-685800"/>
            <a:ext cx="21528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>
            <a:hlinkClick r:id="rId3"/>
          </p:cNvPr>
          <p:cNvSpPr/>
          <p:nvPr/>
        </p:nvSpPr>
        <p:spPr>
          <a:xfrm>
            <a:off x="155520" y="-685800"/>
            <a:ext cx="21528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0" descr="http://im2-tub-ru.yandex.net/i?id=9320585-41-72&amp;n=17"/>
          <p:cNvPicPr/>
          <p:nvPr/>
        </p:nvPicPr>
        <p:blipFill>
          <a:blip r:embed="rId4"/>
          <a:stretch/>
        </p:blipFill>
        <p:spPr>
          <a:xfrm>
            <a:off x="2643120" y="642960"/>
            <a:ext cx="4024440" cy="524988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6"/>
          <p:cNvSpPr/>
          <p:nvPr/>
        </p:nvSpPr>
        <p:spPr>
          <a:xfrm>
            <a:off x="2387160" y="5749920"/>
            <a:ext cx="465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600" spc="-1" strike="noStrike">
                <a:solidFill>
                  <a:srgbClr val="000000"/>
                </a:solidFill>
                <a:latin typeface="Arial"/>
              </a:rPr>
              <a:t>Дед</a:t>
            </a:r>
            <a:r>
              <a:rPr b="0" lang="vi-VN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vi-VN" sz="6600" spc="-1" strike="noStrike">
                <a:solidFill>
                  <a:srgbClr val="000000"/>
                </a:solidFill>
                <a:latin typeface="Arial"/>
              </a:rPr>
              <a:t>Моро́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http://im8-tub-ru.yandex.net/i?id=564262091-35-72&amp;n=17"/>
          <p:cNvPicPr/>
          <p:nvPr/>
        </p:nvPicPr>
        <p:blipFill>
          <a:blip r:embed="rId1"/>
          <a:stretch/>
        </p:blipFill>
        <p:spPr>
          <a:xfrm>
            <a:off x="2571840" y="642960"/>
            <a:ext cx="4143240" cy="535788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4"/>
          <p:cNvSpPr/>
          <p:nvPr/>
        </p:nvSpPr>
        <p:spPr>
          <a:xfrm>
            <a:off x="3866760" y="5657760"/>
            <a:ext cx="167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 Narrow"/>
              </a:rPr>
              <a:t>Фе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http://im0-tub-ru.yandex.net/i?id=493748962-27-72&amp;n=17"/>
          <p:cNvPicPr/>
          <p:nvPr/>
        </p:nvPicPr>
        <p:blipFill>
          <a:blip r:embed="rId1"/>
          <a:stretch/>
        </p:blipFill>
        <p:spPr>
          <a:xfrm>
            <a:off x="6429240" y="785880"/>
            <a:ext cx="2543400" cy="3740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http://im6-tub-ru.yandex.net/i?id=16878274-25-72&amp;n=17"/>
          <p:cNvPicPr/>
          <p:nvPr/>
        </p:nvPicPr>
        <p:blipFill>
          <a:blip r:embed="rId2"/>
          <a:stretch/>
        </p:blipFill>
        <p:spPr>
          <a:xfrm>
            <a:off x="0" y="857160"/>
            <a:ext cx="2890800" cy="4292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http://im0-tub-ru.yandex.net/i?id=31797812-12-72&amp;n=21"/>
          <p:cNvPicPr/>
          <p:nvPr/>
        </p:nvPicPr>
        <p:blipFill>
          <a:blip r:embed="rId3"/>
          <a:stretch/>
        </p:blipFill>
        <p:spPr>
          <a:xfrm>
            <a:off x="3143160" y="2786040"/>
            <a:ext cx="3402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7" descr="Картинки"/>
          <p:cNvPicPr/>
          <p:nvPr/>
        </p:nvPicPr>
        <p:blipFill>
          <a:blip r:embed="rId1"/>
          <a:stretch/>
        </p:blipFill>
        <p:spPr>
          <a:xfrm>
            <a:off x="2428920" y="857160"/>
            <a:ext cx="4572000" cy="479592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2"/>
          <p:cNvSpPr/>
          <p:nvPr/>
        </p:nvSpPr>
        <p:spPr>
          <a:xfrm>
            <a:off x="3087000" y="5715000"/>
            <a:ext cx="349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 Narrow"/>
              </a:rPr>
              <a:t>Синий</a:t>
            </a:r>
            <a:r>
              <a:rPr b="0" lang="ru-RU" sz="6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 Narrow"/>
              </a:rPr>
              <a:t>йо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-23760" y="79200"/>
            <a:ext cx="9137520" cy="1347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C5"/>
          <p:cNvPicPr/>
          <p:nvPr/>
        </p:nvPicPr>
        <p:blipFill>
          <a:blip r:embed="rId2"/>
          <a:stretch/>
        </p:blipFill>
        <p:spPr>
          <a:xfrm>
            <a:off x="0" y="1557360"/>
            <a:ext cx="5073480" cy="5300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C4"/>
          <p:cNvPicPr/>
          <p:nvPr/>
        </p:nvPicPr>
        <p:blipFill>
          <a:blip r:embed="rId3"/>
          <a:stretch/>
        </p:blipFill>
        <p:spPr>
          <a:xfrm>
            <a:off x="4500720" y="1773360"/>
            <a:ext cx="46432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im3-tub-ru.yandex.net/i?id=135428377-35-72&amp;n=21"/>
          <p:cNvPicPr/>
          <p:nvPr/>
        </p:nvPicPr>
        <p:blipFill>
          <a:blip r:embed="rId1"/>
          <a:stretch/>
        </p:blipFill>
        <p:spPr>
          <a:xfrm>
            <a:off x="1428840" y="928800"/>
            <a:ext cx="6213240" cy="47307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2"/>
          <p:cNvSpPr/>
          <p:nvPr/>
        </p:nvSpPr>
        <p:spPr>
          <a:xfrm>
            <a:off x="1500120" y="5572080"/>
            <a:ext cx="628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 Narrow"/>
              </a:rPr>
              <a:t>Дым без огн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Rectangle 4" descr=""/>
          <p:cNvPicPr/>
          <p:nvPr/>
        </p:nvPicPr>
        <p:blipFill>
          <a:blip r:embed="rId1"/>
          <a:stretch/>
        </p:blipFill>
        <p:spPr>
          <a:xfrm>
            <a:off x="85680" y="-6480"/>
            <a:ext cx="8620200" cy="1158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C33"/>
          <p:cNvPicPr/>
          <p:nvPr/>
        </p:nvPicPr>
        <p:blipFill>
          <a:blip r:embed="rId2"/>
          <a:stretch/>
        </p:blipFill>
        <p:spPr>
          <a:xfrm>
            <a:off x="250920" y="1341360"/>
            <a:ext cx="4073400" cy="525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C32"/>
          <p:cNvPicPr/>
          <p:nvPr/>
        </p:nvPicPr>
        <p:blipFill>
          <a:blip r:embed="rId3"/>
          <a:stretch/>
        </p:blipFill>
        <p:spPr>
          <a:xfrm>
            <a:off x="4572000" y="1341360"/>
            <a:ext cx="4321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08:06:40Z</dcterms:created>
  <dc:creator>Малецкая</dc:creator>
  <dc:description/>
  <dc:language>en-US</dc:language>
  <cp:lastModifiedBy>Учитель</cp:lastModifiedBy>
  <dcterms:modified xsi:type="dcterms:W3CDTF">2013-02-15T05:48:01Z</dcterms:modified>
  <cp:revision>69</cp:revision>
  <dc:subject/>
  <dc:title>Слайд 1</dc:title>
</cp:coreProperties>
</file>