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914-9B99-4298-B7F4-EDA18FC2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A13-4BEA-4147-951F-6CFBB47E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5BA-D7E4-4B19-9376-E6FDF858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231-4B76-4BCE-9A37-32F2B49A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F195-0312-4DCF-AEF4-E17C19A2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D8E-6D7F-464F-B368-7646526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641B-A570-41B9-8369-F7E6F62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38F5-85E6-4CE7-951D-906C5C2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7CD-0485-4028-8499-1F10D8FD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A9B-EC81-454F-8348-F2BCD23F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B91-C8CF-449B-B9DC-3917E14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6CF-4089-4B10-A252-025797BF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C671-7400-494B-961F-57D02A4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983F-44A8-4D13-8E8E-F3652C4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577-6D61-4EB0-B840-97802D7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B0B-3757-4D35-99D2-5E3D90BA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2BB-4A53-4572-8311-4CD5B42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8E3-A995-4AB8-8AF8-D5EADC3F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A79-8D0D-481C-A62F-2056D10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F48-0BAF-460E-96B8-01445FF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CAB-8D50-45F8-B58B-4D9B41F2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D6B-80F1-43BD-9EE0-08627C7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CDE-A4FA-47AB-B726-3191262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590-C4BD-41CE-A0CE-A02A811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8914-EB17-44D1-B6F2-639D838784D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1BB-578F-4125-8839-AC42776C60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ЖУРНЫЕ КАРТИ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зготовление поделок в технике ИЗОНИТИ может быть организовано в дошкольном учреждении и начальной школе как подгрупповая работа по ручному труду, в студиях и кружках системы дополнительного образования, а также в домашних условиях с родителя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икл занятий состоит из двух разделов: 1) овладение техникой изонити изображения углов, моделирование с их использованием образов, 2) изображение окружностей, дуг, овалов, завитков , моделирование с их использованием образ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10" descr="master-class05"/>
          <p:cNvPicPr/>
          <p:nvPr/>
        </p:nvPicPr>
        <p:blipFill>
          <a:blip r:embed="rId1"/>
          <a:stretch/>
        </p:blipFill>
        <p:spPr>
          <a:xfrm>
            <a:off x="3924360" y="4076640"/>
            <a:ext cx="2232000" cy="237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1007"/>
          <p:cNvPicPr/>
          <p:nvPr/>
        </p:nvPicPr>
        <p:blipFill>
          <a:blip r:embed="rId2"/>
          <a:stretch/>
        </p:blipFill>
        <p:spPr>
          <a:xfrm>
            <a:off x="6659640" y="18900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Рисунок1с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2798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Рисунок1ж"/>
          <p:cNvPicPr/>
          <p:nvPr/>
        </p:nvPicPr>
        <p:blipFill>
          <a:blip r:embed="rId2"/>
          <a:stretch/>
        </p:blipFill>
        <p:spPr>
          <a:xfrm>
            <a:off x="6443640" y="3284640"/>
            <a:ext cx="2097000" cy="32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Рисунок1к"/>
          <p:cNvPicPr/>
          <p:nvPr/>
        </p:nvPicPr>
        <p:blipFill>
          <a:blip r:embed="rId3"/>
          <a:stretch/>
        </p:blipFill>
        <p:spPr>
          <a:xfrm>
            <a:off x="3635280" y="3284640"/>
            <a:ext cx="2281320" cy="33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Рисунок1аб"/>
          <p:cNvPicPr/>
          <p:nvPr/>
        </p:nvPicPr>
        <p:blipFill>
          <a:blip r:embed="rId4"/>
          <a:stretch/>
        </p:blipFill>
        <p:spPr>
          <a:xfrm>
            <a:off x="826920" y="3284640"/>
            <a:ext cx="223236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Рисунок1вг"/>
          <p:cNvPicPr/>
          <p:nvPr/>
        </p:nvPicPr>
        <p:blipFill>
          <a:blip r:embed="rId5"/>
          <a:stretch/>
        </p:blipFill>
        <p:spPr>
          <a:xfrm>
            <a:off x="4788000" y="333360"/>
            <a:ext cx="4070160" cy="2765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уемая 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432253при"/>
          <p:cNvPicPr/>
          <p:nvPr/>
        </p:nvPicPr>
        <p:blipFill>
          <a:blip r:embed="rId1"/>
          <a:stretch/>
        </p:blipFill>
        <p:spPr>
          <a:xfrm>
            <a:off x="826920" y="33577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46774204_knigaприа"/>
          <p:cNvPicPr/>
          <p:nvPr/>
        </p:nvPicPr>
        <p:blipFill>
          <a:blip r:embed="rId2"/>
          <a:stretch/>
        </p:blipFill>
        <p:spPr>
          <a:xfrm>
            <a:off x="2843280" y="2421000"/>
            <a:ext cx="1766880" cy="22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e8fc0eb3a9c4при"/>
          <p:cNvPicPr/>
          <p:nvPr/>
        </p:nvPicPr>
        <p:blipFill>
          <a:blip r:embed="rId3"/>
          <a:stretch/>
        </p:blipFill>
        <p:spPr>
          <a:xfrm>
            <a:off x="4716360" y="2421000"/>
            <a:ext cx="172728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4791"/>
          <p:cNvPicPr/>
          <p:nvPr/>
        </p:nvPicPr>
        <p:blipFill>
          <a:blip r:embed="rId4"/>
          <a:stretch/>
        </p:blipFill>
        <p:spPr>
          <a:xfrm>
            <a:off x="7236000" y="189000"/>
            <a:ext cx="164448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0031628"/>
          <p:cNvPicPr/>
          <p:nvPr/>
        </p:nvPicPr>
        <p:blipFill>
          <a:blip r:embed="rId5"/>
          <a:stretch/>
        </p:blipFill>
        <p:spPr>
          <a:xfrm>
            <a:off x="3635280" y="4724280"/>
            <a:ext cx="2087640" cy="189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01100784при"/>
          <p:cNvPicPr/>
          <p:nvPr/>
        </p:nvPicPr>
        <p:blipFill>
          <a:blip r:embed="rId6"/>
          <a:stretch/>
        </p:blipFill>
        <p:spPr>
          <a:xfrm>
            <a:off x="6588000" y="3429000"/>
            <a:ext cx="1905120" cy="242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пи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боты, которые были представлены перед Вами, не участвовали в Международных конкурсах, престижных выставках и фестивалях. Они созданы учениками начальной школы. Детьми, возраст которых не превышает и 10 лет. И мне, кажется, не только детям, но и Вам понравилась это небольшая экскурсия в «Мир прекрасного». Конечно, работы, выполненные моими учениками еще не достигли совершенства (нужно долго и кропотливо этого добиваться), но сколько душевной теплоты, нежности, добра, терпения вложили дети в эти «шедевры». Среди представленных Вашему мнению сюжетных картинок есть работы созданные мальчиками. Они не станут, возможно, будущими кутюрье, знаменитыми модельерами, но самостоятельными людьми станут обязательно. И я очень рада, что помогла им в э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втор – Новоселова Марина Евген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MYDC0281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214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олько себя помню, я всегда любила мастерить, делать что-то руками. В детском саду я с удовольствием лепила из пластилина, рисовала. Меня рано научили держать иголку, поэтому, наверное, в школьном возрасте, я с большим интересом занималась в кружке «Кройки и шитья». Сама придумывала модели платьев, выкраивала, сшивала, украшала будущее изделие. Рукоделие сопровождает меня и сегодня. И не только в условиях быта. Это связано с моей профессией. Я – учитель начальных классов. Веду уроки технологии. И никогда не думала, что работа с иглой может принести столько радости, восторга. Мои ученики убедили меня в этом. Они целеустремленно, с огромным интересом, искренне восхищаясь, занимаются вышивкой: крестиком, гладью. Но больше всего ребятам нравится ИЗОНИ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23499722"/>
          <p:cNvPicPr/>
          <p:nvPr/>
        </p:nvPicPr>
        <p:blipFill>
          <a:blip r:embed="rId1"/>
          <a:stretch/>
        </p:blipFill>
        <p:spPr>
          <a:xfrm>
            <a:off x="6227640" y="260280"/>
            <a:ext cx="232740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много из исто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874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ИЗО» - означает «рисовать», а что такое «нить» никому объяснять не надо. Все просто – рисовать ни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онить 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итяная графи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 – это графический рисунок, выполненный нитями, натянутыми в определенном порядке на тверд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первые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илась в Англ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Английские ткачи вбивали в дощечки гвозди и в определенной последовательности натягивали на них нити. В результате получались кружевные изделия, которые использовались для украшения жилищ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астоящее время искусство изонити широко применяется как для украшения предметов быта, оформления интерьера, так и для изготовления подар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10" descr="i111_photobucket_com_valentine_27"/>
          <p:cNvPicPr/>
          <p:nvPr/>
        </p:nvPicPr>
        <p:blipFill>
          <a:blip r:embed="rId1"/>
          <a:stretch/>
        </p:blipFill>
        <p:spPr>
          <a:xfrm>
            <a:off x="6372360" y="115920"/>
            <a:ext cx="2192040" cy="18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нятия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зонитью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ствуют развитию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у ребенка:</a:t>
            </a:r>
            <a:br>
              <a:rPr sz="32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Мелкой моторики пальцев рук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что оказывает положительное влияние на речевые зоны коры головного моз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Сенсорного восприятия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Глазомера (остроты зрения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Логического мышления (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бстрактного,обучить плоскостному моделированию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Воображения,фантазии , творческой активности, любознательност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Волевых качест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(усидчивости, терпения, умения доводить работу до конца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Художественных способностей и эстетического вкуса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ет глубокое понимание красоты форм и красок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блюдению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культуры труд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экономичного расходования материала, бережного отношения к инструментам, приспособлениям и правильное пользование им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речи объяснительной и доказательной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активного и пассивного словаря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5" descr="Рисунок1юю"/>
          <p:cNvPicPr/>
          <p:nvPr/>
        </p:nvPicPr>
        <p:blipFill>
          <a:blip r:embed="rId1"/>
          <a:stretch/>
        </p:blipFill>
        <p:spPr>
          <a:xfrm>
            <a:off x="6877080" y="189000"/>
            <a:ext cx="2044800" cy="177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териалы и инстр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вейные иглы с широким ушко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ожницы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ило или кнопка-гвоздик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ветные  катушечные нитки № 20-40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бор цветного картон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бархатная» бума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нкая цветная бума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андаши, линейки, циркуль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усок пенопласта или мягкая губчатая резина, возможны газеты, сложенные в несколько слоев (для прокалывания дырочек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екала для вычерчивания дуг, овалов, завитков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пировальная бумаг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12" descr="photo19"/>
          <p:cNvPicPr/>
          <p:nvPr/>
        </p:nvPicPr>
        <p:blipFill>
          <a:blip r:embed="rId1"/>
          <a:stretch/>
        </p:blipFill>
        <p:spPr>
          <a:xfrm>
            <a:off x="6659640" y="260280"/>
            <a:ext cx="216036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готовка к работ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а лист цветного картона ( или бархатной бумаги) с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изнаночной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ороны наносят рисунок ( угол, окружность, дугу и т.д.). При этом можно использовать трафар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По линиям с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изнаночной стороны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наносят разметку для дырочек ( по трафарету, по линейке, на глаз). Число дырочек- отверстий по обеим сторонам угла должно быть обязательно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одинаков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одложив пластину пенопласта, шилом или кнопкой-гвоздиком прокалывают дырочки по разметке. На лицевой стороне будут отверстия, повторяющие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рисунок на изнанке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986032574"/>
          <p:cNvPicPr/>
          <p:nvPr/>
        </p:nvPicPr>
        <p:blipFill>
          <a:blip r:embed="rId1"/>
          <a:stretch/>
        </p:blipFill>
        <p:spPr>
          <a:xfrm>
            <a:off x="1042920" y="400536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i_b7d709b0eda2f91b28e85c7063930dc3"/>
          <p:cNvPicPr/>
          <p:nvPr/>
        </p:nvPicPr>
        <p:blipFill>
          <a:blip r:embed="rId2"/>
          <a:stretch/>
        </p:blipFill>
        <p:spPr>
          <a:xfrm>
            <a:off x="7308720" y="260280"/>
            <a:ext cx="131472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okz"/>
          <p:cNvPicPr/>
          <p:nvPr/>
        </p:nvPicPr>
        <p:blipFill>
          <a:blip r:embed="rId3"/>
          <a:stretch/>
        </p:blipFill>
        <p:spPr>
          <a:xfrm>
            <a:off x="6877080" y="3645000"/>
            <a:ext cx="1905120" cy="303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et_ruk_11"/>
          <p:cNvPicPr/>
          <p:nvPr/>
        </p:nvPicPr>
        <p:blipFill>
          <a:blip r:embed="rId4"/>
          <a:stretch/>
        </p:blipFill>
        <p:spPr>
          <a:xfrm>
            <a:off x="4500720" y="3645000"/>
            <a:ext cx="221616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ледовательность выполнения угл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6" descr="2cc260fe7273"/>
          <p:cNvPicPr/>
          <p:nvPr/>
        </p:nvPicPr>
        <p:blipFill>
          <a:blip r:embed="rId1"/>
          <a:stretch/>
        </p:blipFill>
        <p:spPr>
          <a:xfrm>
            <a:off x="1187280" y="2637000"/>
            <a:ext cx="2305080" cy="35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e630e5c01aa5fcd45ed9757bb835d10"/>
          <p:cNvPicPr/>
          <p:nvPr/>
        </p:nvPicPr>
        <p:blipFill>
          <a:blip r:embed="rId2"/>
          <a:stretch/>
        </p:blipFill>
        <p:spPr>
          <a:xfrm>
            <a:off x="3924360" y="2708280"/>
            <a:ext cx="223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V-0701001_S"/>
          <p:cNvPicPr/>
          <p:nvPr/>
        </p:nvPicPr>
        <p:blipFill>
          <a:blip r:embed="rId3"/>
          <a:stretch/>
        </p:blipFill>
        <p:spPr>
          <a:xfrm>
            <a:off x="6659640" y="2708280"/>
            <a:ext cx="216036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003.jpg"/>
          <p:cNvPicPr/>
          <p:nvPr/>
        </p:nvPicPr>
        <p:blipFill>
          <a:blip r:embed="rId1"/>
          <a:srcRect l="8089" t="0" r="34107" b="44759"/>
          <a:stretch/>
        </p:blipFill>
        <p:spPr>
          <a:xfrm>
            <a:off x="250920" y="115920"/>
            <a:ext cx="1238040" cy="1628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012.jpg"/>
          <p:cNvPicPr/>
          <p:nvPr/>
        </p:nvPicPr>
        <p:blipFill>
          <a:blip r:embed="rId2"/>
          <a:srcRect l="0" t="0" r="9540" b="55261"/>
          <a:stretch/>
        </p:blipFill>
        <p:spPr>
          <a:xfrm>
            <a:off x="6443640" y="4941720"/>
            <a:ext cx="24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005.jpg"/>
          <p:cNvPicPr/>
          <p:nvPr/>
        </p:nvPicPr>
        <p:blipFill>
          <a:blip r:embed="rId3"/>
          <a:srcRect l="0" t="0" r="40746" b="37399"/>
          <a:stretch/>
        </p:blipFill>
        <p:spPr>
          <a:xfrm>
            <a:off x="5003640" y="0"/>
            <a:ext cx="1565280" cy="2276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009.jpg"/>
          <p:cNvPicPr/>
          <p:nvPr/>
        </p:nvPicPr>
        <p:blipFill>
          <a:blip r:embed="rId4"/>
          <a:srcRect l="0" t="0" r="39891" b="40557"/>
          <a:stretch/>
        </p:blipFill>
        <p:spPr>
          <a:xfrm>
            <a:off x="324000" y="4149720"/>
            <a:ext cx="177768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014.jpg"/>
          <p:cNvPicPr/>
          <p:nvPr/>
        </p:nvPicPr>
        <p:blipFill>
          <a:blip r:embed="rId5"/>
          <a:srcRect l="6646" t="2755" r="31214" b="32156"/>
          <a:stretch/>
        </p:blipFill>
        <p:spPr>
          <a:xfrm>
            <a:off x="3059280" y="3573360"/>
            <a:ext cx="208908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006.jpg"/>
          <p:cNvPicPr/>
          <p:nvPr/>
        </p:nvPicPr>
        <p:blipFill>
          <a:blip r:embed="rId6"/>
          <a:srcRect l="0" t="0" r="16767" b="41602"/>
          <a:stretch/>
        </p:blipFill>
        <p:spPr>
          <a:xfrm>
            <a:off x="971640" y="213372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008.jpg"/>
          <p:cNvPicPr/>
          <p:nvPr/>
        </p:nvPicPr>
        <p:blipFill>
          <a:blip r:embed="rId7"/>
          <a:srcRect l="0" t="0" r="54340" b="33203"/>
          <a:stretch/>
        </p:blipFill>
        <p:spPr>
          <a:xfrm>
            <a:off x="7164360" y="907920"/>
            <a:ext cx="1738440" cy="3502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001.jpg"/>
          <p:cNvPicPr/>
          <p:nvPr/>
        </p:nvPicPr>
        <p:blipFill>
          <a:blip r:embed="rId8"/>
          <a:srcRect l="0" t="33533" r="15368" b="0"/>
          <a:stretch/>
        </p:blipFill>
        <p:spPr>
          <a:xfrm>
            <a:off x="3348000" y="1844640"/>
            <a:ext cx="1295280" cy="1401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3" descr="015.jpg"/>
          <p:cNvPicPr/>
          <p:nvPr/>
        </p:nvPicPr>
        <p:blipFill>
          <a:blip r:embed="rId9"/>
          <a:srcRect l="3757" t="0" r="35547" b="45807"/>
          <a:stretch/>
        </p:blipFill>
        <p:spPr>
          <a:xfrm>
            <a:off x="5292720" y="2421000"/>
            <a:ext cx="1676520" cy="2060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4" descr="002.jpg"/>
          <p:cNvPicPr/>
          <p:nvPr/>
        </p:nvPicPr>
        <p:blipFill>
          <a:blip r:embed="rId10"/>
          <a:srcRect l="0" t="0" r="5203" b="51056"/>
          <a:stretch/>
        </p:blipFill>
        <p:spPr>
          <a:xfrm>
            <a:off x="1979640" y="189000"/>
            <a:ext cx="2232000" cy="15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зображения окружнос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4" descr="28при"/>
          <p:cNvPicPr/>
          <p:nvPr/>
        </p:nvPicPr>
        <p:blipFill>
          <a:blip r:embed="rId1"/>
          <a:stretch/>
        </p:blipFill>
        <p:spPr>
          <a:xfrm>
            <a:off x="826920" y="2492280"/>
            <a:ext cx="3529080" cy="347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c7553e68075tпри"/>
          <p:cNvPicPr/>
          <p:nvPr/>
        </p:nvPicPr>
        <p:blipFill>
          <a:blip r:embed="rId2"/>
          <a:stretch/>
        </p:blipFill>
        <p:spPr>
          <a:xfrm>
            <a:off x="5076720" y="2349360"/>
            <a:ext cx="3454560" cy="374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ab407176495etпри"/>
          <p:cNvPicPr/>
          <p:nvPr/>
        </p:nvPicPr>
        <p:blipFill>
          <a:blip r:embed="rId3"/>
          <a:stretch/>
        </p:blipFill>
        <p:spPr>
          <a:xfrm>
            <a:off x="7164360" y="260280"/>
            <a:ext cx="1714680" cy="136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41:37Z</dcterms:created>
  <dc:creator>Сергей</dc:creator>
  <dc:description/>
  <dc:language>en-US</dc:language>
  <cp:lastModifiedBy>сергей</cp:lastModifiedBy>
  <dcterms:modified xsi:type="dcterms:W3CDTF">2013-04-17T18:49:02Z</dcterms:modified>
  <cp:revision>25</cp:revision>
  <dc:subject/>
  <dc:title>АЖУРНЫЕ КАРТИНКИ</dc:title>
</cp:coreProperties>
</file>