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94DD-5BF5-4BA2-9A36-DE058888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7FD-9841-49AA-AD06-775420A2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AFC-BF0E-4DB2-B1E2-FD96DE85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5AC-E24A-424C-BF92-1B475F2E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C14D-2B70-4574-8EC3-711B2FB3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1E2C-497A-47A5-980C-F0FBF09A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0A3F-CD6F-447F-BFA9-12610329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AD9B-49D8-4557-B21F-6C54CF23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2B9B-2076-494F-83F7-BFDAE745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15D1-78FE-4AA7-8AC7-9955CC1B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31FA-7131-498A-B31E-1073E2E9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09D-B980-4F10-A5FC-65DDBCD9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F891-FDA5-4DF3-98D7-204D5289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412A-5FC7-4AB9-A745-DBB86CC1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5EA7-A889-4ABF-A7D5-1373C0E7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C542-FBA9-4956-A764-3BD5DEC5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5285-A584-455D-859C-23DC16A8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F96-3B2E-4849-AF2F-62D23513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6FF-C1E7-4F5A-8DC0-FE392671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32A9-0E2D-4030-B10D-C1E7BA83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6F40-B0F2-4C35-96A6-F96D2A37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357-9A2A-4827-AD6E-C31C00B9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24C-5C46-4093-80C7-69F4ABAE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EE8-4B3B-44A6-A7D5-7E7A78BF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916F-FCBA-4834-A1BA-08C6D4D70E6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EC8B-1AEF-49FE-9778-03BF8F66AD4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ЖУРНЫЕ КАРТИ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зготовление поделок в технике ИЗОНИТИ может быть организовано в дошкольном учреждении и начальной школе как подгрупповая работа по ручному труду, в студиях и кружках системы дополнительного образования, а также в домашних условиях с родителя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икл занятий состоит из двух разделов: 1) овладение техникой изонити изображения углов, моделирование с их использованием образов, 2) изображение окружностей, дуг, овалов, завитков , моделирование с их использованием образ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10" descr="master-class05"/>
          <p:cNvPicPr/>
          <p:nvPr/>
        </p:nvPicPr>
        <p:blipFill>
          <a:blip r:embed="rId1"/>
          <a:stretch/>
        </p:blipFill>
        <p:spPr>
          <a:xfrm>
            <a:off x="3924360" y="4076640"/>
            <a:ext cx="2232000" cy="2378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11007"/>
          <p:cNvPicPr/>
          <p:nvPr/>
        </p:nvPicPr>
        <p:blipFill>
          <a:blip r:embed="rId2"/>
          <a:stretch/>
        </p:blipFill>
        <p:spPr>
          <a:xfrm>
            <a:off x="6659640" y="189000"/>
            <a:ext cx="1871640" cy="1655640"/>
          </a:xfrm>
          <a:prstGeom prst="rect">
            <a:avLst/>
          </a:prstGeom>
          <a:ln w="0">
            <a:noFill/>
          </a:ln>
        </p:spPr>
      </p:pic>
    </p:spTree>
  </p:cSld>
  <p:transition advTm="2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Рисунок1с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2798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Рисунок1ж"/>
          <p:cNvPicPr/>
          <p:nvPr/>
        </p:nvPicPr>
        <p:blipFill>
          <a:blip r:embed="rId2"/>
          <a:stretch/>
        </p:blipFill>
        <p:spPr>
          <a:xfrm>
            <a:off x="6443640" y="3284640"/>
            <a:ext cx="2097000" cy="3240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Рисунок1к"/>
          <p:cNvPicPr/>
          <p:nvPr/>
        </p:nvPicPr>
        <p:blipFill>
          <a:blip r:embed="rId3"/>
          <a:stretch/>
        </p:blipFill>
        <p:spPr>
          <a:xfrm>
            <a:off x="3635280" y="3284640"/>
            <a:ext cx="2281320" cy="3384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Рисунок1аб"/>
          <p:cNvPicPr/>
          <p:nvPr/>
        </p:nvPicPr>
        <p:blipFill>
          <a:blip r:embed="rId4"/>
          <a:stretch/>
        </p:blipFill>
        <p:spPr>
          <a:xfrm>
            <a:off x="826920" y="3284640"/>
            <a:ext cx="2232360" cy="324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Рисунок1вг"/>
          <p:cNvPicPr/>
          <p:nvPr/>
        </p:nvPicPr>
        <p:blipFill>
          <a:blip r:embed="rId5"/>
          <a:stretch/>
        </p:blipFill>
        <p:spPr>
          <a:xfrm>
            <a:off x="4788000" y="333360"/>
            <a:ext cx="4070160" cy="2765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уемая литерат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4" descr="432253при"/>
          <p:cNvPicPr/>
          <p:nvPr/>
        </p:nvPicPr>
        <p:blipFill>
          <a:blip r:embed="rId1"/>
          <a:stretch/>
        </p:blipFill>
        <p:spPr>
          <a:xfrm>
            <a:off x="826920" y="3357720"/>
            <a:ext cx="1905120" cy="2504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46774204_knigaприа"/>
          <p:cNvPicPr/>
          <p:nvPr/>
        </p:nvPicPr>
        <p:blipFill>
          <a:blip r:embed="rId2"/>
          <a:stretch/>
        </p:blipFill>
        <p:spPr>
          <a:xfrm>
            <a:off x="2843280" y="2421000"/>
            <a:ext cx="1766880" cy="22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e8fc0eb3a9c4при"/>
          <p:cNvPicPr/>
          <p:nvPr/>
        </p:nvPicPr>
        <p:blipFill>
          <a:blip r:embed="rId3"/>
          <a:stretch/>
        </p:blipFill>
        <p:spPr>
          <a:xfrm>
            <a:off x="4716360" y="2421000"/>
            <a:ext cx="1727280" cy="2232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4791"/>
          <p:cNvPicPr/>
          <p:nvPr/>
        </p:nvPicPr>
        <p:blipFill>
          <a:blip r:embed="rId4"/>
          <a:stretch/>
        </p:blipFill>
        <p:spPr>
          <a:xfrm>
            <a:off x="7236000" y="189000"/>
            <a:ext cx="1644480" cy="15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1000031628"/>
          <p:cNvPicPr/>
          <p:nvPr/>
        </p:nvPicPr>
        <p:blipFill>
          <a:blip r:embed="rId5"/>
          <a:stretch/>
        </p:blipFill>
        <p:spPr>
          <a:xfrm>
            <a:off x="3635280" y="4724280"/>
            <a:ext cx="2087640" cy="189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01100784при"/>
          <p:cNvPicPr/>
          <p:nvPr/>
        </p:nvPicPr>
        <p:blipFill>
          <a:blip r:embed="rId6"/>
          <a:stretch/>
        </p:blipFill>
        <p:spPr>
          <a:xfrm>
            <a:off x="6588000" y="3429000"/>
            <a:ext cx="1905120" cy="2421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пило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Работы, которые были представлены перед Вами, не участвовали в Международных конкурсах, престижных выставках и фестивалях. Они созданы учениками начальной школы. Детьми, возраст которых не превышает и 10 лет. И мне, кажется, не только детям, но и Вам понравилась это небольшая экскурсия в «Мир прекрасного». Конечно, работы, выполненные моими учениками еще не достигли совершенства (нужно долго и кропотливо этого добиваться), но сколько душевной теплоты, нежности, добра, терпения вложили дети в эти «шедевры». Среди представленных Вашему мнению сюжетных картинок есть работы созданные мальчиками. Они не станут, возможно, будущими кутюрье, знаменитыми модельерами, но самостоятельными людьми станут обязательно. И я очень рада, что помогла им в э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втор – Новоселова Марина Евгеньевн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MYDC0281"/>
          <p:cNvPicPr/>
          <p:nvPr/>
        </p:nvPicPr>
        <p:blipFill>
          <a:blip r:embed="rId1"/>
          <a:stretch/>
        </p:blipFill>
        <p:spPr>
          <a:xfrm>
            <a:off x="7451640" y="189000"/>
            <a:ext cx="1513080" cy="214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лог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колько себя помню, я всегда любила мастерить, делать что-то руками. В детском саду я с удовольствием лепила из пластилина, рисовала. Меня рано научили держать иголку, поэтому, наверное, в школьном возрасте, я с большим интересом занималась в кружке «Кройки и шитья». Сама придумывала модели платьев, выкраивала, сшивала, украшала будущее изделие. Рукоделие сопровождает меня и сегодня. И не только в условиях быта. Это связано с моей профессией. Я – учитель начальных классов. Веду уроки технологии. И никогда не думала, что работа с иглой может принести столько радости, восторга. Мои ученики убедили меня в этом. Они целеустремленно, с огромным интересом, искренне восхищаясь, занимаются вышивкой: крестиком, гладью. Но больше всего ребятам нравится ИЗОНИ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4" descr="23499722"/>
          <p:cNvPicPr/>
          <p:nvPr/>
        </p:nvPicPr>
        <p:blipFill>
          <a:blip r:embed="rId1"/>
          <a:stretch/>
        </p:blipFill>
        <p:spPr>
          <a:xfrm>
            <a:off x="6227640" y="260280"/>
            <a:ext cx="232740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емного из истор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2361960"/>
            <a:ext cx="874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ИЗО» - означает «рисовать», а что такое «нить» никому объяснять не надо. Все просто – рисовать нит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зонить (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итяная график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) – это графический рисунок, выполненный нитями, натянутыми в определенном порядке на твердой основ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первые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илась в Англ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Английские ткачи вбивали в дощечки гвозди и в определенной последовательности натягивали на них нити. В результате получались кружевные изделия, которые использовались для украшения жилищ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настоящее время искусство изонити широко применяется как для украшения предметов быта, оформления интерьера, так и для изготовления подар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10" descr="i111_photobucket_com_valentine_27"/>
          <p:cNvPicPr/>
          <p:nvPr/>
        </p:nvPicPr>
        <p:blipFill>
          <a:blip r:embed="rId1"/>
          <a:stretch/>
        </p:blipFill>
        <p:spPr>
          <a:xfrm>
            <a:off x="6372360" y="115920"/>
            <a:ext cx="2192040" cy="18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7" dur="indefinite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8" dur="indefinite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Занятия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зонитью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пособствуют развитию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у ребенка:</a:t>
            </a:r>
            <a:br>
              <a:rPr sz="32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Мелкой моторики пальцев рук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что оказывает положительное влияние на речевые зоны коры головного мозг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Сенсорного восприятия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Глазомера (остроты зрения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Логического мышления (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бстрактного,обучить плоскостному моделированию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Воображения,фантазии , творческой активности, любознательности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Волевых качеств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(усидчивости, терпения, умения доводить работу до конца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Художественных способностей и эстетического вкуса 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оспитывает глубокое понимание красоты форм и красок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облюдению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культуры труда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, экономичного расходования материала, бережного отношения к инструментам, приспособлениям и правильное пользование ими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речи объяснительной и доказательной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активного и пассивного словаря)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5" descr="Рисунок1юю"/>
          <p:cNvPicPr/>
          <p:nvPr/>
        </p:nvPicPr>
        <p:blipFill>
          <a:blip r:embed="rId1"/>
          <a:stretch/>
        </p:blipFill>
        <p:spPr>
          <a:xfrm>
            <a:off x="6877080" y="189000"/>
            <a:ext cx="2044800" cy="177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атериалы и инструмен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вейные иглы с широким ушком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ожницы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ило или кнопка-гвоздик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Цветные  катушечные нитки № 20-40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бор цветного картон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«бархатная» бумаг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онкая цветная бумаг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андаши, линейки, циркуль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усок пенопласта или мягкая губчатая резина, возможны газеты, сложенные в несколько слоев (для прокалывания дырочек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Лекала для вычерчивания дуг, овалов, завитков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пировальная бумага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12" descr="photo19"/>
          <p:cNvPicPr/>
          <p:nvPr/>
        </p:nvPicPr>
        <p:blipFill>
          <a:blip r:embed="rId1"/>
          <a:stretch/>
        </p:blipFill>
        <p:spPr>
          <a:xfrm>
            <a:off x="6659640" y="260280"/>
            <a:ext cx="2160360" cy="100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дготовка к работе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На лист цветного картона ( или бархатной бумаги) с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 изнаночной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стороны наносят рисунок ( угол, окружность, дугу и т.д.). При этом можно использовать трафарет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По линиям с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изнаночной стороны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наносят разметку для дырочек ( по трафарету, по линейке, на глаз). Число дырочек- отверстий по обеим сторонам угла должно быть обязательно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одинаково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3. Подложив пластину пенопласта, шилом или кнопкой-гвоздиком прокалывают дырочки по разметке. На лицевой стороне будут отверстия, повторяющие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рисунок на изнанке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6" descr="986032574"/>
          <p:cNvPicPr/>
          <p:nvPr/>
        </p:nvPicPr>
        <p:blipFill>
          <a:blip r:embed="rId1"/>
          <a:stretch/>
        </p:blipFill>
        <p:spPr>
          <a:xfrm>
            <a:off x="1042920" y="400536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i_b7d709b0eda2f91b28e85c7063930dc3"/>
          <p:cNvPicPr/>
          <p:nvPr/>
        </p:nvPicPr>
        <p:blipFill>
          <a:blip r:embed="rId2"/>
          <a:stretch/>
        </p:blipFill>
        <p:spPr>
          <a:xfrm>
            <a:off x="7308720" y="260280"/>
            <a:ext cx="131472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okz"/>
          <p:cNvPicPr/>
          <p:nvPr/>
        </p:nvPicPr>
        <p:blipFill>
          <a:blip r:embed="rId3"/>
          <a:stretch/>
        </p:blipFill>
        <p:spPr>
          <a:xfrm>
            <a:off x="6877080" y="3645000"/>
            <a:ext cx="1905120" cy="3033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et_ruk_11"/>
          <p:cNvPicPr/>
          <p:nvPr/>
        </p:nvPicPr>
        <p:blipFill>
          <a:blip r:embed="rId4"/>
          <a:stretch/>
        </p:blipFill>
        <p:spPr>
          <a:xfrm>
            <a:off x="4500720" y="3645000"/>
            <a:ext cx="2216160" cy="302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следовательность выполнения угл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Picture 6" descr="2cc260fe7273"/>
          <p:cNvPicPr/>
          <p:nvPr/>
        </p:nvPicPr>
        <p:blipFill>
          <a:blip r:embed="rId1"/>
          <a:stretch/>
        </p:blipFill>
        <p:spPr>
          <a:xfrm>
            <a:off x="1187280" y="2637000"/>
            <a:ext cx="2305080" cy="350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e630e5c01aa5fcd45ed9757bb835d10"/>
          <p:cNvPicPr/>
          <p:nvPr/>
        </p:nvPicPr>
        <p:blipFill>
          <a:blip r:embed="rId2"/>
          <a:stretch/>
        </p:blipFill>
        <p:spPr>
          <a:xfrm>
            <a:off x="3924360" y="2708280"/>
            <a:ext cx="223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V-0701001_S"/>
          <p:cNvPicPr/>
          <p:nvPr/>
        </p:nvPicPr>
        <p:blipFill>
          <a:blip r:embed="rId3"/>
          <a:stretch/>
        </p:blipFill>
        <p:spPr>
          <a:xfrm>
            <a:off x="6659640" y="2708280"/>
            <a:ext cx="2160360" cy="331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3" descr="003.jpg"/>
          <p:cNvPicPr/>
          <p:nvPr/>
        </p:nvPicPr>
        <p:blipFill>
          <a:blip r:embed="rId1"/>
          <a:srcRect l="8089" t="0" r="34107" b="44759"/>
          <a:stretch/>
        </p:blipFill>
        <p:spPr>
          <a:xfrm>
            <a:off x="250920" y="115920"/>
            <a:ext cx="1238040" cy="16286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6" descr="012.jpg"/>
          <p:cNvPicPr/>
          <p:nvPr/>
        </p:nvPicPr>
        <p:blipFill>
          <a:blip r:embed="rId2"/>
          <a:srcRect l="0" t="0" r="9540" b="55261"/>
          <a:stretch/>
        </p:blipFill>
        <p:spPr>
          <a:xfrm>
            <a:off x="6443640" y="4941720"/>
            <a:ext cx="2449440" cy="1582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005.jpg"/>
          <p:cNvPicPr/>
          <p:nvPr/>
        </p:nvPicPr>
        <p:blipFill>
          <a:blip r:embed="rId3"/>
          <a:srcRect l="0" t="0" r="40746" b="37399"/>
          <a:stretch/>
        </p:blipFill>
        <p:spPr>
          <a:xfrm>
            <a:off x="5003640" y="0"/>
            <a:ext cx="1565280" cy="22766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009.jpg"/>
          <p:cNvPicPr/>
          <p:nvPr/>
        </p:nvPicPr>
        <p:blipFill>
          <a:blip r:embed="rId4"/>
          <a:srcRect l="0" t="0" r="39891" b="40557"/>
          <a:stretch/>
        </p:blipFill>
        <p:spPr>
          <a:xfrm>
            <a:off x="324000" y="4149720"/>
            <a:ext cx="1777680" cy="2421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014.jpg"/>
          <p:cNvPicPr/>
          <p:nvPr/>
        </p:nvPicPr>
        <p:blipFill>
          <a:blip r:embed="rId5"/>
          <a:srcRect l="6646" t="2755" r="31214" b="32156"/>
          <a:stretch/>
        </p:blipFill>
        <p:spPr>
          <a:xfrm>
            <a:off x="3059280" y="3573360"/>
            <a:ext cx="2089080" cy="30099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0" descr="006.jpg"/>
          <p:cNvPicPr/>
          <p:nvPr/>
        </p:nvPicPr>
        <p:blipFill>
          <a:blip r:embed="rId6"/>
          <a:srcRect l="0" t="0" r="16767" b="41602"/>
          <a:stretch/>
        </p:blipFill>
        <p:spPr>
          <a:xfrm>
            <a:off x="971640" y="2133720"/>
            <a:ext cx="1944720" cy="1876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" descr="008.jpg"/>
          <p:cNvPicPr/>
          <p:nvPr/>
        </p:nvPicPr>
        <p:blipFill>
          <a:blip r:embed="rId7"/>
          <a:srcRect l="0" t="0" r="54340" b="33203"/>
          <a:stretch/>
        </p:blipFill>
        <p:spPr>
          <a:xfrm>
            <a:off x="7164360" y="907920"/>
            <a:ext cx="1738440" cy="3502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001.jpg"/>
          <p:cNvPicPr/>
          <p:nvPr/>
        </p:nvPicPr>
        <p:blipFill>
          <a:blip r:embed="rId8"/>
          <a:srcRect l="0" t="33533" r="15368" b="0"/>
          <a:stretch/>
        </p:blipFill>
        <p:spPr>
          <a:xfrm>
            <a:off x="3348000" y="1844640"/>
            <a:ext cx="1295280" cy="14018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3" descr="015.jpg"/>
          <p:cNvPicPr/>
          <p:nvPr/>
        </p:nvPicPr>
        <p:blipFill>
          <a:blip r:embed="rId9"/>
          <a:srcRect l="3757" t="0" r="35547" b="45807"/>
          <a:stretch/>
        </p:blipFill>
        <p:spPr>
          <a:xfrm>
            <a:off x="5292720" y="2421000"/>
            <a:ext cx="1676520" cy="2060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4" descr="002.jpg"/>
          <p:cNvPicPr/>
          <p:nvPr/>
        </p:nvPicPr>
        <p:blipFill>
          <a:blip r:embed="rId10"/>
          <a:srcRect l="0" t="0" r="5203" b="51056"/>
          <a:stretch/>
        </p:blipFill>
        <p:spPr>
          <a:xfrm>
            <a:off x="1979640" y="189000"/>
            <a:ext cx="2232000" cy="158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зображения окружност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Picture 4" descr="28при"/>
          <p:cNvPicPr/>
          <p:nvPr/>
        </p:nvPicPr>
        <p:blipFill>
          <a:blip r:embed="rId1"/>
          <a:stretch/>
        </p:blipFill>
        <p:spPr>
          <a:xfrm>
            <a:off x="826920" y="2492280"/>
            <a:ext cx="3529080" cy="347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c7553e68075tпри"/>
          <p:cNvPicPr/>
          <p:nvPr/>
        </p:nvPicPr>
        <p:blipFill>
          <a:blip r:embed="rId2"/>
          <a:stretch/>
        </p:blipFill>
        <p:spPr>
          <a:xfrm>
            <a:off x="5076720" y="2349360"/>
            <a:ext cx="3454560" cy="374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ab407176495etпри"/>
          <p:cNvPicPr/>
          <p:nvPr/>
        </p:nvPicPr>
        <p:blipFill>
          <a:blip r:embed="rId3"/>
          <a:stretch/>
        </p:blipFill>
        <p:spPr>
          <a:xfrm>
            <a:off x="7164360" y="260280"/>
            <a:ext cx="1714680" cy="1362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5:41:37Z</dcterms:created>
  <dc:creator>Сергей</dc:creator>
  <dc:description/>
  <dc:language>en-US</dc:language>
  <cp:lastModifiedBy>сергей</cp:lastModifiedBy>
  <dcterms:modified xsi:type="dcterms:W3CDTF">2013-04-17T18:49:02Z</dcterms:modified>
  <cp:revision>25</cp:revision>
  <dc:subject/>
  <dc:title>АЖУРНЫЕ КАРТИНКИ</dc:title>
</cp:coreProperties>
</file>