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8B06-6AF8-4D2B-8080-C891F0A9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4B80-EDFC-4408-9587-7DCD7C09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8ECC-9F61-4AF0-BC4E-0C0208E7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4DF2-C96E-4601-9301-E0B3592C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220D-EBB2-4FDA-9D9C-D584303A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A2A5-73E3-4A3F-98EB-90D73C18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0356-E6B2-4D8E-8A29-453CCC18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C39C-F468-49A1-9A88-F536F324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7FCD-0F51-49E1-AB74-5BD95452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E19E-1E14-477E-BABB-01FD296C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EE29-349E-46DC-9504-70A7BDA3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D312-7FDB-462C-A586-8694DA0A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D77F-0A55-4827-8B32-A9A0C0B56D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одзаголовок 5"/>
          <p:cNvGrpSpPr/>
          <p:nvPr/>
        </p:nvGrpSpPr>
        <p:grpSpPr>
          <a:xfrm>
            <a:off x="938160" y="444600"/>
            <a:ext cx="7261200" cy="5743440"/>
            <a:chOff x="938160" y="444600"/>
            <a:chExt cx="7261200" cy="5743440"/>
          </a:xfrm>
        </p:grpSpPr>
        <p:pic>
          <p:nvPicPr>
            <p:cNvPr id="42" name="Подзаголовок 5" descr=""/>
            <p:cNvPicPr/>
            <p:nvPr/>
          </p:nvPicPr>
          <p:blipFill>
            <a:blip r:embed="rId1"/>
            <a:stretch/>
          </p:blipFill>
          <p:spPr>
            <a:xfrm>
              <a:off x="938160" y="444600"/>
              <a:ext cx="7261200" cy="57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971640" y="476280"/>
              <a:ext cx="7200720" cy="56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Департамент образования г. Москв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Западный Административный Округ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ГБОУ детский сад №102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Доклад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Тема: День Земл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                                      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Воспитатель: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                                   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Яркова О.О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2012г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Beethoven's Symphony No. 9 (Scherzo).wma" descr=""/>
          <p:cNvPicPr/>
          <p:nvPr/>
        </p:nvPicPr>
        <p:blipFill>
          <a:blip r:embed="rId2"/>
          <a:stretch/>
        </p:blipFill>
        <p:spPr>
          <a:xfrm>
            <a:off x="788508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8" descr="1.jpg"/>
          <p:cNvPicPr/>
          <p:nvPr/>
        </p:nvPicPr>
        <p:blipFill>
          <a:blip r:embed="rId1"/>
          <a:srcRect l="0" t="7641" r="0" b="764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92440" y="4941720"/>
            <a:ext cx="5486400" cy="12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22 апреля на нашей планете отмечается День Земли (Earth Day). В этом году этот глобальный экологический праздник проходит уже в 40-й раз. В прошлом году Генеральная Ассамблея ООН единогласно одобрила резолюцию о провозглашении 22 апреля Международным днем Матери-Зем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7" descr="2.jpg"/>
          <p:cNvPicPr/>
          <p:nvPr/>
        </p:nvPicPr>
        <p:blipFill>
          <a:blip r:embed="rId1"/>
          <a:stretch/>
        </p:blipFill>
        <p:spPr>
          <a:xfrm>
            <a:off x="3575160" y="620640"/>
            <a:ext cx="5244840" cy="482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3008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первые День Земли провели в США 22 апреля 1970 года. Первая экологическая акция сразу получила огромный успех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А позже акция распространилась и на другие страны. Даже не затрачивая много средств и времени, сенатору Нельсону - одному из инициаторов Дня Земли - и его коллегам и помощникам удавалось устраивать по-настоящему массовые акции, например, демонстрацию, в которой участвовали 20 миллионов человек. Позже в США на государственном уровне были приняты законы и акты (например, знаменитый Акт о чистом воздухе), которые призывали к заботе об экологическом состоянии Земли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4" descr="3.jpg"/>
          <p:cNvPicPr/>
          <p:nvPr/>
        </p:nvPicPr>
        <p:blipFill>
          <a:blip r:embed="rId1"/>
          <a:stretch/>
        </p:blipFill>
        <p:spPr>
          <a:xfrm>
            <a:off x="3767040" y="404640"/>
            <a:ext cx="4934160" cy="5832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3008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Уже в 1990 году День Земли стал международной акцией, в которой приняли участие 200 млн. человек из 141 страны мира. Ежегодно ученые стран мира собираются за круглым столом для обсуждения глобальных экологических проблем. Существует также Сеть "День Земли" - международная неправительственная организация, которая объединяет 12000 организаций в 174 странах мира. Целью своих мероприятий Сеть "День Земли" ставит развитие экологического образова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День Земли в России считается днем общественных организаций, которые проводят различные просветительские акции, сажают деревья, призывают решать проблемы, связанные с ядерной энергией и радиоактивными отходами. В День Земли в России проводятся различные экологические акции и мероприятия, направленные на экологическое просвещение и заботу об экологии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55640" y="3141720"/>
            <a:ext cx="7561440" cy="25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Особо популярной в нашей стране стала акция Марш парков в рамках Дня Земли. Уже в 1997 году Марш парков охватил почти всю территорию бывшего СССР и прошел более чем в 150 парках на территории Украины, Беларуси, Казахстана, Киргизстана, Туркменистана, Таджикистана и Узбекистана. В акции участвовало около 200 тыс. человек. Марши парков проводятся в целях привлечения граждан к участию в природоохранной деятельности заповедников и национальных парков.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День Земли - это день напоминания о страшных экологических катастрофах, день, когда каждый человек может задуматься над тем, что он может сделать в решении экологических проблем в мире. 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В День Земли, 22 апреля, все те, кому не безразлично будущее нашей планеты, а значит и свое собственное будущее, кому не безразлично то, какой увидят нашу планету будущие поколения, могут внести свой посильный вклад, приняв участие в различных акциях, проводимых в рамках Дня Земли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9" descr="4.1.jpg"/>
          <p:cNvPicPr/>
          <p:nvPr/>
        </p:nvPicPr>
        <p:blipFill>
          <a:blip r:embed="rId1"/>
          <a:srcRect l="6223" t="0" r="6223" b="0"/>
          <a:stretch/>
        </p:blipFill>
        <p:spPr>
          <a:xfrm>
            <a:off x="1763640" y="404640"/>
            <a:ext cx="5486400" cy="2745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еждународный День Земли предназначен прежде всего для того, чтобы все мы осознали богатство нашей земли и природы, среди которой мы живем, для того, чтобы мы чувствовали, что это действительно наше богатство, что к нему надо относиться береж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6" descr="4.jpg"/>
          <p:cNvPicPr/>
          <p:nvPr/>
        </p:nvPicPr>
        <p:blipFill>
          <a:blip r:embed="rId1"/>
          <a:stretch/>
        </p:blipFill>
        <p:spPr>
          <a:xfrm>
            <a:off x="1332000" y="2349360"/>
            <a:ext cx="644508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6" descr="5.jpg"/>
          <p:cNvPicPr/>
          <p:nvPr/>
        </p:nvPicPr>
        <p:blipFill>
          <a:blip r:embed="rId1"/>
          <a:stretch/>
        </p:blipFill>
        <p:spPr>
          <a:xfrm>
            <a:off x="3635280" y="476280"/>
            <a:ext cx="5043600" cy="5329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 послании по поводу празднования Дня Земли Генеральный секретарь ООН Пан Ги Мун призвал к обеспечению экологической устойчивости на планете. Он заявил, что сегодня человечество пожинает последствия своего нерачительного отношения к природным богатствам. В послании Пан Ги Муна подчеркивается, что "самыми наглядными из них являются изменение климата, истощение озонового слоя, быстрая утрата биологического разнообразия, растет загрязнение пресноводных и морских акваторий; пустеют земли и некогда богатые рыбными ресурсами океаны", - говорится в послании Пан Ги Мун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АСИБО ЗА ВНИМАНИЕ !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640" y="472428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Источник </a:t>
            </a:r>
            <a:r>
              <a:rPr b="0" i="1" lang="en-US" sz="2000" spc="-1" strike="noStrike">
                <a:solidFill>
                  <a:srgbClr val="898989"/>
                </a:solidFill>
                <a:latin typeface="Calibri"/>
              </a:rPr>
              <a:t>Goog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7" descr="7.gif"/>
          <p:cNvPicPr/>
          <p:nvPr/>
        </p:nvPicPr>
        <p:blipFill>
          <a:blip r:embed="rId1"/>
          <a:stretch/>
        </p:blipFill>
        <p:spPr>
          <a:xfrm>
            <a:off x="2627280" y="2708280"/>
            <a:ext cx="4032360" cy="3046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20:18:50Z</dcterms:created>
  <dc:creator>Admin</dc:creator>
  <dc:description/>
  <dc:language>en-US</dc:language>
  <cp:lastModifiedBy>Admin</cp:lastModifiedBy>
  <dcterms:modified xsi:type="dcterms:W3CDTF">2012-04-13T20:48:58Z</dcterms:modified>
  <cp:revision>4</cp:revision>
  <dc:subject/>
  <dc:title>Слайд 1</dc:title>
</cp:coreProperties>
</file>