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1B2-CE38-4C7D-9591-179110B6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08B-9907-4C32-886A-232AEBAD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B6F-0F42-41B1-BEA6-7519214A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7F8-59B1-4902-94E4-81D6D68F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FDF7-1C61-46A4-8BA7-C8C021EB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D86C-B237-4640-9A25-D0E50D33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6205-D0AF-4402-A246-304878F9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0E54-ADF4-48A4-B1D5-3A117119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1442-BD80-4477-9D5B-51D1DCB4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5246-90D1-43E7-9755-66B43C9A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C9A7-EE61-4003-BECF-85AA6E18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D51-E00E-438A-BE5D-7365B0DE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636-3758-4859-A8DB-CF18673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9748-50CC-4EEC-8B67-9FDFED52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2F4F-AF42-4E21-A3CD-B5DB304E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D42A-D732-47D9-B232-7AC08BAA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DE38-86F4-4F8C-86A9-CCCAF5E2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81D-ACC6-4727-968D-B4EFC8CC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BEC-9EAE-41DA-9EE4-D8A2926C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BC4-CB3F-4375-BE0E-B6B1EF29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146-4713-4FBA-A090-7A096D5D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D72-4A83-403E-9D1D-D106E56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353-0FBD-45E5-B0FF-24F96FA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900-F744-4E2A-BACF-5B1448E2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E0CB-3A6F-4F71-9B52-452B0D4A3D5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D30D-C2FD-487A-BC89-2B9DCCB5C05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351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Доброт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отзывчивость, душевное расположение к людям, стремление делать добро други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Добро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все положительное, хорошее, полезное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Милосерди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это готовность помочь кому-либо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готовность простить человека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желание добра другому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это участие в чей-либо судьбе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человечность, бескорыстие и др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335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И ляжет на душу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добро…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 рассказу И.Бунина «Лапти»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4723920"/>
            <a:ext cx="769608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Фёдор Михайлович Достоевск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1821-1881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39481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26560" y="48690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Иван Алексеевич Буни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1870-1953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55788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Анкет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554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) Как вы понимаете слова «доброта» и «милосердие»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) Не кажется ли вам, что уровень нашей отзывчивости снижается в современном мире (т.е. мир стал жестоким)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) В чем вы видите причины снижения нашей отзывчивости (т.е. почему это происходит)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) Что же сделать, чтобы мир стал добрее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Спешите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делать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добрые дела!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А. Яшин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920" y="1125360"/>
            <a:ext cx="7337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После прочтения рассказа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И. Бунина «Лапти»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я понял (а), что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я впервые задумался(ась) над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я узнал (а),что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я почувствовал(а), что…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то сделал людям добро, тот ДОБРЫЙ человек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то пострадал за совершенное им добро, тот ОЧЕНЬ ДОБРЫЙ человек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то принял за это смерть, тот достиг ВЕРШИНЫ ДОБРОДЕТЕЛИ, героической и совершенно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Жан де Лабрюйер,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французский писател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5:49:52Z</dcterms:created>
  <dc:creator>User</dc:creator>
  <dc:description/>
  <dc:language>en-US</dc:language>
  <cp:lastModifiedBy>User</cp:lastModifiedBy>
  <dcterms:modified xsi:type="dcterms:W3CDTF">2008-01-30T15:08:38Z</dcterms:modified>
  <cp:revision>4</cp:revision>
  <dc:subject/>
  <dc:title>Слайд 1</dc:title>
</cp:coreProperties>
</file>