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954-ABA8-4216-BC9B-84891CCF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041-FA8B-4B2F-AC34-78AA9E3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2E3-EBA1-4E7E-93F0-9B8ECB9A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13D-0737-45F4-97D6-B76099DA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9E7A-3A28-443F-A836-222F16EA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1F9-9768-488D-8C8E-BFD7D3C9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0154-84C5-431E-B3C0-7D1F4BE4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0DCD-A005-4C93-92E9-3B84D8F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326A-88B5-4F8F-A6C0-030D48B4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F96E-E2F3-40AA-BC4A-E5E9F74B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0869-201C-4FAD-B19F-6AADB5CE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927-5D52-4658-AB5F-89767201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489-236B-4442-B77E-193E419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2632-5C8B-438C-8DD7-B955BB0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74BA-66F2-46C6-9573-D4CB545B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306A-226E-4D56-9956-AB1D3223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452A-3763-4DF1-AB88-015F2290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4E5-E939-423A-A737-6016E0B7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A62-9E50-4579-AE8D-28F9E9CB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07E-F8CC-422F-B17D-4F1E6111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CBE-A27D-4606-9520-97F7917B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34A-3B6F-4305-8FC0-F5BD90E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39E-FD58-46BC-834A-DE039BC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0A9-E8DB-4AAE-8D64-6B30B37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D5F6-B775-4165-87B9-2BE0933F273C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C98-D124-4C44-98F5-13041BD46630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188640"/>
            <a:ext cx="835164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Доброта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отзывчивость, душевное расположение к людям, стремление делать добро другим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Добро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все положительное, хорошее, полезное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Милосердие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это готовность помочь кому-либо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готовность простить человека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желание добра другому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это участие в чей-либо судьбе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человечность, бескорыстие и др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335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6666ff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И ляжет на душу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добро…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По рассказу И.Бунина «Лапти»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4723920"/>
            <a:ext cx="769608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Фёдор Михайлович Достоевск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21-1881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9481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75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26560" y="48690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Иван Алексеевич Бунин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1870-1953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55788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Анкета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554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) Как вы понимаете слова «доброта» и «милосердие»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) Не кажется ли вам, что уровень нашей отзывчивости снижается в современном мире (т.е. мир стал жестоким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) В чем вы видите причины снижения нашей отзывчивости (т.е. почему это происходит)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) Что же сделать, чтобы мир стал добрее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Спешите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делать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mic Sans MS"/>
              </a:rPr>
              <a:t>добрые дела!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А. Яшин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920" y="1125360"/>
            <a:ext cx="7337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После прочтения рассказа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И. Бунина «Лапти»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понял (а), что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впервые задумался(ась) над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узнал (а),что…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-я почувствовал(а), что…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то сделал людям добро, тот ДОБРЫЙ человек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то пострадал за совершенное им добро, тот ОЧЕНЬ ДОБРЫЙ человек;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кто принял за это смерть, тот достиг ВЕРШИНЫ ДОБРОДЕТЕЛИ, героической и совершенной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Жан де Лабрюйер,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французский писатель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5:49:52Z</dcterms:created>
  <dc:creator>User</dc:creator>
  <dc:description/>
  <dc:language>en-US</dc:language>
  <cp:lastModifiedBy>User</cp:lastModifiedBy>
  <dcterms:modified xsi:type="dcterms:W3CDTF">2008-01-30T15:08:38Z</dcterms:modified>
  <cp:revision>4</cp:revision>
  <dc:subject/>
  <dc:title>Слайд 1</dc:title>
</cp:coreProperties>
</file>