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E7F-55A8-4C6C-A6C8-B4DDB19E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BD7-9175-481B-A694-1BA08FB6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91C0-03EA-4A33-B46E-46CC4F82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D3F-3C02-4DEA-AC61-9DDCA057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8F3-4457-40C1-A0F3-05E22A85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1D6-9D3A-4AEF-9F3B-A358F5AD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E20-5264-454B-99CE-66FF965A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4C7-5262-4FFE-9731-ACD7DDA6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63C-0246-4EF5-94A2-C9563259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6F7-5652-4D58-8304-3C9B4A0F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931-EABD-47B4-A724-C83FB4C5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D2D-971C-472E-9956-9D88DBC8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88E5-9580-4FB1-A18A-9DBA6B967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19920" y="-360"/>
            <a:ext cx="3124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w Cen MT"/>
              </a:rPr>
              <a:t>Игра – викторина «Олимп»</a:t>
            </a: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разработала: зам.директора по ВР МБОУ СОШ №7 г-к Анап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Иощик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64120" cy="4457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76920" y="5105520"/>
            <a:ext cx="4044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стория Олимпиад»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 часто проводились Олимпийские игры древности? Как назывался временной промежуток между играми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 раз в 4 года; Олимпиад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172200" y="121932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стория Олимпиад»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 в Древней Греции именовали победителей Олимпийских игр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лимпионик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019920" y="121932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стория Олимпиад»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огда был создан Международный олимпийский комитет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3 июня 1894 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5943600" y="1295280"/>
            <a:ext cx="277164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стория Олимпиад»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год и место проведения первых Олимпийских зимних иг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924 г., Шамони (Франц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019920" y="1295280"/>
            <a:ext cx="277164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стория Олимпиад»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ва продолжительность Олимпийских игр, предусмотренная Олимпийской хартией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4724280"/>
            <a:ext cx="6480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должительность Иг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 должна превышать 16 дн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019920" y="1295280"/>
            <a:ext cx="277164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оссия в Олимпиадах»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гда и где город Сочи был объявлен местом проведения XXII Олимпийских зимних игр и XI Паралимпийских игр 2014 года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724280"/>
            <a:ext cx="648036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 июля 2007 г. Гватем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428840" cy="1051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64690" t="51832" r="-773" b="9556"/>
          <a:stretch/>
        </p:blipFill>
        <p:spPr>
          <a:xfrm>
            <a:off x="6934320" y="380880"/>
            <a:ext cx="19810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оссия в Олимпиадах»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ечислите талисманы Олимпийск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имних игр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городе Со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8098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8098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елый Мишка, Зайка, Леопар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428840" cy="1051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64690" t="51832" r="-773" b="9556"/>
          <a:stretch/>
        </p:blipFill>
        <p:spPr>
          <a:xfrm>
            <a:off x="6934320" y="380880"/>
            <a:ext cx="1981080" cy="917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838080" y="4495680"/>
            <a:ext cx="1757520" cy="2198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553080" y="4419720"/>
            <a:ext cx="1803600" cy="2225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429000" y="4724280"/>
            <a:ext cx="26100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оссия в Олимпиадах»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 Играх какой Олимпиады впервые приняли участие российские спортсмены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0384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4952880"/>
            <a:ext cx="814248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гры IV Олимпиады, 1908 г., Лондо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428840" cy="105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rcRect l="64690" t="51832" r="-773" b="9556"/>
          <a:stretch/>
        </p:blipFill>
        <p:spPr>
          <a:xfrm>
            <a:off x="6934320" y="380880"/>
            <a:ext cx="19810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оссия в Олимпиадах»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год создания Олимпийского комитета в СССР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951 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428480" cy="1050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64690" t="51832" r="-773" b="9556"/>
          <a:stretch/>
        </p:blipFill>
        <p:spPr>
          <a:xfrm>
            <a:off x="6934320" y="380880"/>
            <a:ext cx="19810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оссия в Олимпиадах»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олимпийскую чемпионку, завоевавшую первую в истории отечественного спорта золотую медаль Олимпийских зимних иг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4724280"/>
            <a:ext cx="6618240" cy="106704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ыж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юбовь Баранова (Козырев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428480" cy="1051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rcRect l="64690" t="51832" r="-773" b="9556"/>
          <a:stretch/>
        </p:blipFill>
        <p:spPr>
          <a:xfrm>
            <a:off x="6934320" y="380880"/>
            <a:ext cx="19810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2637000"/>
            <a:ext cx="2000160" cy="5713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9feb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мв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357720"/>
            <a:ext cx="2000160" cy="5713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9feb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я Олимпи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076640"/>
            <a:ext cx="2000160" cy="571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9feb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я в Олимпи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29200"/>
            <a:ext cx="571680" cy="285840"/>
          </a:xfrm>
          <a:prstGeom prst="rect">
            <a:avLst/>
          </a:prstGeom>
          <a:solidFill>
            <a:srgbClr val="cc6600">
              <a:alpha val="87000"/>
            </a:srgbClr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680" y="5929200"/>
            <a:ext cx="8572320" cy="285840"/>
          </a:xfrm>
          <a:prstGeom prst="rect">
            <a:avLst/>
          </a:prstGeom>
          <a:solidFill>
            <a:srgbClr val="558bb8">
              <a:alpha val="78000"/>
            </a:srgbClr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760" y="2571840"/>
            <a:ext cx="8001000" cy="1440"/>
          </a:xfrm>
          <a:prstGeom prst="line">
            <a:avLst/>
          </a:prstGeom>
          <a:ln w="442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760" y="1785960"/>
            <a:ext cx="8001000" cy="1440"/>
          </a:xfrm>
          <a:prstGeom prst="line">
            <a:avLst/>
          </a:prstGeom>
          <a:ln w="442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3284640"/>
            <a:ext cx="8001000" cy="1440"/>
          </a:xfrm>
          <a:prstGeom prst="line">
            <a:avLst/>
          </a:prstGeom>
          <a:ln w="442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760" y="4000680"/>
            <a:ext cx="8001000" cy="1440"/>
          </a:xfrm>
          <a:prstGeom prst="line">
            <a:avLst/>
          </a:prstGeom>
          <a:ln w="442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760" y="4714920"/>
            <a:ext cx="8001000" cy="1440"/>
          </a:xfrm>
          <a:prstGeom prst="line">
            <a:avLst/>
          </a:prstGeom>
          <a:ln w="442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760" y="5429160"/>
            <a:ext cx="8001000" cy="1800"/>
          </a:xfrm>
          <a:prstGeom prst="line">
            <a:avLst/>
          </a:prstGeom>
          <a:ln w="442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1428840" cy="1050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4797360"/>
            <a:ext cx="2000160" cy="571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9feb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араолимпий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479736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1280" y="479736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4797360"/>
            <a:ext cx="7146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38920" y="479736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2560" y="479736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38920" y="4797360"/>
            <a:ext cx="7146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64690" t="51832" r="-773" b="9556"/>
          <a:stretch/>
        </p:blipFill>
        <p:spPr>
          <a:xfrm>
            <a:off x="3352680" y="5573880"/>
            <a:ext cx="2772000" cy="128412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2743200" y="266688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3780000" y="2637000"/>
            <a:ext cx="71424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5" action="ppaction://hlinksldjump"/>
          </p:cNvPr>
          <p:cNvSpPr/>
          <p:nvPr/>
        </p:nvSpPr>
        <p:spPr>
          <a:xfrm>
            <a:off x="4788000" y="2637000"/>
            <a:ext cx="71424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6" action="ppaction://hlinksldjump"/>
          </p:cNvPr>
          <p:cNvSpPr/>
          <p:nvPr/>
        </p:nvSpPr>
        <p:spPr>
          <a:xfrm>
            <a:off x="5867280" y="2637000"/>
            <a:ext cx="71460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7" action="ppaction://hlinksldjump"/>
          </p:cNvPr>
          <p:cNvSpPr/>
          <p:nvPr/>
        </p:nvSpPr>
        <p:spPr>
          <a:xfrm>
            <a:off x="6730920" y="2637000"/>
            <a:ext cx="71460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8" action="ppaction://hlinksldjump"/>
          </p:cNvPr>
          <p:cNvSpPr/>
          <p:nvPr/>
        </p:nvSpPr>
        <p:spPr>
          <a:xfrm>
            <a:off x="7667640" y="2637000"/>
            <a:ext cx="71424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9" action="ppaction://hlinksldjump"/>
          </p:cNvPr>
          <p:cNvSpPr/>
          <p:nvPr/>
        </p:nvSpPr>
        <p:spPr>
          <a:xfrm>
            <a:off x="2771640" y="3357720"/>
            <a:ext cx="71460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0" action="ppaction://hlinksldjump"/>
          </p:cNvPr>
          <p:cNvSpPr/>
          <p:nvPr/>
        </p:nvSpPr>
        <p:spPr>
          <a:xfrm>
            <a:off x="3780000" y="3357720"/>
            <a:ext cx="71424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1" action="ppaction://hlinksldjump"/>
          </p:cNvPr>
          <p:cNvSpPr/>
          <p:nvPr/>
        </p:nvSpPr>
        <p:spPr>
          <a:xfrm>
            <a:off x="4788000" y="3357720"/>
            <a:ext cx="71424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2" action="ppaction://hlinksldjump"/>
          </p:cNvPr>
          <p:cNvSpPr/>
          <p:nvPr/>
        </p:nvSpPr>
        <p:spPr>
          <a:xfrm>
            <a:off x="5867280" y="3357720"/>
            <a:ext cx="71460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3" action="ppaction://hlinksldjump"/>
          </p:cNvPr>
          <p:cNvSpPr/>
          <p:nvPr/>
        </p:nvSpPr>
        <p:spPr>
          <a:xfrm>
            <a:off x="6730920" y="3357720"/>
            <a:ext cx="71460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4" action="ppaction://hlinksldjump"/>
          </p:cNvPr>
          <p:cNvSpPr/>
          <p:nvPr/>
        </p:nvSpPr>
        <p:spPr>
          <a:xfrm>
            <a:off x="7696080" y="3352680"/>
            <a:ext cx="7146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5" action="ppaction://hlinksldjump"/>
          </p:cNvPr>
          <p:cNvSpPr/>
          <p:nvPr/>
        </p:nvSpPr>
        <p:spPr>
          <a:xfrm>
            <a:off x="2819520" y="403848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6" action="ppaction://hlinksldjump"/>
          </p:cNvPr>
          <p:cNvSpPr/>
          <p:nvPr/>
        </p:nvSpPr>
        <p:spPr>
          <a:xfrm>
            <a:off x="3851280" y="407664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4076640"/>
            <a:ext cx="7146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03848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4038480"/>
            <a:ext cx="7146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 3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38920" y="4076640"/>
            <a:ext cx="7146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 3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7"/>
          <a:stretch/>
        </p:blipFill>
        <p:spPr>
          <a:xfrm>
            <a:off x="4952880" y="152280"/>
            <a:ext cx="358776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оссия в Олимпиадах»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имя россиянки трехкратной олимпийской чемпионки по фигурному кат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8620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724280"/>
            <a:ext cx="329076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Ирина Род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3005280" cy="3124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428480" cy="1050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rcRect l="64690" t="51832" r="-773" b="9556"/>
          <a:stretch/>
        </p:blipFill>
        <p:spPr>
          <a:xfrm>
            <a:off x="6934320" y="380880"/>
            <a:ext cx="19810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ралимпийские иг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   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гда и где состоялись первые Паралимпийские игр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960 г., Ри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934320" y="990720"/>
            <a:ext cx="17715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ралимпийские иг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  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является символом Паралимпийских игр и что он означает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267080"/>
            <a:ext cx="135756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419720"/>
            <a:ext cx="7010280" cy="1752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и «агитоса»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мволизир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ум, тело и несломленный ду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172200" y="8380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ралимпийские иг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  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зовите паралимпийский девиз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Дух в движен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172200" y="9907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ралимпийские иг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   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про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зовите Паралимпийские цен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98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4648320"/>
            <a:ext cx="7837560" cy="65232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мелость, Равенство, Решимост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72200" y="9144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ралимпийские иг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числите талисманы Паралимпийских зимних игр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городе Соч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3886200"/>
            <a:ext cx="135756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388620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учик и Снежи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934320" y="990720"/>
            <a:ext cx="1771560" cy="13287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971800" y="4486320"/>
            <a:ext cx="4210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ралимпийские иг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то такие волонтеры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365760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3733920"/>
            <a:ext cx="6934320" cy="2328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лонтер – это добровол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еловек, который доброво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отов потратить свои си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время на пользу общест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ли конкретным людя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имволы»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зовите основополагающий документ олимпийского движения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800600"/>
            <a:ext cx="6632640" cy="83808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лимпийская харт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372360" y="22860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имволы»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то является инициатором возрождения Олимпийских игр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8694"/>
                </a:moveTo>
                <a:lnTo>
                  <a:pt x="7301" y="8694"/>
                </a:lnTo>
                <a:lnTo>
                  <a:pt x="7301" y="14029"/>
                </a:lnTo>
                <a:cubicBezTo>
                  <a:pt x="7301" y="14952"/>
                  <a:pt x="8102" y="15683"/>
                  <a:pt x="9138" y="15683"/>
                </a:cubicBezTo>
                <a:lnTo>
                  <a:pt x="10800" y="15683"/>
                </a:lnTo>
                <a:cubicBezTo>
                  <a:pt x="11836" y="15683"/>
                  <a:pt x="12636" y="14952"/>
                  <a:pt x="12636" y="14029"/>
                </a:cubicBezTo>
                <a:lnTo>
                  <a:pt x="12636" y="8694"/>
                </a:lnTo>
                <a:lnTo>
                  <a:pt x="10800" y="8694"/>
                </a:lnTo>
                <a:lnTo>
                  <a:pt x="14308" y="5186"/>
                </a:lnTo>
                <a:lnTo>
                  <a:pt x="17981" y="8694"/>
                </a:lnTo>
                <a:lnTo>
                  <a:pt x="16144" y="8694"/>
                </a:lnTo>
                <a:lnTo>
                  <a:pt x="16144" y="14029"/>
                </a:lnTo>
                <a:cubicBezTo>
                  <a:pt x="16144" y="16797"/>
                  <a:pt x="13568" y="19356"/>
                  <a:pt x="10800" y="19356"/>
                </a:cubicBezTo>
                <a:lnTo>
                  <a:pt x="9138" y="19356"/>
                </a:lnTo>
                <a:cubicBezTo>
                  <a:pt x="6370" y="19356"/>
                  <a:pt x="3794" y="16797"/>
                  <a:pt x="3794" y="1402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ьер де Куберт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372360" y="22860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имволы»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огда и где состоялись первые Олимпийские игры современности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896 г., Аф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372360" y="22860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имволы»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то является символом Олимпийских игр и что он означает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88620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809880"/>
            <a:ext cx="6694560" cy="2514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ять переплетенных кол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инее, черное, красное, желт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зеленое, которые символизир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единство спортсменов п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нтин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019920" y="114300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имволы»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олимпийский девиз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Быстрее, Выше, Сильне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372360" y="22860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имволы»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Олимпийские ценност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ружба, Совершенство, Уваже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372360" y="22860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стория Олимпиад»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азовите родину Олимпий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4724280"/>
            <a:ext cx="6480360" cy="88128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ревняя Греция, Олим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095880" y="1219320"/>
            <a:ext cx="277200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dcterms:modified xsi:type="dcterms:W3CDTF">2013-04-17T10:36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