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75E-D6B0-4D2D-ABA9-F327ED40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A53-6BC9-4BE3-8A14-5702F4F7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075-55F9-48A6-902A-38437BC2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DAC-4AAD-48DC-A888-DCA52ED7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2D1-9F09-43CA-B637-4217E7C4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0DD-DE50-4EFE-BE08-46E48026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E51-94A9-40D2-A001-47A9322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4698-2659-43E5-8F36-DC1F8115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4FB-6589-4B38-A0F3-C89AEAE2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5FC-62BC-4C08-BC49-C89938E1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D41-83B9-40AF-9A75-2DCA2E1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97A-1375-4565-B8BC-A6493E44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192-FDDA-4C40-B591-EBE748E8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w Cen MT"/>
              </a:rPr>
              <a:t>Игра – викторина «Олимп»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разработала: зам.директора по ВР МБОУ СОШ №7 г-к Анап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Иощик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64120" cy="4457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76920" y="5105520"/>
            <a:ext cx="404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 часто проводились Олимпийские игры древности? Как назывался временной промежуток между играм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 раз в 4 года; Олимпиа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172200" y="121932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 в Древней Греции именовали победителей Олимпийских иг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лимпиони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1932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гда был создан Международный олимпийский комитет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3 июня 1894 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594360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год и место проведения первых Олимпийских зимних иг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24 г., Шамони (Фран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акова продолжительность Олимпийских игр, предусмотренная Олимпийской хартией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4724280"/>
            <a:ext cx="6480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одолжительность Иг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е должна превышать 16 дн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295280"/>
            <a:ext cx="277164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гда и где город Сочи был объявлен местом проведения XXII Олимпийских зимних игр и XI Паралимпийских игр 2014 года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724280"/>
            <a:ext cx="648036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 июля 2007 г. Гвате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28840" cy="105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числите талисманы Олимпийск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имних игр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городе Соч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8098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8098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елый Мишка, Зайка, Леопар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428840" cy="1051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838080" y="4495680"/>
            <a:ext cx="1757520" cy="2198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553080" y="4419720"/>
            <a:ext cx="1803600" cy="2225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29000" y="4724280"/>
            <a:ext cx="26100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 Играх какой Олимпиады впервые приняли участие российские спортсмен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0384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952880"/>
            <a:ext cx="814248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гры IV Олимпиады, 1908 г., Лондо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28840" cy="105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год создания Олимпийского комитета в ССС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951 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428480" cy="1050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ую чемпионку, завоевавшую первую в истории отечественного спорта золотую медаль Олимпийских зимних иг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724280"/>
            <a:ext cx="6618240" cy="106704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ыж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юбовь Баранова (Козырева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428480" cy="10512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37000"/>
            <a:ext cx="2000160" cy="571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357720"/>
            <a:ext cx="2000160" cy="5713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стория Олимпи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76640"/>
            <a:ext cx="2000160" cy="571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 в Олимпи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29200"/>
            <a:ext cx="571680" cy="285840"/>
          </a:xfrm>
          <a:prstGeom prst="rect">
            <a:avLst/>
          </a:prstGeom>
          <a:solidFill>
            <a:srgbClr val="cc6600">
              <a:alpha val="87000"/>
            </a:srgbClr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5929200"/>
            <a:ext cx="8572320" cy="285840"/>
          </a:xfrm>
          <a:prstGeom prst="rect">
            <a:avLst/>
          </a:prstGeom>
          <a:solidFill>
            <a:srgbClr val="558bb8">
              <a:alpha val="78000"/>
            </a:srgbClr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760" y="257184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8760" y="178596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328464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760" y="400068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760" y="4714920"/>
            <a:ext cx="8001000" cy="144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760" y="5429160"/>
            <a:ext cx="8001000" cy="1800"/>
          </a:xfrm>
          <a:prstGeom prst="line">
            <a:avLst/>
          </a:prstGeom>
          <a:ln w="4428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428840" cy="1050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4797360"/>
            <a:ext cx="2000160" cy="571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9febe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араолимпийски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479736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3892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2560" y="479736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38920" y="479736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64690" t="51832" r="-773" b="9556"/>
          <a:stretch/>
        </p:blipFill>
        <p:spPr>
          <a:xfrm>
            <a:off x="3352680" y="5573880"/>
            <a:ext cx="2772000" cy="12841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2743200" y="26668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378000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5" action="ppaction://hlinksldjump"/>
          </p:cNvPr>
          <p:cNvSpPr/>
          <p:nvPr/>
        </p:nvSpPr>
        <p:spPr>
          <a:xfrm>
            <a:off x="478800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6" action="ppaction://hlinksldjump"/>
          </p:cNvPr>
          <p:cNvSpPr/>
          <p:nvPr/>
        </p:nvSpPr>
        <p:spPr>
          <a:xfrm>
            <a:off x="5867280" y="263700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7" action="ppaction://hlinksldjump"/>
          </p:cNvPr>
          <p:cNvSpPr/>
          <p:nvPr/>
        </p:nvSpPr>
        <p:spPr>
          <a:xfrm>
            <a:off x="6730920" y="263700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8" action="ppaction://hlinksldjump"/>
          </p:cNvPr>
          <p:cNvSpPr/>
          <p:nvPr/>
        </p:nvSpPr>
        <p:spPr>
          <a:xfrm>
            <a:off x="7667640" y="263700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9" action="ppaction://hlinksldjump"/>
          </p:cNvPr>
          <p:cNvSpPr/>
          <p:nvPr/>
        </p:nvSpPr>
        <p:spPr>
          <a:xfrm>
            <a:off x="277164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0" action="ppaction://hlinksldjump"/>
          </p:cNvPr>
          <p:cNvSpPr/>
          <p:nvPr/>
        </p:nvSpPr>
        <p:spPr>
          <a:xfrm>
            <a:off x="3780000" y="335772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1" action="ppaction://hlinksldjump"/>
          </p:cNvPr>
          <p:cNvSpPr/>
          <p:nvPr/>
        </p:nvSpPr>
        <p:spPr>
          <a:xfrm>
            <a:off x="4788000" y="3357720"/>
            <a:ext cx="71424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2" action="ppaction://hlinksldjump"/>
          </p:cNvPr>
          <p:cNvSpPr/>
          <p:nvPr/>
        </p:nvSpPr>
        <p:spPr>
          <a:xfrm>
            <a:off x="586728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3" action="ppaction://hlinksldjump"/>
          </p:cNvPr>
          <p:cNvSpPr/>
          <p:nvPr/>
        </p:nvSpPr>
        <p:spPr>
          <a:xfrm>
            <a:off x="6730920" y="3357720"/>
            <a:ext cx="714600" cy="571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4" action="ppaction://hlinksldjump"/>
          </p:cNvPr>
          <p:cNvSpPr/>
          <p:nvPr/>
        </p:nvSpPr>
        <p:spPr>
          <a:xfrm>
            <a:off x="7696080" y="335268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5" action="ppaction://hlinksldjump"/>
          </p:cNvPr>
          <p:cNvSpPr/>
          <p:nvPr/>
        </p:nvSpPr>
        <p:spPr>
          <a:xfrm>
            <a:off x="2819520" y="40384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6" action="ppaction://hlinksldjump"/>
          </p:cNvPr>
          <p:cNvSpPr/>
          <p:nvPr/>
        </p:nvSpPr>
        <p:spPr>
          <a:xfrm>
            <a:off x="3851280" y="407664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 1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407664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038480"/>
            <a:ext cx="71424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4 2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03848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5 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38920" y="4076640"/>
            <a:ext cx="7146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6 3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4952880" y="152280"/>
            <a:ext cx="358776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оссия в Олимпиадах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имя россиянки трехкратной олимпийской чемпионки по фигурному кат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8862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724280"/>
            <a:ext cx="3290760" cy="1143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Ирина Род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3005280" cy="3124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28480" cy="1050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rcRect l="64690" t="51832" r="-773" b="9556"/>
          <a:stretch/>
        </p:blipFill>
        <p:spPr>
          <a:xfrm>
            <a:off x="6934320" y="380880"/>
            <a:ext cx="198108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огда и где состоялись первые Паралимпийские игр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960 г., Ри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71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является символом Паралимпийских игр и что он означает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267080"/>
            <a:ext cx="135756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419720"/>
            <a:ext cx="7010280" cy="1752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и «агитоса», котор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мволизир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азум, тело и несломленный ду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овите паралимпийский деви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ух в движе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зовите Паралимпийские цен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98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648320"/>
            <a:ext cx="7837560" cy="652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мелость, Равенство, Решимост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ислите талисманы Паралимпийских зимних игр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городе Соч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886200"/>
            <a:ext cx="135756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388620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Лучик и Снежи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934320" y="990720"/>
            <a:ext cx="1771560" cy="1328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971800" y="4486320"/>
            <a:ext cx="42102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аралимпийские игры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»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то такие волонтеры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36576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3733920"/>
            <a:ext cx="6934320" cy="2328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лонтер – это доброволец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еловек, который доброво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тов потратить свои си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 время на пользу обще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ли конкретным людя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28195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Назовите основополагающий документ олимпийского движения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838188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800600"/>
            <a:ext cx="6632640" cy="838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Олимпийская харт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Кто является инициатором возрождения Олимпийских игр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8694"/>
                </a:moveTo>
                <a:lnTo>
                  <a:pt x="7301" y="8694"/>
                </a:lnTo>
                <a:lnTo>
                  <a:pt x="7301" y="14029"/>
                </a:lnTo>
                <a:cubicBezTo>
                  <a:pt x="7301" y="14952"/>
                  <a:pt x="8102" y="15683"/>
                  <a:pt x="9138" y="15683"/>
                </a:cubicBezTo>
                <a:lnTo>
                  <a:pt x="10800" y="15683"/>
                </a:lnTo>
                <a:cubicBezTo>
                  <a:pt x="11836" y="15683"/>
                  <a:pt x="12636" y="14952"/>
                  <a:pt x="12636" y="14029"/>
                </a:cubicBezTo>
                <a:lnTo>
                  <a:pt x="12636" y="8694"/>
                </a:lnTo>
                <a:lnTo>
                  <a:pt x="10800" y="8694"/>
                </a:lnTo>
                <a:lnTo>
                  <a:pt x="14308" y="5186"/>
                </a:lnTo>
                <a:lnTo>
                  <a:pt x="17981" y="8694"/>
                </a:lnTo>
                <a:lnTo>
                  <a:pt x="16144" y="8694"/>
                </a:lnTo>
                <a:lnTo>
                  <a:pt x="16144" y="14029"/>
                </a:lnTo>
                <a:cubicBezTo>
                  <a:pt x="16144" y="16797"/>
                  <a:pt x="13568" y="19356"/>
                  <a:pt x="10800" y="19356"/>
                </a:cubicBezTo>
                <a:lnTo>
                  <a:pt x="9138" y="19356"/>
                </a:lnTo>
                <a:cubicBezTo>
                  <a:pt x="6370" y="19356"/>
                  <a:pt x="3794" y="16797"/>
                  <a:pt x="3794" y="1402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Когда и где состоялись первые Олимпийские игры современност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1896 г., Аф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имволы»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Что является символом Олимпийских игр и что он означает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8620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809880"/>
            <a:ext cx="6694560" cy="2514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ять переплетенных ко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инее, черное, красное, желт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 зеленое, которые символизир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единство спортсменов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нтин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19920" y="11430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ий девиз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Быстрее, Выше, Сильн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имволы»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азовите Олимпийские ценност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724280"/>
            <a:ext cx="6480000" cy="576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ружба, Совершенство, Уважен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372360" y="228600"/>
            <a:ext cx="277164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Раздел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стория Олимпиад»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Назовите родину Олимпий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8534520" y="61722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3794" y="8844"/>
                </a:moveTo>
                <a:lnTo>
                  <a:pt x="7301" y="8844"/>
                </a:lnTo>
                <a:lnTo>
                  <a:pt x="7301" y="14180"/>
                </a:lnTo>
                <a:cubicBezTo>
                  <a:pt x="7301" y="15102"/>
                  <a:pt x="8102" y="15833"/>
                  <a:pt x="9138" y="15833"/>
                </a:cubicBezTo>
                <a:lnTo>
                  <a:pt x="10800" y="15833"/>
                </a:lnTo>
                <a:cubicBezTo>
                  <a:pt x="11836" y="15833"/>
                  <a:pt x="12636" y="15102"/>
                  <a:pt x="12636" y="14180"/>
                </a:cubicBezTo>
                <a:lnTo>
                  <a:pt x="12636" y="8844"/>
                </a:lnTo>
                <a:lnTo>
                  <a:pt x="10800" y="8844"/>
                </a:lnTo>
                <a:lnTo>
                  <a:pt x="14308" y="5337"/>
                </a:lnTo>
                <a:lnTo>
                  <a:pt x="17981" y="8844"/>
                </a:lnTo>
                <a:lnTo>
                  <a:pt x="16144" y="8844"/>
                </a:lnTo>
                <a:lnTo>
                  <a:pt x="16144" y="14180"/>
                </a:lnTo>
                <a:cubicBezTo>
                  <a:pt x="16144" y="16947"/>
                  <a:pt x="13568" y="19506"/>
                  <a:pt x="10800" y="19506"/>
                </a:cubicBezTo>
                <a:lnTo>
                  <a:pt x="9138" y="19506"/>
                </a:lnTo>
                <a:cubicBezTo>
                  <a:pt x="6370" y="19506"/>
                  <a:pt x="3794" y="16947"/>
                  <a:pt x="3794" y="1418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4724280"/>
            <a:ext cx="1357200" cy="571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9feb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4724280"/>
            <a:ext cx="6480360" cy="881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Древняя Греция, Олимп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64690" t="51832" r="-773" b="9556"/>
          <a:stretch/>
        </p:blipFill>
        <p:spPr>
          <a:xfrm>
            <a:off x="6095880" y="1219320"/>
            <a:ext cx="277200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3-04-17T10:36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