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43B-5E7A-427C-95E1-D045FA40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F8C-2034-4113-B1E4-670D142F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CCD3-39E2-41A8-8EA6-8F03557B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DE9-ECFC-463E-9545-1D431EA8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1B40-38E8-4049-9088-48231A3D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027-42B6-44C4-BFFA-36DB4D89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343-F3C4-4245-AA58-5D31BA28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AE08-B3DC-41A8-B329-9E14D039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0CE7-B95B-49B3-A0B6-2129E40A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651-EAC1-41A8-B1C5-246AE5FE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CA1C-686A-4087-9E77-637B5ACC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1717-3C9E-4D35-ACCA-9BEEA7CD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B56E-4E3D-427A-A18F-D0FE88DF33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2.xml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4.xml"/><Relationship Id="rId3" Type="http://schemas.openxmlformats.org/officeDocument/2006/relationships/slide" Target="slide2.xml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00000" y="765000"/>
            <a:ext cx="712800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ВАШ ВЫБ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48000" y="33336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006600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2484360" y="568944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628640"/>
            <a:ext cx="82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колько двоичных символов используется для кодировки одной букв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419640" y="3357720"/>
            <a:ext cx="192384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3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Impact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189000"/>
            <a:ext cx="1729080" cy="115236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2556000" y="573408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84464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называется часть текста, набор которой ограничивается нажатием клавиш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08000" y="3860640"/>
            <a:ext cx="4969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Impact"/>
              </a:rPr>
              <a:t>АБЗА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189000"/>
            <a:ext cx="1729080" cy="115236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2556000" y="573408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84464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называется выделенная часть текста, которая является  объектом последующей команд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9640" y="3860640"/>
            <a:ext cx="828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Impact"/>
              </a:rPr>
              <a:t>ФРАГМЕНТ ТЕКС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189000"/>
            <a:ext cx="1729080" cy="115236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2556000" y="573408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8446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называется информация, вводимая с клавиатур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908000" y="3860640"/>
            <a:ext cx="4969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Impact"/>
              </a:rPr>
              <a:t>ТЕКС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189000"/>
            <a:ext cx="1729080" cy="115236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2556000" y="573408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1484280"/>
            <a:ext cx="864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называется графический объект, который может быть внедрен или создан с помощью панели инструментов Рисова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908000" y="3860640"/>
            <a:ext cx="4969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Impact"/>
              </a:rPr>
              <a:t>РИСУН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260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33339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2484360" y="580536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1268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то относится к форматированию шриф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565360"/>
            <a:ext cx="9144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менение типа, размера, начертания шрифт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здание дополнительных эффекто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формление текста с помощью аним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60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33339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2484360" y="580536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480" y="170028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ля чего предназначена кнопка панели инструментов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95280" y="3860640"/>
            <a:ext cx="828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Impact"/>
              </a:rPr>
              <a:t>ИЗМЕНЕНИЕ ТИПА ШРИФ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268360" y="2924280"/>
            <a:ext cx="4608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260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33339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2484360" y="580536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184464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помощью какой команды выполняется форматирование шриф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9640" y="3860640"/>
            <a:ext cx="7993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Impact"/>
              </a:rPr>
              <a:t>ФОРМАТ - ШРИФ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260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33339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2484360" y="580536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18446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вижущиеся эффекты шрифта называются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9640" y="3860640"/>
            <a:ext cx="7993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Impact"/>
              </a:rPr>
              <a:t>АНИМ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260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cc3300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2484360" y="568944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1268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то относится к форматированию абза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56536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менение границ рабочего пол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становка красной строк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менение выравнивания и междустрочного интерва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1" action="ppaction://hlinksldjump"/>
          </p:cNvPr>
          <p:cNvSpPr/>
          <p:nvPr/>
        </p:nvSpPr>
        <p:spPr>
          <a:xfrm>
            <a:off x="395280" y="907920"/>
            <a:ext cx="3456000" cy="12258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99ffcc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ПРЕДСТА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ТЕСТО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1908000" y="2349360"/>
            <a:ext cx="3456000" cy="10083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99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3924360" y="3573360"/>
            <a:ext cx="3456000" cy="1008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ФОРМА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шриф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5688000" y="4941720"/>
            <a:ext cx="3456000" cy="10083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50000">
                <a:srgbClr val="ffccff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ФОРМА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абза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3794"/>
                </a:moveTo>
                <a:lnTo>
                  <a:pt x="24695" y="10800"/>
                </a:lnTo>
                <a:lnTo>
                  <a:pt x="10682" y="17806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260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cc3300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2484360" y="568944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184464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 помощью какой команды выполняется форматирование абзац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9640" y="3860640"/>
            <a:ext cx="7993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Impact"/>
              </a:rPr>
              <a:t>ФОРМАТ - АБЗА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19640" y="260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cc3300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2484360" y="568944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1480" y="148428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ля чего предназначена кнопка панели инструментов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3573360"/>
            <a:ext cx="82072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Impact"/>
              </a:rPr>
              <a:t>УСТАНОВ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Impact"/>
              </a:rPr>
              <a:t>ВЫРАВНИВАНИЯ ПО ШИРИ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789360" y="2565360"/>
          <a:ext cx="1170000" cy="12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9360" y="2565360"/>
                    <a:ext cx="11700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19640" y="260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cc3300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2484360" y="568944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119700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зовите способы установки «красной» стро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2924280"/>
            <a:ext cx="799308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помощью команды Формат – Абзац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помощью верхнего ограничителя на  координатной линейк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помощью клавиш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84464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006600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1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2492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006600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4920" y="321300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006600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3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46920" y="407664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006600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4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5" action="ppaction://hlinksldjump"/>
          </p:cNvPr>
          <p:cNvSpPr/>
          <p:nvPr/>
        </p:nvSpPr>
        <p:spPr>
          <a:xfrm>
            <a:off x="2484360" y="530064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84464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27280" y="2492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4920" y="321300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46920" y="407664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4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3" action="ppaction://hlinksldjump"/>
          </p:cNvPr>
          <p:cNvSpPr/>
          <p:nvPr/>
        </p:nvSpPr>
        <p:spPr>
          <a:xfrm>
            <a:off x="2484360" y="530064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84464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33339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27280" y="2492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33339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14920" y="321300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33339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6920" y="407664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33339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2484360" y="530064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84464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cc3300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27280" y="2492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cc3300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14920" y="321300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cc3300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46920" y="407664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cc3300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2484360" y="530064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1628640"/>
            <a:ext cx="75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колько символов содержит компьютерный алфави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0920" y="260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006600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340000" y="2852640"/>
            <a:ext cx="4680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56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мвол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2484360" y="580536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2484360" y="568944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260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006600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141300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то содержится в стандартной части компьютерного алфави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2637000"/>
            <a:ext cx="792180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Прописные и строчные буквы     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английского алфавит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Цифр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Знаки препина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Arial"/>
              </a:rPr>
              <a:t>Специальные символ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260280"/>
            <a:ext cx="1728720" cy="1152720"/>
          </a:xfrm>
          <a:prstGeom prst="flowChartAlternateProcess">
            <a:avLst/>
          </a:prstGeom>
          <a:gradFill rotWithShape="0">
            <a:gsLst>
              <a:gs pos="0">
                <a:srgbClr val="006600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2484360" y="5689440"/>
            <a:ext cx="3960720" cy="1052640"/>
          </a:xfrm>
          <a:custGeom>
            <a:avLst/>
            <a:gdLst>
              <a:gd name="textAreaLeft" fmla="*/ 68040 w 3960720"/>
              <a:gd name="textAreaRight" fmla="*/ 3892680 w 396072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81253" h="21600">
                <a:moveTo>
                  <a:pt x="0" y="0"/>
                </a:moveTo>
                <a:lnTo>
                  <a:pt x="81253" y="0"/>
                </a:lnTo>
                <a:lnTo>
                  <a:pt x="81253" y="21600"/>
                </a:lnTo>
                <a:lnTo>
                  <a:pt x="0" y="21600"/>
                </a:lnTo>
                <a:close/>
              </a:path>
              <a:path fill="lightenLess" w="81253" h="21600">
                <a:moveTo>
                  <a:pt x="0" y="0"/>
                </a:moveTo>
                <a:lnTo>
                  <a:pt x="81253" y="0"/>
                </a:lnTo>
                <a:lnTo>
                  <a:pt x="79853" y="1400"/>
                </a:lnTo>
                <a:lnTo>
                  <a:pt x="1400" y="1400"/>
                </a:lnTo>
                <a:close/>
              </a:path>
              <a:path fill="darken" w="81253" h="21600">
                <a:moveTo>
                  <a:pt x="81253" y="0"/>
                </a:moveTo>
                <a:lnTo>
                  <a:pt x="81253" y="21600"/>
                </a:lnTo>
                <a:lnTo>
                  <a:pt x="79853" y="20200"/>
                </a:lnTo>
                <a:lnTo>
                  <a:pt x="79853" y="1400"/>
                </a:lnTo>
                <a:close/>
              </a:path>
              <a:path fill="darkenLess" w="81253" h="21600">
                <a:moveTo>
                  <a:pt x="81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53" y="20200"/>
                </a:lnTo>
                <a:close/>
              </a:path>
              <a:path fill="lighten" w="81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РАТЬ 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48428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я кодировки каких символов используется вторая часть таблицы кодиров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47640" y="3357720"/>
            <a:ext cx="61930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Impact"/>
              </a:rPr>
              <a:t>Для кодировк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Impact"/>
              </a:rPr>
              <a:t>национальны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Impact"/>
              </a:rPr>
              <a:t>алфавит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4:36:57Z</dcterms:created>
  <dc:creator>Сергей</dc:creator>
  <dc:description/>
  <dc:language>en-US</dc:language>
  <cp:lastModifiedBy>K18 1</cp:lastModifiedBy>
  <dcterms:modified xsi:type="dcterms:W3CDTF">2007-11-30T05:50:30Z</dcterms:modified>
  <cp:revision>14</cp:revision>
  <dc:subject/>
  <dc:title>Слайд 1</dc:title>
</cp:coreProperties>
</file>