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BE3-C8BB-434C-96DA-DBC387F0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8C7-DE9D-4947-A1F4-EE5469E9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BC1-FF79-43D8-A7F0-99FBFC9F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677-0A9A-477F-8931-DB1A0E2E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760-49D8-4B7E-A9C1-B0C4F8B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AC4-61B3-4B4F-954C-76808BF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474-5968-47E6-A8E3-C7D69E7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112-F569-4809-9196-052EB812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136-DFEF-488C-8460-52684D1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CD0-EE21-4DFD-8D8C-1D7EBB8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DE6-7A18-499A-8579-5C1D996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071-E611-4510-BCD7-5D61840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1A53-0261-4350-A04E-882018BE6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765000"/>
            <a:ext cx="7128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ВАШ ВЫБ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3336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62864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двоичных символов используется для кодировки одной букв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19640" y="3357720"/>
            <a:ext cx="19238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часть текста, набор которой ограничивается нажатием клавиш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АБЗА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84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выделенная часть текста, которая является  объектом последующей коман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3860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РАГМЕНТ 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4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информация, вводимая с клавиату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ТЕК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48428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графический объект, который может быть внедрен или создан с помощью панели инструментов Рисо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РИСУ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относится к форматированию шриф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6536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типа, размера, начертания шриф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дополнительных эфф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формление текста с помощью ани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" y="17002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предназначена кнопка панели инструмен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3860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ИЗМЕНЕНИЕ ТИПА ШРИФ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608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мощью какой команды выполняется форматирование шриф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ОРМАТ - ШРИФ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1844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ижущиеся эффекты шрифта называют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АНИ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относится к форматированию абза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56536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границ рабочего пол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тановка красной стро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выравнивания и междустрочного интер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5280" y="907920"/>
            <a:ext cx="3456000" cy="122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99ffcc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ЕД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ТЕСТ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908000" y="2349360"/>
            <a:ext cx="3456000" cy="1008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924360" y="3573360"/>
            <a:ext cx="3456000" cy="100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шри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5688000" y="4941720"/>
            <a:ext cx="3456000" cy="1008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cc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бз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мощью какой команды выполняется форматирование абза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ОРМАТ - АБЗА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1480" y="14842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предназначена кнопка панели инструмен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357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УСТАНОВ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ВЫРАВНИВАНИЯ ПО ШИР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789360" y="2565360"/>
          <a:ext cx="1170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9360" y="2565360"/>
                    <a:ext cx="1170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197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овите способы установки «красной» ст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924280"/>
            <a:ext cx="7993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команды Формат – Абзац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верхнего ограничителя на  координатной линейк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клавиш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символов содержит компьютерный алфав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09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40000" y="2852640"/>
            <a:ext cx="468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56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41300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содержится в стандартной части компьютерного алфав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37000"/>
            <a:ext cx="79218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Прописные и строчные буквы     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английского алфави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Цифр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Знаки препин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Специальные симв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484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кодировки каких символов используется вторая часть таблицы кодиров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47640" y="3357720"/>
            <a:ext cx="6193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Для кодиров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националь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</a:rPr>
              <a:t>алфави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6:57Z</dcterms:created>
  <dc:creator>Сергей</dc:creator>
  <dc:description/>
  <dc:language>en-US</dc:language>
  <cp:lastModifiedBy>K18 1</cp:lastModifiedBy>
  <dcterms:modified xsi:type="dcterms:W3CDTF">2007-11-30T05:50:30Z</dcterms:modified>
  <cp:revision>14</cp:revision>
  <dc:subject/>
  <dc:title>Слайд 1</dc:title>
</cp:coreProperties>
</file>