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704-B4CD-4D9F-B6D8-006156F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9BF-8DD7-4D52-BD3C-4E3104CA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D47A1-7122-4B10-8D24-0F314980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20B30-F07A-4AE6-8234-A39EB9B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47BD-751D-48DF-B610-EA7485CD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45A23-CCB0-4E96-ACCC-49A02BA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47A63-5C69-40B4-912B-A7B20085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F997B-4D4D-425E-B8D9-104A271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2C7D7-BCA4-4B27-8B6C-89C7B493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24C4-8A72-499F-9596-AC33E76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AD3E-4E87-4B91-A790-F361BBA1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DCF9C-87BA-4E40-9A7D-A5D1BB69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F85-AAEA-4984-A2DF-70D238D4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A7B8E-6719-456A-95F9-846512A1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DF5513-95C3-4808-842D-C1CF9D0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8FAB1-28FB-48D2-AB46-EBA3451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77E0DC-14F4-4C43-99CD-F87FE78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A2E5D3-D74E-4746-88C5-2507951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64AAA-F3B7-42C1-89DB-009ABDB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90D8B-5FAC-4139-AB0D-9AD12AA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8D1433-B5D8-4E98-AECB-A74A4B47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109A55-89B3-43FE-BB4A-CC8C9FA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216313-B196-4E41-8BD5-023BBDAB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272-A553-4BF8-A221-220C244D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35D1F0-622D-437D-861A-737890A0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29478-BD13-485D-8C1B-32F9638D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F743D-DB79-4CD3-8878-F870367B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2B2CC-E243-47E4-B07D-D83E6DDF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F5477-FBB6-4397-BC85-56745CC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9157B-59CC-4432-9704-80D85F4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01277-87D7-4542-BC69-8A59D28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FA79C-0BF8-4D98-8034-1904D2F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33A0E-7572-492B-8CDC-E487BCF1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5173D-8389-45AA-8FFA-C112044A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372D-CA45-40E1-A47B-B171B310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FFAE8-E1F6-4C7F-B8CC-F196652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3347D-09D9-43A0-84AF-688A2B8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42C9C-7829-4493-9A94-6C0059D7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3A233-D2F5-4609-8280-10951857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25019-1E61-4239-BD82-B7263D9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29C72-DD6F-435C-93CF-CBD8C32A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FF2E7-870C-4BC2-89C4-BB7C5266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35DCC4-5F5F-4A63-A89B-6653153B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F12FE-1966-4BC5-BF93-E2C9A08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742B0-985A-4872-BD7D-B7D092E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676-E7A2-4A98-B4C7-3509AB52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AED4B0-1AD5-4DC1-8369-16410CE8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DC6CB-7DC7-4552-A5EB-3F59352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B8D5A-5438-420F-9384-84FC487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B3597-08BF-47AC-A8D8-77D41D1B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D21C5-3EAA-4FBB-BC02-E80934A6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75876-9746-4A07-A05C-4ED6C229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CA3F5-BE3E-4333-90D3-B9E6D22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332CE-157F-4670-8D7C-3986BA1D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0A26A-249A-4D64-85F8-1C94AC08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5F29E-F807-46B0-B92D-CE334766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D31F-D629-4165-AB84-02FF937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8EB92-1F18-4E11-A167-AFF3CB6E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89B0A-7F1D-404D-8DF5-FE4B1A10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41BEF-DCF9-49A0-BB6D-6890A6A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528C2-E428-49A8-8542-56E4981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7C88F-162C-402A-95E0-2058811A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761CE-7D3F-4207-9859-E9D4606F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AC1D5-30BF-4CAD-9C83-4BDD0C81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FB343F-1A38-46DD-B9B5-9124549A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7AD8C-1DDF-407B-88D0-4F6BB96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21E55-8E96-40DB-93FB-A583AA9D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A936-2F1E-4633-AAB9-0E38E5C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F7A7A-2F37-42B1-B5B7-CAEC4C2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292DC-6DB8-435B-B081-B6BBF2B5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AC60F-B983-46B7-B2C7-3D6C1DBC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BF50E-EF4D-4D2D-B416-9033016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634E8-50A1-4ABE-8E61-E9D30FB9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384E6-7C16-4E1B-9183-A8077462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5F6AF-A886-424C-9B5D-5EE0DD7D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CB810-D288-4B11-897D-9206A8AD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FF6E3-F4D4-48D8-A0A8-9DED1BF9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FD5B5-7826-4205-B697-8E813A65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2D6-8726-44FA-8348-C1A69158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F452D-519E-47B5-97CE-2CE8EBE0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64B27-EDD2-4D47-9EAC-57E0ED3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995F2-4664-40CC-BD88-5EFA7585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C4E72-C3F9-43B5-9E7B-D07C498E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44836-AA3F-4A27-9875-B3549FE0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028E1B-A5D1-4001-AC3B-C054EBB5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660F7E-71A8-42D7-A904-4149202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15B42-B33F-4181-90CB-2433977B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F6C48-5213-4E76-9992-70BCF2D4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A010FB-D752-4F02-BE92-C5831DC9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D376-C096-4E00-BF12-D15F6A2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C4CF2-F58C-4229-86D6-8A75592A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B0B6E-8CE4-4766-B500-35E62830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0C3E1-289D-4FE8-AC97-FE0D314A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ACE2A-DCBB-4FEB-933D-922BCE0A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2BE29-E398-4DBB-AC66-1F240CB1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76E12-B751-4BF2-B7A1-F7A6EF3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BB09F-AC8A-43DA-A9FA-C2036EBD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17599-6272-43AB-AADA-3B7C0DF4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C5E14-28C4-471C-B048-D331833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B833E-D4F6-4715-90A4-2EB5AD14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3A7-249C-423F-80A0-3BDB10D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C5533-7929-4ED6-8C81-BD13BD2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E0ACE3-80F6-4042-B073-7696F18E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32C1F8-F18A-4A56-9078-987618AC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B78-4399-4C1F-84CF-6372F5C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7231-C058-42CC-B1CD-8815D43A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0299-4903-42EB-BE13-9E745584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2A6-8A68-4DCC-999E-42FF29EC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B303-DD56-4AC1-BE4F-FE39CBF2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699-AA6B-4D75-A71D-8C566B1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8F72-A9F4-4FEE-9AF4-BBD87C22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C342-474D-48D8-916A-1C970A97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620A-50E6-4C63-9A37-D15AE21B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2CDC8-BDC1-464E-8D99-E7A9B78A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941E-1C71-4110-B65A-79D48287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8EB-D317-4F2E-AF9A-917FA747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BFB5-11E8-4151-AE04-E57AE07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CD725-81CC-42D2-9AE3-022825E3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A1A3-33DE-4AA4-9E3F-D08AC55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7D0C1-3B8C-45B2-84D1-DA55876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F444-2CE8-443E-B99C-DABB574A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CCFB-1910-4F88-89F3-80CFBCD3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1BDCD-FD34-4102-ADC9-4E30DC1A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67A27-18D8-43FE-A0E5-D98CA9B7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0619-BCA8-44CE-A91E-D788476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F11A-8098-45DD-8D3C-ED868B43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D13-2232-4330-B4FB-101110F9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759CE-4C16-4B23-B356-1EE5F020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61B7-7DFE-4AC4-A17C-C17B9BD5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9F699-9D56-478A-86C1-D3149EEA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3D33-5343-4266-8933-79233C3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D418-4676-4491-B7F3-E54BCB0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0A5E4-E60A-4E36-B663-D7897C3E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29A39-76DE-43E3-B85C-FA63E273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DFB8-260C-4042-A19F-605D93C1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96CE-52CB-41F2-8946-5FA2CD04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6DCEB-6F8F-4366-B36E-6BA3C585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782-8B8E-4ED7-9174-D53D03BD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4C14-DCAF-4C9B-A4AB-875407AD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419D-B029-4269-829D-9BF37FF2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FEAA-FB6F-47E8-B042-902FE424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C763-60C0-4DB5-8F4B-E0D926E4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760D-5AF1-49CD-8175-BCE3DF81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D00C-459A-489A-B5BF-2A4E3C8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8D0E-2ADC-43DD-8F88-BC6E19D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CCDC-B38F-4762-871A-F72CEA5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19057-6EA4-4D8E-8FDB-7732A21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35AE7-46C2-4CA8-873B-B72E5BA2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07E-5AF4-4A54-9004-E81713A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4BD0-ACDE-418F-B3F4-336A3D01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331F-4943-462F-8C55-B9FD6EAFD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1771-8FA9-447B-BD8E-6D99CBA3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F05B-132E-428B-A1BB-6A8ACA7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24182-CB90-4E46-BEA3-6C6D5874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1D7CB-7E4F-4937-8C9A-D664DB85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6A16-C5AA-4021-BE6A-BC7FD2CF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D6FA3-2842-40BF-955F-179C53F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D5082-4755-4FBC-A066-B6231409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82F18-50D8-407E-A6AC-98F2337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9EC-939B-4C93-B08A-1A995093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F60B3-1B1B-481E-918C-DC48D01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5E7D-85B1-4ADA-AB2C-FF09BC7CC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A59D1-DD85-4D7B-A848-FA8A151D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D358D-D852-4FBB-8A5A-B78C28F6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A0217-0F27-4E9B-9A53-56A58D4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5314-5B93-4686-9E1D-D7FCE05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A5CD-98E5-4FBB-8DAD-682DEDA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9D4EF-7D0A-495A-A0AB-FAE64C68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587A5-D64C-4661-81D5-DC5A599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2933C-B202-409B-AF29-F36F18E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7A3-6159-4498-83E8-7C3F4A3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98703-2EA8-4BAB-8950-8F643BB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D06D-DAC9-4C6A-BE2A-D3448AE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FCC2D-038E-466D-A174-B82806C4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E1C2-3494-42A8-8120-A136A47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12255-2D7D-4789-A2CA-D90F93B4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35B36-DAA2-471A-9D1A-6EF4978F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9109-6FE3-46B7-8B84-6A1FE4CE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5AA40-42BC-4775-9230-811AAE9F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8703-64DE-4C44-AA15-2E677D9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D5C4E-9507-4F7C-B917-0E8E7298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D41-68E8-46D8-9E98-10CE70F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7379D-77A7-4F78-BDB7-73B8588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48DBE-B709-4D83-847A-7AE44B1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F82B-7D17-46DB-B1B6-BCCA8F8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9EB1-4A48-45CC-95A3-4920EBD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B9604-633E-4A29-B7AD-649F73DB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3FD5-7625-402F-B3DE-47D1BC8C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D72AB-E033-4AB8-8264-4C893C0F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59A46-C618-4954-A172-FE007AA0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C2BB3-20EA-45AE-9710-A4329A71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CC3E9-74F1-4827-9CF9-4979AB1F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4BC9-1359-44D8-9804-D5BEEBF7275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D2F-4B55-4126-AC28-2590801D11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1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479-0CBF-4EF7-B60E-DA4BE1DB2DE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0AB8-EDBD-4B72-8D60-13659003826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3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9064-666F-45A3-88CA-258B86D7350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1A1-4C2F-4767-B132-E50094CF7DF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4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4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4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ADE8-25F8-4900-AC07-EDA7EFACA4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4EE-F418-47B3-941C-0748FD7904E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DB90-0C00-4313-9BC3-C443DAF14E7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06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3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8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09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2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3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F4A0-56BA-4AD2-87B2-627EF3564E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5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59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0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64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7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9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70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2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3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4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77F-9CE9-4A59-84D9-07E1462FD3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18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20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21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24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5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0173-3660-4E8D-8156-62069DA277A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c0504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c0504d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6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7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8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8FC9-3495-45FE-B7B6-F6ED2DBD5BF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0B2A-72B5-401B-82E0-4D1AE17954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6A1C-C58D-4D58-9789-52016EAFC2E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c0504d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bbb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3D2D-A92D-4519-A74E-677216C9A8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2050560" y="4005000"/>
            <a:ext cx="676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314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Выступление заместителя директора школы по УВР ПоддубнякМ.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148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2013 год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323640" y="90792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чество образования – залог успеха школы.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3" descr=""/>
          <p:cNvPicPr/>
          <p:nvPr/>
        </p:nvPicPr>
        <p:blipFill>
          <a:blip r:embed="rId1"/>
          <a:stretch/>
        </p:blipFill>
        <p:spPr>
          <a:xfrm>
            <a:off x="395280" y="870120"/>
            <a:ext cx="8497800" cy="59878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2"/>
          <p:cNvSpPr/>
          <p:nvPr/>
        </p:nvSpPr>
        <p:spPr>
          <a:xfrm>
            <a:off x="366840" y="117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Мониторинг качества обучения физической культуры за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риместр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за 2012-13 уч.г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Прямоугольник 3"/>
          <p:cNvSpPr/>
          <p:nvPr/>
        </p:nvSpPr>
        <p:spPr>
          <a:xfrm>
            <a:off x="468360" y="260280"/>
            <a:ext cx="835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востребованность полученных знаний в конкретных условиях и местах их применения для достижения конкретной цели и повышения качества жизни выпускни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развитие качества образования предполагает постоянное совершенствование трех составляющих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результатов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образовательного процесса;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и педагогических работников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8785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Заголовок 1" descr=""/>
          <p:cNvPicPr/>
          <p:nvPr/>
        </p:nvPicPr>
        <p:blipFill>
          <a:blip r:embed="rId1"/>
          <a:stretch/>
        </p:blipFill>
        <p:spPr>
          <a:xfrm>
            <a:off x="396720" y="103320"/>
            <a:ext cx="7912080" cy="95076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образовательной программы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потенциала педагогического состава, задействованного в образовательном процессе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средств образовательного процесса (материально-технической, лабораторно-экспериментальной базы, учебно-методического обеспечения, учебных кабинетов, транслируемых знаний и др.)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образовательных технологий;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чества управления образовательными системами и процессами (управленческих технологий в образовании)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Заголовок 1" descr=""/>
          <p:cNvPicPr/>
          <p:nvPr/>
        </p:nvPicPr>
        <p:blipFill>
          <a:blip r:embed="rId1"/>
          <a:stretch/>
        </p:blipFill>
        <p:spPr>
          <a:xfrm>
            <a:off x="255600" y="176040"/>
            <a:ext cx="8931240" cy="1835280"/>
          </a:xfrm>
          <a:prstGeom prst="rect">
            <a:avLst/>
          </a:prstGeom>
          <a:ln w="0">
            <a:noFill/>
          </a:ln>
        </p:spPr>
      </p:pic>
      <p:sp>
        <p:nvSpPr>
          <p:cNvPr id="882" name=""/>
          <p:cNvSpPr txBox="1"/>
          <p:nvPr/>
        </p:nvSpPr>
        <p:spPr>
          <a:xfrm>
            <a:off x="250560" y="1988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юще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блемно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ноуровневое обучение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ллективная система обучения;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следовательские методы обучения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ектные методы обучения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хнологии модульного и модульно-блочного обучения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ение в сотрудничестве (командная, групповая работа)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онно-коммуникационные технологии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оровьесберегающие технолог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Прямоугольник 3"/>
          <p:cNvSpPr/>
          <p:nvPr/>
        </p:nvSpPr>
        <p:spPr>
          <a:xfrm>
            <a:off x="250920" y="404640"/>
            <a:ext cx="8785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“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ние – величайшее из земных благ, если оно наивысшего качества. В противном случае оно совершенно бесполезно”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Киплин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4" name="Picture 3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4248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 достижения «нового современного качества образования»:</a:t>
            </a:r>
            <a:br>
              <a:rPr sz="36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50560" y="1628640"/>
            <a:ext cx="878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в действие государственных образовательных стандартов и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ариативного базисного учебного плана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тимизация учебной, психологической и физической нагрузки учащихс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дифференциации и индивидуализации обуче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ьзование нравственного потенциала искусства как средства  духовног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я лич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ведение профильного обучения в старшей школе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иление роли дисциплин, обеспечивающих социализацию учащихс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тие дистанционного образования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сударственная поддержка школ для одаренных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эффективной государственно-общественной системы экспертизы и контроля качества учебной литературы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499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здание государственной системы оценки качества 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Заголовок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718840" cy="138420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 txBox="1"/>
          <p:nvPr/>
        </p:nvSpPr>
        <p:spPr>
          <a:xfrm>
            <a:off x="179280" y="1628280"/>
            <a:ext cx="8856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обученности учащихс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товность их к продолжению образовани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воспитанности учащихся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стояние здоровья детей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социальной адаптации выпускников к жизни в обществе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3260c"/>
              </a:buClr>
              <a:buSzPct val="130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ровень выполнения стандартов образова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Заголовок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718840" cy="1384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2" descr=""/>
          <p:cNvPicPr/>
          <p:nvPr/>
        </p:nvPicPr>
        <p:blipFill>
          <a:blip r:embed="rId2"/>
          <a:stretch/>
        </p:blipFill>
        <p:spPr>
          <a:xfrm>
            <a:off x="0" y="124128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1 СТУПЕНЬ</a:t>
            </a:r>
            <a:endParaRPr b="0" lang="en-US" sz="3600" spc="-1" strike="noStrike">
              <a:solidFill>
                <a:srgbClr val="1f497d"/>
              </a:solidFill>
              <a:latin typeface="Trebuchet MS"/>
            </a:endParaRPr>
          </a:p>
        </p:txBody>
      </p:sp>
      <p:pic>
        <p:nvPicPr>
          <p:cNvPr id="869" name="Содержимое 3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812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3" descr="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955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5:14:22Z</dcterms:created>
  <dc:creator>Марина</dc:creator>
  <dc:description/>
  <dc:language>en-US</dc:language>
  <cp:lastModifiedBy>Учитель</cp:lastModifiedBy>
  <dcterms:modified xsi:type="dcterms:W3CDTF">2013-04-17T10:07:11Z</dcterms:modified>
  <cp:revision>17</cp:revision>
  <dc:subject/>
  <dc:title>Презентация PowerPoint</dc:title>
</cp:coreProperties>
</file>