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6922-6CDA-4A82-A963-374EDB60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473-6CAF-4152-B4A9-7F8BD234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CB828-0F7E-42C2-AFC0-7F015359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401CD-6FB8-44EE-8914-01888DFB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FDA35-BCBF-4455-A65D-6CA311D4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D58B5-D9B4-49CE-B9B4-5536360C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386B1-15A8-4A94-9C13-7166E3EC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883C5-4530-4D08-8C69-C5600364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0CBC6-933B-4FB8-B291-A8F96802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39325-5706-4D8D-A32C-A4D0EAAB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0986F-42CC-410A-868E-8F78044F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6EF3C0-2463-491C-A800-AFE1FCD8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7F4B-649B-4833-9B9E-D6D28007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49DFBE-A1D4-40B9-A235-94CD8FE2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C36380-A90D-4508-BB05-5741EE5E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AB6F92-67F2-4E42-97F3-7EBA2501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F85625-0A2C-4E86-9C28-29CA2698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77FC57-0E61-4F73-8725-66CB15C8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12A586-8C77-4B5E-8D1A-03CAAA0B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861B75-0354-4292-A9DF-D690C251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6FDD98-18AA-4781-B964-234A680B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011979-DE67-4E1C-AE54-0AEE6622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5E4E82-4144-48DC-B983-4482C8D6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081C-D602-4364-AC3B-04B38551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AADD44-8794-4BEB-A929-334AE4AF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860E7-A777-4B40-AC63-B825BCCD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D3882-9A85-4700-8285-764C4AC3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0F2BC-1AB3-44D5-BAFC-F5150A25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4E607-164C-4FEE-83E2-B0D8FC2A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FA09D-80D2-4F36-96A1-24EBB221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60D90-0C9D-4484-A1F1-02B90C3E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041E6-29C9-49AB-8DCD-468ECA6E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54DCC-18EC-4995-867C-5F286BD4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E51F0-DEB2-4D65-963B-DA1146D6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BB0B-48EA-4BB2-9329-B0D2CF68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967BC-9B3C-42B7-B55F-13F0D978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F4FBF-A8E7-4B96-BABD-19653ECE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AC81A-5E62-49A6-B2A8-50546908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6B92B-34CA-4E89-9534-BD4CA764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EF086-E24B-4FFB-92C0-6B0FC226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BCBBB-AE08-4AE9-8DFD-E27B92DE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0796F-4639-4795-89A8-E424E6E5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F3921-DC8A-48F1-A852-FC272EBC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DFC76-1BAB-425A-9FED-27DD45F6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6610E-7E7B-4DC8-B3AB-25015444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D5CE-783D-4594-B2A5-ACF05F59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6C1A0-FCB3-4850-B1FD-04E03D76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13773-0C98-41AA-A3B2-EB6329FC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2032A-1A0A-43E3-983C-366835A8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25853-76BB-4CCF-B5F4-0D61DBBD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E2E0A-E3CB-46C7-ACB5-C86CDD19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51F50A-DFE8-42B0-9E29-759465EF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7B8AF-35BC-481C-9813-4B8000C8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2F44BD-942B-4CA1-9A50-7A42C382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E1944-83F1-4637-894E-82AC9925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DC54AE-466B-4C8D-8584-913CEB40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D6DD-2DF9-4B59-9215-93B1F433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DCA01D-0FC0-42EF-A4FA-6D08FAE2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56A972-1E06-4940-9660-8674E646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E70084-BF6A-40C0-89A1-A9D4C702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DBA0E4-2132-405A-9C43-C58848A7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DD3929-91EC-4FD4-8E89-AA98A829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AEB55F-2919-4E72-BE6F-61FF2DD3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EE56C9-D5D1-44F7-BCBC-8A390302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403A59-0193-4BAB-B607-AAB28F54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FE4B14-2795-4319-AFFB-A1531D4D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75C2E3-61D1-4352-B882-31D37BFE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288B-3385-42BE-9BE6-0958DBD6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51CA26-CB17-44F1-86B1-1A6AC921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7D5D6A-8859-49CA-BBC2-2BFC603F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124C7A-5DA7-4CA0-837C-60AAC1B1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C353D9-F3F2-49C2-84CC-E553D625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4F18FC-DB76-46BE-B597-2010A8D1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0F5FDA-E0A1-44FA-BFBA-46FB5C25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7607B-8AA0-40C8-98AD-1184917F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961FB1-6B0A-4156-9550-0F468161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B34847-A6EB-4EB6-9AAE-C26BD8EF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F2E4C9-0517-4AAF-ACCF-50AF9416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A1C6-4C3D-48AC-B7A6-C03372E3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5642B0-4E79-4634-B9DE-D346D6D3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EC163F-65A2-4991-A59C-595664F6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178993-6288-4F31-A441-BC461527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5EF858-E597-4798-995F-13EBDC4C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9EB1F-313B-4F12-9C8E-D2F2DAFA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002570-A5A6-4EAC-98C5-A3A1DD22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00D8F7-2441-4C25-BC6A-6742C42F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CA5DAA-B415-4A62-8B59-B600EFB7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8A45EB-667F-4D50-9F38-933CEB58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F71E90-134A-4D28-B9A3-1ECAECAC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46FC-E8F2-4D55-8AD2-E8E89039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A9C23D-1DD2-4CBC-A3F7-C95FF9C4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FF44CE-0EA6-4ABF-B54C-3ADD383C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D2FCCD-45CC-4F34-B67F-DB4B9437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ECE801-9C5F-446C-89A1-82452864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78ECE1-50FA-4F30-9EA6-DC1A5766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662F8D-3C19-4C84-B93F-8FAB9869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65DA93-54E5-4DB6-A0C6-AD0893AD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7857A1-8208-4179-8C8F-AF37F6B6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11BD45-D6C5-4658-8715-66CC1CB7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FC35EB-E65A-4B8F-A2F6-79160B11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A1C1-D332-4022-A608-04343A58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2F8B67-2A92-476C-9D22-145CF8FB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126FF4-DA84-4B24-8149-B599D64A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9B2F36-F2B7-4FBB-B389-4EE20B8F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F40-AFAE-4E3C-8DA7-F1A53D03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9224-0F58-49BB-A85D-939C91F7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95BE-0C15-4EBD-AA32-0675947D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90D0-1CA6-4657-843F-2734CBDC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5B18-152E-4DF5-94BF-FA0E4A09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D8CB-4F33-4AB7-8537-DA5307DD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20821-049A-493D-BA74-4F5FFD20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10F99-62A0-4E54-9D7A-00B8DAAA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904A8-15E8-4993-B804-F441921C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DCE87-B46C-476C-9E6E-9BB5F9DA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90EAD-C578-4C9E-86AA-86D94A65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805-3A35-4FA2-AE3A-2FE967E9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8A967-6629-43A8-9C4C-E31E22FF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4D122-1367-49D0-BF45-2C180C83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5269A-CB19-4972-8E89-4F82CC87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3E397-58B5-4FFF-B452-DF119D91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E5CE3-BF3C-4BE3-A0F0-42BFE4BB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B27B2-FB8B-419E-BDAD-C1812683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4C869-0022-483E-8BB0-4597E86D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7033A-0E40-44A4-A4EA-D7125960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C6E7B-E078-4D6A-9729-82086195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90888-D76D-46F0-B051-5CF034E1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41F9-0E04-4B21-A389-5D8B14A3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99028-5969-4F6C-A640-06A3EA37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A2191-718F-4135-B3C7-E9990690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C5E21-E344-478C-85D8-F1356107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8E688-1777-414B-871B-E3DD4EB1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A8CF8-EFE0-406E-B21D-83A4512A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50D0A-7DD8-41B0-83AC-7084E3D7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D692A-121B-494D-B724-5C97E7A4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E826A-91C5-48A3-8C9D-E8EC03F2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99760-28CB-4EBE-975B-BC084453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9879B-5ACD-40BB-B0E3-BC99CA00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125B-8650-4D7D-81AF-282F7AE8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7278F-F6A6-41EA-A561-4AE62F61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22FA8-72CA-4917-ADCC-928801F3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14322-1C09-450F-8C12-2DD31463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ADA3E-153A-434C-962F-6792C77B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1B9E6-E718-4496-A610-FFDC2B24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8A3E2-AFFD-4815-A27A-FF5D9382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65FB3-4279-4CB1-9377-6A984EF9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FFCD8-8B7D-4F80-8AEF-5CF8242B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A5FCE-5126-44F6-B4EC-67451B01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C0088-D2C5-4813-8567-54352996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2B7-A358-44CE-B013-8AA641B3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36D6E-A11F-47AB-B6C9-99FD4C72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9C0BC-BEA2-4015-A613-EDAB6797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8BB8B-DA2A-414B-8612-A95E5597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B3E1C-02C2-43A2-A6A9-6F310541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4788E-173F-4C85-8758-1B95915C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CD371-29EA-4C38-A803-EFA2A388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6EF0C-83EB-4B71-A461-66D1AADD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74CE1-26BC-4315-9249-74A2351A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4903A-19BE-4B84-8860-D7D19863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B3EC6-A079-4CFD-91CF-F2039EB4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1560-49D3-4B8F-834D-AB012432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C3C0E-AEDC-45E7-AD59-7CFB381C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53C76-D39A-4F33-8FE4-E933B4CE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B06A8-42C3-407E-9F60-8FB3E071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2ED24-DE95-4F10-8E3A-DBE97786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D89A3-2BD0-4B0C-82D9-160BEBE3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02601-7EE3-4E2D-851B-3CAE1849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9CD9E-2BCC-4846-90EB-FAB76798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F8182-842E-4900-8C14-C7B22B6C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C74BA-B56F-463D-9C65-E0D13825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3F177-2753-4A58-A237-B29A2EF9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3D94-577C-4BA6-B045-C3B59535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29B2C-43ED-4B82-A9AE-D7A220DB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4ED98-7274-4DB4-B1C8-94069647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0186C-236D-4D4E-988B-B65EAEC0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DDBB4-4D68-4BA5-8AC8-E22C5722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96474-B9D1-4E7E-99B3-F732C8E4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F4F9F-4913-46C2-9383-4B51EF4B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B534F-7DB0-4284-8B3E-B8475B6E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BCFF2-F435-46D2-84EC-13383961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855AD-E7BA-4CCA-BE54-45C659A1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0375B-A15B-4178-BF53-4917273E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567A-6C35-4D4E-AE82-C5F79629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94A7E-A8E0-483A-AC45-E8A5E931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8F383-6E26-41F5-8413-54A69D60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FA3E0-23F4-46F7-8F7D-F05D7317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D4F18-6E9E-4D3F-8D53-42026C3D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6E2BD-6E42-4DA7-AA33-5BF75E26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DC169-EE83-46C3-9A64-5A5ED970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93B13-7F0E-4FB5-9CB2-82077C44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F0270-F233-4436-9FF3-BA29A0DA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0E771-C998-4182-975B-97043A41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E0B0D-AEC9-43AA-B7DF-EEBB20FE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6458-86CB-4277-83B0-0F66009EA5D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4A9C-6B7F-4BF0-B2CC-108B18C72F2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1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8866-E629-4522-8627-C17CE92E825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7AE4-7D29-4313-BA61-AEF72475ADF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3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3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3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2523-A29E-4142-B1C3-60F878C1EDE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2479-61B3-4B9D-86C8-DEED1753FBE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4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4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4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8FB1-39F8-41D7-9E67-2E494A767B1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47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4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1731-05AA-48E9-9972-DDADA903176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3B5E-3CB6-4FDE-86FE-65BEDD4143A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06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3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8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09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6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1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2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3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1CE9-BFEF-4C90-A817-781AE0226F2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5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59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60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2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63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64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7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9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70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2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3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4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96AC-DE1C-4979-8A7E-C1ECEED4CEE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8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20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21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3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24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5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9048-7491-4D8F-A806-6860B70BE2B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c0504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c0504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c0504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6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7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8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DBCF-2867-44F0-AF13-170E4833295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5AA3-F6D0-4505-AF38-1BF307444D3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F628-0734-465F-8DD2-23AF0B966FD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1956-5DCE-4480-9696-9554BEBAC99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2050560" y="4005000"/>
            <a:ext cx="6769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314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Выступление заместителя директора школы по УВР ПоддубнякМ.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14880" algn="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14880" algn="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1488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1488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2013 го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title"/>
          </p:nvPr>
        </p:nvSpPr>
        <p:spPr>
          <a:xfrm>
            <a:off x="323640" y="907920"/>
            <a:ext cx="8569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чество образования – залог успеха школы.</a:t>
            </a:r>
            <a:endParaRPr b="1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Picture 3" descr=""/>
          <p:cNvPicPr/>
          <p:nvPr/>
        </p:nvPicPr>
        <p:blipFill>
          <a:blip r:embed="rId1"/>
          <a:stretch/>
        </p:blipFill>
        <p:spPr>
          <a:xfrm>
            <a:off x="395280" y="870120"/>
            <a:ext cx="8497800" cy="59878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2"/>
          <p:cNvSpPr/>
          <p:nvPr/>
        </p:nvSpPr>
        <p:spPr>
          <a:xfrm>
            <a:off x="366840" y="11736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Мониторинг качества обучения физической культуры за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триместр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за 2012-13 уч.г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Прямоугольник 3"/>
          <p:cNvSpPr/>
          <p:nvPr/>
        </p:nvSpPr>
        <p:spPr>
          <a:xfrm>
            <a:off x="468360" y="260280"/>
            <a:ext cx="8351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образовани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востребованность полученных знаний в конкретных условиях и местах их применения для достижения конкретной цели и повышения качества жизни выпускника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развитие качества образования предполагает постоянное совершенствование трех составляющих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х результатов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 образовательного процесса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и педагогических работников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87850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Заголовок 1" descr=""/>
          <p:cNvPicPr/>
          <p:nvPr/>
        </p:nvPicPr>
        <p:blipFill>
          <a:blip r:embed="rId1"/>
          <a:stretch/>
        </p:blipFill>
        <p:spPr>
          <a:xfrm>
            <a:off x="396720" y="103320"/>
            <a:ext cx="7912080" cy="95076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 txBox="1"/>
          <p:nvPr/>
        </p:nvSpPr>
        <p:spPr>
          <a:xfrm>
            <a:off x="25056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чества образовательной программы;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чества потенциала педагогического состава, задействованного в образовательном процессе;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чества средств образовательного процесса (материально-технической, лабораторно-экспериментальной базы, учебно-методического обеспечения, учебных кабинетов, транслируемых знаний и др.);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чества образовательных технологий;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чества управления образовательными системами и процессами (управленческих технологий в образовании)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Заголовок 1" descr=""/>
          <p:cNvPicPr/>
          <p:nvPr/>
        </p:nvPicPr>
        <p:blipFill>
          <a:blip r:embed="rId1"/>
          <a:stretch/>
        </p:blipFill>
        <p:spPr>
          <a:xfrm>
            <a:off x="255600" y="176040"/>
            <a:ext cx="8931240" cy="183528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 txBox="1"/>
          <p:nvPr/>
        </p:nvSpPr>
        <p:spPr>
          <a:xfrm>
            <a:off x="250560" y="198864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вающее обучение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блемное обучение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ноуровневое обучение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ллективная система обучения;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следовательские методы обучения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ектные методы обучения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хнологии модульного и модульно-блочного обучения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ение в сотрудничестве (командная, групповая работа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онно-коммуникационные технологии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доровьесберегающие технологи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Прямоугольник 3"/>
          <p:cNvSpPr/>
          <p:nvPr/>
        </p:nvSpPr>
        <p:spPr>
          <a:xfrm>
            <a:off x="250920" y="404640"/>
            <a:ext cx="8785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“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ние – величайшее из земных благ, если оно наивысшего качества. В противном случае оно совершенно бесполезно”.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 Киплин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84" name="Picture 3" descr=""/>
          <p:cNvPicPr/>
          <p:nvPr/>
        </p:nvPicPr>
        <p:blipFill>
          <a:blip r:embed="rId1"/>
          <a:stretch/>
        </p:blipFill>
        <p:spPr>
          <a:xfrm>
            <a:off x="395280" y="3429000"/>
            <a:ext cx="42480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0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 достижения «нового современного качества образования»:</a:t>
            </a:r>
            <a:br>
              <a:rPr sz="3600"/>
            </a:b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250560" y="1628640"/>
            <a:ext cx="8785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ведение в действие государственных образовательных стандартов и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ариативного базисного учебного план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тимизация учебной, психологической и физической нагрузки учащихся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еспечение дифференциации и индивидуализации обучения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ьзование нравственного потенциала искусства как средства  духовного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тия лич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ведение профильного обучения в старшей школе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иление роли дисциплин, обеспечивающих социализацию учащихся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тие дистанционного образования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осударственная поддержка школ для одаренных дете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здание эффективной государственно-общественной системы экспертизы и контроля качества учебной литературы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здание государственной системы оценки качества образован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Заголовок 1" descr=""/>
          <p:cNvPicPr/>
          <p:nvPr/>
        </p:nvPicPr>
        <p:blipFill>
          <a:blip r:embed="rId1"/>
          <a:stretch/>
        </p:blipFill>
        <p:spPr>
          <a:xfrm>
            <a:off x="249120" y="30240"/>
            <a:ext cx="8718840" cy="138420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 txBox="1"/>
          <p:nvPr/>
        </p:nvSpPr>
        <p:spPr>
          <a:xfrm>
            <a:off x="179280" y="1628280"/>
            <a:ext cx="8856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ровень обученности учащихся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отовность их к продолжению образования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ровень воспитанности учащихся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стояние здоровья детей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ровень социальной адаптации выпускников к жизни в обществе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ровень выполнения стандартов образовани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Заголовок 1" descr=""/>
          <p:cNvPicPr/>
          <p:nvPr/>
        </p:nvPicPr>
        <p:blipFill>
          <a:blip r:embed="rId1"/>
          <a:stretch/>
        </p:blipFill>
        <p:spPr>
          <a:xfrm>
            <a:off x="249120" y="30240"/>
            <a:ext cx="8718840" cy="138420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2" descr=""/>
          <p:cNvPicPr/>
          <p:nvPr/>
        </p:nvPicPr>
        <p:blipFill>
          <a:blip r:embed="rId2"/>
          <a:stretch/>
        </p:blipFill>
        <p:spPr>
          <a:xfrm>
            <a:off x="0" y="1241280"/>
            <a:ext cx="8928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1 СТУПЕНЬ</a:t>
            </a: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pic>
        <p:nvPicPr>
          <p:cNvPr id="869" name="Содержимое 3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296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881244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3" descr="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3" descr=""/>
          <p:cNvPicPr/>
          <p:nvPr/>
        </p:nvPicPr>
        <p:blipFill>
          <a:blip r:embed="rId1"/>
          <a:stretch/>
        </p:blipFill>
        <p:spPr>
          <a:xfrm>
            <a:off x="0" y="304920"/>
            <a:ext cx="8928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955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15:14:22Z</dcterms:created>
  <dc:creator>Марина</dc:creator>
  <dc:description/>
  <dc:language>en-US</dc:language>
  <cp:lastModifiedBy>Учитель</cp:lastModifiedBy>
  <dcterms:modified xsi:type="dcterms:W3CDTF">2013-04-17T10:07:11Z</dcterms:modified>
  <cp:revision>17</cp:revision>
  <dc:subject/>
  <dc:title>Презентация PowerPoint</dc:title>
</cp:coreProperties>
</file>