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273-B4C5-44E4-AEB4-ED6841AB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99F5-31E8-4681-BA8C-59EA1FE5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2340-995D-401B-BDD6-4AC0E03B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8684-EE94-4585-B9CE-465BB680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9DC-B5BC-4CDB-8C3A-31986DD5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538B-9FA6-4182-81F7-2B027375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0060-0472-4B22-AEA2-7525451F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E6B5-E992-4E61-9414-9807FFB4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80C-C1B9-487D-B1A5-EA2C092B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7D4A-FD04-40EB-A310-7FA5804A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931-DEC5-4B66-B0A9-2975E6A5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460-0F0E-4360-BC40-F8FA9E19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4EFD-28EA-4B7E-AA3B-3AC5A4DD4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:\Documents and Settings\Moshka\Рабочий стол\Масленица\Untitled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F:\Documents and Settings\Moshka\Рабочий стол\Масленица\Untitled-1.png"/>
          <p:cNvPicPr/>
          <p:nvPr/>
        </p:nvPicPr>
        <p:blipFill>
          <a:blip r:embed="rId3"/>
          <a:stretch/>
        </p:blipFill>
        <p:spPr>
          <a:xfrm>
            <a:off x="179280" y="928800"/>
            <a:ext cx="8496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F:\Documents and Settings\Moshka\Рабочий стол\Масленица\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571680" y="10000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5 день – пят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Palatino Linotype"/>
              </a:rPr>
              <a:t>Тёщины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Palatino Linotype"/>
              </a:rPr>
              <a:t>веч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286160" y="2000160"/>
            <a:ext cx="4857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Если в среду зятья ходили к тёщам, то теперь – наоборот:  в гости должны приходить тёщи. Зять должен сам угостить тёщу и тестя блинами. Правда обычай этот весьма своеобразный. Курьёз заключатся в том, что званая тёща обязана была с вечера прислать в дом молодым всё для выпечки бли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F:\Documents and Settings\Moshka\Рабочий стол\Масленица\094939898989.jpg"/>
          <p:cNvPicPr/>
          <p:nvPr/>
        </p:nvPicPr>
        <p:blipFill>
          <a:blip r:embed="rId3"/>
          <a:stretch/>
        </p:blipFill>
        <p:spPr>
          <a:xfrm rot="21076800">
            <a:off x="240840" y="2287440"/>
            <a:ext cx="4059360" cy="349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F:\Documents and Settings\Moshka\Рабочий стол\Масленица\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214200" y="92880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6 день – суб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Palatino Linotype"/>
              </a:rPr>
              <a:t>Золовкины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Palatino Linotype"/>
              </a:rPr>
              <a:t>посиде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4786200" y="1963800"/>
            <a:ext cx="4357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В субботу, на золовкины посиделки (золовка – сестра мужа) молодая невестка приглашала родных мужа к себе в гости. Если золовка была незамужняя, тогда она созывала и своих незамужних подруг. Если же наоборот, то приглашалась лишь замужняя род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F:\Documents and Settings\Moshka\Рабочий стол\Масленица\09496555555553.jpg"/>
          <p:cNvPicPr/>
          <p:nvPr/>
        </p:nvPicPr>
        <p:blipFill>
          <a:blip r:embed="rId3"/>
          <a:stretch/>
        </p:blipFill>
        <p:spPr>
          <a:xfrm rot="263400">
            <a:off x="323640" y="2276280"/>
            <a:ext cx="428616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F:\Documents and Settings\Moshka\Рабочий стол\Масленица\фон.jpg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0" y="10526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7 день – </a:t>
            </a:r>
            <a:r>
              <a:rPr b="1" i="1" lang="en-US" sz="2800" spc="-1" strike="noStrike">
                <a:solidFill>
                  <a:srgbClr val="0033cc"/>
                </a:solidFill>
                <a:latin typeface="Palatino Linotype"/>
              </a:rPr>
              <a:t>Прощёное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Palatino Linotype"/>
              </a:rPr>
              <a:t>воскресен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4786200" y="1595520"/>
            <a:ext cx="435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В последний день Масленицы все друг у друга просили прощения, новобрачные ездили по своим родным. Кульминацией Масленицы считается сжигание чучела, как символа Зимы, которая заканчивалась, и наступление Весны. В этот день поминают умерших, ходят на кладбище, там оставляют бл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F:\Documents and Settings\Moshka\Рабочий стол\Масленица\067677777777779493.jpg"/>
          <p:cNvPicPr/>
          <p:nvPr/>
        </p:nvPicPr>
        <p:blipFill>
          <a:blip r:embed="rId3"/>
          <a:stretch/>
        </p:blipFill>
        <p:spPr>
          <a:xfrm rot="298800">
            <a:off x="324000" y="2205000"/>
            <a:ext cx="428616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6000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Приходите в воскресенье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Будем мы просить прощень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Чтоб с души грехи все сня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С чистым сердцем Пост встречат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Скрепим дружбу поцелуем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Хоть и так мы не вою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Ведь на Масленицу нужн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Укреплять любовь и дружбу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1253965620_pic066"/>
          <p:cNvPicPr/>
          <p:nvPr/>
        </p:nvPicPr>
        <p:blipFill>
          <a:blip r:embed="rId2"/>
          <a:stretch/>
        </p:blipFill>
        <p:spPr>
          <a:xfrm>
            <a:off x="5796000" y="0"/>
            <a:ext cx="4330800" cy="6858000"/>
          </a:xfrm>
          <a:prstGeom prst="rect">
            <a:avLst/>
          </a:prstGeom>
          <a:ln w="57240">
            <a:solidFill>
              <a:srgbClr val="fe61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F:\Documents and Settings\Moshka\Рабочий стол\Масленица\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1500120" y="1071720"/>
            <a:ext cx="59295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Palatino Linotype"/>
              </a:rPr>
              <a:t>Пословицы и погово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Сможете поясн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4714920" y="2386080"/>
            <a:ext cx="435780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Не всё коту Масленица, будет и Великий П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Без блина – не Масле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Блин не клин – брюхо не раско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Не житьё, а  Маслениц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F:\Documents and Settings\Moshka\Рабочий стол\Масленица\444.jpg"/>
          <p:cNvPicPr/>
          <p:nvPr/>
        </p:nvPicPr>
        <p:blipFill>
          <a:blip r:embed="rId3"/>
          <a:stretch/>
        </p:blipFill>
        <p:spPr>
          <a:xfrm rot="21401400">
            <a:off x="213840" y="2571480"/>
            <a:ext cx="428652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F:\Documents and Settings\Moshka\Рабочий стол\Масленица\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928800" y="1071720"/>
            <a:ext cx="76438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Palatino Linotype"/>
              </a:rPr>
              <a:t>Теперь  загадки загадае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Отгадавшему бли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4786200" y="2428920"/>
            <a:ext cx="435780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Круглый, а не кольцо, горячий, а не солнц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Белая степенная, тепла боится. Пока Масленицу не сожжёшь, никуда не уйдё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Идёт после Масленицы: часового не имеет, а называет себя?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F:\Documents and Settings\Moshka\Рабочий стол\Масленица\8883.jpg"/>
          <p:cNvPicPr/>
          <p:nvPr/>
        </p:nvPicPr>
        <p:blipFill>
          <a:blip r:embed="rId3"/>
          <a:stretch/>
        </p:blipFill>
        <p:spPr>
          <a:xfrm rot="355800">
            <a:off x="214200" y="2571480"/>
            <a:ext cx="428652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:\Documents and Settings\Moshka\Рабочий стол\Масленица\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40377701_1235890675_380ec0644080"/>
          <p:cNvPicPr/>
          <p:nvPr/>
        </p:nvPicPr>
        <p:blipFill>
          <a:blip r:embed="rId3"/>
          <a:stretch/>
        </p:blipFill>
        <p:spPr>
          <a:xfrm>
            <a:off x="2071800" y="2571840"/>
            <a:ext cx="4703760" cy="3997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571680" y="1071720"/>
            <a:ext cx="81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Palatino Linotype"/>
              </a:rPr>
              <a:t>Масленица прощ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Palatino Linotype"/>
              </a:rPr>
              <a:t>На тот год опять приезж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2094_8872"/>
          <p:cNvPicPr/>
          <p:nvPr/>
        </p:nvPicPr>
        <p:blipFill>
          <a:blip r:embed="rId2"/>
          <a:stretch/>
        </p:blipFill>
        <p:spPr>
          <a:xfrm>
            <a:off x="0" y="0"/>
            <a:ext cx="3708360" cy="6858000"/>
          </a:xfrm>
          <a:prstGeom prst="rect">
            <a:avLst/>
          </a:prstGeom>
          <a:ln w="57240">
            <a:solidFill>
              <a:srgbClr val="efc425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928960" y="1052280"/>
            <a:ext cx="621504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Как на масличной неде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Из печи блины лете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С пылу, с жару, из пе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Все румяны, горяч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Масленица, угоща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Всем блиночков подавай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С пылу, с жару – разбирайте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И хвалить не забывайте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:\Documents and Settings\Moshka\Рабочий стол\Масленица\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1258920" y="1197000"/>
            <a:ext cx="728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Palatino Linotype"/>
              </a:rPr>
              <a:t>Что вы знаете о Маслениц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4572000" y="207180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Почему празд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называется Маслени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2. Почему именно блин символ  Маслениц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3.Из чего делают блины и с чем их едя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F:\Documents and Settings\Moshka\Рабочий стол\Масленица\09493__.jpg"/>
          <p:cNvPicPr/>
          <p:nvPr/>
        </p:nvPicPr>
        <p:blipFill>
          <a:blip r:embed="rId3"/>
          <a:stretch/>
        </p:blipFill>
        <p:spPr>
          <a:xfrm rot="21282600">
            <a:off x="249120" y="2533320"/>
            <a:ext cx="4321440" cy="3716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Documents and Settings\Moshka\Рабочий стол\Масленица\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4214880" y="1428840"/>
            <a:ext cx="492912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0d0d"/>
                </a:solidFill>
                <a:latin typeface="Palatino Linotype"/>
              </a:rPr>
              <a:t>Масленица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 – самый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радостный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светлый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праздник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пришедший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к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нам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из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языческой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Руси,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настоящие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проводы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Зимы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Само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название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праздника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«Масленица»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произошло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от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того,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что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в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этот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день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ели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много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масленой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пищи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H:\Презентация Масленица\1265468783_repruk.jpg"/>
          <p:cNvPicPr/>
          <p:nvPr/>
        </p:nvPicPr>
        <p:blipFill>
          <a:blip r:embed="rId3"/>
          <a:stretch/>
        </p:blipFill>
        <p:spPr>
          <a:xfrm rot="21319800">
            <a:off x="436680" y="1426680"/>
            <a:ext cx="3860640" cy="510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:\Documents and Settings\Moshka\Рабочий стол\Масленица\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4214880" y="1500120"/>
            <a:ext cx="492912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Масленица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празднуется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в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последнюю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неделю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перед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Великим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Постом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Каждый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день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масленичной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недели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имеет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своё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название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требует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определенных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ритуалов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. 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Первые три дня Узкая  Масленица, последующие - Широ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Масленица</a:t>
            </a: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F:\Documents and Settings\Moshka\Рабочий стол\Масленица\09493_.jpg"/>
          <p:cNvPicPr/>
          <p:nvPr/>
        </p:nvPicPr>
        <p:blipFill>
          <a:blip r:embed="rId3"/>
          <a:stretch/>
        </p:blipFill>
        <p:spPr>
          <a:xfrm rot="198000">
            <a:off x="98280" y="1901880"/>
            <a:ext cx="4105440" cy="35305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:\Documents and Settings\Moshka\Рабочий стол\Масленица\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642960" y="107172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1 день – понеде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Palatino Linotype"/>
              </a:rPr>
              <a:t>Встре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4714920" y="1928880"/>
            <a:ext cx="4429080" cy="59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Первый блин в понедельник не ели, а оставляли для душ усопших – выносили на крыльцо, как бы оставляя им, или отдавали нищим, </a:t>
            </a:r>
            <a:r>
              <a:rPr b="1" i="1" lang="en-US" sz="2200" spc="-1" strike="noStrike">
                <a:solidFill>
                  <a:srgbClr val="000000"/>
                </a:solidFill>
                <a:latin typeface="Palatino Linotype"/>
              </a:rPr>
              <a:t>чтобы помолились за упок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В этот день из соломы делали чучело Масленицы, надевали на него старую женскую одежду, насаживали на шест , катались с ним, а затем ставили его на гор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F:\Documents and Settings\Moshka\Рабочий стол\Масленица\0949777777773.jpg"/>
          <p:cNvPicPr/>
          <p:nvPr/>
        </p:nvPicPr>
        <p:blipFill>
          <a:blip r:embed="rId3"/>
          <a:stretch/>
        </p:blipFill>
        <p:spPr>
          <a:xfrm rot="21348000">
            <a:off x="323640" y="2276640"/>
            <a:ext cx="428616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:\Documents and Settings\Moshka\Рабочий стол\Масленица\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642960" y="10000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2 день – втор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Palatino Linotype"/>
              </a:rPr>
              <a:t>Заигры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4643280" y="1928880"/>
            <a:ext cx="450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Второй день Масленицы называется «Заигрыш» и посвящался он раньше молодожёнам. Начинались масленичные гуля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В старину на Масленицу не только гуляли, но и гадали. После весёлых гулянок и игр в снежки парни и девушки собирались вместе за общим столом</a:t>
            </a:r>
            <a:r>
              <a:rPr b="1" i="1" lang="ru-RU" sz="22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F:\Documents and Settings\Moshka\Рабочий стол\Масленица\7777.jpg"/>
          <p:cNvPicPr/>
          <p:nvPr/>
        </p:nvPicPr>
        <p:blipFill>
          <a:blip r:embed="rId3"/>
          <a:stretch/>
        </p:blipFill>
        <p:spPr>
          <a:xfrm rot="334800">
            <a:off x="250560" y="2349000"/>
            <a:ext cx="4286160" cy="3686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:\Documents and Settings\Moshka\Рабочий стол\Масленица\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642960" y="10000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3 день – с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Palatino Linotype"/>
              </a:rPr>
              <a:t>Лаком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4786200" y="1928880"/>
            <a:ext cx="435780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На третий день во всех домах накрывались пышные столы. </a:t>
            </a:r>
            <a:r>
              <a:rPr b="1" i="1" lang="en-US" sz="2200" spc="-1" strike="noStrike">
                <a:solidFill>
                  <a:srgbClr val="000000"/>
                </a:solidFill>
                <a:latin typeface="Palatino Linotype"/>
              </a:rPr>
              <a:t>Прямо на улице открывались многочисленные палатки</a:t>
            </a: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, где продавались горячие блинчики, сбитни (напитки из воды, мёда и пряностей), калёные орехи, медовые пряники. В этот день зять (муж дочери) приходил к «теще на бли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F:\Documents and Settings\Moshka\Рабочий стол\Масленица\09400000093.jpg"/>
          <p:cNvPicPr/>
          <p:nvPr/>
        </p:nvPicPr>
        <p:blipFill>
          <a:blip r:embed="rId3"/>
          <a:stretch/>
        </p:blipFill>
        <p:spPr>
          <a:xfrm rot="21202200">
            <a:off x="341280" y="2592360"/>
            <a:ext cx="428616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F:\Documents and Settings\Moshka\Рабочий стол\Масленица\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571680" y="1000080"/>
            <a:ext cx="76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4 день – четвер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Palatino Linotype"/>
              </a:rPr>
              <a:t>Разгуля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4572000" y="18572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В этот день принято было устраивать знаменитые кулачные бои, взятие специально построенных снежных крепостей, катание на горках, весёлые карнав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По старинному обычаю в этот день на Руси выпекали из сдобного теста жаворонков, голубков, ласточек – предвестников Вес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F:\Documents and Settings\Moshka\Рабочий стол\Масленица\094988888883.jpg"/>
          <p:cNvPicPr/>
          <p:nvPr/>
        </p:nvPicPr>
        <p:blipFill>
          <a:blip r:embed="rId3"/>
          <a:stretch/>
        </p:blipFill>
        <p:spPr>
          <a:xfrm rot="352800">
            <a:off x="324000" y="2420640"/>
            <a:ext cx="428616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20:13:48Z</dcterms:created>
  <dc:creator>User</dc:creator>
  <dc:description/>
  <dc:language>en-US</dc:language>
  <cp:lastModifiedBy>Львова</cp:lastModifiedBy>
  <dcterms:modified xsi:type="dcterms:W3CDTF">2013-04-17T12:25:07Z</dcterms:modified>
  <cp:revision>46</cp:revision>
  <dc:subject/>
  <dc:title>Слайд 1</dc:title>
</cp:coreProperties>
</file>