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268-4CCD-4E05-A92D-3E950FE4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AB1-7A2A-4DE0-AC38-06B0C870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810-8B16-4B2B-9DDC-3717607A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6DA-38AA-4D20-B3B2-7B9DC9D9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067-F0BB-420D-9212-3D227E44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9556-B625-4037-9827-25A72F06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5B2B-0EF1-4257-A8A1-DA6D0FE8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423F-EDD8-4106-BC45-487FB4B3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7392-A59A-4A42-AA03-3E18A998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EAEA-4291-4A81-AAA9-6CD4E531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24EE-73F0-4C0C-9A18-8E4FB51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B2E-B1D9-4FCC-8BD1-F0990886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FE97-53B9-4024-A4B6-D6BB47E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F2AB-1CBD-430C-BF77-5CA2F4C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BC51-7765-424F-A789-34A84BDE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8EC4-F64A-437A-B874-14009D4D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63DC-B9D6-4C30-80D0-442C3C12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35EB-5930-4264-AD8F-76EA9C51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8442-1F62-45B6-8155-F97B0EC9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2401-0A43-4C83-8616-47931B7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320E-EFA5-46F7-B0B3-340F3DD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68F8-EF44-4FF8-997A-C17F173C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1C1-E262-4A9A-8C51-FF8923E0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AA88-12F7-40D0-8974-89B45AE4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80E9-A850-40FE-BA73-0323741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5F5D-AE12-40BC-9367-4E13A0D3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22C2-17BC-4038-9AC5-B10BC4D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EF89-9A7D-46C3-B624-B75F6630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B5E4-AC97-4CA2-8A35-44796D18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77C0-5A35-412C-875A-2F7DC16B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C88E-597C-439B-90B0-C9114051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50F7-5F26-415D-9D68-08681EB0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D1E5-CDF8-4320-907D-EA30592F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4C6-D27B-4BB0-9618-8B33D93E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510E-ED13-4E97-A7AD-69DA7158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4B4F-8033-4A0D-8D5F-635841F0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949D-CBF3-4042-8F27-383CDBB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E3EFD-59C1-4D81-93A7-CB73061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2903-07B4-4173-BBA6-FB29C9F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667A-BA11-4EC9-900B-5FAD7A2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410BB-CCC4-4D4A-86B1-3DF3C752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8899-9BD6-4FB0-BD7F-F72CF40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E0ED-0DE3-44AF-9890-65378AEC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4ACC-C0E8-47EF-BD1F-9BEC37DA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56A-76FE-48A9-A846-434A18E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F6572-9BDF-4D15-BEA1-21E4EE3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EC905-F98F-42D5-A480-E650F27E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3E19-7D41-4EF5-B649-22559381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0AE9-C637-428B-9A11-2FDE679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D6AFE-40B8-4F7A-832D-C1EB989D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8A06-783E-432B-84F9-9331889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D0A5D-4AE8-4413-AF3D-9445CC00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28C4-0BF1-4AB6-B4DF-616A204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4C82C-2CDF-42A1-972A-63EC8031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16ED0-671F-4781-9AE9-86D9907A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120-D8C0-435A-B7A0-09D077B2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436D-03D4-48E9-AAF2-C14ED6E1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FF68-8D4C-4AEA-AD17-1FEB15D3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7F33-ABA4-4D3B-9B06-603EB7D2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587B-CAD5-4B80-A12D-21183329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43033-9E09-416B-9D74-763B0609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93282-AB8E-48FF-B6B1-1B380AFC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7FA9-F422-4C94-8BEC-75C544E4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E8589-79FD-4E4E-B8B0-44762AD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C80A-372A-4057-B4C3-410CE88C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2BA0-533F-4590-B6A4-EA587C9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6C6-09D0-40E8-ADBA-A57DFDB6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6368-C450-4C3D-9711-17274600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43B39-D02B-433F-8E58-63779C71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B43BB-4DE4-419C-9D6D-8DC75D13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0CF0-3787-4AB3-9781-7500A4C6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0A1A-3672-4400-9115-00400A77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4CC53-9BBA-4B87-9FFD-495AD43C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C3173-F573-40E0-A5E7-7A9125FB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9AFD5-6F59-4407-AC68-DB9166EA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150C-8C90-4634-B548-7D25EAFB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8147A-0BD6-4617-BA6B-0AA5B05F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820-EA9A-409F-A8BF-DC7BC9D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4D2B3-7AA1-4F2A-97CD-25EB71C0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BA5A9-324A-4BDF-9C58-D034335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762D9-2CFD-447A-B3CC-4B44C8E2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A11C-4479-43E8-9927-2DA43DC5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E580-4A13-4F13-858E-7EDF8048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64BA-C998-4836-8CD1-12341582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AADC2-8CC7-4EF7-A8BA-F7D84F2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C233D-6D71-4561-8D68-A278647E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9B592-C7FA-486F-9977-92EA899E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5BCC-01F2-4D58-B595-D9207F96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85A-8ED7-4047-B83C-0F12AC0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B35F-A3E1-45AE-A957-567405F6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F82A-01E8-4D85-9553-E5E69E8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2DD8E-4A0C-460C-87A7-D4428FF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B58F-F65E-4A5A-BEA8-9EA1530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60FAD-670F-4CB4-8A44-56FCFED7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F07CC-C662-4AC2-B5DE-5EAF01E3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CB096-FADA-463E-832E-56B11B81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18DE-F13A-4711-BD51-0D8ED99E8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878-D987-4347-BC76-E1CF727B2D2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DE2D-7466-4939-9BC1-57D1FC6BD1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F8D5-6F36-4529-B28D-379CE97897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5156-508C-4E3F-83D6-91465CC529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DEA-8C23-4929-96AD-A9D0EBA027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89FA-7D5D-49BC-8ADF-48693EACED4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03B3-F704-49FE-94F8-679BE333C29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3" descr=""/>
          <p:cNvPicPr/>
          <p:nvPr/>
        </p:nvPicPr>
        <p:blipFill>
          <a:blip r:embed="rId1"/>
          <a:stretch/>
        </p:blipFill>
        <p:spPr>
          <a:xfrm>
            <a:off x="1762200" y="1487520"/>
            <a:ext cx="5906880" cy="32068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5651640" y="479736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Подготовил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ученица 2 «Б» класс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Баранкулова Дина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363528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2013 год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214720" y="448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БОУ «СОШ № 57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475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нашей семье очень любят животных. Сейчас у нас живут кошка и курочк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611280" y="1881360"/>
            <a:ext cx="3192480" cy="2339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e0f1ff"/>
                </a:solidFill>
                <a:latin typeface="Arial"/>
                <a:ea typeface="Arial"/>
              </a:rPr>
              <a:t>В нашей семье есть общая любимица – кошка, которую зовут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урка. Она очень красивая. Шерсть у нее пестрая, пушистая, а глаза  зеленые. Мурке уже 6 лет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2411280" y="3500280"/>
            <a:ext cx="37926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3640" y="188640"/>
            <a:ext cx="433044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гда я делаю уроки, Мурка садится рядом и ждет, когда я с ней поигра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611280" y="3357720"/>
            <a:ext cx="3889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А еще она любит умываться: сядет в уголке, лижет лапку и моет мордочк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Я очень люблю свою пушистую питомиц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5184720" y="33336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5137200" y="3357720"/>
            <a:ext cx="3551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611280" y="692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0f1ff"/>
                </a:solidFill>
                <a:latin typeface="Century Gothic"/>
              </a:rPr>
              <a:t>Как и все кошки,  Мурка умная, хитрая и очень любит своих хозяев, то есть всю нашу семью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0882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699920"/>
            <a:ext cx="4402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 нас во дворе живут курочки. Всего их у нас 15. Это очень веселые и забавные птицы. Они пестрого окрас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http://www.fermer.ru/files/imagecache/AttachmentPost/10_19.jpg"/>
          <p:cNvPicPr/>
          <p:nvPr/>
        </p:nvPicPr>
        <p:blipFill>
          <a:blip r:embed="rId2"/>
          <a:stretch/>
        </p:blipFill>
        <p:spPr>
          <a:xfrm>
            <a:off x="5292720" y="412920"/>
            <a:ext cx="3527280" cy="3019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5340240" y="3645000"/>
            <a:ext cx="34797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394840" cy="186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1692360" y="2008080"/>
            <a:ext cx="59277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547120" cy="180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4954680" y="1881360"/>
            <a:ext cx="3190680" cy="2339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3"/>
          <a:stretch/>
        </p:blipFill>
        <p:spPr>
          <a:xfrm>
            <a:off x="468360" y="1881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395280" y="2708280"/>
            <a:ext cx="7750080" cy="3867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:\Users\Nobody\Desktop\Новый рисунок (1).png"/>
          <p:cNvPicPr/>
          <p:nvPr/>
        </p:nvPicPr>
        <p:blipFill>
          <a:blip r:embed="rId5"/>
          <a:stretch/>
        </p:blipFill>
        <p:spPr>
          <a:xfrm>
            <a:off x="3132000" y="4444920"/>
            <a:ext cx="25304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7:08:32Z</dcterms:created>
  <dc:creator>1</dc:creator>
  <dc:description/>
  <dc:language>en-US</dc:language>
  <cp:lastModifiedBy>Nobody</cp:lastModifiedBy>
  <dcterms:modified xsi:type="dcterms:W3CDTF">2013-03-31T07:08:22Z</dcterms:modified>
  <cp:revision>18</cp:revision>
  <dc:subject/>
  <dc:title>Мои питомцы</dc:title>
</cp:coreProperties>
</file>