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16C0-712B-450B-9F68-A855B418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04CB-630C-4492-AC07-6CD1590A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8CE-DAC7-4AA4-A931-FD887C85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B08-878C-46B0-A9BA-3F440852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C1E0-9F81-4A43-B4A8-93C72764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4A74-4ADA-4F0A-82F5-05E08DA9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A2A0-B0A2-4960-A4F7-0CA1AA4F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A2C1-33A5-415C-A55D-D28A8E2D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CBA2-F77F-4742-859B-38A002FF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F8E4-57EA-4212-BC62-50345CA7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99A4-0E8E-412C-9C12-A4779F7D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E54-C89B-4777-A2C0-2B6A332E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4BD5-0616-4282-9586-58E9B9B4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BB32-F42D-4CD2-8A91-2BFD2D24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51E8-9B5D-4ACF-8950-B8A88DB4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152F-5ED0-4195-BC29-F6250625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B281-A275-45F2-9D94-7A6FB46D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4A3F5-9E34-4592-B106-8322C2EB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D066-A615-4DC6-90FB-F19F3456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ADDCB-11D5-46DA-978C-EAC8D948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1FD99-6ECC-4896-A425-78A980B4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A49B-82AF-4A6E-8733-DFF1394C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DAC-6189-425F-A41E-EECCD822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30145-6B34-47D4-A29E-B44988AA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9E06-66BA-4ABA-808D-6BFD15B0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F69B-7EFA-43CB-BA57-629AEB39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5E185-DF37-40F4-AC82-641B0142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DAAC-D40A-41E1-A84C-353308C8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CF33-BEDC-41DD-A559-E238AA91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502B9-E8AF-4095-B637-66A7015E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804AF-CE4C-4416-9BE2-C36578E3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75478-6938-40C7-9F63-78BD22F4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5CFE9-2CC0-4AF9-82E2-C0938F63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A3F-EEE7-4FB1-B4C3-7A2F5FA8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C26D3-566F-4CD7-A507-446B74A9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37723-696F-4A0D-B784-5DAE069D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9BED6-015A-45C7-A92A-FB8FC040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6D964-D49A-4ED9-8EE6-1D97DDAB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B07B2-2D7B-48F4-A65B-1B035042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A5F9-F1CA-4CB2-8E4B-2A0A1DDB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AF218-0E94-48CA-8102-AC9CCBE2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4FB78-44FB-49F1-85D0-619141BE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1CE1-6E9F-499C-A95D-F16CC693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9970F-C105-41F8-942B-46BE5CBD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1C8-0EAE-4FFE-8998-87456C71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0F9A1-5736-44CD-8A7B-DF977AB7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B9FCC-B38C-46D6-9941-C290A68E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13164-BE4F-4EB0-95EB-2E43C0BB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91B3F-7C0E-4F6C-B000-6C436336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107E-7708-480B-83DB-2BC03267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45D2F-ECE4-4EBF-81CA-B95742D0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6A720-2B07-4272-9CE1-EA6A68E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3A2FF-4575-4D5B-B36B-06BF6A15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4C86A-0B64-4519-8908-D82141D2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0346C-EFB3-4C22-9BA9-4463BBDB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F1E-686A-4296-AED1-1E101005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4D097-FC7D-4C24-AC8F-824C3050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A4723-0126-438A-A182-B6B39CA5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71D7A-2F9D-40C5-B4C6-7F3D7B15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20EF0-2FD9-4E71-9BA5-E1C19A46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49BF7-570B-4C59-80C2-E458C029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2A311-DAAB-4E84-B051-DFC89AC3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D747C-27E8-4A8C-998E-B2E2E72B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34475-BF55-476C-897F-BDF9EC6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30A2D-541D-43A9-85BA-B81506C7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EAB57-38F5-4722-8E52-C41D0084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471-6CF4-4526-BABA-0FCC9683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237B3-D172-4749-956F-0E9A5F90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FD5F0-1020-4B75-B9E6-805F7B9A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E7C98-49FC-4B09-9D5F-33F4AFCC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C4D68-6C31-4364-BE5D-BA6D7851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A8329-6CBF-4AD9-9ACA-315920B7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A3435-BED6-40EE-BEA4-7429A85A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F5A9E-C127-4532-9E85-CFF6731C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218E4-C218-4046-982A-E9270732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C4D39-1418-4D30-8469-66B50C02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ACB3C-96F0-4E84-82CD-F0686971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E48-551D-40FB-BFCF-D05DFD34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A4279-B74D-4FB2-84A4-ED471F66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06EAA-E204-465F-B1D0-1B5612A9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1B11A-2451-4DD9-9FC8-44CA9E56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724E3-3E3A-4CE4-BF60-0496D979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B50C5-560A-4442-AAA8-B474F9E8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21AE7-6068-4AB5-9825-55950A3A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FAB29-906D-4C4E-91F8-3BF14BFE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3204D-41D9-454B-ACD7-8BBF5BD6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EE48C-B83E-4487-8DCA-C50DFA14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DDB0C-B70A-44EE-B22E-E126BF00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A9F-1714-490D-9600-EF642C30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D47AF-45AD-4C25-A669-1ABA7700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BF507-8D99-49A1-8581-7B6C5810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D4AF4-9E0F-4060-8DAA-841B8765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B967A-4C4A-4D4E-91EA-62B5EF91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1EBB5-8AC9-4D7D-ACAF-D80243D5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8FE09-9676-486E-8DDE-5099AD65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5803E-2BC3-4DF6-AF72-34590523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3536-E5BB-41E5-86F0-E41CA5B65C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6BF7-913A-43A7-B4DC-B808B7635180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02FC-87EA-4239-AE9C-4874298AD9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2B06-25B1-4AF8-BAF0-6AD0D8283B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FFF6-1261-419A-8BD0-45158810C1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719D-9C00-4402-AB43-BEB78C6CC2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3D4C-4F57-4DA7-8BEB-F4BF1CFD5E93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2556-3B8F-4743-87C0-37D993578A6E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3" descr=""/>
          <p:cNvPicPr/>
          <p:nvPr/>
        </p:nvPicPr>
        <p:blipFill>
          <a:blip r:embed="rId1"/>
          <a:stretch/>
        </p:blipFill>
        <p:spPr>
          <a:xfrm>
            <a:off x="1762200" y="1487520"/>
            <a:ext cx="5906880" cy="32068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5651640" y="479736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Подготовил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ученица 2 «Б» класс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Баранкулова Динар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363528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Gothic"/>
              </a:rPr>
              <a:t>2013 год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Rectangle 1"/>
          <p:cNvSpPr/>
          <p:nvPr/>
        </p:nvSpPr>
        <p:spPr>
          <a:xfrm>
            <a:off x="2214720" y="44892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МБОУ «СОШ № 57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475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В нашей семье очень любят животных. Сейчас у нас живут кошка и курочки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611280" y="1881360"/>
            <a:ext cx="3192480" cy="2339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4932360" y="335772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just">
              <a:lnSpc>
                <a:spcPct val="100000"/>
              </a:lnSpc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e0f1ff"/>
                </a:solidFill>
                <a:latin typeface="Arial"/>
                <a:ea typeface="Arial"/>
              </a:rPr>
              <a:t>В нашей семье есть общая любимица – кошка, которую зовут 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Мурка. Она очень красивая. Шерсть у нее пестрая, пушистая, а глаза  зеленые. Мурке уже 6 лет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2411280" y="3500280"/>
            <a:ext cx="379260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23640" y="188640"/>
            <a:ext cx="433044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Когда я делаю уроки, Мурка садится рядом и ждет, когда я с ней поиграю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Прямоугольник 4"/>
          <p:cNvSpPr/>
          <p:nvPr/>
        </p:nvSpPr>
        <p:spPr>
          <a:xfrm>
            <a:off x="611280" y="3357720"/>
            <a:ext cx="3889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А еще она любит умываться: сядет в уголке, лижет лапку и моет мордочку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Я очень люблю свою пушистую питомицу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5184720" y="33336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5137200" y="3357720"/>
            <a:ext cx="35510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611280" y="692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0f1ff"/>
                </a:solidFill>
                <a:latin typeface="Century Gothic"/>
              </a:rPr>
              <a:t>Как и все кошки,  Мурка умная, хитрая и очень любит своих хозяев, то есть всю нашу семью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0882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699920"/>
            <a:ext cx="4402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just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У нас во дворе живут курочки. Всего их у нас 15. Это очень веселые и забавные птицы. Они пестрого окрас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Picture 2" descr="http://www.fermer.ru/files/imagecache/AttachmentPost/10_19.jpg"/>
          <p:cNvPicPr/>
          <p:nvPr/>
        </p:nvPicPr>
        <p:blipFill>
          <a:blip r:embed="rId2"/>
          <a:stretch/>
        </p:blipFill>
        <p:spPr>
          <a:xfrm>
            <a:off x="5292720" y="412920"/>
            <a:ext cx="3527280" cy="3019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5340240" y="3645000"/>
            <a:ext cx="34797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394840" cy="1865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1692360" y="2008080"/>
            <a:ext cx="592776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547120" cy="1809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4954680" y="1881360"/>
            <a:ext cx="3190680" cy="2339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3"/>
          <a:stretch/>
        </p:blipFill>
        <p:spPr>
          <a:xfrm>
            <a:off x="468360" y="1881360"/>
            <a:ext cx="3166920" cy="23763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395280" y="2708280"/>
            <a:ext cx="7750080" cy="3867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C:\Users\Nobody\Desktop\Новый рисунок (1).png"/>
          <p:cNvPicPr/>
          <p:nvPr/>
        </p:nvPicPr>
        <p:blipFill>
          <a:blip r:embed="rId5"/>
          <a:stretch/>
        </p:blipFill>
        <p:spPr>
          <a:xfrm>
            <a:off x="3132000" y="4444920"/>
            <a:ext cx="25304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7:08:32Z</dcterms:created>
  <dc:creator>1</dc:creator>
  <dc:description/>
  <dc:language>en-US</dc:language>
  <cp:lastModifiedBy>Nobody</cp:lastModifiedBy>
  <dcterms:modified xsi:type="dcterms:W3CDTF">2013-03-31T07:08:22Z</dcterms:modified>
  <cp:revision>18</cp:revision>
  <dc:subject/>
  <dc:title>Мои питомцы</dc:title>
</cp:coreProperties>
</file>