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A881-C4A4-409F-A3DB-C9FB2B80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1970-5000-4355-A40B-EBC31D1E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2C62-0041-420A-8282-D138BD6F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ABAD-8A95-4931-A925-870D4580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F1E2-A963-48E0-B526-F002A9AA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48B9-F6F7-4D64-9F94-51E36112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E943-46D5-4761-A4D8-4BDFDEB3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0589-C9B0-4E50-9908-8D3C23D6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8878-69CB-4DB4-B105-6C8B942B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D9E5-1251-4D25-9763-5A28A9CB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BABE-13EB-4FF1-9B46-3E46C29C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01E0-A2BA-4A96-9C65-644F4320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7356-7051-476C-A3F4-4FEA967D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A7A1-C75A-424E-BE49-D1D04433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D329-8873-40D9-9340-9A1505C9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851A-605D-4FD1-9EBE-637C40AF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F0A6-7592-4490-BFD1-9905EA72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822-E225-48BE-8147-044BE9BE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8B22-BB90-492B-A26E-B5D5DB1F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DB55-262D-4E4A-8639-86254B20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AC7-E694-4904-8A1C-96B80A96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06C2-6CE0-411B-8B27-8208FD7C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1B7D-A363-4009-80E0-7E27CC22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491-0CAE-4560-A359-6364470E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77BF-E019-4762-B237-925CEA522ED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AB92-C442-4238-A670-566D72E9CF8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99760" y="1214280"/>
            <a:ext cx="63579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зентация на тему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56800" y="5785920"/>
            <a:ext cx="764388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готовила ученица 8 класса Безматерных Екатери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оугольник 5"/>
          <p:cNvSpPr/>
          <p:nvPr/>
        </p:nvSpPr>
        <p:spPr>
          <a:xfrm>
            <a:off x="785880" y="2500200"/>
            <a:ext cx="764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Наука и образование в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век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ука и производств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00680" y="1214280"/>
            <a:ext cx="50004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производства сдерживалось крепостными порядками, но достижения науки все же находили в нем быстрое примен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20-е годы началось развитие машиностро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30-40-е гг. началось железнодорожное строительство, для текстильной  промышленности начали производить химические красите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800px-Tzarskoselskaya_Railway_-_Watercolour"/>
          <p:cNvPicPr/>
          <p:nvPr/>
        </p:nvPicPr>
        <p:blipFill>
          <a:blip r:embed="rId1"/>
          <a:stretch/>
        </p:blipFill>
        <p:spPr>
          <a:xfrm>
            <a:off x="214200" y="1071720"/>
            <a:ext cx="3708360" cy="5072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4071960"/>
            <a:ext cx="7502400" cy="13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звитие системы образова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85520" y="1412640"/>
            <a:ext cx="8001000" cy="28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 реформ 1803 г. система образования состояла из ступене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Церковно-приходские шко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Уездные училищ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Губернские гимназии, университ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5"/>
          <p:cNvSpPr/>
          <p:nvPr/>
        </p:nvSpPr>
        <p:spPr>
          <a:xfrm>
            <a:off x="1000080" y="435780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ачал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ка были открыты университеты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зани, Харькове, Петербурге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 лицеи в Царском Селе и  Ярослав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звитие системы образова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067280" y="907920"/>
            <a:ext cx="483552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Никола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се типы шк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хранились, но они ст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ловно-обособленн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одготовки педкад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рылись институты в Моск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етербурге, а д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и инженеров ст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ляться техн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едения. Несмотря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нзуру в стране рос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иблиотеки, появляли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вые книгоиздания (например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дательство А.Ф. Смирдина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m_29370 (5)"/>
          <p:cNvPicPr/>
          <p:nvPr/>
        </p:nvPicPr>
        <p:blipFill>
          <a:blip r:embed="rId1"/>
          <a:stretch/>
        </p:blipFill>
        <p:spPr>
          <a:xfrm>
            <a:off x="330120" y="928800"/>
            <a:ext cx="3629160" cy="5143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10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" dur="10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10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100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100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иология и медицин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3920" y="999720"/>
            <a:ext cx="692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чал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ека русские биологи вплотную подошли к пониманию эволюционных процессов развития прир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. Двигубский, И. Дядьковский считали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окружающий мир зародился естественным пут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Пирогов заложил основы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енно-полевой хирург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-432468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ология и хим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2920" y="981000"/>
            <a:ext cx="428652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11 г. К.Киргуоф залож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ы учения о катализ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.Гроттус открыл зак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тохим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10г. Г.Гесс откры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он сохранения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ительно к хим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26-27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.Соболевский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Любарский ст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оположни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ошковой металлург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4" descr="77454917_Nikolai_ZininSPL"/>
          <p:cNvPicPr/>
          <p:nvPr/>
        </p:nvPicPr>
        <p:blipFill>
          <a:blip r:embed="rId1"/>
          <a:stretch/>
        </p:blipFill>
        <p:spPr>
          <a:xfrm>
            <a:off x="500040" y="857160"/>
            <a:ext cx="3855960" cy="5386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5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4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0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3" dur="1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6" dur="10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10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2" dur="10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5" dur="1000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ология и хим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56000" y="980640"/>
            <a:ext cx="4788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ы Н.Зини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Бутлерова заложи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ы органической химии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капиталистичес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ношений вызвало разви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олог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30-е годы началис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олого-съемочные раб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рито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ссии, а в 1840г. Н.Кокша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тавил геологическую кар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вропейской части ст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" descr="276080"/>
          <p:cNvPicPr/>
          <p:nvPr/>
        </p:nvPicPr>
        <p:blipFill>
          <a:blip r:embed="rId1"/>
          <a:stretch/>
        </p:blipFill>
        <p:spPr>
          <a:xfrm>
            <a:off x="179280" y="836640"/>
            <a:ext cx="4032360" cy="540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4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" dur="5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атематика, физика и астроном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357280" y="1553760"/>
            <a:ext cx="516096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форма 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ужила толчком к бурн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ю математической нау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тематический анализ нач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яться М.Остроградским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моэлектродинамике, тео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енци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26г. профессор Казанск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ниверситета Н.Н.Лобачев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л нееклеиновую геометри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торая нашла практиче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ение только во 2-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овин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4559760" y="3270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8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8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8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8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8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8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8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8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8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8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8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8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8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атематика, физика и астроном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56840" y="2000160"/>
            <a:ext cx="67438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физике основные исследования были связаны с электричеств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802г. В.Петров разработал гальваническую батаре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.Якоби и Э.Лену разработали теорию электрических явл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.Шиллинг изобрел телеграф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Якоби буквопечатающий аппара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9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500"/>
                            </p:stCondLst>
                            <p:childTnLst>
                              <p:par>
                                <p:cTn id="3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атематика, физика и астроном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4571640"/>
            <a:ext cx="896472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строномии шел процесс накопления знаний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авным достижением стало создание телескопических систем, позволивших более детально описать Солнечную систе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39г. была открыта Пулковская обсерватория, ставшая астрономическим центром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sluzhbapogody"/>
          <p:cNvPicPr/>
          <p:nvPr/>
        </p:nvPicPr>
        <p:blipFill>
          <a:blip r:embed="rId1"/>
          <a:stretch/>
        </p:blipFill>
        <p:spPr>
          <a:xfrm>
            <a:off x="1285920" y="1571760"/>
            <a:ext cx="6350040" cy="2736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500"/>
                            </p:stCondLst>
                            <p:childTnLst>
                              <p:par>
                                <p:cTn id="4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17:04:58Z</dcterms:created>
  <dc:creator>USER</dc:creator>
  <dc:description/>
  <dc:language>en-US</dc:language>
  <cp:lastModifiedBy>Admin</cp:lastModifiedBy>
  <dcterms:modified xsi:type="dcterms:W3CDTF">2013-03-03T21:17:54Z</dcterms:modified>
  <cp:revision>11</cp:revision>
  <dc:subject/>
  <dc:title>Слайд 1</dc:title>
</cp:coreProperties>
</file>