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B632-0685-464F-B03E-C1308BE4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791-A3A9-4463-9244-EE1071DF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FBC-A8C4-4D8B-A0D6-B5E23554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18C-22F6-4C68-AFC1-51CD42EA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9282-C15D-49E1-B745-717A9A70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731F-9D2C-4F24-B2E2-9BCA6690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C2DD-204A-451B-90FE-A64849C8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F65F-D4C8-4F11-ADF3-E8BC0654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C9AD-B45A-412A-A435-124AF978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9DE9-26FA-421F-B899-81D03C42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C7A8-0470-4574-BF3C-7C390FC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0C2-71F1-41F4-B551-6119BE04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84C8-0500-4B24-BF83-CA977224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C653-4518-4571-9F7A-4B252E0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AA98-C3DD-4247-BB13-CB1797E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0CBA-709D-4EC9-ACCB-7F2038FD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2135-7F3E-4F1B-BD03-2311F7C3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99E-9BC4-4D68-B53C-51FE70AE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7BE-993C-4E74-B4ED-545E158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F4F-1A25-451F-A504-72E6EFCF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35E-03DC-4BAF-93F3-623B7D01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8953-9981-4D51-97EC-D4B2771E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909-A8CF-48F7-A00A-C936CB9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BA1-8938-4F99-B741-1E26970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E2C2-0698-4003-9264-05FFAB3046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7143-975C-4AAC-9FC1-96046C6DCB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63579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зентация на тем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764388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ученица 8 класса Безматерных Екатери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5"/>
          <p:cNvSpPr/>
          <p:nvPr/>
        </p:nvSpPr>
        <p:spPr>
          <a:xfrm>
            <a:off x="785880" y="2500200"/>
            <a:ext cx="764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Наука и образование в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век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ука и производство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00680" y="1214280"/>
            <a:ext cx="50004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производства сдерживалось крепостными порядками, но достижения науки все же находили в нем быстрое приме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20-е годы началось развитие машиностро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30-40-е гг. началось железнодорожное строительство, для текстильной  промышленности начали производить химические красите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800px-Tzarskoselskaya_Railway_-_Watercolour"/>
          <p:cNvPicPr/>
          <p:nvPr/>
        </p:nvPicPr>
        <p:blipFill>
          <a:blip r:embed="rId1"/>
          <a:stretch/>
        </p:blipFill>
        <p:spPr>
          <a:xfrm>
            <a:off x="214200" y="1071720"/>
            <a:ext cx="3708360" cy="5072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4000"/>
                            </p:stCondLst>
                            <p:childTnLst>
                              <p:par>
                                <p:cTn id="4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4071960"/>
            <a:ext cx="75024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витие системы образ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85520" y="1412640"/>
            <a:ext cx="8001000" cy="28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реформ 1803 г. система образования состояла из ступене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Церковно-приходские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Уездные училищ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убернские гимназии, университ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5"/>
          <p:cNvSpPr/>
          <p:nvPr/>
        </p:nvSpPr>
        <p:spPr>
          <a:xfrm>
            <a:off x="1000080" y="435780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начал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 были открыты университеты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зани, Харькове, Петербург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 лицеи в Царском Селе и  Ярослав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витие системы образова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483552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Никола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се типы шк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хранились, но они с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ловно-обособлен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одготовки педкад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рылись институты в Моск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етербурге, а д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и инженеров с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ться техни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едения. Несмотря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зуру в стране 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иблиотеки, появлялис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ые книгоиздания (наприм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дательство А.Ф. Смирдина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m_29370 (5)"/>
          <p:cNvPicPr/>
          <p:nvPr/>
        </p:nvPicPr>
        <p:blipFill>
          <a:blip r:embed="rId1"/>
          <a:stretch/>
        </p:blipFill>
        <p:spPr>
          <a:xfrm>
            <a:off x="330120" y="928800"/>
            <a:ext cx="3629160" cy="5143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1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1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10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10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иология и медицин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3920" y="999720"/>
            <a:ext cx="692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 русские биологи вплотную подошли к пониманию эволюционных процессов развития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. Двигубский, И. Дядьковский считал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окружающий мир зародился естественным пут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Пирогов заложил основ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о-полевой хиру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-432468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логия и хим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8652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11 г. К.Киргуоф залож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ы учения о катализ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.Гроттус открыл зак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тохи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10г. Г.Гесс откры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он сохранения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ительно к хим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26-27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.Соболевски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Любарский с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оположн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ошковой металлу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77454917_Nikolai_ZininSPL"/>
          <p:cNvPicPr/>
          <p:nvPr/>
        </p:nvPicPr>
        <p:blipFill>
          <a:blip r:embed="rId1"/>
          <a:stretch/>
        </p:blipFill>
        <p:spPr>
          <a:xfrm>
            <a:off x="500040" y="857160"/>
            <a:ext cx="3855960" cy="5386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1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10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1000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логия и хим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56000" y="980640"/>
            <a:ext cx="478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ы Н.Зин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Бутлерова залож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ы органической химии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капиталистиче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й вызвало развит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ло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30-е годы начали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лого-съемочные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рит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ссии, а в 1840г. Н.Кокша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ил геологическую кар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вропейской части стра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4" descr="276080"/>
          <p:cNvPicPr/>
          <p:nvPr/>
        </p:nvPicPr>
        <p:blipFill>
          <a:blip r:embed="rId1"/>
          <a:stretch/>
        </p:blipFill>
        <p:spPr>
          <a:xfrm>
            <a:off x="179280" y="836640"/>
            <a:ext cx="403236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тематика, физика и астроном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57280" y="1553760"/>
            <a:ext cx="51609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форма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ужила толчком к бурн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ю математической нау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ематический анализ нач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ться М.Остроградским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моэлектродинамике, те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нц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26г. профессор Казан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ниверситета Н.Н.Лобаче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л нееклеиновую геометри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ая нашла практичес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ение только во 2-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овин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4559760" y="3270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8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8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8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8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8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8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8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8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8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тематика, физика и астроном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56840" y="2000160"/>
            <a:ext cx="67438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изике основные исследования были связаны с электричест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02г. В.Петров разработал гальваническую батаре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.Якоби и Э.Лену разработали теорию электрических я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.Шиллинг изобрел телеграф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Якоби буквопечатающий аппар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атематика, физика и астроном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4571640"/>
            <a:ext cx="896472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строномии шел процесс накопления знаний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вным достижением стало создание телескопических систем, позволивших более детально описать Солнечную систе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39г. была открыта Пулковская обсерватория, ставшая астрономическим центром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sluzhbapogody"/>
          <p:cNvPicPr/>
          <p:nvPr/>
        </p:nvPicPr>
        <p:blipFill>
          <a:blip r:embed="rId1"/>
          <a:stretch/>
        </p:blipFill>
        <p:spPr>
          <a:xfrm>
            <a:off x="1285920" y="1571760"/>
            <a:ext cx="6350040" cy="273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17:04:58Z</dcterms:created>
  <dc:creator>USER</dc:creator>
  <dc:description/>
  <dc:language>en-US</dc:language>
  <cp:lastModifiedBy>Admin</cp:lastModifiedBy>
  <dcterms:modified xsi:type="dcterms:W3CDTF">2013-03-03T21:17:54Z</dcterms:modified>
  <cp:revision>11</cp:revision>
  <dc:subject/>
  <dc:title>Слайд 1</dc:title>
</cp:coreProperties>
</file>