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60CC-1410-4A45-8AEF-37E077BF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0CF-7B6B-4250-9290-28BD5E72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19F-CBB2-4E14-A20C-80862EFF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04B-5DFE-475A-B8E6-26B6FE778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EBC87-02CD-4ACE-B9E7-24189A98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A3471-BC04-4684-A3CC-A2B96FCF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6383C-18E6-4EA0-BCEE-3C2B3685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0A487-32C4-427B-9F20-1AEFEA97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FAC06-35B6-4D33-A530-8A16C6E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CFC78-7817-421C-B98C-70972BD3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9E47D-0CFC-4659-8B44-E5EF1F8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758-AE4A-432F-96CB-58D0E12C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4B7FD-52FE-436F-86ED-9F09E25A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D46E7-33C8-4A31-B1DA-A281126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028D7-2555-46E9-9AA4-23CEF825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78BCD-975D-4DA4-9785-696E6A2F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B000B-3E3C-49D4-92BF-027C8EE9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4DD37-C564-4283-9640-EB334F6D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DD4C4-5A5C-44A2-96B0-3C98514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336CA-B468-43D4-9B51-FD4EA0AE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9849D-3916-4684-B4C0-753850DF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956286-E9B1-4748-AC6F-CC3BC7FF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CA7-99B0-46E6-8124-134C3975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8FD82-3E4D-407D-9CFB-E28430C8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6A839-8A91-45EB-A27C-899DF1B2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D06A5-C679-483F-A1C5-9096F104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F670A-45D0-4B25-8F55-9EE0081B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9E63E-6AA1-48B2-B525-D22514CE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A3376-B66C-47B3-81B4-9C7DA488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4FE1B-D622-4D48-B15C-4C45911B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6D5F5-F4D6-4A85-89C6-27BB9556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51DEF-05E6-4725-A657-3D15CE9C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8B0D2-E67F-45DD-A8EF-11647BA5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C4B-67B6-44EA-B761-6A2A4A6E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FCF8A-F714-4A07-B655-18B14366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1E546-3444-496B-BB8F-33C438AA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596A7A-8A63-4A75-9839-19BA691A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4BDBD-348F-42A4-A294-419F887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66DB2-B6FD-47C6-AC99-2ACB19B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CC6CBE-2270-4D5B-86FF-930214F6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FD10E1-86C1-49B4-A462-96AF6C9F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DAAA9-34E9-431F-BD65-48F0CCD5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A4B98-4889-4F1A-81E3-2C5CEDE3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7D097-992F-445A-8553-5C994AD8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8C7-2F01-40DF-AD00-1FD0B5F4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E3788-3AA6-43E0-B069-82123FBE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B8D61-AFB2-4D04-9D5B-DA7D1B1A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1F3D6-5E17-4F72-A5A2-791DA5DF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5BA12-7CAF-4CBD-ABB0-AF642BC3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EA6E5-781D-4D8C-83E2-ECE079F0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452C6-599E-4895-9ADE-75F86173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35666-5B99-4ED7-BB08-F0A4EB23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46A4D-76DD-43C5-91CA-B350D8B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B3182F-64A5-412D-A835-31DAE226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691C1-BC24-431D-8354-6CB0FBBF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B7B-3FE2-4405-B509-3CB1C3E8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E6269-1B35-4679-8F49-929077CD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405786-6F6A-4A72-B609-6B8AE13A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3FD47-C503-4D18-A259-C7CE8ACF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7FC3D-7474-4A1B-A72F-39C1EAD9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B2F302-1A80-45F7-9D86-8F28E983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F9AF59-C92A-4A60-AA21-7A1AFBD2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74074-0383-4824-9122-491A09BC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BC7F2-B774-4033-821F-4F928A49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49AB9-78AC-4D75-9F3E-152519F7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E0F6B-3A6D-4F1A-810D-9724927D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7D8-B3A9-4443-959A-3D097DA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B574F-C199-4557-92EC-E0612EF3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55616-7B4C-4EC3-B09E-A9337ACF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10BC2-01C1-4EDD-B6F6-55ACB82A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F7B-13B1-44AE-8627-ADED473C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570-A1C7-4712-9889-35F31EA4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0F9B-ADE9-4655-BC3F-442979D6D77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A79E-590A-4008-88AD-D23CD67CED8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6FBD-5371-4A73-B4A5-E3DB3F2150C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CF42-160E-4347-BB84-2D4AA9DF5F9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DD78-87CA-4917-AA30-35627A4BAF0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A7B-E1F4-4A2F-80CF-57FDA1B1045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рмалы. Кто они?...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940360" y="3284280"/>
            <a:ext cx="26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«За» и «Против»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C:\Users\Администратор\Desktop\для наты +\фото неформалов\171_NNN350.jpg"/>
          <p:cNvPicPr/>
          <p:nvPr/>
        </p:nvPicPr>
        <p:blipFill>
          <a:blip r:embed="rId1"/>
          <a:stretch/>
        </p:blipFill>
        <p:spPr>
          <a:xfrm>
            <a:off x="395280" y="2565360"/>
            <a:ext cx="495936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226040" y="1160640"/>
            <a:ext cx="4906800" cy="50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а молодежная субкультура возникла в середине 70-х годов в Великобритании, США, Канаде и Австралии. Панки критически относятся к обществу и политике и любят музыку панк-рок, стремятся к личной свободе и носят заклепки и цепи, приветствуют индивидуализм и независимость. Панки считают своим долгом все время эпатировать публику, будь то тусовка, концерт или просто поход в магазин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4760" y="18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ки</a:t>
            </a:r>
            <a:endParaRPr b="0" lang="en-US" sz="5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1"/>
          <a:stretch/>
        </p:blipFill>
        <p:spPr>
          <a:xfrm>
            <a:off x="484200" y="1341360"/>
            <a:ext cx="3311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1"/>
          <p:cNvSpPr/>
          <p:nvPr/>
        </p:nvSpPr>
        <p:spPr>
          <a:xfrm>
            <a:off x="4859280" y="117360"/>
            <a:ext cx="42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жде всего, это касается внешнего облика, а также поведения. Многие панки красят волосы в яркие неестественные цвета, начесывают и фиксируют их. В результате получается прическа под названием «ирокез». Панки носят закатанные джинсы, причем иногда предварительно вымачивают их в растворе отбеливателя, чтобы брюки пошли рыжими разводами. Тяжелые высокие ботинки или кеды, куртка-косуха тоже являются обязательными атрибутами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Рисунок 3" descr=""/>
          <p:cNvPicPr/>
          <p:nvPr/>
        </p:nvPicPr>
        <p:blipFill>
          <a:blip r:embed="rId1"/>
          <a:stretch/>
        </p:blipFill>
        <p:spPr>
          <a:xfrm>
            <a:off x="165240" y="117360"/>
            <a:ext cx="3398760" cy="327996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"/>
          <p:cNvPicPr/>
          <p:nvPr/>
        </p:nvPicPr>
        <p:blipFill>
          <a:blip r:embed="rId2"/>
          <a:stretch/>
        </p:blipFill>
        <p:spPr>
          <a:xfrm>
            <a:off x="120600" y="3645000"/>
            <a:ext cx="3487680" cy="2987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219280" y="189000"/>
            <a:ext cx="381636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20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</a:t>
            </a:r>
            <a:endParaRPr b="0" lang="en-US" sz="8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англ.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otional — эмоциональный) Субкультура эмо появилась на базе поклонников одноименного музыкального стиля. Ее представителей называют «Эмо-киды» (emo + kid — молодой человек, ребенок). Ключевое правило для эмо-кидов — выражение эмоций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71280" y="6453000"/>
            <a:ext cx="7350120" cy="21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3" name="Рисунок 3" descr=""/>
          <p:cNvPicPr/>
          <p:nvPr/>
        </p:nvPicPr>
        <p:blipFill>
          <a:blip r:embed="rId1"/>
          <a:stretch/>
        </p:blipFill>
        <p:spPr>
          <a:xfrm>
            <a:off x="182520" y="176040"/>
            <a:ext cx="3468600" cy="301176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4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1905120" cy="336384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" descr=""/>
          <p:cNvPicPr/>
          <p:nvPr/>
        </p:nvPicPr>
        <p:blipFill>
          <a:blip r:embed="rId3"/>
          <a:stretch/>
        </p:blipFill>
        <p:spPr>
          <a:xfrm>
            <a:off x="2340000" y="3479760"/>
            <a:ext cx="3117960" cy="31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5651640" y="404640"/>
            <a:ext cx="293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Их отличает самовыражение, противостояние несправедливости и особенное, чувственное мироощущение. Зачастую это ранимые и депрессивные люди, мечтающие о счастливой любви. Внимание: если в поле вашего зрения окажется плачущий подросток, не спешите бросаться на помощь, для эмо это вполне естественное занятие, за которым они могут проводить большую часть своего времени, и вы можете только помешать созданию так называемого «облака жалости».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0" y="69840"/>
            <a:ext cx="2556000" cy="31399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3" descr=""/>
          <p:cNvPicPr/>
          <p:nvPr/>
        </p:nvPicPr>
        <p:blipFill>
          <a:blip r:embed="rId2"/>
          <a:stretch/>
        </p:blipFill>
        <p:spPr>
          <a:xfrm>
            <a:off x="11160" y="3497400"/>
            <a:ext cx="2544840" cy="33130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5" descr=""/>
          <p:cNvPicPr/>
          <p:nvPr/>
        </p:nvPicPr>
        <p:blipFill>
          <a:blip r:embed="rId3"/>
          <a:stretch/>
        </p:blipFill>
        <p:spPr>
          <a:xfrm>
            <a:off x="2927520" y="1197000"/>
            <a:ext cx="265248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5292720" y="981000"/>
            <a:ext cx="309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 выделяются из толпы ярким внешним видом. Неотъемлемой частью стиля является знаменитая косая, рваная челка до кончика носа, закрывающая один глаз, сзади же наблюдаем короткие волосы, торчащие в разные стороны. У девушек возможны детские, смешные прически — два маленьких хвостика, яркие заколочки и бантики. Очень важный атрибут — сумка, увешанная значками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Рисунок 2" descr=""/>
          <p:cNvPicPr/>
          <p:nvPr/>
        </p:nvPicPr>
        <p:blipFill>
          <a:blip r:embed="rId1"/>
          <a:stretch/>
        </p:blipFill>
        <p:spPr>
          <a:xfrm>
            <a:off x="108000" y="57240"/>
            <a:ext cx="3384360" cy="302256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3" descr=""/>
          <p:cNvPicPr/>
          <p:nvPr/>
        </p:nvPicPr>
        <p:blipFill>
          <a:blip r:embed="rId2"/>
          <a:stretch/>
        </p:blipFill>
        <p:spPr>
          <a:xfrm>
            <a:off x="136440" y="3487680"/>
            <a:ext cx="4537080" cy="3157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5253120" y="260280"/>
            <a:ext cx="3611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дежду эмо обычно носят розово-черных тонов, хотя в этом вопросе они снисходительны — другие яркие сочетания тоже считаются допустимыми. Внимание эмо чаще обращено на глубокие личные переживания, чем на общественные события. Эмо-культура пропагандирует стрэйтэйджинг, то есть здоровый образ жизни: отказ от табака, наркотиков и алкоголя. Большое значение придается таким ценностям, как дружба и любовь. Духовными идеалами культуры являются правдивость, честность, верность, искренность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Рисунок 2" descr=""/>
          <p:cNvPicPr/>
          <p:nvPr/>
        </p:nvPicPr>
        <p:blipFill>
          <a:blip r:embed="rId1"/>
          <a:stretch/>
        </p:blipFill>
        <p:spPr>
          <a:xfrm>
            <a:off x="27000" y="4680"/>
            <a:ext cx="3327480" cy="3457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"/>
          <p:cNvPicPr/>
          <p:nvPr/>
        </p:nvPicPr>
        <p:blipFill>
          <a:blip r:embed="rId2"/>
          <a:stretch/>
        </p:blipFill>
        <p:spPr>
          <a:xfrm>
            <a:off x="2073240" y="3639960"/>
            <a:ext cx="256212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48:17Z</dcterms:created>
  <dc:creator>Администратор</dc:creator>
  <dc:description/>
  <dc:language>en-US</dc:language>
  <cp:lastModifiedBy>Татьяна</cp:lastModifiedBy>
  <dcterms:modified xsi:type="dcterms:W3CDTF">2013-04-16T21:41:50Z</dcterms:modified>
  <cp:revision>20</cp:revision>
  <dc:subject/>
  <dc:title>Неформалы. Кто они?...</dc:title>
</cp:coreProperties>
</file>