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2D4-2600-46D0-B76D-FA5924FB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049-931D-49BE-93CC-89CEE3FE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8EF-1332-4563-940D-0175EDC0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551-93A9-4251-852D-45A97F31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1C253-0A38-4A5A-9B4A-3F64BFCE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41C18-FF22-4CFF-808F-E7F37763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C2681-E1C1-426A-8A64-D88A64F7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5A85E-DE6E-4913-9728-898F84AA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B2549-D3A9-423D-93FE-D13E9BB2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6FF35-A999-4C42-B74F-2CD8EC0E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FCBC9-3E47-43CC-B9BE-E36C2504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5D4-31C2-47B4-90E9-812BD6A1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5BEDD-71F6-4B3B-B801-0B6D6B01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5A795-33A6-4172-B080-996E1865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4BAD4-2FB8-4144-BD16-7B5B1895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D97FC-A193-4969-A079-65741C0D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8916F-FFF4-4C6B-A06B-AC260F8A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7BBED-5A96-4BD3-B364-936E6A02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E60CF-7862-40FE-947C-BD2A6B04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4213B-92B7-45F6-A525-C173458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00189-BE29-455D-9797-90CA014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07F3F-10D0-4BEB-89AC-C6181A8D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9AB-22E4-447C-B9BE-492D5758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DF4B7-0B7C-47D2-9AC1-CCB21ACC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D8A12-F4D2-44E7-8855-8625346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5B794-DF2B-47D7-9073-F4E53A5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75097-18B0-494C-8BCC-7C8AE37D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C470F-5157-4D76-AF3E-23E46E80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D733A-D2AF-498E-86A8-3ACDA961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51D9E-EBA7-4516-89EF-C63007D2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A3275-A0CF-4DA6-B7E7-0DD7F9E3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647398-6C78-4FC6-9908-5F9D3709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27029-E3C6-4095-A506-77AD2AB4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00C-C7DF-4EAA-B636-F7370FF1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626BE-E179-40B4-83BD-3F8E33AE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2EC14-54F9-4C81-A574-1645FAD5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7F911-E761-48A2-B017-0B463AF5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847F3-F131-4AE6-A2B6-CC2ECE6A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F3D79D-A511-4D0B-B555-F874824C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F63A0A-5793-4538-8985-396D2B12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FFA5E-4B98-4037-81BE-9C1F476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0C73F-16B2-4D92-82C9-96B07071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B27EA-4CEC-485E-8773-01EA0DEA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2111F-49E8-42A6-A25C-1E7DB358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2E1-ACD4-44AC-A471-FEA9602F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8C30F-FCBC-41F0-88B7-AB8C087C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E423F-2ED7-4395-9FEB-D20897B4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FA70F-EFF3-4748-8499-FC1DB2BD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C4168-6989-4AA5-83E3-64E39EB3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8299C-7917-462C-9385-B65C3B2C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82643-C89F-4079-9D37-804BEF41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F09A0-EE16-469D-81EF-14A56713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98863-B07C-4E9F-8046-29F16FF7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9DE3C-D65F-4AA9-AD12-BF46ABF3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3C753-C057-44BD-9BF1-34208F3D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B6A-8716-41CF-A9B4-4F4FC0CC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CAAFE-2A30-4BB7-9041-AB1B2C7B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7B995-C562-4B19-A958-D2850DE8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8CA2D-EBB2-4ECB-9305-97A2F55C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5388F-0481-4CA1-8B43-641DDA12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670BE-FA57-40AE-BE26-36E9C38A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FAB1D-C052-4D73-8469-763EDC4D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3479E-A92D-40B3-B7BF-9BB764CE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A2DD96-F9E2-42EF-8D92-D09EC3C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EDAE1-639B-49C8-9C2F-C734351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B0A1A-DF2C-441B-90AD-EDAF3199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0BF-4FB4-40A9-83A3-EDA50A55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D37F4-57C6-466C-91F4-7D52DE9D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E4234-E8BB-4F85-A43F-EF26FC50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D372C-5583-4AB5-98CA-D549E3BF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0F0-8600-4E57-97BD-4B6E812B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74E-F811-431E-ABA9-11EE6553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5F28-5517-4A54-B1C1-3BC17A258DF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AF99-D2CE-4E2E-B61B-9216EA0BC0A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1A17-F52C-4D6F-97A7-BFD8A501FEA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1B3A-BD34-4C68-9F54-15B05CC50B6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3A7D-4C2D-469D-98D9-6684D890EDC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5CBF-141A-427D-8FEC-0665C4D9B76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ормалы. Кто они?...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940360" y="3284280"/>
            <a:ext cx="26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«За» и «Против»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2" descr="C:\Users\Администратор\Desktop\для наты +\фото неформалов\171_NNN350.jpg"/>
          <p:cNvPicPr/>
          <p:nvPr/>
        </p:nvPicPr>
        <p:blipFill>
          <a:blip r:embed="rId1"/>
          <a:stretch/>
        </p:blipFill>
        <p:spPr>
          <a:xfrm>
            <a:off x="395280" y="2565360"/>
            <a:ext cx="495936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226040" y="1160640"/>
            <a:ext cx="4906800" cy="50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 молодежная субкультура возникла в середине 70-х годов в Великобритании, США, Канаде и Австралии. Панки критически относятся к обществу и политике и любят музыку панк-рок, стремятся к личной свободе и носят заклепки и цепи, приветствуют индивидуализм и независимость. Панки считают своим долгом все время эпатировать публику, будь то тусовка, концерт или просто поход в магазин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4760" y="189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ки</a:t>
            </a:r>
            <a:endParaRPr b="0" lang="en-US" sz="5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1"/>
          <a:stretch/>
        </p:blipFill>
        <p:spPr>
          <a:xfrm>
            <a:off x="484200" y="1341360"/>
            <a:ext cx="3311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"/>
          <p:cNvSpPr/>
          <p:nvPr/>
        </p:nvSpPr>
        <p:spPr>
          <a:xfrm>
            <a:off x="4859280" y="117360"/>
            <a:ext cx="42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жде всего, это касается внешнего облика, а также поведения. Многие панки красят волосы в яркие неестественные цвета, начесывают и фиксируют их. В результате получается прическа под названием «ирокез». Панки носят закатанные джинсы, причем иногда предварительно вымачивают их в растворе отбеливателя, чтобы брюки пошли рыжими разводами. Тяжелые высокие ботинки или кеды, куртка-косуха тоже являются обязательными атрибутами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9" name="Рисунок 3" descr=""/>
          <p:cNvPicPr/>
          <p:nvPr/>
        </p:nvPicPr>
        <p:blipFill>
          <a:blip r:embed="rId1"/>
          <a:stretch/>
        </p:blipFill>
        <p:spPr>
          <a:xfrm>
            <a:off x="165240" y="117360"/>
            <a:ext cx="3398760" cy="327996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"/>
          <p:cNvPicPr/>
          <p:nvPr/>
        </p:nvPicPr>
        <p:blipFill>
          <a:blip r:embed="rId2"/>
          <a:stretch/>
        </p:blipFill>
        <p:spPr>
          <a:xfrm>
            <a:off x="120600" y="3645000"/>
            <a:ext cx="348768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219280" y="189000"/>
            <a:ext cx="381636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20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</a:t>
            </a:r>
            <a:endParaRPr b="0" lang="en-US" sz="8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англ.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otional — эмоциональный) Субкультура эмо появилась на базе поклонников одноименного музыкального стиля. Ее представителей называют «Эмо-киды» (emo + kid — молодой человек, ребенок). Ключевое правило для эмо-кидов — выражение эмоций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71280" y="6453000"/>
            <a:ext cx="7350120" cy="21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3" name="Рисунок 3" descr=""/>
          <p:cNvPicPr/>
          <p:nvPr/>
        </p:nvPicPr>
        <p:blipFill>
          <a:blip r:embed="rId1"/>
          <a:stretch/>
        </p:blipFill>
        <p:spPr>
          <a:xfrm>
            <a:off x="182520" y="176040"/>
            <a:ext cx="3468600" cy="30117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1905120" cy="336384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"/>
          <p:cNvPicPr/>
          <p:nvPr/>
        </p:nvPicPr>
        <p:blipFill>
          <a:blip r:embed="rId3"/>
          <a:stretch/>
        </p:blipFill>
        <p:spPr>
          <a:xfrm>
            <a:off x="2340000" y="3479760"/>
            <a:ext cx="3117960" cy="31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5651640" y="404640"/>
            <a:ext cx="293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Их отличает самовыражение, противостояние несправедливости и особенное, чувственное мироощущение. Зачастую это ранимые и депрессивные люди, мечтающие о счастливой любви. Внимание: если в поле вашего зрения окажется плачущий подросток, не спешите бросаться на помощь, для эмо это вполне естественное занятие, за которым они могут проводить большую часть своего времени, и вы можете только помешать созданию так называемого «облака жалости».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7" name="Рисунок 2" descr=""/>
          <p:cNvPicPr/>
          <p:nvPr/>
        </p:nvPicPr>
        <p:blipFill>
          <a:blip r:embed="rId1"/>
          <a:stretch/>
        </p:blipFill>
        <p:spPr>
          <a:xfrm>
            <a:off x="0" y="69840"/>
            <a:ext cx="2556000" cy="313992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3" descr=""/>
          <p:cNvPicPr/>
          <p:nvPr/>
        </p:nvPicPr>
        <p:blipFill>
          <a:blip r:embed="rId2"/>
          <a:stretch/>
        </p:blipFill>
        <p:spPr>
          <a:xfrm>
            <a:off x="11160" y="3497400"/>
            <a:ext cx="2544840" cy="33130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5" descr=""/>
          <p:cNvPicPr/>
          <p:nvPr/>
        </p:nvPicPr>
        <p:blipFill>
          <a:blip r:embed="rId3"/>
          <a:stretch/>
        </p:blipFill>
        <p:spPr>
          <a:xfrm>
            <a:off x="2927520" y="1197000"/>
            <a:ext cx="265248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5292720" y="981000"/>
            <a:ext cx="309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и выделяются из толпы ярким внешним видом. Неотъемлемой частью стиля является знаменитая косая, рваная челка до кончика носа, закрывающая один глаз, сзади же наблюдаем короткие волосы, торчащие в разные стороны. У девушек возможны детские, смешные прически — два маленьких хвостика, яркие заколочки и бантики. Очень важный атрибут — сумка, увешанная значками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Рисунок 2" descr=""/>
          <p:cNvPicPr/>
          <p:nvPr/>
        </p:nvPicPr>
        <p:blipFill>
          <a:blip r:embed="rId1"/>
          <a:stretch/>
        </p:blipFill>
        <p:spPr>
          <a:xfrm>
            <a:off x="108000" y="57240"/>
            <a:ext cx="3384360" cy="30225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3" descr=""/>
          <p:cNvPicPr/>
          <p:nvPr/>
        </p:nvPicPr>
        <p:blipFill>
          <a:blip r:embed="rId2"/>
          <a:stretch/>
        </p:blipFill>
        <p:spPr>
          <a:xfrm>
            <a:off x="136440" y="3487680"/>
            <a:ext cx="453708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1"/>
          <p:cNvSpPr/>
          <p:nvPr/>
        </p:nvSpPr>
        <p:spPr>
          <a:xfrm>
            <a:off x="5253120" y="260280"/>
            <a:ext cx="3611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дежду эмо обычно носят розово-черных тонов, хотя в этом вопросе они снисходительны — другие яркие сочетания тоже считаются допустимыми. Внимание эмо чаще обращено на глубокие личные переживания, чем на общественные события. Эмо-культура пропагандирует стрэйтэйджинг, то есть здоровый образ жизни: отказ от табака, наркотиков и алкоголя. Большое значение придается таким ценностям, как дружба и любовь. Духовными идеалами культуры являются правдивость, честность, верность, искренность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Рисунок 2" descr=""/>
          <p:cNvPicPr/>
          <p:nvPr/>
        </p:nvPicPr>
        <p:blipFill>
          <a:blip r:embed="rId1"/>
          <a:stretch/>
        </p:blipFill>
        <p:spPr>
          <a:xfrm>
            <a:off x="27000" y="4680"/>
            <a:ext cx="3327480" cy="3457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"/>
          <p:cNvPicPr/>
          <p:nvPr/>
        </p:nvPicPr>
        <p:blipFill>
          <a:blip r:embed="rId2"/>
          <a:stretch/>
        </p:blipFill>
        <p:spPr>
          <a:xfrm>
            <a:off x="2073240" y="3639960"/>
            <a:ext cx="256212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8:48:17Z</dcterms:created>
  <dc:creator>Администратор</dc:creator>
  <dc:description/>
  <dc:language>en-US</dc:language>
  <cp:lastModifiedBy>Татьяна</cp:lastModifiedBy>
  <dcterms:modified xsi:type="dcterms:W3CDTF">2013-04-16T21:41:50Z</dcterms:modified>
  <cp:revision>20</cp:revision>
  <dc:subject/>
  <dc:title>Неформалы. Кто они?...</dc:title>
</cp:coreProperties>
</file>