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2D28-836D-43B0-BA69-2E58974B3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532-EB4D-43C7-902B-0A3F2D286D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C3E-9FC1-42E0-AE6F-626104FB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ADB-0312-456A-B19B-7818F88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CA7-A791-4CBA-8AB1-3A37D715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FAF-04BD-45A9-AA19-C0C8AC9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ED31-F021-45F7-9F42-3EECDB85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22A8-8771-4B40-968B-DF6CA16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9903E-26D0-493C-BA55-0EC489B0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04C7A-7DFC-41C8-BAB4-4A30F514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08491-88E2-4020-8E99-F743360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8DAD-4539-42D7-A909-60CD717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577E4-9E91-420B-93AF-6C5E959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AB4-60E4-45ED-9271-AB53934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2AA32-481B-4754-884B-563389C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C664-9C4B-4590-BB7D-B341D09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A0F8-886A-4571-B5A8-C99EE93D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E3C48-1E5D-4D13-8AE8-6644C5E5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6040-F18F-4E93-B6F5-BB9A24BB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EFD4F-97A3-481D-ACDF-237FCBF0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F9FCE-12CC-4E0F-8684-0EEBDBF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3798F-5B04-4F44-A50D-BF04A78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AD6A5-D7EE-4A39-B882-8BEFC1BB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29018-82DE-4439-9200-62C568C5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0E6-3258-42E2-A45D-8EA1062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A5C19-C78F-4D31-9437-95F426A8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E0C22-D654-4AF6-AD1F-AC8F390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9CC46-7078-48D1-92AF-74C4510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ABBFD-FC00-46A0-91A5-5F8BEBE4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4B41F-057C-4502-B498-A8595F3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ABE30-B3B1-4991-B6C2-79E33A0B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17156-5B2B-41A5-9887-999FB0D8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621CD-D379-437C-A852-CA36726F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72550-DCEB-46B2-A275-836D53B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4A480-84EC-40C9-BA45-258A57F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F73-CD0A-49A8-B1D2-C7CE64E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D49F3-0AAE-4511-96D3-3361EBB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2B91E-FB08-4F17-BC33-198602B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7B86B-E519-4317-95D1-EBEC19B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3951B-6E33-468F-890B-83E1A2F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0CF7E-A8AF-4442-A31A-63642E7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137A8-B316-4FFE-8290-87FFB92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48F1F-68E3-47EA-9F1C-52A5EBB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57DF3-B428-4EDC-B53B-5315738A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E2C86-4B60-46EA-A690-C35A3D39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458BB-E143-4219-B7E6-B11F8F79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9DA-A245-40FF-8803-A1265BF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6B283-34EC-432C-9E13-81D82903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AA61D-0F30-4477-96D4-C9BA6B3B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02464-E0FA-44C3-932F-5BDB5D3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03D82-942E-4E6F-9CAC-66B8C55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A887B-D540-4DE1-AFAD-48F6B4BF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537E5-88BA-4ED8-8906-9DC93D8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87202-7083-4197-9484-4E13034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95F58-F5DB-40C2-8CA1-061F84B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026BD-E390-44B5-825A-09C5C2E0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54282-A65F-4B70-9443-AFE8CF6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2E5-45EF-4641-B805-3E97A13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720F4-6787-4AF6-8CA6-088AE2ED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F735C-1BD5-4ECF-8A96-41E27FE3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E91A1-3A21-47A3-B356-895B7E9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2D269-ABB2-4CDE-BE9C-4D81D668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2067D-AB37-49DC-89FD-C702776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0EA44-1D01-41AB-A48B-C849858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895EF-87F9-46F0-99CB-DD11FD4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18EBF-169D-4C1E-80AC-A08C901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D4639-0C7E-46AF-96C1-53AE49A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93228-E750-4BD3-945D-2811D3D9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C9E-FF05-47E2-8FF0-C0716967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B4AAC-E480-428C-A2E5-2AE4DF9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2FA70-22D4-4A7A-899D-870566E6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B8F49-1039-4486-A4DF-A817C9D3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988-0528-4DA1-989C-E883E3E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80B-53EE-4ECB-B8ED-FA9D00A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E27-F9AE-4746-935B-950C456BD55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F378-188E-43FD-A469-70E97981AB64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ACD-F4EA-422A-B469-48CB1300FA6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3FB8-4F84-4DCC-9B82-71D36824972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8D2-28CB-4727-B0AF-401A3AA8D333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7AE-559F-4E65-9343-4E2C7B4DBD1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Объект 3" descr=""/>
          <p:cNvPicPr/>
          <p:nvPr/>
        </p:nvPicPr>
        <p:blipFill>
          <a:blip r:embed="rId1"/>
          <a:stretch/>
        </p:blipFill>
        <p:spPr>
          <a:xfrm>
            <a:off x="1593720" y="476280"/>
            <a:ext cx="5604120" cy="40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72840" y="486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ы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4356000" y="152280"/>
            <a:ext cx="4235400" cy="27972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"/>
          <p:cNvPicPr/>
          <p:nvPr/>
        </p:nvPicPr>
        <p:blipFill>
          <a:blip r:embed="rId1"/>
          <a:stretch/>
        </p:blipFill>
        <p:spPr>
          <a:xfrm>
            <a:off x="2081160" y="115920"/>
            <a:ext cx="4578480" cy="30258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2" descr=""/>
          <p:cNvPicPr/>
          <p:nvPr/>
        </p:nvPicPr>
        <p:blipFill>
          <a:blip r:embed="rId2"/>
          <a:stretch/>
        </p:blipFill>
        <p:spPr>
          <a:xfrm>
            <a:off x="2081160" y="3422520"/>
            <a:ext cx="472284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250920" y="112680"/>
            <a:ext cx="4149720" cy="27399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4103640" cy="27100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"/>
          <p:cNvPicPr/>
          <p:nvPr/>
        </p:nvPicPr>
        <p:blipFill>
          <a:blip r:embed="rId3"/>
          <a:stretch/>
        </p:blipFill>
        <p:spPr>
          <a:xfrm>
            <a:off x="4691160" y="3860640"/>
            <a:ext cx="4352760" cy="287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1640" y="4076640"/>
            <a:ext cx="3745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Будьте толерантными!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ьте интересными, творческими, думающими о смысле жизни о своих близких людях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0" y="4266720"/>
            <a:ext cx="3733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г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2286000" y="691920"/>
            <a:ext cx="523872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готовила: учитель МБОУ СОШ № 29 Стецуренко Наталья Ивановна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5076720" y="83016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ическая субкультура зародилась в конце 70-х годов. Она разнообразна и неоднородна, прежде всего потому, что активно культивирует индивидуальность. Тем не менее, выделяются многие общие для нее черты, такие как любовь к готической музыке (готик-рок, дэт-рок, готик-метал, дарквейв и др.), мрачный имидж, интерес к мистицизму и эзотерике, декадансу, любовь к так называемой хоррор-литературе и фильмам ужасов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Рисунок 2" descr=""/>
          <p:cNvPicPr/>
          <p:nvPr/>
        </p:nvPicPr>
        <p:blipFill>
          <a:blip r:embed="rId1"/>
          <a:stretch/>
        </p:blipFill>
        <p:spPr>
          <a:xfrm>
            <a:off x="1042920" y="425520"/>
            <a:ext cx="3828960" cy="57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5724360" y="476280"/>
            <a:ext cx="341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 мировоззрение сами готы характеризуют замысловатой фразой «романтично-депрессивный взгляд на жизнь». Эталонному образу гота присущи: замкнутость, меланхолия, повышенная ранимость, мизантропия, эстетство, мистицизм, неприятие стереотипов поведения и стандартов внешнего вида. «Приличный» гот никогда не позволит себе на вопрос: «Как дела?» ответить, что все отлично или хотя бы нормально, даже если так и есть на самом деле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Рисунок 2" descr=""/>
          <p:cNvPicPr/>
          <p:nvPr/>
        </p:nvPicPr>
        <p:blipFill>
          <a:blip r:embed="rId1"/>
          <a:stretch/>
        </p:blipFill>
        <p:spPr>
          <a:xfrm>
            <a:off x="395280" y="3441600"/>
            <a:ext cx="3889440" cy="32734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" descr=""/>
          <p:cNvPicPr/>
          <p:nvPr/>
        </p:nvPicPr>
        <p:blipFill>
          <a:blip r:embed="rId2"/>
          <a:stretch/>
        </p:blipFill>
        <p:spPr>
          <a:xfrm>
            <a:off x="0" y="189000"/>
            <a:ext cx="468000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5003640" y="26028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мотря х цветов, в своих проявлениях она весьма разнообразна, начиная от обыкновенной кожаной юбки для девушки и заканчивая шутовским нарядом арлекина для юноши. Интересно, что и мужчина, и женщина-гот могут одеваться почти одинаково — черные плащи или камзолы с широким поднятым воротником (а-ля граф Дракула) приемлемы и для тех, и для других. Девушек же чаще всего можно встретить в корсетах и длинных платьях. Весьма важную роль в имидже готов играет прическа. Это могут быть просто прямые длинные волосы или же поднятые гелем и собранные в большие пучки, но непременно черного цве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324000" y="0"/>
            <a:ext cx="2705040" cy="3892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"/>
          <p:cNvPicPr/>
          <p:nvPr/>
        </p:nvPicPr>
        <p:blipFill>
          <a:blip r:embed="rId2"/>
          <a:stretch/>
        </p:blipFill>
        <p:spPr>
          <a:xfrm>
            <a:off x="324000" y="4079880"/>
            <a:ext cx="3625560" cy="2589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00720" y="3789000"/>
            <a:ext cx="38052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керы стали называться рокерами в 60-е годы за пристрастие к рок-музыке, особенно к рок-н-роллу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759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керы</a:t>
            </a:r>
            <a:endParaRPr b="0" lang="en-US" sz="8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Рисунок 3" descr="http://vmdaily.ru/photo/moscvichka/2009/12/07/mosc32ee9956881f785c943997785b48_5.jpg"/>
          <p:cNvPicPr/>
          <p:nvPr/>
        </p:nvPicPr>
        <p:blipFill>
          <a:blip r:embed="rId1"/>
          <a:stretch/>
        </p:blipFill>
        <p:spPr>
          <a:xfrm>
            <a:off x="1042920" y="1844640"/>
            <a:ext cx="3097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5292720" y="692280"/>
            <a:ext cx="32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их называют просто «мотоциклистами», что в русской транскрипции звучало бы как «байкеры».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5292720" y="246384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, «что такое рокер», отнюдь не прост. Что же делает человека рокером — мотоцикл, скорость, нарушение правил, умение разбираться в технике или просто кожаная куртка? Многие из них убеждены, что риск, граничащий порой с безумием, является символом и воплощением мужественности, красоты, силы. Это «риск ради риска», без всякой видимой причины. Рокер — любитель риск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Рисунок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5760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5076720" y="1341360"/>
            <a:ext cx="40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ати, зачастую на вид страшные бородатые дяди, гоняющие с устрашающей скоростью на мотоциклах, на самом деле имеют доброе сердце и абсолютно безобидны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6" name="Рисунок 2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40737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5521320" y="277920"/>
            <a:ext cx="35290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одростка, склонного вступать в неформальные объединения, такова: 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ебе и низкая самооценка;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я к миру из-за обид на родителей;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янность из-за непонимания своего пути и своей роли в мире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желание идентифицировать себя с группой людей, близкой его внутреннему состоянию, или «найти единомышленников»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8" name="Рисунок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998360" cy="26622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3" descr=""/>
          <p:cNvPicPr/>
          <p:nvPr/>
        </p:nvPicPr>
        <p:blipFill>
          <a:blip r:embed="rId2"/>
          <a:stretch/>
        </p:blipFill>
        <p:spPr>
          <a:xfrm>
            <a:off x="276120" y="2905200"/>
            <a:ext cx="2225880" cy="29718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"/>
          <p:cNvPicPr/>
          <p:nvPr/>
        </p:nvPicPr>
        <p:blipFill>
          <a:blip r:embed="rId3"/>
          <a:stretch/>
        </p:blipFill>
        <p:spPr>
          <a:xfrm>
            <a:off x="2666880" y="571680"/>
            <a:ext cx="262584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1" descr=""/>
          <p:cNvPicPr/>
          <p:nvPr/>
        </p:nvPicPr>
        <p:blipFill>
          <a:blip r:embed="rId1"/>
          <a:stretch/>
        </p:blipFill>
        <p:spPr>
          <a:xfrm>
            <a:off x="324000" y="244440"/>
            <a:ext cx="4539960" cy="29988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"/>
          <p:cNvPicPr/>
          <p:nvPr/>
        </p:nvPicPr>
        <p:blipFill>
          <a:blip r:embed="rId2"/>
          <a:stretch/>
        </p:blipFill>
        <p:spPr>
          <a:xfrm>
            <a:off x="4195800" y="3429000"/>
            <a:ext cx="477684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48:17Z</dcterms:created>
  <dc:creator>Администратор</dc:creator>
  <dc:description/>
  <dc:language>en-US</dc:language>
  <cp:lastModifiedBy>Татьяна</cp:lastModifiedBy>
  <dcterms:modified xsi:type="dcterms:W3CDTF">2013-04-16T21:44:18Z</dcterms:modified>
  <cp:revision>17</cp:revision>
  <dc:subject/>
  <dc:title>Неформалы. Кто они?...</dc:title>
</cp:coreProperties>
</file>