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34A6-6984-4755-8EC3-A60F91E506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1F08-6D74-48B5-86EE-0631D20C1E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604-F593-4375-8BEC-D9FC9BD5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E3C-19D3-47AF-9B4D-0320341C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DA1-B057-4FA3-B30B-B139D4FB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85B-7EF3-4F81-A925-E6024CD0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94739-15C0-4F22-B44F-990F92DC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2B789-53F0-4711-8317-AEB1F799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46ADA-87DD-4109-AE60-C7B6A60C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D0A6E-490D-45E6-A5C4-2CBE55B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66EDE-43BE-442E-9B13-9BDC0923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4AB6B-E2BA-4839-ABB6-10F55069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6C311-252B-41A4-80A7-D221699B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733-B9C5-4B1C-B251-EEF5E379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19029-3927-439C-96F8-E92B7CE5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4429D-6A1E-4644-B258-EA1F18F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180BB-BED7-498E-88FE-A5148A0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DA4A2-99C6-4D7C-8D6E-A988B524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98D16-6C29-4A17-81C8-F58017AA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96BD8-3C1B-4104-8734-57E62E3A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0760B-2AF2-4CBE-A7A5-44438CE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61E33-8E28-4691-9F65-8CDE664B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92B4-54C6-466E-BF94-8145442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41BC0-4168-4215-BAE3-6A6E144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B76-12C3-4463-8643-A63B7DA3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67C4E-9B10-4838-ADD9-3EAB27C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9E898-5513-49D6-BCAC-4C3B654C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8103E-001C-4F5B-B075-6C598C5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FFB30-93F4-48ED-8F2B-422E4803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E13BA-D2F3-425E-9626-B0DAC6F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E63F1-E263-4BE0-A72B-7114E562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9E800-8928-40A1-BFFE-450E7ACD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C82D1-43AF-4D48-953F-1E3D7621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776DF-28A1-4928-8905-230F635B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DF542-26A8-4720-9061-5E6F305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A71-5C09-47BB-9F41-CA88D9F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B133B-5E10-46C3-96F1-D614695D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A6A4F-7220-400A-8E3E-95BAA67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F58C9-AF22-4258-9B98-D29686CE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25BB05-EC83-4BD5-8597-C42CA375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96574-A1C4-4D14-BA68-D1FAEB08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67D74-5F76-478F-811F-C767708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46626-B0E1-4C6F-BB52-A803D464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CECB1-E025-4626-BEC9-5A76DD68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860CE-2304-475D-9C10-CD57ABF8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6D3E7-61F0-46DE-808B-7F54F385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E3E-C4E7-478A-B079-7642B69B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1E9B2-DF8B-4CDB-BEAB-C36BB71F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F7B9A1-8688-402B-AAD4-A61710B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48CA3-2803-4E91-B58C-AB388B48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37F37-E342-459F-946D-512CB7F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305A02-876B-46D4-B9BE-F6AE5F49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63290-B018-4FE9-B819-F46F0996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C1C9EE-429E-42BE-A5E6-B421F4C9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DA57D5-5727-4A0D-9C7F-40C3D7D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56C84-81DB-4CFF-A6A7-7580DDDD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07370-3F9F-4DB3-9B0E-091D26D8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530-5951-4FA8-A128-591BDF0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8ECF5-51ED-47CE-88AD-99BDC3D6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2CA487-00CA-40A4-8F36-B53E74B7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4048D-07D2-4D0B-98CD-330C9269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C5F3F-AC6D-4B04-84F8-FA54E994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E5B5D-803F-4B98-B08E-9E6ED6B6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7BAC6-00DB-4C8E-9E40-AD6517E9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251BD-1E07-45E7-9819-C6CF819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D6886-66EF-4858-8C48-1A8B33DA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15856-D24C-4185-AF7C-6F258914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18543-D0FE-4B33-B3A6-267F9EFC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9BA-F104-4417-92A9-03F07E95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A73859-3095-4AE2-9278-7E87186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3F959-F8EE-4890-B760-452EA9A5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DDDE5-140C-4CB1-9078-1C28D6D9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17E-351F-4A6E-BAC2-BE0A97F2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F1A-2569-4936-8F3B-26C82A9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3830-2989-4142-856E-0AD9E78BC1B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96B-F825-4344-B167-621EBCF9BDB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F78B-C2F5-40D4-9ADE-F766A364822B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01FC-DA57-4DA6-B926-137FCB2465F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030-9996-47C5-A53B-DC915FB3AF6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7396-4FF0-48D6-9CE0-4F55DF7091A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Объект 3" descr=""/>
          <p:cNvPicPr/>
          <p:nvPr/>
        </p:nvPicPr>
        <p:blipFill>
          <a:blip r:embed="rId1"/>
          <a:stretch/>
        </p:blipFill>
        <p:spPr>
          <a:xfrm>
            <a:off x="1593720" y="476280"/>
            <a:ext cx="5604120" cy="4032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72840" y="4869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ы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1" descr=""/>
          <p:cNvPicPr/>
          <p:nvPr/>
        </p:nvPicPr>
        <p:blipFill>
          <a:blip r:embed="rId1"/>
          <a:stretch/>
        </p:blipFill>
        <p:spPr>
          <a:xfrm>
            <a:off x="4356000" y="152280"/>
            <a:ext cx="4235400" cy="27972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2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5048280" cy="3333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" descr=""/>
          <p:cNvPicPr/>
          <p:nvPr/>
        </p:nvPicPr>
        <p:blipFill>
          <a:blip r:embed="rId1"/>
          <a:stretch/>
        </p:blipFill>
        <p:spPr>
          <a:xfrm>
            <a:off x="2081160" y="115920"/>
            <a:ext cx="4578480" cy="302580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2" descr=""/>
          <p:cNvPicPr/>
          <p:nvPr/>
        </p:nvPicPr>
        <p:blipFill>
          <a:blip r:embed="rId2"/>
          <a:stretch/>
        </p:blipFill>
        <p:spPr>
          <a:xfrm>
            <a:off x="2081160" y="3422520"/>
            <a:ext cx="4722840" cy="3119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Рисунок 1" descr=""/>
          <p:cNvPicPr/>
          <p:nvPr/>
        </p:nvPicPr>
        <p:blipFill>
          <a:blip r:embed="rId1"/>
          <a:stretch/>
        </p:blipFill>
        <p:spPr>
          <a:xfrm>
            <a:off x="250920" y="112680"/>
            <a:ext cx="4149720" cy="27399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2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4103640" cy="27100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"/>
          <p:cNvPicPr/>
          <p:nvPr/>
        </p:nvPicPr>
        <p:blipFill>
          <a:blip r:embed="rId3"/>
          <a:stretch/>
        </p:blipFill>
        <p:spPr>
          <a:xfrm>
            <a:off x="4691160" y="3860640"/>
            <a:ext cx="4352760" cy="2874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1640" y="4076640"/>
            <a:ext cx="3745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Будьте толерантными!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985080" cy="374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ьте интересными, творческими, думающими о смысле жизни о своих близких людях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0" y="4266720"/>
            <a:ext cx="3733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г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2286000" y="691920"/>
            <a:ext cx="523872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дготовила: учитель МБОУ СОШ № 29 Стецуренко Наталья Ивановна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5076720" y="830160"/>
            <a:ext cx="38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тическая субкультура зародилась в конце 70-х годов. Она разнообразна и неоднородна, прежде всего потому, что активно культивирует индивидуальность. Тем не менее, выделяются многие общие для нее черты, такие как любовь к готической музыке (готик-рок, дэт-рок, готик-метал, дарквейв и др.), мрачный имидж, интерес к мистицизму и эзотерике, декадансу, любовь к так называемой хоррор-литературе и фильмам ужасов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Рисунок 2" descr=""/>
          <p:cNvPicPr/>
          <p:nvPr/>
        </p:nvPicPr>
        <p:blipFill>
          <a:blip r:embed="rId1"/>
          <a:stretch/>
        </p:blipFill>
        <p:spPr>
          <a:xfrm>
            <a:off x="1042920" y="425520"/>
            <a:ext cx="3828960" cy="57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1"/>
          <p:cNvSpPr/>
          <p:nvPr/>
        </p:nvSpPr>
        <p:spPr>
          <a:xfrm>
            <a:off x="5724360" y="476280"/>
            <a:ext cx="341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е мировоззрение сами готы характеризуют замысловатой фразой «романтично-депрессивный взгляд на жизнь». Эталонному образу гота присущи: замкнутость, меланхолия, повышенная ранимость, мизантропия, эстетство, мистицизм, неприятие стереотипов поведения и стандартов внешнего вида. «Приличный» гот никогда не позволит себе на вопрос: «Как дела?» ответить, что все отлично или хотя бы нормально, даже если так и есть на самом деле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4" name="Рисунок 2" descr=""/>
          <p:cNvPicPr/>
          <p:nvPr/>
        </p:nvPicPr>
        <p:blipFill>
          <a:blip r:embed="rId1"/>
          <a:stretch/>
        </p:blipFill>
        <p:spPr>
          <a:xfrm>
            <a:off x="395280" y="3441600"/>
            <a:ext cx="3889440" cy="327348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3" descr=""/>
          <p:cNvPicPr/>
          <p:nvPr/>
        </p:nvPicPr>
        <p:blipFill>
          <a:blip r:embed="rId2"/>
          <a:stretch/>
        </p:blipFill>
        <p:spPr>
          <a:xfrm>
            <a:off x="0" y="189000"/>
            <a:ext cx="4680000" cy="3108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1"/>
          <p:cNvSpPr/>
          <p:nvPr/>
        </p:nvSpPr>
        <p:spPr>
          <a:xfrm>
            <a:off x="5003640" y="260280"/>
            <a:ext cx="381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мотря х цветов, в своих проявлениях она весьма разнообразна, начиная от обыкновенной кожаной юбки для девушки и заканчивая шутовским нарядом арлекина для юноши. Интересно, что и мужчина, и женщина-гот могут одеваться почти одинаково — черные плащи или камзолы с широким поднятым воротником (а-ля граф Дракула) приемлемы и для тех, и для других. Девушек же чаще всего можно встретить в корсетах и длинных платьях. Весьма важную роль в имидже готов играет прическа. Это могут быть просто прямые длинные волосы или же поднятые гелем и собранные в большие пучки, но непременно черного цве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324000" y="0"/>
            <a:ext cx="2705040" cy="389268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"/>
          <p:cNvPicPr/>
          <p:nvPr/>
        </p:nvPicPr>
        <p:blipFill>
          <a:blip r:embed="rId2"/>
          <a:stretch/>
        </p:blipFill>
        <p:spPr>
          <a:xfrm>
            <a:off x="324000" y="4079880"/>
            <a:ext cx="3625560" cy="2589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00720" y="3789000"/>
            <a:ext cx="38052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керы стали называться рокерами в 60-е годы за пристрастие к рок-музыке, особенно к рок-н-роллу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1907640" y="549360"/>
            <a:ext cx="5759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керы</a:t>
            </a:r>
            <a:endParaRPr b="0" lang="en-US" sz="8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Рисунок 3" descr="http://vmdaily.ru/photo/moscvichka/2009/12/07/mosc32ee9956881f785c943997785b48_5.jpg"/>
          <p:cNvPicPr/>
          <p:nvPr/>
        </p:nvPicPr>
        <p:blipFill>
          <a:blip r:embed="rId1"/>
          <a:stretch/>
        </p:blipFill>
        <p:spPr>
          <a:xfrm>
            <a:off x="1042920" y="1844640"/>
            <a:ext cx="30974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"/>
          <p:cNvSpPr/>
          <p:nvPr/>
        </p:nvSpPr>
        <p:spPr>
          <a:xfrm>
            <a:off x="5292720" y="692280"/>
            <a:ext cx="32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огда их называют просто «мотоциклистами», что в русской транскрипции звучало бы как «байкеры».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Прямоугольник 2"/>
          <p:cNvSpPr/>
          <p:nvPr/>
        </p:nvSpPr>
        <p:spPr>
          <a:xfrm>
            <a:off x="5292720" y="2463840"/>
            <a:ext cx="385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, «что такое рокер», отнюдь не прост. Что же делает человека рокером — мотоцикл, скорость, нарушение правил, умение разбираться в технике или просто кожаная куртка? Многие из них убеждены, что риск, граничащий порой с безумием, является символом и воплощением мужественности, красоты, силы. Это «риск ради риска», без всякой видимой причины. Рокер — любитель риска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Рисунок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55760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5076720" y="1341360"/>
            <a:ext cx="40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тати, зачастую на вид страшные бородатые дяди, гоняющие с устрашающей скоростью на мотоциклах, на самом деле имеют доброе сердце и абсолютно безобидны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6" name="Рисунок 2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4073760" cy="367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1"/>
          <p:cNvSpPr/>
          <p:nvPr/>
        </p:nvSpPr>
        <p:spPr>
          <a:xfrm>
            <a:off x="5521320" y="277920"/>
            <a:ext cx="3529080" cy="62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рактеристика подростка, склонного вступать в неформальные объединения, такова: 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ебе и низкая самооценка;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я к миру из-за обид на родителей;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 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рянность из-за непонимания своего пути и своей роли в мире;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желание идентифицировать себя с группой людей, близкой его внутреннему состоянию, или «найти единомышленников»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8" name="Рисунок 2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1998360" cy="266220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3" descr=""/>
          <p:cNvPicPr/>
          <p:nvPr/>
        </p:nvPicPr>
        <p:blipFill>
          <a:blip r:embed="rId2"/>
          <a:stretch/>
        </p:blipFill>
        <p:spPr>
          <a:xfrm>
            <a:off x="276120" y="2905200"/>
            <a:ext cx="2225880" cy="297180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4" descr=""/>
          <p:cNvPicPr/>
          <p:nvPr/>
        </p:nvPicPr>
        <p:blipFill>
          <a:blip r:embed="rId3"/>
          <a:stretch/>
        </p:blipFill>
        <p:spPr>
          <a:xfrm>
            <a:off x="2666880" y="571680"/>
            <a:ext cx="2625840" cy="3936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1" descr=""/>
          <p:cNvPicPr/>
          <p:nvPr/>
        </p:nvPicPr>
        <p:blipFill>
          <a:blip r:embed="rId1"/>
          <a:stretch/>
        </p:blipFill>
        <p:spPr>
          <a:xfrm>
            <a:off x="324000" y="244440"/>
            <a:ext cx="4539960" cy="29988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2" descr=""/>
          <p:cNvPicPr/>
          <p:nvPr/>
        </p:nvPicPr>
        <p:blipFill>
          <a:blip r:embed="rId2"/>
          <a:stretch/>
        </p:blipFill>
        <p:spPr>
          <a:xfrm>
            <a:off x="4195800" y="3429000"/>
            <a:ext cx="4776840" cy="3154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8:48:17Z</dcterms:created>
  <dc:creator>Администратор</dc:creator>
  <dc:description/>
  <dc:language>en-US</dc:language>
  <cp:lastModifiedBy>Татьяна</cp:lastModifiedBy>
  <dcterms:modified xsi:type="dcterms:W3CDTF">2013-04-16T21:44:18Z</dcterms:modified>
  <cp:revision>17</cp:revision>
  <dc:subject/>
  <dc:title>Неформалы. Кто они?...</dc:title>
</cp:coreProperties>
</file>