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50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31.jpeg" ContentType="image/jpe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C2BA6-8E37-4919-BE40-5C0333FE6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1CC4A-3514-41FE-A79D-D0B04F4AB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0B39B-51A6-4DEB-B5E4-42883D162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9F06CB-C679-41B7-99CF-3F604B2DB4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вел Куз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4E141-6B8E-4BC0-8AB3-A70133510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FEB4-C39F-482C-9475-073C012C5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1BF8A4-251D-4FE5-85C7-7F3CF81B57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льский писатель, педагог и врач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82AB8-30AB-4494-9176-FF79BCC59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4AAA-D9D0-4E04-8900-B274D42F6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74B55-5BFA-44BF-8982-249AE4950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43D5B-C6A7-40A0-AFC4-9F197E36E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D6905F-5807-4E20-8DEA-5913180C21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мяти детей , погибших в лагерях смерти. Памятник в г.Смоленс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1B575-BC16-4601-BDAE-EBAE39B9C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D14A8F-D982-443A-8E61-6B8E15BF40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ХИРОСИМА И НАГАСА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E5C33-1C95-4097-BF87-8A192A6F0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8F708-F08C-4539-84F8-6F7CD2715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4741B-D99E-4C44-921F-C53BCC4C2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1039C-7709-42D8-9684-65F6E639A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00A6AF-1F0F-48C4-B7D9-2EF135BCE6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АНТА СМ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4EB5-D895-4D9A-B5AA-41C6FD45B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0593BA-7F7B-4927-AF6E-2BA180F0F9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4903F-60DE-499E-8BA2-CB5853986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9D0E7C-E963-4BE9-A4D3-32CEBAAAE2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мятник Герою Советского Союза – Павлу Стефановичу Кузуб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AFA6F-BED6-41BE-B771-F7BD11EF5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45BCC-F167-4A2A-B5F1-6B5F1C5DD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DDA397-44E7-495E-8E85-59CB1A2811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Фашистские захватчики вероломно напали на советское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2C083-53A5-4763-8832-A1C57AA756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25678-4A50-4395-AE0D-CDABCF4C6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22999A-715E-4DFF-99A5-06024778B4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ИТЯ ЧЕРЕВИЧ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AE0CD-7561-4E06-9C11-CB940DC92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A093-3AB3-43C6-A039-96F59C85E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1216C1-62E4-4909-BDDF-4CE4179C64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Лара Михе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561B8-17AB-4009-82E2-4F17B16220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9EFC2C-4F24-47F0-ABF4-A50EF87C7C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ина Кукове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C501-9577-4AC9-AD8E-4E3FCA5DD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8244-E63E-4F94-AC24-84D27EA41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4224-A332-486F-BE32-AB77EB7A4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C799-2A06-4585-AC5C-D78DB6300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6B2E-A009-4D87-9330-7E917B1B36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3428-CD41-4093-8D5A-857C527899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2BCD-4A39-4EB3-A42C-403C68129D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909E-ED49-44FD-98D0-6AD884483E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5BC3-B537-4C21-8C87-DBEA6FEFA2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B882-3338-421E-A31F-D2E777AAE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1500-7900-40B2-B54E-8BA96142E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24AB-B373-4019-AD69-174E56157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BD9F-B23B-4357-8080-7FB32D1B1F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FCFD-8F7F-44CA-825B-7C246C1FD6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DD00-1CDD-4953-B664-E122042D2C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BE2D-72BA-4F43-A603-F9705A73ED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C4D2-1782-49F7-96A0-1D7ED0DBF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5E1D-329C-484C-BFC0-6F84A2E95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E0C1-3B5F-4DE3-8057-A89BD0110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059B-05B8-464D-837E-E21319CEE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9270-713C-4E37-926E-B2A839BE3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6B89-7CE9-4126-8526-7FE624FB3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3DE9-B502-4461-B541-835CE3888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F363-7AB9-482E-94B4-BB99782C6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AutoShape 2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4DF295-BB36-474A-B9B9-6F5C9A95385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grpSp>
          <p:nvGrpSpPr>
            <p:cNvPr id="55" name="Group 2"/>
            <p:cNvGrpSpPr/>
            <p:nvPr/>
          </p:nvGrpSpPr>
          <p:grpSpPr>
            <a:xfrm>
              <a:off x="0" y="1843200"/>
              <a:ext cx="9139320" cy="5013360"/>
              <a:chOff x="0" y="1843200"/>
              <a:chExt cx="9139320" cy="5013360"/>
            </a:xfrm>
          </p:grpSpPr>
          <p:sp>
            <p:nvSpPr>
              <p:cNvPr id="56" name="AutoShape 3"/>
              <p:cNvSpPr/>
              <p:nvPr/>
            </p:nvSpPr>
            <p:spPr>
              <a:xfrm>
                <a:off x="885960" y="1843200"/>
                <a:ext cx="8253360" cy="5013360"/>
              </a:xfrm>
              <a:custGeom>
                <a:avLst/>
                <a:gdLst>
                  <a:gd name="textAreaLeft" fmla="*/ 0 w 8253360"/>
                  <a:gd name="textAreaRight" fmla="*/ 8253720 w 8253360"/>
                  <a:gd name="textAreaTop" fmla="*/ 0 h 5013360"/>
                  <a:gd name="textAreaBottom" fmla="*/ 5013720 h 501336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AutoShape 4"/>
              <p:cNvSpPr/>
              <p:nvPr/>
            </p:nvSpPr>
            <p:spPr>
              <a:xfrm>
                <a:off x="0" y="1843200"/>
                <a:ext cx="884160" cy="5013360"/>
              </a:xfrm>
              <a:custGeom>
                <a:avLst/>
                <a:gdLst>
                  <a:gd name="textAreaLeft" fmla="*/ 0 w 884160"/>
                  <a:gd name="textAreaRight" fmla="*/ 884520 w 884160"/>
                  <a:gd name="textAreaTop" fmla="*/ 0 h 5013360"/>
                  <a:gd name="textAreaBottom" fmla="*/ 5013720 h 501336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AutoShape 5"/>
            <p:cNvSpPr/>
            <p:nvPr/>
          </p:nvSpPr>
          <p:spPr>
            <a:xfrm>
              <a:off x="876240" y="1509840"/>
              <a:ext cx="17640" cy="664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AutoShape 6"/>
            <p:cNvSpPr/>
            <p:nvPr/>
          </p:nvSpPr>
          <p:spPr>
            <a:xfrm>
              <a:off x="1217520" y="1833480"/>
              <a:ext cx="398520" cy="1764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0" y="1833480"/>
              <a:ext cx="555480" cy="176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552600" y="6480"/>
              <a:ext cx="8586720" cy="6850080"/>
              <a:chOff x="552600" y="6480"/>
              <a:chExt cx="8586720" cy="6850080"/>
            </a:xfrm>
          </p:grpSpPr>
          <p:sp>
            <p:nvSpPr>
              <p:cNvPr id="62" name="AutoShape 9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AutoShape 10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AutoShape 11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AutoShape 12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AutoShape 13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AutoShape 14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3532CD-2765-4687-9654-0635FD34D0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1.gif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900000" y="189000"/>
            <a:ext cx="7086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Глаза детей – души моей светильник 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42920" y="2421000"/>
            <a:ext cx="698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и детей, чья жизнь была прерв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2"/>
          <p:cNvGrpSpPr/>
          <p:nvPr/>
        </p:nvGrpSpPr>
        <p:grpSpPr>
          <a:xfrm>
            <a:off x="1258920" y="333360"/>
            <a:ext cx="2239920" cy="2522520"/>
            <a:chOff x="1258920" y="333360"/>
            <a:chExt cx="2239920" cy="2522520"/>
          </a:xfrm>
        </p:grpSpPr>
        <p:pic>
          <p:nvPicPr>
            <p:cNvPr id="199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333360"/>
              <a:ext cx="2239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258920" y="333360"/>
              <a:ext cx="223992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Rectangle 5"/>
          <p:cNvSpPr/>
          <p:nvPr/>
        </p:nvSpPr>
        <p:spPr>
          <a:xfrm>
            <a:off x="1042920" y="27860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кадий Кама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5072040" y="357120"/>
            <a:ext cx="2281320" cy="2522520"/>
            <a:chOff x="5072040" y="357120"/>
            <a:chExt cx="2281320" cy="2522520"/>
          </a:xfrm>
        </p:grpSpPr>
        <p:pic>
          <p:nvPicPr>
            <p:cNvPr id="203" name="Picture 7" descr=""/>
            <p:cNvPicPr/>
            <p:nvPr/>
          </p:nvPicPr>
          <p:blipFill>
            <a:blip r:embed="rId2"/>
            <a:stretch/>
          </p:blipFill>
          <p:spPr>
            <a:xfrm>
              <a:off x="5072040" y="357120"/>
              <a:ext cx="2281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8"/>
            <p:cNvSpPr/>
            <p:nvPr/>
          </p:nvSpPr>
          <p:spPr>
            <a:xfrm>
              <a:off x="5072040" y="357120"/>
              <a:ext cx="228132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Rectangle 9"/>
          <p:cNvSpPr/>
          <p:nvPr/>
        </p:nvSpPr>
        <p:spPr>
          <a:xfrm>
            <a:off x="5724360" y="2773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я Хоме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571760" y="5734080"/>
            <a:ext cx="2063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124000" y="33577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ои - комсомоль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12"/>
          <p:cNvGrpSpPr/>
          <p:nvPr/>
        </p:nvGrpSpPr>
        <p:grpSpPr>
          <a:xfrm>
            <a:off x="1106640" y="3902040"/>
            <a:ext cx="2382840" cy="2212920"/>
            <a:chOff x="1106640" y="3902040"/>
            <a:chExt cx="2382840" cy="2212920"/>
          </a:xfrm>
        </p:grpSpPr>
        <p:pic>
          <p:nvPicPr>
            <p:cNvPr id="209" name="Picture 13" descr=""/>
            <p:cNvPicPr/>
            <p:nvPr/>
          </p:nvPicPr>
          <p:blipFill>
            <a:blip r:embed="rId3"/>
            <a:stretch/>
          </p:blipFill>
          <p:spPr>
            <a:xfrm>
              <a:off x="1106640" y="3902040"/>
              <a:ext cx="23828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"/>
            <p:cNvSpPr/>
            <p:nvPr/>
          </p:nvSpPr>
          <p:spPr>
            <a:xfrm>
              <a:off x="1106640" y="3902040"/>
              <a:ext cx="2382840" cy="22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1" name="Rectangle 15"/>
          <p:cNvSpPr/>
          <p:nvPr/>
        </p:nvSpPr>
        <p:spPr>
          <a:xfrm>
            <a:off x="1143000" y="60721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Матро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5076720" y="3933720"/>
            <a:ext cx="2208240" cy="2208240"/>
            <a:chOff x="5076720" y="3933720"/>
            <a:chExt cx="2208240" cy="2208240"/>
          </a:xfrm>
        </p:grpSpPr>
        <p:pic>
          <p:nvPicPr>
            <p:cNvPr id="213" name="Picture 17" descr=""/>
            <p:cNvPicPr/>
            <p:nvPr/>
          </p:nvPicPr>
          <p:blipFill>
            <a:blip r:embed="rId4"/>
            <a:stretch/>
          </p:blipFill>
          <p:spPr>
            <a:xfrm>
              <a:off x="5076720" y="3933720"/>
              <a:ext cx="220824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8"/>
            <p:cNvSpPr/>
            <p:nvPr/>
          </p:nvSpPr>
          <p:spPr>
            <a:xfrm>
              <a:off x="5076720" y="3933720"/>
              <a:ext cx="220824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5" name="Rectangle 19"/>
          <p:cNvSpPr/>
          <p:nvPr/>
        </p:nvSpPr>
        <p:spPr>
          <a:xfrm>
            <a:off x="5219640" y="6215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вел Кузу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66680" y="537372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амятник Пионерам –героям в г. Смоленс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2"/>
          <p:cNvGrpSpPr/>
          <p:nvPr/>
        </p:nvGrpSpPr>
        <p:grpSpPr>
          <a:xfrm>
            <a:off x="755640" y="476280"/>
            <a:ext cx="7991640" cy="5111640"/>
            <a:chOff x="755640" y="476280"/>
            <a:chExt cx="7991640" cy="5111640"/>
          </a:xfrm>
        </p:grpSpPr>
        <p:pic>
          <p:nvPicPr>
            <p:cNvPr id="218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476280"/>
              <a:ext cx="799164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4"/>
            <p:cNvSpPr/>
            <p:nvPr/>
          </p:nvSpPr>
          <p:spPr>
            <a:xfrm>
              <a:off x="755640" y="476280"/>
              <a:ext cx="799164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755640" y="1052640"/>
            <a:ext cx="2951280" cy="3746520"/>
            <a:chOff x="755640" y="1052640"/>
            <a:chExt cx="2951280" cy="3746520"/>
          </a:xfrm>
        </p:grpSpPr>
        <p:pic>
          <p:nvPicPr>
            <p:cNvPr id="222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052640"/>
              <a:ext cx="2951280" cy="37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755640" y="1052640"/>
              <a:ext cx="295128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4" name="Rectangle 5"/>
          <p:cNvSpPr/>
          <p:nvPr/>
        </p:nvSpPr>
        <p:spPr>
          <a:xfrm>
            <a:off x="4716360" y="417492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августа 1942 года Януш Корчак вместе с детьми Дома сирот погиб в газовых камерах Треблин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год многочисленные представители израильской общественности приходят в лес евреев Польши, недалеко от Иерусалима, и возлагают венки к памятнику Янушу Корчак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24000" y="4724280"/>
            <a:ext cx="62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ьский писатель, педагог и врач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5292720" y="409680"/>
            <a:ext cx="2878200" cy="3741480"/>
            <a:chOff x="5292720" y="409680"/>
            <a:chExt cx="2878200" cy="3741480"/>
          </a:xfrm>
        </p:grpSpPr>
        <p:pic>
          <p:nvPicPr>
            <p:cNvPr id="227" name="Picture 8" descr=""/>
            <p:cNvPicPr/>
            <p:nvPr/>
          </p:nvPicPr>
          <p:blipFill>
            <a:blip r:embed="rId2"/>
            <a:stretch/>
          </p:blipFill>
          <p:spPr>
            <a:xfrm>
              <a:off x="5292720" y="409680"/>
              <a:ext cx="2878200" cy="37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9"/>
            <p:cNvSpPr/>
            <p:nvPr/>
          </p:nvSpPr>
          <p:spPr>
            <a:xfrm>
              <a:off x="5292720" y="409680"/>
              <a:ext cx="2878200" cy="37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колько детей прошло через ужасы, ад и пекло фашистских лагерей смерт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1116000" y="1557360"/>
            <a:ext cx="4102200" cy="4537080"/>
            <a:chOff x="1116000" y="1557360"/>
            <a:chExt cx="4102200" cy="4537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410220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1116000" y="1557360"/>
              <a:ext cx="410220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4643280" y="1484280"/>
            <a:ext cx="3888000" cy="2806560"/>
            <a:chOff x="4643280" y="1484280"/>
            <a:chExt cx="3888000" cy="2806560"/>
          </a:xfrm>
        </p:grpSpPr>
        <p:pic>
          <p:nvPicPr>
            <p:cNvPr id="234" name="Picture 6" descr=""/>
            <p:cNvPicPr/>
            <p:nvPr/>
          </p:nvPicPr>
          <p:blipFill>
            <a:blip r:embed="rId2"/>
            <a:stretch/>
          </p:blipFill>
          <p:spPr>
            <a:xfrm>
              <a:off x="4643280" y="1484280"/>
              <a:ext cx="388800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/>
            <p:cNvSpPr/>
            <p:nvPr/>
          </p:nvSpPr>
          <p:spPr>
            <a:xfrm>
              <a:off x="4643280" y="1484280"/>
              <a:ext cx="388800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003640" y="4114800"/>
            <a:ext cx="3959280" cy="2552760"/>
            <a:chOff x="5003640" y="4114800"/>
            <a:chExt cx="3959280" cy="2552760"/>
          </a:xfrm>
        </p:grpSpPr>
        <p:pic>
          <p:nvPicPr>
            <p:cNvPr id="237" name="Picture 9" descr=""/>
            <p:cNvPicPr/>
            <p:nvPr/>
          </p:nvPicPr>
          <p:blipFill>
            <a:blip r:embed="rId3"/>
            <a:stretch/>
          </p:blipFill>
          <p:spPr>
            <a:xfrm>
              <a:off x="5003640" y="4114800"/>
              <a:ext cx="39592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/>
            <p:cNvSpPr/>
            <p:nvPr/>
          </p:nvSpPr>
          <p:spPr>
            <a:xfrm>
              <a:off x="5003640" y="4114800"/>
              <a:ext cx="395928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5608800" y="260280"/>
            <a:ext cx="2849400" cy="3095640"/>
            <a:chOff x="5608800" y="260280"/>
            <a:chExt cx="2849400" cy="3095640"/>
          </a:xfrm>
        </p:grpSpPr>
        <p:pic>
          <p:nvPicPr>
            <p:cNvPr id="241" name="Picture 3" descr=""/>
            <p:cNvPicPr/>
            <p:nvPr/>
          </p:nvPicPr>
          <p:blipFill>
            <a:blip r:embed="rId1"/>
            <a:stretch/>
          </p:blipFill>
          <p:spPr>
            <a:xfrm>
              <a:off x="5608800" y="260280"/>
              <a:ext cx="28494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"/>
            <p:cNvSpPr/>
            <p:nvPr/>
          </p:nvSpPr>
          <p:spPr>
            <a:xfrm>
              <a:off x="5608800" y="260280"/>
              <a:ext cx="284940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3" name="Group 5"/>
          <p:cNvGrpSpPr/>
          <p:nvPr/>
        </p:nvGrpSpPr>
        <p:grpSpPr>
          <a:xfrm>
            <a:off x="1042920" y="189000"/>
            <a:ext cx="3238560" cy="3771720"/>
            <a:chOff x="1042920" y="189000"/>
            <a:chExt cx="3238560" cy="3771720"/>
          </a:xfrm>
        </p:grpSpPr>
        <p:pic>
          <p:nvPicPr>
            <p:cNvPr id="244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189000"/>
              <a:ext cx="323856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7"/>
            <p:cNvSpPr/>
            <p:nvPr/>
          </p:nvSpPr>
          <p:spPr>
            <a:xfrm>
              <a:off x="1042920" y="189000"/>
              <a:ext cx="3238560" cy="37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6" name="Group 8"/>
          <p:cNvGrpSpPr/>
          <p:nvPr/>
        </p:nvGrpSpPr>
        <p:grpSpPr>
          <a:xfrm>
            <a:off x="1258920" y="3716280"/>
            <a:ext cx="2806560" cy="2949480"/>
            <a:chOff x="1258920" y="3716280"/>
            <a:chExt cx="2806560" cy="2949480"/>
          </a:xfrm>
        </p:grpSpPr>
        <p:pic>
          <p:nvPicPr>
            <p:cNvPr id="247" name="Picture 9" descr=""/>
            <p:cNvPicPr/>
            <p:nvPr/>
          </p:nvPicPr>
          <p:blipFill>
            <a:blip r:embed="rId3"/>
            <a:stretch/>
          </p:blipFill>
          <p:spPr>
            <a:xfrm>
              <a:off x="1258920" y="3716280"/>
              <a:ext cx="280656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0"/>
            <p:cNvSpPr/>
            <p:nvPr/>
          </p:nvSpPr>
          <p:spPr>
            <a:xfrm>
              <a:off x="1258920" y="3716280"/>
              <a:ext cx="280656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9" name="Group 11"/>
          <p:cNvGrpSpPr/>
          <p:nvPr/>
        </p:nvGrpSpPr>
        <p:grpSpPr>
          <a:xfrm>
            <a:off x="5383080" y="3573360"/>
            <a:ext cx="3759480" cy="2733840"/>
            <a:chOff x="5383080" y="3573360"/>
            <a:chExt cx="3759480" cy="2733840"/>
          </a:xfrm>
        </p:grpSpPr>
        <p:pic>
          <p:nvPicPr>
            <p:cNvPr id="250" name="Picture 12" descr=""/>
            <p:cNvPicPr/>
            <p:nvPr/>
          </p:nvPicPr>
          <p:blipFill>
            <a:blip r:embed="rId4"/>
            <a:stretch/>
          </p:blipFill>
          <p:spPr>
            <a:xfrm>
              <a:off x="5383080" y="3573360"/>
              <a:ext cx="375948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3"/>
            <p:cNvSpPr/>
            <p:nvPr/>
          </p:nvSpPr>
          <p:spPr>
            <a:xfrm>
              <a:off x="5383080" y="3573360"/>
              <a:ext cx="3759480" cy="27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52" name="Picture 14" descr=""/>
          <p:cNvPicPr/>
          <p:nvPr/>
        </p:nvPicPr>
        <p:blipFill>
          <a:blip r:embed="rId5"/>
          <a:stretch/>
        </p:blipFill>
        <p:spPr>
          <a:xfrm>
            <a:off x="3851280" y="1341360"/>
            <a:ext cx="338472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1403280" y="549360"/>
            <a:ext cx="6696000" cy="4744800"/>
            <a:chOff x="1403280" y="549360"/>
            <a:chExt cx="6696000" cy="474480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1403280" y="549360"/>
              <a:ext cx="6696000" cy="47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"/>
            <p:cNvSpPr/>
            <p:nvPr/>
          </p:nvSpPr>
          <p:spPr>
            <a:xfrm>
              <a:off x="1403280" y="549360"/>
              <a:ext cx="6696000" cy="47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Text Box 5"/>
          <p:cNvSpPr/>
          <p:nvPr/>
        </p:nvSpPr>
        <p:spPr>
          <a:xfrm>
            <a:off x="4915080" y="1981080"/>
            <a:ext cx="36954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гранитную пли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 свою конфе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, как ты её люби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ласпилс его уби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1116000" y="1197000"/>
            <a:ext cx="7542360" cy="4390920"/>
            <a:chOff x="1116000" y="1197000"/>
            <a:chExt cx="7542360" cy="4390920"/>
          </a:xfrm>
        </p:grpSpPr>
        <p:pic>
          <p:nvPicPr>
            <p:cNvPr id="259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197000"/>
              <a:ext cx="7542360" cy="43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3"/>
            <p:cNvSpPr/>
            <p:nvPr/>
          </p:nvSpPr>
          <p:spPr>
            <a:xfrm>
              <a:off x="1116000" y="1197000"/>
              <a:ext cx="754236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1" name="Rectangle 4"/>
          <p:cNvSpPr/>
          <p:nvPr/>
        </p:nvSpPr>
        <p:spPr>
          <a:xfrm>
            <a:off x="836640" y="6165720"/>
            <a:ext cx="74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мяти детей , погибших в лагерях смерти. Памятник в г.Смоленс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3571920" y="1357200"/>
            <a:ext cx="49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омный огненный, похожий на большую поганку, ядерный взрыв накрыл города. Рушились дома, чернели деревья, замертво падали люди.  Города превратились в выжженную пустыню и вымерли. Жертвами бомбардировки в Хиросиме были 140 тысяч челове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гасаки – 75 тыся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0128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5072040" y="4071960"/>
            <a:ext cx="3675240" cy="24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265" name="Rectangle 4"/>
          <p:cNvSpPr/>
          <p:nvPr/>
        </p:nvSpPr>
        <p:spPr>
          <a:xfrm>
            <a:off x="39528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66ccff"/>
                </a:solidFill>
                <a:latin typeface="Tahoma"/>
              </a:rPr>
              <a:t>ХИРОСИМА    И       НАГАСА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АСАКИ САДА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780000" y="1484280"/>
            <a:ext cx="48304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иросиме жила-была  японская девочка Сасаки Садако. Когда на город  сбросили атомную бомбу,  ей было всего 2 года. Через  10 лет  она заболела тяжелой лучевой болезнью – лейкемией или раком кро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вочка попала в больницу, и , чтобы придать  силы для борьбы с болезнью, она стала делать  белых бумажных журавл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755640" y="1557360"/>
            <a:ext cx="2590920" cy="4537080"/>
            <a:chOff x="755640" y="1557360"/>
            <a:chExt cx="2590920" cy="453708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259092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755640" y="1557360"/>
              <a:ext cx="25909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4067280" y="4437000"/>
            <a:ext cx="4093920" cy="2305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427640" y="981000"/>
            <a:ext cx="418284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анет день, и с журавлиной стае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поплыву в такой же сизой мгл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-под небес по-птичьи оклика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х вас, кого оставил на земле…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556000" y="4221000"/>
            <a:ext cx="54720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рхитектурно-парковый символический ансамбль Парк Мира - памятник жертвам Хиросим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826920" y="765000"/>
            <a:ext cx="3598920" cy="4786560"/>
            <a:chOff x="826920" y="765000"/>
            <a:chExt cx="3598920" cy="4786560"/>
          </a:xfrm>
        </p:grpSpPr>
        <p:pic>
          <p:nvPicPr>
            <p:cNvPr id="276" name="Picture 5" descr="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598920" cy="47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6"/>
            <p:cNvSpPr/>
            <p:nvPr/>
          </p:nvSpPr>
          <p:spPr>
            <a:xfrm>
              <a:off x="826920" y="765000"/>
              <a:ext cx="359892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1066680" y="2444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Родился он и подал голосок-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   как будто он окликнул всю планет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676440" y="1841400"/>
            <a:ext cx="3558960" cy="2527560"/>
            <a:chOff x="676440" y="1841400"/>
            <a:chExt cx="3558960" cy="2527560"/>
          </a:xfrm>
        </p:grpSpPr>
        <p:pic>
          <p:nvPicPr>
            <p:cNvPr id="123" name="Picture 4" descr=""/>
            <p:cNvPicPr/>
            <p:nvPr/>
          </p:nvPicPr>
          <p:blipFill>
            <a:blip r:embed="rId2"/>
            <a:stretch/>
          </p:blipFill>
          <p:spPr>
            <a:xfrm>
              <a:off x="676440" y="1841400"/>
              <a:ext cx="35589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5"/>
            <p:cNvSpPr/>
            <p:nvPr/>
          </p:nvSpPr>
          <p:spPr>
            <a:xfrm>
              <a:off x="676440" y="1841400"/>
              <a:ext cx="35589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4565520" y="1981080"/>
            <a:ext cx="3686400" cy="2278080"/>
            <a:chOff x="4565520" y="1981080"/>
            <a:chExt cx="3686400" cy="2278080"/>
          </a:xfrm>
        </p:grpSpPr>
        <p:pic>
          <p:nvPicPr>
            <p:cNvPr id="126" name="Picture 7" descr=""/>
            <p:cNvPicPr/>
            <p:nvPr/>
          </p:nvPicPr>
          <p:blipFill>
            <a:blip r:embed="rId3"/>
            <a:stretch/>
          </p:blipFill>
          <p:spPr>
            <a:xfrm>
              <a:off x="4565520" y="1981080"/>
              <a:ext cx="368640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4565520" y="1981080"/>
              <a:ext cx="368640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4352760" y="4206960"/>
            <a:ext cx="3467160" cy="2216160"/>
            <a:chOff x="4352760" y="4206960"/>
            <a:chExt cx="3467160" cy="2216160"/>
          </a:xfrm>
        </p:grpSpPr>
        <p:pic>
          <p:nvPicPr>
            <p:cNvPr id="129" name="Picture 10" descr=""/>
            <p:cNvPicPr/>
            <p:nvPr/>
          </p:nvPicPr>
          <p:blipFill>
            <a:blip r:embed="rId4"/>
            <a:stretch/>
          </p:blipFill>
          <p:spPr>
            <a:xfrm>
              <a:off x="4352760" y="4206960"/>
              <a:ext cx="34671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1"/>
            <p:cNvSpPr/>
            <p:nvPr/>
          </p:nvSpPr>
          <p:spPr>
            <a:xfrm>
              <a:off x="4352760" y="4206960"/>
              <a:ext cx="346716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1187280" y="4292640"/>
            <a:ext cx="2665440" cy="2374920"/>
            <a:chOff x="1187280" y="4292640"/>
            <a:chExt cx="2665440" cy="2374920"/>
          </a:xfrm>
        </p:grpSpPr>
        <p:pic>
          <p:nvPicPr>
            <p:cNvPr id="132" name="Picture 13" descr=""/>
            <p:cNvPicPr/>
            <p:nvPr/>
          </p:nvPicPr>
          <p:blipFill>
            <a:blip r:embed="rId5"/>
            <a:stretch/>
          </p:blipFill>
          <p:spPr>
            <a:xfrm>
              <a:off x="1187280" y="4292640"/>
              <a:ext cx="266544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1187280" y="4292640"/>
              <a:ext cx="266544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57120" y="4507200"/>
            <a:ext cx="614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истер Советский Президен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10 лет.  Я обеспокоена, будет ли вой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 за войну или нет? Если вы против, пожалуйста, напишите, как вы собираете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опустить войну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928960" y="1285920"/>
            <a:ext cx="5929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83 г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дноэтажном домике на окраине города Манчестера (штат Мэн) вместе с родителями жила-была американская 10-летняя девочка Саманта  Смит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 как девочка. Но однажды она узнала про то, что если на ее город упадет атомная бомба, то все погибнет вокруг, а жиз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и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она решила напис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ьмо в Москв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2014200" cy="3162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6643800" y="3357720"/>
            <a:ext cx="2031840" cy="30146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282" name="Rectangle 5"/>
          <p:cNvSpPr/>
          <p:nvPr/>
        </p:nvSpPr>
        <p:spPr>
          <a:xfrm>
            <a:off x="1187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5caa9"/>
                </a:solidFill>
                <a:latin typeface="Tahoma"/>
              </a:rPr>
              <a:t>САМАНТА        СМИ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28760" y="781200"/>
            <a:ext cx="8429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дравствуй, дорогая Саманта!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кажется, что ты смелая и чест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, похожая на Беки, подружку Тома Сойе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й вопрос – самый главный. Отвечу на н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но и серьезно. Советские дети хорош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ют, сколь ужасна и разрушительна война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Америки и у на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ядерное оружие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шное оружие, которое может в один миг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убить миллионы людей. Но мы не хоти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оно было пущено в ход. Мы предлаг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тить его дальнейшее производ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иступить к уничтожению всех его запа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ем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хотим мира для себя и для всех народ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еты. Для своих детей и для тебя,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анта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429240" y="571680"/>
            <a:ext cx="2230560" cy="3009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571680" y="3286080"/>
            <a:ext cx="2357280" cy="3157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286" name="Rectangle 4"/>
          <p:cNvSpPr/>
          <p:nvPr/>
        </p:nvSpPr>
        <p:spPr>
          <a:xfrm>
            <a:off x="1403280" y="189000"/>
            <a:ext cx="37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20 век …Век, в котором остались и дикая война, и великая победа. И памятники по всей России, всему миру, и безымянные моги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1571760" y="1571760"/>
            <a:ext cx="1641240" cy="2070000"/>
            <a:chOff x="1571760" y="1571760"/>
            <a:chExt cx="1641240" cy="2070000"/>
          </a:xfrm>
        </p:grpSpPr>
        <p:pic>
          <p:nvPicPr>
            <p:cNvPr id="289" name="Picture 3" descr=""/>
            <p:cNvPicPr/>
            <p:nvPr/>
          </p:nvPicPr>
          <p:blipFill>
            <a:blip r:embed="rId1"/>
            <a:stretch/>
          </p:blipFill>
          <p:spPr>
            <a:xfrm>
              <a:off x="1571760" y="1571760"/>
              <a:ext cx="16412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"/>
            <p:cNvSpPr/>
            <p:nvPr/>
          </p:nvSpPr>
          <p:spPr>
            <a:xfrm>
              <a:off x="1571760" y="1571760"/>
              <a:ext cx="164124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1" name="Group 5"/>
          <p:cNvGrpSpPr/>
          <p:nvPr/>
        </p:nvGrpSpPr>
        <p:grpSpPr>
          <a:xfrm>
            <a:off x="4857840" y="1500120"/>
            <a:ext cx="2158920" cy="2548080"/>
            <a:chOff x="4857840" y="1500120"/>
            <a:chExt cx="2158920" cy="2548080"/>
          </a:xfrm>
        </p:grpSpPr>
        <p:pic>
          <p:nvPicPr>
            <p:cNvPr id="292" name="Picture 6" descr=""/>
            <p:cNvPicPr/>
            <p:nvPr/>
          </p:nvPicPr>
          <p:blipFill>
            <a:blip r:embed="rId2"/>
            <a:stretch/>
          </p:blipFill>
          <p:spPr>
            <a:xfrm>
              <a:off x="4857840" y="1500120"/>
              <a:ext cx="21589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7"/>
            <p:cNvSpPr/>
            <p:nvPr/>
          </p:nvSpPr>
          <p:spPr>
            <a:xfrm>
              <a:off x="4857840" y="1500120"/>
              <a:ext cx="215892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2000160" y="4429080"/>
            <a:ext cx="1855800" cy="2232000"/>
            <a:chOff x="2000160" y="4429080"/>
            <a:chExt cx="1855800" cy="2232000"/>
          </a:xfrm>
        </p:grpSpPr>
        <p:pic>
          <p:nvPicPr>
            <p:cNvPr id="295" name="Picture 9" descr=""/>
            <p:cNvPicPr/>
            <p:nvPr/>
          </p:nvPicPr>
          <p:blipFill>
            <a:blip r:embed="rId3"/>
            <a:stretch/>
          </p:blipFill>
          <p:spPr>
            <a:xfrm>
              <a:off x="2000160" y="4429080"/>
              <a:ext cx="1855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10"/>
            <p:cNvSpPr/>
            <p:nvPr/>
          </p:nvSpPr>
          <p:spPr>
            <a:xfrm>
              <a:off x="2000160" y="4429080"/>
              <a:ext cx="18558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97" name="Picture 11" descr=""/>
          <p:cNvPicPr/>
          <p:nvPr/>
        </p:nvPicPr>
        <p:blipFill>
          <a:blip r:embed="rId4"/>
          <a:stretch/>
        </p:blipFill>
        <p:spPr>
          <a:xfrm>
            <a:off x="7715160" y="5734080"/>
            <a:ext cx="1224000" cy="11239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2"/>
          <p:cNvGrpSpPr/>
          <p:nvPr/>
        </p:nvGrpSpPr>
        <p:grpSpPr>
          <a:xfrm>
            <a:off x="5429160" y="4143240"/>
            <a:ext cx="1898640" cy="2284560"/>
            <a:chOff x="5429160" y="4143240"/>
            <a:chExt cx="1898640" cy="2284560"/>
          </a:xfrm>
        </p:grpSpPr>
        <p:pic>
          <p:nvPicPr>
            <p:cNvPr id="299" name="Picture 13" descr=""/>
            <p:cNvPicPr/>
            <p:nvPr/>
          </p:nvPicPr>
          <p:blipFill>
            <a:blip r:embed="rId5"/>
            <a:stretch/>
          </p:blipFill>
          <p:spPr>
            <a:xfrm>
              <a:off x="5429160" y="4143240"/>
              <a:ext cx="189864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4"/>
            <p:cNvSpPr/>
            <p:nvPr/>
          </p:nvSpPr>
          <p:spPr>
            <a:xfrm>
              <a:off x="5429160" y="4143240"/>
              <a:ext cx="189864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1" name="Rectangle 15"/>
          <p:cNvSpPr/>
          <p:nvPr/>
        </p:nvSpPr>
        <p:spPr>
          <a:xfrm>
            <a:off x="1403280" y="3716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мятник Алёше в Болга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7072200" y="2643120"/>
            <a:ext cx="18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птов –парк в Берлине – памятник советскому солда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1214280" y="595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ты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4286160" y="5143680"/>
            <a:ext cx="3094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Геро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етского Союза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влу Стефанович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зуб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066680" y="2444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Нет ничего дороже на Земле,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                                чем улыбка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255680" y="1695600"/>
            <a:ext cx="6564240" cy="4617720"/>
            <a:chOff x="1255680" y="1695600"/>
            <a:chExt cx="6564240" cy="461772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255680" y="1695600"/>
              <a:ext cx="6564240" cy="46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255680" y="1695600"/>
              <a:ext cx="6564240" cy="46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22 июня 1941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900000" y="1916280"/>
            <a:ext cx="3456000" cy="3382920"/>
            <a:chOff x="900000" y="1916280"/>
            <a:chExt cx="3456000" cy="3382920"/>
          </a:xfrm>
        </p:grpSpPr>
        <p:pic>
          <p:nvPicPr>
            <p:cNvPr id="140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345600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4"/>
            <p:cNvSpPr/>
            <p:nvPr/>
          </p:nvSpPr>
          <p:spPr>
            <a:xfrm>
              <a:off x="900000" y="1916280"/>
              <a:ext cx="3456000" cy="33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4857840" y="1714680"/>
            <a:ext cx="3603600" cy="3530520"/>
            <a:chOff x="4857840" y="1714680"/>
            <a:chExt cx="3603600" cy="3530520"/>
          </a:xfrm>
        </p:grpSpPr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4857840" y="1714680"/>
              <a:ext cx="360360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7"/>
            <p:cNvSpPr/>
            <p:nvPr/>
          </p:nvSpPr>
          <p:spPr>
            <a:xfrm>
              <a:off x="4857840" y="1714680"/>
              <a:ext cx="3603600" cy="35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5" name="Rectangle 8"/>
          <p:cNvSpPr/>
          <p:nvPr/>
        </p:nvSpPr>
        <p:spPr>
          <a:xfrm>
            <a:off x="900000" y="537372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b6b8fc"/>
                </a:solidFill>
                <a:latin typeface="Tahoma"/>
              </a:rPr>
              <a:t>Фашистские захватчики вероломно напали на советское государ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066680" y="316080"/>
            <a:ext cx="74455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84360" y="1052640"/>
            <a:ext cx="407808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кресным утром тысячи мальчиков и девочек со своими родителями в страхе и ужасе бежали из своих домов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5003640" y="620640"/>
            <a:ext cx="3598920" cy="4172040"/>
            <a:chOff x="5003640" y="620640"/>
            <a:chExt cx="3598920" cy="4172040"/>
          </a:xfrm>
        </p:grpSpPr>
        <p:pic>
          <p:nvPicPr>
            <p:cNvPr id="149" name="Picture 4" descr=""/>
            <p:cNvPicPr/>
            <p:nvPr/>
          </p:nvPicPr>
          <p:blipFill>
            <a:blip r:embed="rId1"/>
            <a:stretch/>
          </p:blipFill>
          <p:spPr>
            <a:xfrm>
              <a:off x="5003640" y="620640"/>
              <a:ext cx="359892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5"/>
            <p:cNvSpPr/>
            <p:nvPr/>
          </p:nvSpPr>
          <p:spPr>
            <a:xfrm>
              <a:off x="5003640" y="620640"/>
              <a:ext cx="3598920" cy="41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2340000" y="4005360"/>
            <a:ext cx="4100400" cy="2662200"/>
            <a:chOff x="2340000" y="4005360"/>
            <a:chExt cx="4100400" cy="2662200"/>
          </a:xfrm>
        </p:grpSpPr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2340000" y="4005360"/>
              <a:ext cx="410040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2340000" y="4005360"/>
              <a:ext cx="410040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2195640" y="1989000"/>
            <a:ext cx="5759280" cy="4105440"/>
            <a:chOff x="2195640" y="1989000"/>
            <a:chExt cx="5759280" cy="4105440"/>
          </a:xfrm>
        </p:grpSpPr>
        <p:pic>
          <p:nvPicPr>
            <p:cNvPr id="155" name="Picture 2" descr=""/>
            <p:cNvPicPr/>
            <p:nvPr/>
          </p:nvPicPr>
          <p:blipFill>
            <a:blip r:embed="rId1"/>
            <a:stretch/>
          </p:blipFill>
          <p:spPr>
            <a:xfrm>
              <a:off x="2195640" y="1989000"/>
              <a:ext cx="5759280" cy="41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3"/>
            <p:cNvSpPr/>
            <p:nvPr/>
          </p:nvSpPr>
          <p:spPr>
            <a:xfrm>
              <a:off x="2195640" y="1989000"/>
              <a:ext cx="575928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Rectangle 4"/>
          <p:cNvSpPr/>
          <p:nvPr/>
        </p:nvSpPr>
        <p:spPr>
          <a:xfrm>
            <a:off x="971640" y="333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ТЯ   ЧЕРЕВИЧ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г героя увековеч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ь о нём живет и поны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116000" y="836640"/>
            <a:ext cx="3814920" cy="5398920"/>
            <a:chOff x="1116000" y="836640"/>
            <a:chExt cx="3814920" cy="5398920"/>
          </a:xfrm>
        </p:grpSpPr>
        <p:pic>
          <p:nvPicPr>
            <p:cNvPr id="161" name="Picture 4" descr=""/>
            <p:cNvPicPr/>
            <p:nvPr/>
          </p:nvPicPr>
          <p:blipFill>
            <a:blip r:embed="rId1"/>
            <a:stretch/>
          </p:blipFill>
          <p:spPr>
            <a:xfrm>
              <a:off x="1116000" y="836640"/>
              <a:ext cx="381492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116000" y="836640"/>
              <a:ext cx="3814920" cy="53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Их имена и в 21 веке сияют звездами на мирном н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2"/>
          <p:cNvGrpSpPr/>
          <p:nvPr/>
        </p:nvGrpSpPr>
        <p:grpSpPr>
          <a:xfrm>
            <a:off x="1928880" y="1714680"/>
            <a:ext cx="2020680" cy="1869840"/>
            <a:chOff x="1928880" y="1714680"/>
            <a:chExt cx="2020680" cy="1869840"/>
          </a:xfrm>
        </p:grpSpPr>
        <p:pic>
          <p:nvPicPr>
            <p:cNvPr id="165" name="Picture 3" descr=""/>
            <p:cNvPicPr/>
            <p:nvPr/>
          </p:nvPicPr>
          <p:blipFill>
            <a:blip r:embed="rId1"/>
            <a:stretch/>
          </p:blipFill>
          <p:spPr>
            <a:xfrm>
              <a:off x="1928880" y="1714680"/>
              <a:ext cx="202068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"/>
            <p:cNvSpPr/>
            <p:nvPr/>
          </p:nvSpPr>
          <p:spPr>
            <a:xfrm>
              <a:off x="1928880" y="1714680"/>
              <a:ext cx="202068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Rectangle 5"/>
          <p:cNvSpPr/>
          <p:nvPr/>
        </p:nvSpPr>
        <p:spPr>
          <a:xfrm>
            <a:off x="1714680" y="364320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онид Гол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5143680" y="1643040"/>
            <a:ext cx="1920600" cy="1940040"/>
            <a:chOff x="5143680" y="1643040"/>
            <a:chExt cx="1920600" cy="1940040"/>
          </a:xfrm>
        </p:grpSpPr>
        <p:pic>
          <p:nvPicPr>
            <p:cNvPr id="169" name="Picture 7" descr=""/>
            <p:cNvPicPr/>
            <p:nvPr/>
          </p:nvPicPr>
          <p:blipFill>
            <a:blip r:embed="rId2"/>
            <a:stretch/>
          </p:blipFill>
          <p:spPr>
            <a:xfrm>
              <a:off x="5143680" y="1643040"/>
              <a:ext cx="192060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8"/>
            <p:cNvSpPr/>
            <p:nvPr/>
          </p:nvSpPr>
          <p:spPr>
            <a:xfrm>
              <a:off x="5143680" y="1643040"/>
              <a:ext cx="192060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5500800" y="371484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1928880" y="4143240"/>
            <a:ext cx="2092320" cy="2063880"/>
            <a:chOff x="1928880" y="4143240"/>
            <a:chExt cx="2092320" cy="2063880"/>
          </a:xfrm>
        </p:grpSpPr>
        <p:pic>
          <p:nvPicPr>
            <p:cNvPr id="173" name="Picture 11" descr=""/>
            <p:cNvPicPr/>
            <p:nvPr/>
          </p:nvPicPr>
          <p:blipFill>
            <a:blip r:embed="rId3"/>
            <a:stretch/>
          </p:blipFill>
          <p:spPr>
            <a:xfrm>
              <a:off x="1928880" y="4143240"/>
              <a:ext cx="20923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2"/>
            <p:cNvSpPr/>
            <p:nvPr/>
          </p:nvSpPr>
          <p:spPr>
            <a:xfrm>
              <a:off x="1928880" y="4143240"/>
              <a:ext cx="20923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Rectangle 13"/>
          <p:cNvSpPr/>
          <p:nvPr/>
        </p:nvSpPr>
        <p:spPr>
          <a:xfrm>
            <a:off x="1692360" y="6286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6" name="Group 14"/>
          <p:cNvGrpSpPr/>
          <p:nvPr/>
        </p:nvGrpSpPr>
        <p:grpSpPr>
          <a:xfrm>
            <a:off x="5072040" y="4221000"/>
            <a:ext cx="2212920" cy="2063880"/>
            <a:chOff x="5072040" y="4221000"/>
            <a:chExt cx="2212920" cy="2063880"/>
          </a:xfrm>
        </p:grpSpPr>
        <p:pic>
          <p:nvPicPr>
            <p:cNvPr id="177" name="Picture 15" descr=""/>
            <p:cNvPicPr/>
            <p:nvPr/>
          </p:nvPicPr>
          <p:blipFill>
            <a:blip r:embed="rId4"/>
            <a:stretch/>
          </p:blipFill>
          <p:spPr>
            <a:xfrm>
              <a:off x="5072040" y="4221000"/>
              <a:ext cx="22129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6"/>
            <p:cNvSpPr/>
            <p:nvPr/>
          </p:nvSpPr>
          <p:spPr>
            <a:xfrm>
              <a:off x="5072040" y="4221000"/>
              <a:ext cx="22129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Rectangle 17"/>
          <p:cNvSpPr/>
          <p:nvPr/>
        </p:nvSpPr>
        <p:spPr>
          <a:xfrm>
            <a:off x="5796000" y="6238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ионеры - геро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1" name="Group 2"/>
          <p:cNvGrpSpPr/>
          <p:nvPr/>
        </p:nvGrpSpPr>
        <p:grpSpPr>
          <a:xfrm>
            <a:off x="1332000" y="1413000"/>
            <a:ext cx="2166840" cy="2157120"/>
            <a:chOff x="1332000" y="1413000"/>
            <a:chExt cx="2166840" cy="2157120"/>
          </a:xfrm>
        </p:grpSpPr>
        <p:pic>
          <p:nvPicPr>
            <p:cNvPr id="182" name="Picture 3" descr=""/>
            <p:cNvPicPr/>
            <p:nvPr/>
          </p:nvPicPr>
          <p:blipFill>
            <a:blip r:embed="rId1"/>
            <a:stretch/>
          </p:blipFill>
          <p:spPr>
            <a:xfrm>
              <a:off x="1332000" y="1413000"/>
              <a:ext cx="21668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"/>
            <p:cNvSpPr/>
            <p:nvPr/>
          </p:nvSpPr>
          <p:spPr>
            <a:xfrm>
              <a:off x="1332000" y="1413000"/>
              <a:ext cx="216684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Rectangle 5"/>
          <p:cNvSpPr/>
          <p:nvPr/>
        </p:nvSpPr>
        <p:spPr>
          <a:xfrm>
            <a:off x="205092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364000" y="1484280"/>
            <a:ext cx="2159280" cy="2157480"/>
            <a:chOff x="5364000" y="1484280"/>
            <a:chExt cx="2159280" cy="2157480"/>
          </a:xfrm>
        </p:grpSpPr>
        <p:pic>
          <p:nvPicPr>
            <p:cNvPr id="186" name="Picture 7" descr=""/>
            <p:cNvPicPr/>
            <p:nvPr/>
          </p:nvPicPr>
          <p:blipFill>
            <a:blip r:embed="rId2"/>
            <a:stretch/>
          </p:blipFill>
          <p:spPr>
            <a:xfrm>
              <a:off x="5364000" y="1484280"/>
              <a:ext cx="215928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8"/>
            <p:cNvSpPr/>
            <p:nvPr/>
          </p:nvSpPr>
          <p:spPr>
            <a:xfrm>
              <a:off x="5364000" y="1484280"/>
              <a:ext cx="215928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Rectangle 9"/>
          <p:cNvSpPr/>
          <p:nvPr/>
        </p:nvSpPr>
        <p:spPr>
          <a:xfrm>
            <a:off x="594036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одя Дуби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1692360" y="4005360"/>
            <a:ext cx="2301840" cy="2208240"/>
            <a:chOff x="1692360" y="4005360"/>
            <a:chExt cx="2301840" cy="2208240"/>
          </a:xfrm>
        </p:grpSpPr>
        <p:pic>
          <p:nvPicPr>
            <p:cNvPr id="190" name="Picture 11" descr=""/>
            <p:cNvPicPr/>
            <p:nvPr/>
          </p:nvPicPr>
          <p:blipFill>
            <a:blip r:embed="rId3"/>
            <a:stretch/>
          </p:blipFill>
          <p:spPr>
            <a:xfrm>
              <a:off x="1692360" y="4005360"/>
              <a:ext cx="230184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2"/>
            <p:cNvSpPr/>
            <p:nvPr/>
          </p:nvSpPr>
          <p:spPr>
            <a:xfrm>
              <a:off x="1692360" y="4005360"/>
              <a:ext cx="230184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Rectangle 13"/>
          <p:cNvSpPr/>
          <p:nvPr/>
        </p:nvSpPr>
        <p:spPr>
          <a:xfrm>
            <a:off x="1908000" y="61437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та Бондаре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724360" y="4005360"/>
            <a:ext cx="2303640" cy="2136600"/>
            <a:chOff x="5724360" y="4005360"/>
            <a:chExt cx="2303640" cy="2136600"/>
          </a:xfrm>
        </p:grpSpPr>
        <p:pic>
          <p:nvPicPr>
            <p:cNvPr id="194" name="Picture 15" descr=""/>
            <p:cNvPicPr/>
            <p:nvPr/>
          </p:nvPicPr>
          <p:blipFill>
            <a:blip r:embed="rId4"/>
            <a:stretch/>
          </p:blipFill>
          <p:spPr>
            <a:xfrm>
              <a:off x="5724360" y="4005360"/>
              <a:ext cx="230364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6"/>
            <p:cNvSpPr/>
            <p:nvPr/>
          </p:nvSpPr>
          <p:spPr>
            <a:xfrm>
              <a:off x="5724360" y="4005360"/>
              <a:ext cx="230364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Rectangle 17"/>
          <p:cNvSpPr/>
          <p:nvPr/>
        </p:nvSpPr>
        <p:spPr>
          <a:xfrm>
            <a:off x="5724360" y="60721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на Куков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6:02Z</dcterms:created>
  <dc:creator>Владелец</dc:creator>
  <dc:description/>
  <dc:language>en-US</dc:language>
  <cp:lastModifiedBy>Татьяна</cp:lastModifiedBy>
  <dcterms:modified xsi:type="dcterms:W3CDTF">2013-04-16T21:18:28Z</dcterms:modified>
  <cp:revision>90</cp:revision>
  <dc:subject/>
  <dc:title>Слайд 1</dc:title>
</cp:coreProperties>
</file>