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50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31.jpeg" ContentType="image/jpeg"/>
  <Override PartName="/ppt/media/image4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5.png" ContentType="image/png"/>
  <Override PartName="/ppt/media/image43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CC0D9-3DBA-4143-AF5F-BBCD42D1E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574B2-FE99-457E-BC04-E4F52FBE7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B9623-FA28-4CFD-9A27-EB2C8A5801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EBB8D-A358-4963-9BD6-5138A05987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вел Кузу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CF6F8-8C6F-452B-ADB7-AA4EA9BE6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0273-BA10-48E1-BF77-7FDF73366F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41BB63-7213-49A5-9CDD-78E2865DF3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ольский писатель, педагог и врач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D5AD5-344F-4BF5-B97F-682ED324C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CBFA7-3449-4B49-9158-DE910EDECA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59FAB-CD4D-4817-8998-A75C6B6A31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DB2F4-1DFF-4DE4-9690-6705F7498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623AA8-85CA-4F7C-AE83-B8D7DA49DC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мяти детей , погибших в лагерях смерти. Памятник в г.Смоленс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9F03C-179A-478B-8D78-897A85445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D62BB7-8035-45E2-BBFD-3E4D72B0F5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ХИРОСИМА И НАГАСА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87C5C-30FB-40E4-9275-1DD83F241B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28B8E-6FCF-4563-9580-751D60A4EC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BC3F5-1BBE-40DB-A53A-B43D5CF20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B9853-753A-488E-B7A8-4D4F74A3B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57E7DE-529E-41DC-ABD7-D671D5982A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АНТА СМ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CB150-3907-47C6-927E-2EE0AB3F44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6DF5C1-9E6E-482F-B0C7-9F469858FE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3DF59-DA26-45B3-A401-41F971906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4B6DC4-7898-4DC7-A36B-3B08A8C851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амятник Герою Советского Союза – Павлу Стефановичу Кузуб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9AE1C-5A4A-4F67-AB20-7211C3722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7F17F-0CE5-48F7-BEF8-39773F85A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F1ECD8-1F97-417C-B38B-11DCE3F006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Фашистские захватчики вероломно напали на советское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FC984-D6F7-489B-86FF-E88F4925F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FF252-45D0-4938-80A1-4C850D0BCE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C8D648-7644-4290-8BA7-27E5D87C0A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ВИТЯ ЧЕРЕВИЧКИ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8180-D287-4447-992D-EE0EBA4F8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02873-73D8-4DE6-8968-1C3D09BF1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2A6E2B-5CD1-4C15-94A4-B260E1E699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Лара Михеенк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1E10F-DDD6-41A4-900B-7C0422348B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936ABC-07D6-4BEB-AF33-B84A62D97B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ина Кукове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F567-9FF7-4546-B2F0-ABEA0B643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85824-4B29-420E-B0C6-F2183A27F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54B1-03C5-48C3-B4B1-F238E0B05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303E-CE31-4A54-B103-0D8E6A245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60AB4-1F8D-47D9-B305-116E763E99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A579-C270-4DD2-92C1-8176B2DAD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DCB3-7855-4BCC-B5F6-89FFB75DFC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2742-49B4-4767-97A8-EE98F24475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D89E-40B3-460B-B20B-893613839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C6CC-1022-4034-A753-BA52BDF9E4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6752-FB78-4818-A4DE-371084A59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DB7A-D517-4FFD-82AA-CC6775E8A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FD8D-56BA-4C1F-818D-FEA077F32C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B9CD-F459-4281-B21E-75A629DC7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CDB7-8672-4F66-A506-BD877710F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47371-C88E-4667-A2D9-3DB56D80FD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18B5-AD74-4145-9314-9391EEB39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BD7F-5730-4501-81C1-5E5F6A644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3BCC-EED1-45C1-80DC-C879C3BC4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C6D0-C2BC-4A7F-93FD-895D33CB2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9B60-5EC2-4CD8-AEE3-7BA1DCF73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FE0E-8FCD-4322-8FDC-A4D125FCD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A037-296A-4C00-9E15-3AB8F2746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2949-10DD-4DEB-8863-A8DED694A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AutoShape 2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17138E-A926-4BAD-9D50-21021ED3CC7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grpSp>
          <p:nvGrpSpPr>
            <p:cNvPr id="55" name="Group 2"/>
            <p:cNvGrpSpPr/>
            <p:nvPr/>
          </p:nvGrpSpPr>
          <p:grpSpPr>
            <a:xfrm>
              <a:off x="0" y="1843200"/>
              <a:ext cx="9139320" cy="5013360"/>
              <a:chOff x="0" y="1843200"/>
              <a:chExt cx="9139320" cy="5013360"/>
            </a:xfrm>
          </p:grpSpPr>
          <p:sp>
            <p:nvSpPr>
              <p:cNvPr id="56" name="AutoShape 3"/>
              <p:cNvSpPr/>
              <p:nvPr/>
            </p:nvSpPr>
            <p:spPr>
              <a:xfrm>
                <a:off x="885960" y="1843200"/>
                <a:ext cx="8253360" cy="5013360"/>
              </a:xfrm>
              <a:custGeom>
                <a:avLst/>
                <a:gdLst>
                  <a:gd name="textAreaLeft" fmla="*/ 0 w 8253360"/>
                  <a:gd name="textAreaRight" fmla="*/ 8253720 w 8253360"/>
                  <a:gd name="textAreaTop" fmla="*/ 0 h 5013360"/>
                  <a:gd name="textAreaBottom" fmla="*/ 5013720 h 501336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AutoShape 4"/>
              <p:cNvSpPr/>
              <p:nvPr/>
            </p:nvSpPr>
            <p:spPr>
              <a:xfrm>
                <a:off x="0" y="1843200"/>
                <a:ext cx="884160" cy="5013360"/>
              </a:xfrm>
              <a:custGeom>
                <a:avLst/>
                <a:gdLst>
                  <a:gd name="textAreaLeft" fmla="*/ 0 w 884160"/>
                  <a:gd name="textAreaRight" fmla="*/ 884520 w 884160"/>
                  <a:gd name="textAreaTop" fmla="*/ 0 h 5013360"/>
                  <a:gd name="textAreaBottom" fmla="*/ 5013720 h 501336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AutoShape 5"/>
            <p:cNvSpPr/>
            <p:nvPr/>
          </p:nvSpPr>
          <p:spPr>
            <a:xfrm>
              <a:off x="876240" y="1509840"/>
              <a:ext cx="17640" cy="664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64920"/>
                <a:gd name="textAreaBottom" fmla="*/ 665280 h 6649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AutoShape 6"/>
            <p:cNvSpPr/>
            <p:nvPr/>
          </p:nvSpPr>
          <p:spPr>
            <a:xfrm>
              <a:off x="1217520" y="1833480"/>
              <a:ext cx="398520" cy="1764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AutoShape 7"/>
            <p:cNvSpPr/>
            <p:nvPr/>
          </p:nvSpPr>
          <p:spPr>
            <a:xfrm>
              <a:off x="0" y="1833480"/>
              <a:ext cx="555480" cy="17640"/>
            </a:xfrm>
            <a:custGeom>
              <a:avLst/>
              <a:gdLst>
                <a:gd name="textAreaLeft" fmla="*/ 0 w 555480"/>
                <a:gd name="textAreaRight" fmla="*/ 555840 w 5554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8"/>
            <p:cNvGrpSpPr/>
            <p:nvPr/>
          </p:nvGrpSpPr>
          <p:grpSpPr>
            <a:xfrm>
              <a:off x="552600" y="6480"/>
              <a:ext cx="8586720" cy="6850080"/>
              <a:chOff x="552600" y="6480"/>
              <a:chExt cx="8586720" cy="6850080"/>
            </a:xfrm>
          </p:grpSpPr>
          <p:sp>
            <p:nvSpPr>
              <p:cNvPr id="62" name="AutoShape 9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AutoShape 10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AutoShape 11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AutoShape 12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AutoShape 13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AutoShape 14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2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903114-5BA4-4987-A453-2529E17FE2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1.gif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900000" y="189000"/>
            <a:ext cx="7086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«Глаза детей – души моей светильник …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42920" y="2421000"/>
            <a:ext cx="6985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и детей, чья жизнь была прерва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148360" y="378936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8" name="Group 2"/>
          <p:cNvGrpSpPr/>
          <p:nvPr/>
        </p:nvGrpSpPr>
        <p:grpSpPr>
          <a:xfrm>
            <a:off x="1258920" y="333360"/>
            <a:ext cx="2239920" cy="2522520"/>
            <a:chOff x="1258920" y="333360"/>
            <a:chExt cx="2239920" cy="2522520"/>
          </a:xfrm>
        </p:grpSpPr>
        <p:pic>
          <p:nvPicPr>
            <p:cNvPr id="199" name="Picture 3" descr=""/>
            <p:cNvPicPr/>
            <p:nvPr/>
          </p:nvPicPr>
          <p:blipFill>
            <a:blip r:embed="rId1"/>
            <a:stretch/>
          </p:blipFill>
          <p:spPr>
            <a:xfrm>
              <a:off x="1258920" y="333360"/>
              <a:ext cx="22399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258920" y="333360"/>
              <a:ext cx="223992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Rectangle 5"/>
          <p:cNvSpPr/>
          <p:nvPr/>
        </p:nvSpPr>
        <p:spPr>
          <a:xfrm>
            <a:off x="1042920" y="27860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кадий Кама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5072040" y="357120"/>
            <a:ext cx="2281320" cy="2522520"/>
            <a:chOff x="5072040" y="357120"/>
            <a:chExt cx="2281320" cy="2522520"/>
          </a:xfrm>
        </p:grpSpPr>
        <p:pic>
          <p:nvPicPr>
            <p:cNvPr id="203" name="Picture 7" descr=""/>
            <p:cNvPicPr/>
            <p:nvPr/>
          </p:nvPicPr>
          <p:blipFill>
            <a:blip r:embed="rId2"/>
            <a:stretch/>
          </p:blipFill>
          <p:spPr>
            <a:xfrm>
              <a:off x="5072040" y="357120"/>
              <a:ext cx="228132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8"/>
            <p:cNvSpPr/>
            <p:nvPr/>
          </p:nvSpPr>
          <p:spPr>
            <a:xfrm>
              <a:off x="5072040" y="357120"/>
              <a:ext cx="228132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Rectangle 9"/>
          <p:cNvSpPr/>
          <p:nvPr/>
        </p:nvSpPr>
        <p:spPr>
          <a:xfrm>
            <a:off x="5724360" y="2773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тя Хоме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571760" y="5734080"/>
            <a:ext cx="2063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124000" y="33577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ои - комсомоль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8" name="Group 12"/>
          <p:cNvGrpSpPr/>
          <p:nvPr/>
        </p:nvGrpSpPr>
        <p:grpSpPr>
          <a:xfrm>
            <a:off x="1106640" y="3902040"/>
            <a:ext cx="2382840" cy="2212920"/>
            <a:chOff x="1106640" y="3902040"/>
            <a:chExt cx="2382840" cy="2212920"/>
          </a:xfrm>
        </p:grpSpPr>
        <p:pic>
          <p:nvPicPr>
            <p:cNvPr id="209" name="Picture 13" descr=""/>
            <p:cNvPicPr/>
            <p:nvPr/>
          </p:nvPicPr>
          <p:blipFill>
            <a:blip r:embed="rId3"/>
            <a:stretch/>
          </p:blipFill>
          <p:spPr>
            <a:xfrm>
              <a:off x="1106640" y="3902040"/>
              <a:ext cx="23828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"/>
            <p:cNvSpPr/>
            <p:nvPr/>
          </p:nvSpPr>
          <p:spPr>
            <a:xfrm>
              <a:off x="1106640" y="3902040"/>
              <a:ext cx="2382840" cy="22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1" name="Rectangle 15"/>
          <p:cNvSpPr/>
          <p:nvPr/>
        </p:nvSpPr>
        <p:spPr>
          <a:xfrm>
            <a:off x="1143000" y="60721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лександр Матро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5076720" y="3933720"/>
            <a:ext cx="2208240" cy="2208240"/>
            <a:chOff x="5076720" y="3933720"/>
            <a:chExt cx="2208240" cy="2208240"/>
          </a:xfrm>
        </p:grpSpPr>
        <p:pic>
          <p:nvPicPr>
            <p:cNvPr id="213" name="Picture 17" descr=""/>
            <p:cNvPicPr/>
            <p:nvPr/>
          </p:nvPicPr>
          <p:blipFill>
            <a:blip r:embed="rId4"/>
            <a:stretch/>
          </p:blipFill>
          <p:spPr>
            <a:xfrm>
              <a:off x="5076720" y="3933720"/>
              <a:ext cx="220824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8"/>
            <p:cNvSpPr/>
            <p:nvPr/>
          </p:nvSpPr>
          <p:spPr>
            <a:xfrm>
              <a:off x="5076720" y="3933720"/>
              <a:ext cx="220824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5" name="Rectangle 19"/>
          <p:cNvSpPr/>
          <p:nvPr/>
        </p:nvSpPr>
        <p:spPr>
          <a:xfrm>
            <a:off x="5219640" y="62150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вел Кузу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66680" y="537372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Памятник Пионерам –героям в г. Смоленс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2"/>
          <p:cNvGrpSpPr/>
          <p:nvPr/>
        </p:nvGrpSpPr>
        <p:grpSpPr>
          <a:xfrm>
            <a:off x="755640" y="476280"/>
            <a:ext cx="7991640" cy="5111640"/>
            <a:chOff x="755640" y="476280"/>
            <a:chExt cx="7991640" cy="5111640"/>
          </a:xfrm>
        </p:grpSpPr>
        <p:pic>
          <p:nvPicPr>
            <p:cNvPr id="218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476280"/>
              <a:ext cx="799164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4"/>
            <p:cNvSpPr/>
            <p:nvPr/>
          </p:nvSpPr>
          <p:spPr>
            <a:xfrm>
              <a:off x="755640" y="476280"/>
              <a:ext cx="799164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1" name="Group 2"/>
          <p:cNvGrpSpPr/>
          <p:nvPr/>
        </p:nvGrpSpPr>
        <p:grpSpPr>
          <a:xfrm>
            <a:off x="755640" y="1052640"/>
            <a:ext cx="2951280" cy="3746520"/>
            <a:chOff x="755640" y="1052640"/>
            <a:chExt cx="2951280" cy="3746520"/>
          </a:xfrm>
        </p:grpSpPr>
        <p:pic>
          <p:nvPicPr>
            <p:cNvPr id="222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052640"/>
              <a:ext cx="2951280" cy="37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755640" y="1052640"/>
              <a:ext cx="2951280" cy="37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4" name="Rectangle 5"/>
          <p:cNvSpPr/>
          <p:nvPr/>
        </p:nvSpPr>
        <p:spPr>
          <a:xfrm>
            <a:off x="4716360" y="4174920"/>
            <a:ext cx="41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августа 1942 года Януш Корчак вместе с детьми Дома сирот погиб в газовых камерах Треблин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год многочисленные представители израильской общественности приходят в лес евреев Польши, недалеко от Иерусалима, и возлагают венки к памятнику Янушу Корчак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324000" y="4724280"/>
            <a:ext cx="62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льский писатель, педагог и врач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5292720" y="409680"/>
            <a:ext cx="2878200" cy="3741480"/>
            <a:chOff x="5292720" y="409680"/>
            <a:chExt cx="2878200" cy="3741480"/>
          </a:xfrm>
        </p:grpSpPr>
        <p:pic>
          <p:nvPicPr>
            <p:cNvPr id="227" name="Picture 8" descr=""/>
            <p:cNvPicPr/>
            <p:nvPr/>
          </p:nvPicPr>
          <p:blipFill>
            <a:blip r:embed="rId2"/>
            <a:stretch/>
          </p:blipFill>
          <p:spPr>
            <a:xfrm>
              <a:off x="5292720" y="409680"/>
              <a:ext cx="2878200" cy="37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9"/>
            <p:cNvSpPr/>
            <p:nvPr/>
          </p:nvSpPr>
          <p:spPr>
            <a:xfrm>
              <a:off x="5292720" y="409680"/>
              <a:ext cx="2878200" cy="37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колько детей прошло через ужасы, ад и пекло фашистских лагерей смерти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0" name="Group 2"/>
          <p:cNvGrpSpPr/>
          <p:nvPr/>
        </p:nvGrpSpPr>
        <p:grpSpPr>
          <a:xfrm>
            <a:off x="1116000" y="1557360"/>
            <a:ext cx="4102200" cy="4537080"/>
            <a:chOff x="1116000" y="1557360"/>
            <a:chExt cx="4102200" cy="4537080"/>
          </a:xfrm>
        </p:grpSpPr>
        <p:pic>
          <p:nvPicPr>
            <p:cNvPr id="231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1557360"/>
              <a:ext cx="410220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4"/>
            <p:cNvSpPr/>
            <p:nvPr/>
          </p:nvSpPr>
          <p:spPr>
            <a:xfrm>
              <a:off x="1116000" y="1557360"/>
              <a:ext cx="410220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Group 5"/>
          <p:cNvGrpSpPr/>
          <p:nvPr/>
        </p:nvGrpSpPr>
        <p:grpSpPr>
          <a:xfrm>
            <a:off x="4643280" y="1484280"/>
            <a:ext cx="3888000" cy="2806560"/>
            <a:chOff x="4643280" y="1484280"/>
            <a:chExt cx="3888000" cy="2806560"/>
          </a:xfrm>
        </p:grpSpPr>
        <p:pic>
          <p:nvPicPr>
            <p:cNvPr id="234" name="Picture 6" descr=""/>
            <p:cNvPicPr/>
            <p:nvPr/>
          </p:nvPicPr>
          <p:blipFill>
            <a:blip r:embed="rId2"/>
            <a:stretch/>
          </p:blipFill>
          <p:spPr>
            <a:xfrm>
              <a:off x="4643280" y="1484280"/>
              <a:ext cx="388800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7"/>
            <p:cNvSpPr/>
            <p:nvPr/>
          </p:nvSpPr>
          <p:spPr>
            <a:xfrm>
              <a:off x="4643280" y="1484280"/>
              <a:ext cx="388800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003640" y="4114800"/>
            <a:ext cx="3959280" cy="2552760"/>
            <a:chOff x="5003640" y="4114800"/>
            <a:chExt cx="3959280" cy="2552760"/>
          </a:xfrm>
        </p:grpSpPr>
        <p:pic>
          <p:nvPicPr>
            <p:cNvPr id="237" name="Picture 9" descr=""/>
            <p:cNvPicPr/>
            <p:nvPr/>
          </p:nvPicPr>
          <p:blipFill>
            <a:blip r:embed="rId3"/>
            <a:stretch/>
          </p:blipFill>
          <p:spPr>
            <a:xfrm>
              <a:off x="5003640" y="4114800"/>
              <a:ext cx="395928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10"/>
            <p:cNvSpPr/>
            <p:nvPr/>
          </p:nvSpPr>
          <p:spPr>
            <a:xfrm>
              <a:off x="5003640" y="4114800"/>
              <a:ext cx="395928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5608800" y="260280"/>
            <a:ext cx="2849400" cy="3095640"/>
            <a:chOff x="5608800" y="260280"/>
            <a:chExt cx="2849400" cy="3095640"/>
          </a:xfrm>
        </p:grpSpPr>
        <p:pic>
          <p:nvPicPr>
            <p:cNvPr id="241" name="Picture 3" descr=""/>
            <p:cNvPicPr/>
            <p:nvPr/>
          </p:nvPicPr>
          <p:blipFill>
            <a:blip r:embed="rId1"/>
            <a:stretch/>
          </p:blipFill>
          <p:spPr>
            <a:xfrm>
              <a:off x="5608800" y="260280"/>
              <a:ext cx="28494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"/>
            <p:cNvSpPr/>
            <p:nvPr/>
          </p:nvSpPr>
          <p:spPr>
            <a:xfrm>
              <a:off x="5608800" y="260280"/>
              <a:ext cx="284940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3" name="Group 5"/>
          <p:cNvGrpSpPr/>
          <p:nvPr/>
        </p:nvGrpSpPr>
        <p:grpSpPr>
          <a:xfrm>
            <a:off x="1042920" y="189000"/>
            <a:ext cx="3238560" cy="3771720"/>
            <a:chOff x="1042920" y="189000"/>
            <a:chExt cx="3238560" cy="3771720"/>
          </a:xfrm>
        </p:grpSpPr>
        <p:pic>
          <p:nvPicPr>
            <p:cNvPr id="244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189000"/>
              <a:ext cx="323856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7"/>
            <p:cNvSpPr/>
            <p:nvPr/>
          </p:nvSpPr>
          <p:spPr>
            <a:xfrm>
              <a:off x="1042920" y="189000"/>
              <a:ext cx="3238560" cy="37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6" name="Group 8"/>
          <p:cNvGrpSpPr/>
          <p:nvPr/>
        </p:nvGrpSpPr>
        <p:grpSpPr>
          <a:xfrm>
            <a:off x="1258920" y="3716280"/>
            <a:ext cx="2806560" cy="2949480"/>
            <a:chOff x="1258920" y="3716280"/>
            <a:chExt cx="2806560" cy="2949480"/>
          </a:xfrm>
        </p:grpSpPr>
        <p:pic>
          <p:nvPicPr>
            <p:cNvPr id="247" name="Picture 9" descr=""/>
            <p:cNvPicPr/>
            <p:nvPr/>
          </p:nvPicPr>
          <p:blipFill>
            <a:blip r:embed="rId3"/>
            <a:stretch/>
          </p:blipFill>
          <p:spPr>
            <a:xfrm>
              <a:off x="1258920" y="3716280"/>
              <a:ext cx="280656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10"/>
            <p:cNvSpPr/>
            <p:nvPr/>
          </p:nvSpPr>
          <p:spPr>
            <a:xfrm>
              <a:off x="1258920" y="3716280"/>
              <a:ext cx="2806560" cy="29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9" name="Group 11"/>
          <p:cNvGrpSpPr/>
          <p:nvPr/>
        </p:nvGrpSpPr>
        <p:grpSpPr>
          <a:xfrm>
            <a:off x="5383080" y="3573360"/>
            <a:ext cx="3759480" cy="2733840"/>
            <a:chOff x="5383080" y="3573360"/>
            <a:chExt cx="3759480" cy="2733840"/>
          </a:xfrm>
        </p:grpSpPr>
        <p:pic>
          <p:nvPicPr>
            <p:cNvPr id="250" name="Picture 12" descr=""/>
            <p:cNvPicPr/>
            <p:nvPr/>
          </p:nvPicPr>
          <p:blipFill>
            <a:blip r:embed="rId4"/>
            <a:stretch/>
          </p:blipFill>
          <p:spPr>
            <a:xfrm>
              <a:off x="5383080" y="3573360"/>
              <a:ext cx="375948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13"/>
            <p:cNvSpPr/>
            <p:nvPr/>
          </p:nvSpPr>
          <p:spPr>
            <a:xfrm>
              <a:off x="5383080" y="3573360"/>
              <a:ext cx="3759480" cy="27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52" name="Picture 14" descr=""/>
          <p:cNvPicPr/>
          <p:nvPr/>
        </p:nvPicPr>
        <p:blipFill>
          <a:blip r:embed="rId5"/>
          <a:stretch/>
        </p:blipFill>
        <p:spPr>
          <a:xfrm>
            <a:off x="3851280" y="1341360"/>
            <a:ext cx="338472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1403280" y="549360"/>
            <a:ext cx="6696000" cy="4744800"/>
            <a:chOff x="1403280" y="549360"/>
            <a:chExt cx="6696000" cy="4744800"/>
          </a:xfrm>
        </p:grpSpPr>
        <p:pic>
          <p:nvPicPr>
            <p:cNvPr id="255" name="Picture 3" descr=""/>
            <p:cNvPicPr/>
            <p:nvPr/>
          </p:nvPicPr>
          <p:blipFill>
            <a:blip r:embed="rId1"/>
            <a:stretch/>
          </p:blipFill>
          <p:spPr>
            <a:xfrm>
              <a:off x="1403280" y="549360"/>
              <a:ext cx="6696000" cy="47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"/>
            <p:cNvSpPr/>
            <p:nvPr/>
          </p:nvSpPr>
          <p:spPr>
            <a:xfrm>
              <a:off x="1403280" y="549360"/>
              <a:ext cx="6696000" cy="47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Text Box 5"/>
          <p:cNvSpPr/>
          <p:nvPr/>
        </p:nvSpPr>
        <p:spPr>
          <a:xfrm>
            <a:off x="4915080" y="1981080"/>
            <a:ext cx="36954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гранитную плит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 свою конфет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, как ты её люби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аласпилс его уби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1"/>
          <p:cNvGrpSpPr/>
          <p:nvPr/>
        </p:nvGrpSpPr>
        <p:grpSpPr>
          <a:xfrm>
            <a:off x="1116000" y="1197000"/>
            <a:ext cx="7542360" cy="4390920"/>
            <a:chOff x="1116000" y="1197000"/>
            <a:chExt cx="7542360" cy="4390920"/>
          </a:xfrm>
        </p:grpSpPr>
        <p:pic>
          <p:nvPicPr>
            <p:cNvPr id="259" name="Picture 2" descr=""/>
            <p:cNvPicPr/>
            <p:nvPr/>
          </p:nvPicPr>
          <p:blipFill>
            <a:blip r:embed="rId1"/>
            <a:stretch/>
          </p:blipFill>
          <p:spPr>
            <a:xfrm>
              <a:off x="1116000" y="1197000"/>
              <a:ext cx="7542360" cy="43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3"/>
            <p:cNvSpPr/>
            <p:nvPr/>
          </p:nvSpPr>
          <p:spPr>
            <a:xfrm>
              <a:off x="1116000" y="1197000"/>
              <a:ext cx="754236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1" name="Rectangle 4"/>
          <p:cNvSpPr/>
          <p:nvPr/>
        </p:nvSpPr>
        <p:spPr>
          <a:xfrm>
            <a:off x="836640" y="6165720"/>
            <a:ext cx="74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мяти детей , погибших в лагерях смерти. Памятник в г.Смоленс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3571920" y="1357200"/>
            <a:ext cx="492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ромный огненный, похожий на большую поганку, ядерный взрыв накрыл города. Рушились дома, чернели деревья, замертво падали люди.  Города превратились в выжженную пустыню и вымерли. Жертвами бомбардировки в Хиросиме были 140 тысяч человек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гасаки – 75 тысяч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3012840" cy="4143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5072040" y="4071960"/>
            <a:ext cx="3675240" cy="24289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265" name="Rectangle 4"/>
          <p:cNvSpPr/>
          <p:nvPr/>
        </p:nvSpPr>
        <p:spPr>
          <a:xfrm>
            <a:off x="39528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>
                <a:solidFill>
                  <a:srgbClr val="66ccff"/>
                </a:solidFill>
                <a:latin typeface="Tahoma"/>
              </a:rPr>
              <a:t>ХИРОСИМА    И       НАГАСА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АСАКИ САДА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780000" y="1484280"/>
            <a:ext cx="48304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Хиросиме жила-была  японская девочка Сасаки Садако. Когда на город  сбросили атомную бомбу,  ей было всего 2 года. Через  10 лет  она заболела тяжелой лучевой болезнью – лейкемией или раком кро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вочка попала в больницу, и , чтобы придать  силы для борьбы с болезнью, она стала делать  белых бумажных журавлик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755640" y="1557360"/>
            <a:ext cx="2590920" cy="4537080"/>
            <a:chOff x="755640" y="1557360"/>
            <a:chExt cx="2590920" cy="4537080"/>
          </a:xfrm>
        </p:grpSpPr>
        <p:pic>
          <p:nvPicPr>
            <p:cNvPr id="269" name="Picture 4" descr=""/>
            <p:cNvPicPr/>
            <p:nvPr/>
          </p:nvPicPr>
          <p:blipFill>
            <a:blip r:embed="rId1"/>
            <a:stretch/>
          </p:blipFill>
          <p:spPr>
            <a:xfrm>
              <a:off x="755640" y="1557360"/>
              <a:ext cx="2590920" cy="45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755640" y="1557360"/>
              <a:ext cx="2590920" cy="45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71" name="Picture 6" descr=""/>
          <p:cNvPicPr/>
          <p:nvPr/>
        </p:nvPicPr>
        <p:blipFill>
          <a:blip r:embed="rId2"/>
          <a:stretch/>
        </p:blipFill>
        <p:spPr>
          <a:xfrm>
            <a:off x="4067280" y="4437000"/>
            <a:ext cx="4093920" cy="2305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4427640" y="981000"/>
            <a:ext cx="418284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…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танет день, и с журавлиной стае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поплыву в такой же сизой мгл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-под небес по-птичьи оклика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х вас, кого оставил на земле…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556000" y="4221000"/>
            <a:ext cx="547200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 algn="ctr"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Архитектурно-парковый символический ансамбль Парк Мира - памятник жертвам Хиросимы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826920" y="765000"/>
            <a:ext cx="3598920" cy="4786560"/>
            <a:chOff x="826920" y="765000"/>
            <a:chExt cx="3598920" cy="4786560"/>
          </a:xfrm>
        </p:grpSpPr>
        <p:pic>
          <p:nvPicPr>
            <p:cNvPr id="276" name="Picture 5" descr="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598920" cy="47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6"/>
            <p:cNvSpPr/>
            <p:nvPr/>
          </p:nvSpPr>
          <p:spPr>
            <a:xfrm>
              <a:off x="826920" y="765000"/>
              <a:ext cx="359892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1066680" y="2444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Родился он и подал голосок-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   как будто он окликнул всю планет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676440" y="1841400"/>
            <a:ext cx="3558960" cy="2527560"/>
            <a:chOff x="676440" y="1841400"/>
            <a:chExt cx="3558960" cy="2527560"/>
          </a:xfrm>
        </p:grpSpPr>
        <p:pic>
          <p:nvPicPr>
            <p:cNvPr id="123" name="Picture 4" descr=""/>
            <p:cNvPicPr/>
            <p:nvPr/>
          </p:nvPicPr>
          <p:blipFill>
            <a:blip r:embed="rId2"/>
            <a:stretch/>
          </p:blipFill>
          <p:spPr>
            <a:xfrm>
              <a:off x="676440" y="1841400"/>
              <a:ext cx="35589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5"/>
            <p:cNvSpPr/>
            <p:nvPr/>
          </p:nvSpPr>
          <p:spPr>
            <a:xfrm>
              <a:off x="676440" y="1841400"/>
              <a:ext cx="355896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4565520" y="1981080"/>
            <a:ext cx="3686400" cy="2278080"/>
            <a:chOff x="4565520" y="1981080"/>
            <a:chExt cx="3686400" cy="2278080"/>
          </a:xfrm>
        </p:grpSpPr>
        <p:pic>
          <p:nvPicPr>
            <p:cNvPr id="126" name="Picture 7" descr=""/>
            <p:cNvPicPr/>
            <p:nvPr/>
          </p:nvPicPr>
          <p:blipFill>
            <a:blip r:embed="rId3"/>
            <a:stretch/>
          </p:blipFill>
          <p:spPr>
            <a:xfrm>
              <a:off x="4565520" y="1981080"/>
              <a:ext cx="368640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4565520" y="1981080"/>
              <a:ext cx="368640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Group 9"/>
          <p:cNvGrpSpPr/>
          <p:nvPr/>
        </p:nvGrpSpPr>
        <p:grpSpPr>
          <a:xfrm>
            <a:off x="4352760" y="4206960"/>
            <a:ext cx="3467160" cy="2216160"/>
            <a:chOff x="4352760" y="4206960"/>
            <a:chExt cx="3467160" cy="2216160"/>
          </a:xfrm>
        </p:grpSpPr>
        <p:pic>
          <p:nvPicPr>
            <p:cNvPr id="129" name="Picture 10" descr=""/>
            <p:cNvPicPr/>
            <p:nvPr/>
          </p:nvPicPr>
          <p:blipFill>
            <a:blip r:embed="rId4"/>
            <a:stretch/>
          </p:blipFill>
          <p:spPr>
            <a:xfrm>
              <a:off x="4352760" y="4206960"/>
              <a:ext cx="346716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1"/>
            <p:cNvSpPr/>
            <p:nvPr/>
          </p:nvSpPr>
          <p:spPr>
            <a:xfrm>
              <a:off x="4352760" y="4206960"/>
              <a:ext cx="3467160" cy="22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1" name="Group 12"/>
          <p:cNvGrpSpPr/>
          <p:nvPr/>
        </p:nvGrpSpPr>
        <p:grpSpPr>
          <a:xfrm>
            <a:off x="1187280" y="4292640"/>
            <a:ext cx="2665440" cy="2374920"/>
            <a:chOff x="1187280" y="4292640"/>
            <a:chExt cx="2665440" cy="2374920"/>
          </a:xfrm>
        </p:grpSpPr>
        <p:pic>
          <p:nvPicPr>
            <p:cNvPr id="132" name="Picture 13" descr=""/>
            <p:cNvPicPr/>
            <p:nvPr/>
          </p:nvPicPr>
          <p:blipFill>
            <a:blip r:embed="rId5"/>
            <a:stretch/>
          </p:blipFill>
          <p:spPr>
            <a:xfrm>
              <a:off x="1187280" y="4292640"/>
              <a:ext cx="2665440" cy="23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1187280" y="4292640"/>
              <a:ext cx="266544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357120" y="4507200"/>
            <a:ext cx="6143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истер Советский Президент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10 лет.  Я обеспокоена, будет ли вой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 за войну или нет? Если вы против, пожалуйста, напишите, как вы собираетес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допустить войну?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928960" y="1285920"/>
            <a:ext cx="5929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83 год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дноэтажном домике на окраине города Манчестера (штат Мэн) вместе с родителями жила-была американская 10-летняя девочка Саманта  Смит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 как девочка. Но однажды она узнала про то, что если на ее город упадет атомная бомба, то все погибнет вокруг, а жиз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новит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да она решила написа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ьмо в Москв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2014200" cy="3162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6643800" y="3357720"/>
            <a:ext cx="2031840" cy="30146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282" name="Rectangle 5"/>
          <p:cNvSpPr/>
          <p:nvPr/>
        </p:nvSpPr>
        <p:spPr>
          <a:xfrm>
            <a:off x="1187280" y="40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5caa9"/>
                </a:solidFill>
                <a:latin typeface="Tahoma"/>
              </a:rPr>
              <a:t>САМАНТА        СМИ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428760" y="781200"/>
            <a:ext cx="84294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дравствуй, дорогая Саманта!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е кажется, что ты смелая и чест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очка, похожая на Беки, подружку Тома Сойер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й вопрос – самый главный. Отвечу на н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но и серьезно. Советские дети хорош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ют, сколь ужасна и разрушительна война…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Америки и у на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ядерное оружие 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шное оружие, которое может в один миг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убить миллионы людей. Но мы не хотим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бы оно было пущено в ход. Мы предлаг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тить его дальнейшее производств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риступить к уничтожению всех его запас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емл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 хотим мира для себя и для всех народ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еты. Для своих детей и для тебя,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анта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6429240" y="571680"/>
            <a:ext cx="2230560" cy="3009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571680" y="3286080"/>
            <a:ext cx="2357280" cy="315756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286" name="Rectangle 4"/>
          <p:cNvSpPr/>
          <p:nvPr/>
        </p:nvSpPr>
        <p:spPr>
          <a:xfrm>
            <a:off x="1403280" y="189000"/>
            <a:ext cx="37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20 век …Век, в котором остались и дикая война, и великая победа. И памятники по всей России, всему миру, и безымянные моги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Group 2"/>
          <p:cNvGrpSpPr/>
          <p:nvPr/>
        </p:nvGrpSpPr>
        <p:grpSpPr>
          <a:xfrm>
            <a:off x="1571760" y="1571760"/>
            <a:ext cx="1641240" cy="2070000"/>
            <a:chOff x="1571760" y="1571760"/>
            <a:chExt cx="1641240" cy="2070000"/>
          </a:xfrm>
        </p:grpSpPr>
        <p:pic>
          <p:nvPicPr>
            <p:cNvPr id="289" name="Picture 3" descr=""/>
            <p:cNvPicPr/>
            <p:nvPr/>
          </p:nvPicPr>
          <p:blipFill>
            <a:blip r:embed="rId1"/>
            <a:stretch/>
          </p:blipFill>
          <p:spPr>
            <a:xfrm>
              <a:off x="1571760" y="1571760"/>
              <a:ext cx="164124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"/>
            <p:cNvSpPr/>
            <p:nvPr/>
          </p:nvSpPr>
          <p:spPr>
            <a:xfrm>
              <a:off x="1571760" y="1571760"/>
              <a:ext cx="164124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1" name="Group 5"/>
          <p:cNvGrpSpPr/>
          <p:nvPr/>
        </p:nvGrpSpPr>
        <p:grpSpPr>
          <a:xfrm>
            <a:off x="4857840" y="1500120"/>
            <a:ext cx="2158920" cy="2548080"/>
            <a:chOff x="4857840" y="1500120"/>
            <a:chExt cx="2158920" cy="2548080"/>
          </a:xfrm>
        </p:grpSpPr>
        <p:pic>
          <p:nvPicPr>
            <p:cNvPr id="292" name="Picture 6" descr=""/>
            <p:cNvPicPr/>
            <p:nvPr/>
          </p:nvPicPr>
          <p:blipFill>
            <a:blip r:embed="rId2"/>
            <a:stretch/>
          </p:blipFill>
          <p:spPr>
            <a:xfrm>
              <a:off x="4857840" y="1500120"/>
              <a:ext cx="2158920" cy="25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7"/>
            <p:cNvSpPr/>
            <p:nvPr/>
          </p:nvSpPr>
          <p:spPr>
            <a:xfrm>
              <a:off x="4857840" y="1500120"/>
              <a:ext cx="2158920" cy="25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Group 8"/>
          <p:cNvGrpSpPr/>
          <p:nvPr/>
        </p:nvGrpSpPr>
        <p:grpSpPr>
          <a:xfrm>
            <a:off x="2000160" y="4429080"/>
            <a:ext cx="1855800" cy="2232000"/>
            <a:chOff x="2000160" y="4429080"/>
            <a:chExt cx="1855800" cy="2232000"/>
          </a:xfrm>
        </p:grpSpPr>
        <p:pic>
          <p:nvPicPr>
            <p:cNvPr id="295" name="Picture 9" descr=""/>
            <p:cNvPicPr/>
            <p:nvPr/>
          </p:nvPicPr>
          <p:blipFill>
            <a:blip r:embed="rId3"/>
            <a:stretch/>
          </p:blipFill>
          <p:spPr>
            <a:xfrm>
              <a:off x="2000160" y="4429080"/>
              <a:ext cx="1855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10"/>
            <p:cNvSpPr/>
            <p:nvPr/>
          </p:nvSpPr>
          <p:spPr>
            <a:xfrm>
              <a:off x="2000160" y="4429080"/>
              <a:ext cx="18558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97" name="Picture 11" descr=""/>
          <p:cNvPicPr/>
          <p:nvPr/>
        </p:nvPicPr>
        <p:blipFill>
          <a:blip r:embed="rId4"/>
          <a:stretch/>
        </p:blipFill>
        <p:spPr>
          <a:xfrm>
            <a:off x="7715160" y="5734080"/>
            <a:ext cx="1224000" cy="11239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12"/>
          <p:cNvGrpSpPr/>
          <p:nvPr/>
        </p:nvGrpSpPr>
        <p:grpSpPr>
          <a:xfrm>
            <a:off x="5429160" y="4143240"/>
            <a:ext cx="1898640" cy="2284560"/>
            <a:chOff x="5429160" y="4143240"/>
            <a:chExt cx="1898640" cy="2284560"/>
          </a:xfrm>
        </p:grpSpPr>
        <p:pic>
          <p:nvPicPr>
            <p:cNvPr id="299" name="Picture 13" descr=""/>
            <p:cNvPicPr/>
            <p:nvPr/>
          </p:nvPicPr>
          <p:blipFill>
            <a:blip r:embed="rId5"/>
            <a:stretch/>
          </p:blipFill>
          <p:spPr>
            <a:xfrm>
              <a:off x="5429160" y="4143240"/>
              <a:ext cx="189864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4"/>
            <p:cNvSpPr/>
            <p:nvPr/>
          </p:nvSpPr>
          <p:spPr>
            <a:xfrm>
              <a:off x="5429160" y="4143240"/>
              <a:ext cx="189864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1" name="Rectangle 15"/>
          <p:cNvSpPr/>
          <p:nvPr/>
        </p:nvSpPr>
        <p:spPr>
          <a:xfrm>
            <a:off x="1403280" y="3716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амятник Алёше в Болга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7072200" y="2643120"/>
            <a:ext cx="18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птов –парк в Берлине – памятник советскому солдат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1214280" y="595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аты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4286160" y="5143680"/>
            <a:ext cx="3094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мятник Геро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етского Союза –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влу Стефанович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узуб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066680" y="244440"/>
            <a:ext cx="754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Нет ничего дороже на Земле,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Monotype Corsiva"/>
              </a:rPr>
              <a:t>                                чем улыбка реб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255680" y="1695600"/>
            <a:ext cx="6564240" cy="4617720"/>
            <a:chOff x="1255680" y="1695600"/>
            <a:chExt cx="6564240" cy="461772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255680" y="1695600"/>
              <a:ext cx="6564240" cy="46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255680" y="1695600"/>
              <a:ext cx="6564240" cy="46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22 июня 1941 г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900000" y="1916280"/>
            <a:ext cx="3456000" cy="3382920"/>
            <a:chOff x="900000" y="1916280"/>
            <a:chExt cx="3456000" cy="3382920"/>
          </a:xfrm>
        </p:grpSpPr>
        <p:pic>
          <p:nvPicPr>
            <p:cNvPr id="140" name="Picture 3" descr="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345600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4"/>
            <p:cNvSpPr/>
            <p:nvPr/>
          </p:nvSpPr>
          <p:spPr>
            <a:xfrm>
              <a:off x="900000" y="1916280"/>
              <a:ext cx="3456000" cy="33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4857840" y="1714680"/>
            <a:ext cx="3603600" cy="3530520"/>
            <a:chOff x="4857840" y="1714680"/>
            <a:chExt cx="3603600" cy="3530520"/>
          </a:xfrm>
        </p:grpSpPr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4857840" y="1714680"/>
              <a:ext cx="3603600" cy="35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7"/>
            <p:cNvSpPr/>
            <p:nvPr/>
          </p:nvSpPr>
          <p:spPr>
            <a:xfrm>
              <a:off x="4857840" y="1714680"/>
              <a:ext cx="3603600" cy="35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5" name="Rectangle 8"/>
          <p:cNvSpPr/>
          <p:nvPr/>
        </p:nvSpPr>
        <p:spPr>
          <a:xfrm>
            <a:off x="900000" y="537372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b6b8fc"/>
                </a:solidFill>
                <a:latin typeface="Tahoma"/>
              </a:rPr>
              <a:t>Фашистские захватчики вероломно напали на советское государ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066680" y="316080"/>
            <a:ext cx="74455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84360" y="1052640"/>
            <a:ext cx="407808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скресным утром тысячи мальчиков и девочек со своими родителями в страхе и ужасе бежали из своих домов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3"/>
          <p:cNvGrpSpPr/>
          <p:nvPr/>
        </p:nvGrpSpPr>
        <p:grpSpPr>
          <a:xfrm>
            <a:off x="5003640" y="620640"/>
            <a:ext cx="3598920" cy="4172040"/>
            <a:chOff x="5003640" y="620640"/>
            <a:chExt cx="3598920" cy="4172040"/>
          </a:xfrm>
        </p:grpSpPr>
        <p:pic>
          <p:nvPicPr>
            <p:cNvPr id="149" name="Picture 4" descr=""/>
            <p:cNvPicPr/>
            <p:nvPr/>
          </p:nvPicPr>
          <p:blipFill>
            <a:blip r:embed="rId1"/>
            <a:stretch/>
          </p:blipFill>
          <p:spPr>
            <a:xfrm>
              <a:off x="5003640" y="620640"/>
              <a:ext cx="359892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5"/>
            <p:cNvSpPr/>
            <p:nvPr/>
          </p:nvSpPr>
          <p:spPr>
            <a:xfrm>
              <a:off x="5003640" y="620640"/>
              <a:ext cx="3598920" cy="41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2340000" y="4005360"/>
            <a:ext cx="4100400" cy="2662200"/>
            <a:chOff x="2340000" y="4005360"/>
            <a:chExt cx="4100400" cy="2662200"/>
          </a:xfrm>
        </p:grpSpPr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2340000" y="4005360"/>
              <a:ext cx="4100400" cy="26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8"/>
            <p:cNvSpPr/>
            <p:nvPr/>
          </p:nvSpPr>
          <p:spPr>
            <a:xfrm>
              <a:off x="2340000" y="4005360"/>
              <a:ext cx="410040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"/>
          <p:cNvGrpSpPr/>
          <p:nvPr/>
        </p:nvGrpSpPr>
        <p:grpSpPr>
          <a:xfrm>
            <a:off x="2195640" y="1989000"/>
            <a:ext cx="5759280" cy="4105440"/>
            <a:chOff x="2195640" y="1989000"/>
            <a:chExt cx="5759280" cy="4105440"/>
          </a:xfrm>
        </p:grpSpPr>
        <p:pic>
          <p:nvPicPr>
            <p:cNvPr id="155" name="Picture 2" descr=""/>
            <p:cNvPicPr/>
            <p:nvPr/>
          </p:nvPicPr>
          <p:blipFill>
            <a:blip r:embed="rId1"/>
            <a:stretch/>
          </p:blipFill>
          <p:spPr>
            <a:xfrm>
              <a:off x="2195640" y="1989000"/>
              <a:ext cx="5759280" cy="41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3"/>
            <p:cNvSpPr/>
            <p:nvPr/>
          </p:nvSpPr>
          <p:spPr>
            <a:xfrm>
              <a:off x="2195640" y="1989000"/>
              <a:ext cx="5759280" cy="41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7" name="Rectangle 4"/>
          <p:cNvSpPr/>
          <p:nvPr/>
        </p:nvSpPr>
        <p:spPr>
          <a:xfrm>
            <a:off x="971640" y="3333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ТЯ   ЧЕРЕВИЧК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виг героя увековеч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мять о нём живет и поны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116000" y="836640"/>
            <a:ext cx="3814920" cy="5398920"/>
            <a:chOff x="1116000" y="836640"/>
            <a:chExt cx="3814920" cy="5398920"/>
          </a:xfrm>
        </p:grpSpPr>
        <p:pic>
          <p:nvPicPr>
            <p:cNvPr id="161" name="Picture 4" descr=""/>
            <p:cNvPicPr/>
            <p:nvPr/>
          </p:nvPicPr>
          <p:blipFill>
            <a:blip r:embed="rId1"/>
            <a:stretch/>
          </p:blipFill>
          <p:spPr>
            <a:xfrm>
              <a:off x="1116000" y="836640"/>
              <a:ext cx="381492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116000" y="836640"/>
              <a:ext cx="3814920" cy="53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Их имена и в 21 веке сияют звездами на мирном не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2"/>
          <p:cNvGrpSpPr/>
          <p:nvPr/>
        </p:nvGrpSpPr>
        <p:grpSpPr>
          <a:xfrm>
            <a:off x="1928880" y="1714680"/>
            <a:ext cx="2020680" cy="1869840"/>
            <a:chOff x="1928880" y="1714680"/>
            <a:chExt cx="2020680" cy="1869840"/>
          </a:xfrm>
        </p:grpSpPr>
        <p:pic>
          <p:nvPicPr>
            <p:cNvPr id="165" name="Picture 3" descr=""/>
            <p:cNvPicPr/>
            <p:nvPr/>
          </p:nvPicPr>
          <p:blipFill>
            <a:blip r:embed="rId1"/>
            <a:stretch/>
          </p:blipFill>
          <p:spPr>
            <a:xfrm>
              <a:off x="1928880" y="1714680"/>
              <a:ext cx="2020680" cy="18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"/>
            <p:cNvSpPr/>
            <p:nvPr/>
          </p:nvSpPr>
          <p:spPr>
            <a:xfrm>
              <a:off x="1928880" y="1714680"/>
              <a:ext cx="202068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Rectangle 5"/>
          <p:cNvSpPr/>
          <p:nvPr/>
        </p:nvSpPr>
        <p:spPr>
          <a:xfrm>
            <a:off x="1714680" y="3643200"/>
            <a:ext cx="20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онид Гол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5143680" y="1643040"/>
            <a:ext cx="1920600" cy="1940040"/>
            <a:chOff x="5143680" y="1643040"/>
            <a:chExt cx="1920600" cy="1940040"/>
          </a:xfrm>
        </p:grpSpPr>
        <p:pic>
          <p:nvPicPr>
            <p:cNvPr id="169" name="Picture 7" descr=""/>
            <p:cNvPicPr/>
            <p:nvPr/>
          </p:nvPicPr>
          <p:blipFill>
            <a:blip r:embed="rId2"/>
            <a:stretch/>
          </p:blipFill>
          <p:spPr>
            <a:xfrm>
              <a:off x="5143680" y="1643040"/>
              <a:ext cx="192060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8"/>
            <p:cNvSpPr/>
            <p:nvPr/>
          </p:nvSpPr>
          <p:spPr>
            <a:xfrm>
              <a:off x="5143680" y="1643040"/>
              <a:ext cx="192060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1" name="Rectangle 9"/>
          <p:cNvSpPr/>
          <p:nvPr/>
        </p:nvSpPr>
        <p:spPr>
          <a:xfrm>
            <a:off x="5500800" y="3714840"/>
            <a:ext cx="20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ина Порт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1928880" y="4143240"/>
            <a:ext cx="2092320" cy="2063880"/>
            <a:chOff x="1928880" y="4143240"/>
            <a:chExt cx="2092320" cy="2063880"/>
          </a:xfrm>
        </p:grpSpPr>
        <p:pic>
          <p:nvPicPr>
            <p:cNvPr id="173" name="Picture 11" descr=""/>
            <p:cNvPicPr/>
            <p:nvPr/>
          </p:nvPicPr>
          <p:blipFill>
            <a:blip r:embed="rId3"/>
            <a:stretch/>
          </p:blipFill>
          <p:spPr>
            <a:xfrm>
              <a:off x="1928880" y="4143240"/>
              <a:ext cx="20923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2"/>
            <p:cNvSpPr/>
            <p:nvPr/>
          </p:nvSpPr>
          <p:spPr>
            <a:xfrm>
              <a:off x="1928880" y="4143240"/>
              <a:ext cx="20923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5" name="Rectangle 13"/>
          <p:cNvSpPr/>
          <p:nvPr/>
        </p:nvSpPr>
        <p:spPr>
          <a:xfrm>
            <a:off x="1692360" y="6286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лентин Ко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6" name="Group 14"/>
          <p:cNvGrpSpPr/>
          <p:nvPr/>
        </p:nvGrpSpPr>
        <p:grpSpPr>
          <a:xfrm>
            <a:off x="5072040" y="4221000"/>
            <a:ext cx="2212920" cy="2063880"/>
            <a:chOff x="5072040" y="4221000"/>
            <a:chExt cx="2212920" cy="2063880"/>
          </a:xfrm>
        </p:grpSpPr>
        <p:pic>
          <p:nvPicPr>
            <p:cNvPr id="177" name="Picture 15" descr=""/>
            <p:cNvPicPr/>
            <p:nvPr/>
          </p:nvPicPr>
          <p:blipFill>
            <a:blip r:embed="rId4"/>
            <a:stretch/>
          </p:blipFill>
          <p:spPr>
            <a:xfrm>
              <a:off x="5072040" y="4221000"/>
              <a:ext cx="221292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6"/>
            <p:cNvSpPr/>
            <p:nvPr/>
          </p:nvSpPr>
          <p:spPr>
            <a:xfrm>
              <a:off x="5072040" y="4221000"/>
              <a:ext cx="22129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Rectangle 17"/>
          <p:cNvSpPr/>
          <p:nvPr/>
        </p:nvSpPr>
        <p:spPr>
          <a:xfrm>
            <a:off x="5796000" y="62388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ара Михее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Пионеры - геро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1" name="Group 2"/>
          <p:cNvGrpSpPr/>
          <p:nvPr/>
        </p:nvGrpSpPr>
        <p:grpSpPr>
          <a:xfrm>
            <a:off x="1332000" y="1413000"/>
            <a:ext cx="2166840" cy="2157120"/>
            <a:chOff x="1332000" y="1413000"/>
            <a:chExt cx="2166840" cy="2157120"/>
          </a:xfrm>
        </p:grpSpPr>
        <p:pic>
          <p:nvPicPr>
            <p:cNvPr id="182" name="Picture 3" descr=""/>
            <p:cNvPicPr/>
            <p:nvPr/>
          </p:nvPicPr>
          <p:blipFill>
            <a:blip r:embed="rId1"/>
            <a:stretch/>
          </p:blipFill>
          <p:spPr>
            <a:xfrm>
              <a:off x="1332000" y="1413000"/>
              <a:ext cx="21668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4"/>
            <p:cNvSpPr/>
            <p:nvPr/>
          </p:nvSpPr>
          <p:spPr>
            <a:xfrm>
              <a:off x="1332000" y="1413000"/>
              <a:ext cx="216684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4" name="Rectangle 5"/>
          <p:cNvSpPr/>
          <p:nvPr/>
        </p:nvSpPr>
        <p:spPr>
          <a:xfrm>
            <a:off x="2050920" y="357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364000" y="1484280"/>
            <a:ext cx="2159280" cy="2157480"/>
            <a:chOff x="5364000" y="1484280"/>
            <a:chExt cx="2159280" cy="2157480"/>
          </a:xfrm>
        </p:grpSpPr>
        <p:pic>
          <p:nvPicPr>
            <p:cNvPr id="186" name="Picture 7" descr=""/>
            <p:cNvPicPr/>
            <p:nvPr/>
          </p:nvPicPr>
          <p:blipFill>
            <a:blip r:embed="rId2"/>
            <a:stretch/>
          </p:blipFill>
          <p:spPr>
            <a:xfrm>
              <a:off x="5364000" y="1484280"/>
              <a:ext cx="215928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 Box 8"/>
            <p:cNvSpPr/>
            <p:nvPr/>
          </p:nvSpPr>
          <p:spPr>
            <a:xfrm>
              <a:off x="5364000" y="1484280"/>
              <a:ext cx="215928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Rectangle 9"/>
          <p:cNvSpPr/>
          <p:nvPr/>
        </p:nvSpPr>
        <p:spPr>
          <a:xfrm>
            <a:off x="5940360" y="35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лодя Дубин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1692360" y="4005360"/>
            <a:ext cx="2301840" cy="2208240"/>
            <a:chOff x="1692360" y="4005360"/>
            <a:chExt cx="2301840" cy="2208240"/>
          </a:xfrm>
        </p:grpSpPr>
        <p:pic>
          <p:nvPicPr>
            <p:cNvPr id="190" name="Picture 11" descr=""/>
            <p:cNvPicPr/>
            <p:nvPr/>
          </p:nvPicPr>
          <p:blipFill>
            <a:blip r:embed="rId3"/>
            <a:stretch/>
          </p:blipFill>
          <p:spPr>
            <a:xfrm>
              <a:off x="1692360" y="4005360"/>
              <a:ext cx="230184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12"/>
            <p:cNvSpPr/>
            <p:nvPr/>
          </p:nvSpPr>
          <p:spPr>
            <a:xfrm>
              <a:off x="1692360" y="4005360"/>
              <a:ext cx="2301840" cy="22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Rectangle 13"/>
          <p:cNvSpPr/>
          <p:nvPr/>
        </p:nvSpPr>
        <p:spPr>
          <a:xfrm>
            <a:off x="1908000" y="61437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та Бондарен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5724360" y="4005360"/>
            <a:ext cx="2303640" cy="2136600"/>
            <a:chOff x="5724360" y="4005360"/>
            <a:chExt cx="2303640" cy="2136600"/>
          </a:xfrm>
        </p:grpSpPr>
        <p:pic>
          <p:nvPicPr>
            <p:cNvPr id="194" name="Picture 15" descr=""/>
            <p:cNvPicPr/>
            <p:nvPr/>
          </p:nvPicPr>
          <p:blipFill>
            <a:blip r:embed="rId4"/>
            <a:stretch/>
          </p:blipFill>
          <p:spPr>
            <a:xfrm>
              <a:off x="5724360" y="4005360"/>
              <a:ext cx="230364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16"/>
            <p:cNvSpPr/>
            <p:nvPr/>
          </p:nvSpPr>
          <p:spPr>
            <a:xfrm>
              <a:off x="5724360" y="4005360"/>
              <a:ext cx="2303640" cy="21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6" name="Rectangle 17"/>
          <p:cNvSpPr/>
          <p:nvPr/>
        </p:nvSpPr>
        <p:spPr>
          <a:xfrm>
            <a:off x="5724360" y="60721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ина Куковер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delay="0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6:02Z</dcterms:created>
  <dc:creator>Владелец</dc:creator>
  <dc:description/>
  <dc:language>en-US</dc:language>
  <cp:lastModifiedBy>Татьяна</cp:lastModifiedBy>
  <dcterms:modified xsi:type="dcterms:W3CDTF">2013-04-16T21:18:28Z</dcterms:modified>
  <cp:revision>90</cp:revision>
  <dc:subject/>
  <dc:title>Слайд 1</dc:title>
</cp:coreProperties>
</file>