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3.jpeg" ContentType="image/jpeg"/>
  <Override PartName="/ppt/media/image18.gif" ContentType="image/gi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21.png" ContentType="image/png"/>
  <Override PartName="/ppt/media/image19.gif" ContentType="image/gif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2.gif" ContentType="image/gif"/>
  <Override PartName="/ppt/media/image5.gif" ContentType="image/gif"/>
  <Override PartName="/ppt/media/image1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B1585-C080-4681-A642-E5A5EAACA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10A81-AC38-4C87-B698-AD0726DCE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93C1B-FDC0-4C28-9C04-33C70BD21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4D6CD-B178-4DC0-B7F8-05B6CB4F7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F31BF-E3D7-40A7-A16F-FACBDEF2B3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144FD-924A-4AB0-B5C7-1418C1AAE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5A8E37-0F34-437F-84BE-C8E51CE6B2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БЕС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947B5-279A-470D-B91D-8CA3CFABE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645D-58A1-4ADC-BBC9-1B94B2880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432CB-01A7-4D8E-981E-51A212227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0A01-203B-42DA-9908-55701E888E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408C-3144-427C-A8CD-5E8478530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66C2-5671-44AE-B49A-A4A799BDE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8398-536E-4503-BCFD-3E2C2AA4B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108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384440"/>
            <a:ext cx="24285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1CA8-69E9-4BCF-A2B0-247E4BC42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8494-317B-48B7-9D2A-3CEFFF85C8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3F1F-9C1A-49C6-B199-B85FC469C8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B5E2-C7D2-4E9D-A1F0-6D8839500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6989-A591-4F16-8BB6-EB07824BD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-32040"/>
            <a:ext cx="7542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A6A7-6211-4228-96D3-F2E938F83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018D-211D-475E-A578-F5CC91D61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38444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D0AC-9D87-469A-BC37-CD22BE173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1080"/>
            <a:ext cx="36806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384440"/>
            <a:ext cx="754236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7006-D16C-47E2-B72C-6DE8564F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6480"/>
            <a:ext cx="9139320" cy="6850080"/>
            <a:chOff x="0" y="6480"/>
            <a:chExt cx="9139320" cy="6850080"/>
          </a:xfrm>
        </p:grpSpPr>
        <p:sp>
          <p:nvSpPr>
            <p:cNvPr id="1" name="AutoShape 2"/>
            <p:cNvSpPr/>
            <p:nvPr/>
          </p:nvSpPr>
          <p:spPr>
            <a:xfrm>
              <a:off x="885960" y="1843200"/>
              <a:ext cx="8253360" cy="5013360"/>
            </a:xfrm>
            <a:custGeom>
              <a:avLst/>
              <a:gdLst>
                <a:gd name="textAreaLeft" fmla="*/ 0 w 8253360"/>
                <a:gd name="textAreaRight" fmla="*/ 8253720 w 82533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1843200"/>
              <a:ext cx="884160" cy="5013360"/>
            </a:xfrm>
            <a:custGeom>
              <a:avLst/>
              <a:gdLst>
                <a:gd name="textAreaLeft" fmla="*/ 0 w 884160"/>
                <a:gd name="textAreaRight" fmla="*/ 884520 w 884160"/>
                <a:gd name="textAreaTop" fmla="*/ 0 h 5013360"/>
                <a:gd name="textAreaBottom" fmla="*/ 5013720 h 501336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4"/>
            <p:cNvGrpSpPr/>
            <p:nvPr/>
          </p:nvGrpSpPr>
          <p:grpSpPr>
            <a:xfrm>
              <a:off x="0" y="6480"/>
              <a:ext cx="9139320" cy="6850080"/>
              <a:chOff x="0" y="6480"/>
              <a:chExt cx="9139320" cy="6850080"/>
            </a:xfrm>
          </p:grpSpPr>
          <p:sp>
            <p:nvSpPr>
              <p:cNvPr id="4" name="AutoShape 5"/>
              <p:cNvSpPr/>
              <p:nvPr/>
            </p:nvSpPr>
            <p:spPr>
              <a:xfrm>
                <a:off x="876240" y="6480"/>
                <a:ext cx="17640" cy="11016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101600"/>
                  <a:gd name="textAreaBottom" fmla="*/ 1101600 h 110160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876240" y="2576520"/>
                <a:ext cx="17640" cy="42800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80040"/>
                  <a:gd name="textAreaBottom" fmla="*/ 4280040 h 428004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1617840" y="1833480"/>
                <a:ext cx="7521480" cy="17640"/>
              </a:xfrm>
              <a:custGeom>
                <a:avLst/>
                <a:gdLst>
                  <a:gd name="textAreaLeft" fmla="*/ 0 w 7521480"/>
                  <a:gd name="textAreaRight" fmla="*/ 7521840 w 7521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876240" y="217656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AutoShape 9"/>
              <p:cNvSpPr/>
              <p:nvPr/>
            </p:nvSpPr>
            <p:spPr>
              <a:xfrm>
                <a:off x="876240" y="1109520"/>
                <a:ext cx="17640" cy="398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>
                <a:off x="876240" y="1509840"/>
                <a:ext cx="17640" cy="6649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>
                <a:off x="0" y="1833480"/>
                <a:ext cx="555480" cy="17640"/>
              </a:xfrm>
              <a:custGeom>
                <a:avLst/>
                <a:gdLst>
                  <a:gd name="textAreaLeft" fmla="*/ 0 w 555480"/>
                  <a:gd name="textAreaRight" fmla="*/ 555840 w 555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>
                <a:off x="1217520" y="1833480"/>
                <a:ext cx="398520" cy="1764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>
                <a:off x="552600" y="1833480"/>
                <a:ext cx="663480" cy="17640"/>
              </a:xfrm>
              <a:custGeom>
                <a:avLst/>
                <a:gdLst>
                  <a:gd name="textAreaLeft" fmla="*/ 0 w 663480"/>
                  <a:gd name="textAreaRight" fmla="*/ 663840 w 6634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-32040"/>
            <a:ext cx="7542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236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Text Box 17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sldNum" idx="1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4412F3-47D8-49EA-8C8E-589CC1050481}" type="slidenum">
              <a:rPr b="0" lang="ru-R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5219640" y="1268280"/>
            <a:ext cx="3281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 декабря 1994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раницу Чечни пересекли федеральные войска и начались военные действия, официально именуемые «наведением конституционного порядка», сопровождавшиеся большими жертв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6431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3492360" y="4292640"/>
            <a:ext cx="1656000" cy="235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3097440" cy="32860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868480" cy="380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187280" y="4724280"/>
            <a:ext cx="1409760" cy="16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132000" y="1268280"/>
            <a:ext cx="2802240" cy="360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4"/>
          <a:stretch/>
        </p:blipFill>
        <p:spPr>
          <a:xfrm>
            <a:off x="5867280" y="1916280"/>
            <a:ext cx="2944800" cy="39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3600360" cy="456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358040" y="5072040"/>
            <a:ext cx="1785960" cy="1552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5364000" y="1125360"/>
            <a:ext cx="28083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м бы жизни радоваться, цветы девушкам дарить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 их на войну, под пули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БЕСЛАН. 1 СЕНТЯБРЯ 200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611280" y="2133720"/>
            <a:ext cx="4174920" cy="3289320"/>
            <a:chOff x="611280" y="2133720"/>
            <a:chExt cx="4174920" cy="328932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611280" y="2133720"/>
              <a:ext cx="4174920" cy="32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611280" y="2133720"/>
              <a:ext cx="4174920" cy="32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7" name="Group 5"/>
          <p:cNvGrpSpPr/>
          <p:nvPr/>
        </p:nvGrpSpPr>
        <p:grpSpPr>
          <a:xfrm>
            <a:off x="4915080" y="3573360"/>
            <a:ext cx="4047840" cy="2878200"/>
            <a:chOff x="4915080" y="3573360"/>
            <a:chExt cx="4047840" cy="287820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4915080" y="3573360"/>
              <a:ext cx="404784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4915080" y="3573360"/>
              <a:ext cx="404784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3071880" y="1143000"/>
            <a:ext cx="5857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нтябрь 2004 г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в парадной форме с цветами и их близкие собирались на линейку, посвященную началу учебного года. В это время на территорию школы №1 ворвалась вооруженная банда. Она  захватила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е 1300 дет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зрослых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2920" y="5000760"/>
            <a:ext cx="60008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1 по 3 сентября они сидели  на полу в спортивном зале без воды и еды. Школа была заминирован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…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сегодняшний день установлено 394 человека, погибш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8960" y="1285920"/>
            <a:ext cx="2614680" cy="1928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143080" y="2928960"/>
            <a:ext cx="4565520" cy="18572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6286680" y="4606920"/>
            <a:ext cx="2571480" cy="1932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</p:pic>
      <p:sp>
        <p:nvSpPr>
          <p:cNvPr id="85" name="Rectangle 6"/>
          <p:cNvSpPr/>
          <p:nvPr/>
        </p:nvSpPr>
        <p:spPr>
          <a:xfrm>
            <a:off x="1476360" y="33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СЛ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Зло, совершаемое в мире,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       не позволило им жить на Зем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" name="Group 2"/>
          <p:cNvGrpSpPr/>
          <p:nvPr/>
        </p:nvGrpSpPr>
        <p:grpSpPr>
          <a:xfrm>
            <a:off x="4500720" y="4149720"/>
            <a:ext cx="4246560" cy="2490840"/>
            <a:chOff x="4500720" y="4149720"/>
            <a:chExt cx="4246560" cy="249084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4500720" y="4149720"/>
              <a:ext cx="424656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4"/>
            <p:cNvSpPr/>
            <p:nvPr/>
          </p:nvSpPr>
          <p:spPr>
            <a:xfrm>
              <a:off x="4500720" y="4149720"/>
              <a:ext cx="4246560" cy="24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1042920" y="1916280"/>
            <a:ext cx="4390920" cy="2519280"/>
            <a:chOff x="1042920" y="1916280"/>
            <a:chExt cx="4390920" cy="2519280"/>
          </a:xfrm>
        </p:grpSpPr>
        <p:pic>
          <p:nvPicPr>
            <p:cNvPr id="91" name="Picture 6" descr=""/>
            <p:cNvPicPr/>
            <p:nvPr/>
          </p:nvPicPr>
          <p:blipFill>
            <a:blip r:embed="rId2"/>
            <a:stretch/>
          </p:blipFill>
          <p:spPr>
            <a:xfrm>
              <a:off x="1042920" y="1916280"/>
              <a:ext cx="43909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7"/>
            <p:cNvSpPr/>
            <p:nvPr/>
          </p:nvSpPr>
          <p:spPr>
            <a:xfrm>
              <a:off x="1042920" y="1916280"/>
              <a:ext cx="439092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Text Box 8"/>
          <p:cNvSpPr/>
          <p:nvPr/>
        </p:nvSpPr>
        <p:spPr>
          <a:xfrm>
            <a:off x="5148360" y="4076640"/>
            <a:ext cx="3695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1403280" y="5157720"/>
            <a:ext cx="1408320" cy="1189080"/>
            <a:chOff x="1403280" y="5157720"/>
            <a:chExt cx="1408320" cy="1189080"/>
          </a:xfrm>
        </p:grpSpPr>
        <p:pic>
          <p:nvPicPr>
            <p:cNvPr id="95" name="Picture 10" descr=""/>
            <p:cNvPicPr/>
            <p:nvPr/>
          </p:nvPicPr>
          <p:blipFill>
            <a:blip r:embed="rId3"/>
            <a:stretch/>
          </p:blipFill>
          <p:spPr>
            <a:xfrm>
              <a:off x="1403280" y="5157720"/>
              <a:ext cx="14083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1"/>
            <p:cNvSpPr/>
            <p:nvPr/>
          </p:nvSpPr>
          <p:spPr>
            <a:xfrm>
              <a:off x="1403280" y="5157720"/>
              <a:ext cx="14083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1000080" y="21420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все хотим, чтобы малень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рана дет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ла счастлив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4851360" cy="458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357120"/>
            <a:ext cx="207180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2706840" y="2992320"/>
            <a:ext cx="3584520" cy="2944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642960" y="142920"/>
            <a:ext cx="8047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е вмест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ожем   и  должны   сохрани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127240" y="2408400"/>
            <a:ext cx="4822920" cy="3541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428760" y="285840"/>
            <a:ext cx="806580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ПУСТЬ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    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ВСЕ   ДЕ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                                            </a:t>
            </a:r>
            <a:r>
              <a:rPr b="0" lang="ru-RU" sz="3200" spc="-1" strike="noStrike">
                <a:solidFill>
                  <a:srgbClr val="eeeef1"/>
                </a:solidFill>
                <a:latin typeface="Monotype Corsiva"/>
              </a:rPr>
              <a:t>РАСТУТ   В    МИР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85840" y="642960"/>
            <a:ext cx="1357200" cy="145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6:02Z</dcterms:created>
  <dc:creator>Владелец</dc:creator>
  <dc:description/>
  <dc:language>en-US</dc:language>
  <cp:lastModifiedBy>Татьяна</cp:lastModifiedBy>
  <dcterms:modified xsi:type="dcterms:W3CDTF">2013-04-16T21:21:34Z</dcterms:modified>
  <cp:revision>85</cp:revision>
  <dc:subject/>
  <dc:title>Слайд 1</dc:title>
</cp:coreProperties>
</file>