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18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21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2.gif" ContentType="image/gif"/>
  <Override PartName="/ppt/media/image5.gif" ContentType="image/gif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E190D-5190-480A-9E3B-8F0E5BEBA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7D8E6-DE70-4562-9687-00EBC724E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19E5D-BA74-473A-B3AB-5CEC0E79C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8E8B1-0E18-4A5A-8389-48BB4E40D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271B3-1F58-42B3-B2D5-D504CFAF5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5D12B-71FD-41FF-A7EC-8A2D37A7C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8C4EAC-5465-40F8-AECA-91C68388DE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С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6D7AA-7559-4CFC-AB23-8FABB66A6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502BE-682C-4A96-A14F-198CA6D19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D2E16-9615-4D94-BA16-0425C628F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E193B-6C9D-48EB-B95C-C819159D5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D262-0DB3-4C8D-B534-4DCEA8232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6D87-E0AB-48C6-A2CC-4BA4AF7DD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A7C2-90CE-4AFC-91C2-CD32B6D95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CBFD-0667-4E9F-9659-808950CE1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4EDC-F4A0-41B9-9CA7-78AA841BF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863D-8E79-4569-ABF9-9F2738F78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DF22-9B1F-43F6-9EFC-8F6304116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EFDB-3547-48A8-BA45-DB8D69C32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8473-A3FF-428F-B03A-CAD5BA30B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6D91-322C-4D1C-A551-72B554470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90D6-C412-4CA3-9F05-BD1325E94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2357-799A-4DD4-8CC3-840B1F42C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AutoShape 2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E6F78E-466D-4A2F-B7A0-EB5C704D9B59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5219640" y="1268280"/>
            <a:ext cx="3281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 декабря 199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аницу Чечни пересекли федеральные войска и начались военные действия, официально именуемые «наведением конституционного порядка», сопровождавшиеся большими жертв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6431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1656000" cy="235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97440" cy="3286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868480" cy="380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1409760" cy="16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132000" y="1268280"/>
            <a:ext cx="2802240" cy="360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5867280" y="1916280"/>
            <a:ext cx="294480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600360" cy="456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358040" y="5072040"/>
            <a:ext cx="1785960" cy="1552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364000" y="1125360"/>
            <a:ext cx="28083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 бы жизни радоваться, цветы девушкам дари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их на войну, под пул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БЕСЛАН. 1 СЕНТЯБРЯ 200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611280" y="2133720"/>
            <a:ext cx="4174920" cy="3289320"/>
            <a:chOff x="611280" y="2133720"/>
            <a:chExt cx="4174920" cy="328932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611280" y="2133720"/>
              <a:ext cx="417492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4"/>
            <p:cNvSpPr/>
            <p:nvPr/>
          </p:nvSpPr>
          <p:spPr>
            <a:xfrm>
              <a:off x="611280" y="2133720"/>
              <a:ext cx="4174920" cy="32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7" name="Group 5"/>
          <p:cNvGrpSpPr/>
          <p:nvPr/>
        </p:nvGrpSpPr>
        <p:grpSpPr>
          <a:xfrm>
            <a:off x="4915080" y="3573360"/>
            <a:ext cx="4047840" cy="2878200"/>
            <a:chOff x="4915080" y="3573360"/>
            <a:chExt cx="4047840" cy="287820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4915080" y="3573360"/>
              <a:ext cx="404784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4915080" y="3573360"/>
              <a:ext cx="404784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3071880" y="1143000"/>
            <a:ext cx="585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нтябрь 200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в парадной форме с цветами и их близкие собирались на линейку, посвященную началу учебного года. В это время на территорию школы №1 ворвалась вооруженная банда. Она  захватила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1300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зрослы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2920" y="5000760"/>
            <a:ext cx="60008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1 по 3 сентября они сидели  на полу в спортивном зале без воды и еды. Школа была заминирова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егодняшний день установлено 394 человека, погибш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8960" y="1285920"/>
            <a:ext cx="2614680" cy="1928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143080" y="2928960"/>
            <a:ext cx="4565520" cy="1857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6286680" y="4606920"/>
            <a:ext cx="2571480" cy="1932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85" name="Rectangle 6"/>
          <p:cNvSpPr/>
          <p:nvPr/>
        </p:nvSpPr>
        <p:spPr>
          <a:xfrm>
            <a:off x="1476360" y="33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СЛ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Зло, совершаемое в мире,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       не позволило им жить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4500720" y="4149720"/>
            <a:ext cx="4246560" cy="2490840"/>
            <a:chOff x="4500720" y="4149720"/>
            <a:chExt cx="4246560" cy="249084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4500720" y="4149720"/>
              <a:ext cx="42465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4500720" y="4149720"/>
              <a:ext cx="4246560" cy="24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1042920" y="1916280"/>
            <a:ext cx="4390920" cy="2519280"/>
            <a:chOff x="1042920" y="1916280"/>
            <a:chExt cx="4390920" cy="2519280"/>
          </a:xfrm>
        </p:grpSpPr>
        <p:pic>
          <p:nvPicPr>
            <p:cNvPr id="91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1916280"/>
              <a:ext cx="43909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7"/>
            <p:cNvSpPr/>
            <p:nvPr/>
          </p:nvSpPr>
          <p:spPr>
            <a:xfrm>
              <a:off x="1042920" y="1916280"/>
              <a:ext cx="439092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" name="Text Box 8"/>
          <p:cNvSpPr/>
          <p:nvPr/>
        </p:nvSpPr>
        <p:spPr>
          <a:xfrm>
            <a:off x="5148360" y="4076640"/>
            <a:ext cx="3695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1403280" y="5157720"/>
            <a:ext cx="1408320" cy="1189080"/>
            <a:chOff x="1403280" y="5157720"/>
            <a:chExt cx="1408320" cy="1189080"/>
          </a:xfrm>
        </p:grpSpPr>
        <p:pic>
          <p:nvPicPr>
            <p:cNvPr id="95" name="Picture 10" descr=""/>
            <p:cNvPicPr/>
            <p:nvPr/>
          </p:nvPicPr>
          <p:blipFill>
            <a:blip r:embed="rId3"/>
            <a:stretch/>
          </p:blipFill>
          <p:spPr>
            <a:xfrm>
              <a:off x="1403280" y="5157720"/>
              <a:ext cx="1408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1"/>
            <p:cNvSpPr/>
            <p:nvPr/>
          </p:nvSpPr>
          <p:spPr>
            <a:xfrm>
              <a:off x="1403280" y="5157720"/>
              <a:ext cx="1408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000080" y="21420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все хотим, чтобы малень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на дет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а счастлив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4851360" cy="458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706840" y="2992320"/>
            <a:ext cx="3584520" cy="294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42960" y="142920"/>
            <a:ext cx="8047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е вмест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жем   и  должны   сохран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2127240" y="2408400"/>
            <a:ext cx="4822920" cy="3541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428760" y="285840"/>
            <a:ext cx="80658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                </a:t>
            </a: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ПУС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                       </a:t>
            </a: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ВСЕ   ДЕ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                                            </a:t>
            </a: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РАСТУТ   В    МИР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85840" y="642960"/>
            <a:ext cx="13572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6:02Z</dcterms:created>
  <dc:creator>Владелец</dc:creator>
  <dc:description/>
  <dc:language>en-US</dc:language>
  <cp:lastModifiedBy>Татьяна</cp:lastModifiedBy>
  <dcterms:modified xsi:type="dcterms:W3CDTF">2013-04-16T21:21:34Z</dcterms:modified>
  <cp:revision>85</cp:revision>
  <dc:subject/>
  <dc:title>Слайд 1</dc:title>
</cp:coreProperties>
</file>