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9.png" ContentType="image/pn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3ED6B-E548-48FC-806A-9FC8ABFC4A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38CE5-7B8C-4882-8194-34249B7C8F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AC340-2E32-4933-8C32-C58FE17491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C148A-2516-4A5F-9CC2-CE351B1F47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BB590-6CA1-4D66-9557-FD39F48903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9FFDBD-8744-47DA-B98A-54AB23505A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всегда будет солнце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всегда будет небо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всегда будет мама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всегда буду я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35762-9537-4C74-BD68-8B1E50ECB2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0815-48F6-4FAF-81B9-0CD250B9A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38444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8116-0088-4FD0-A40B-FCF4E8213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128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BC703-E9A5-4250-973F-656896BA4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56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16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56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16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1CB6F-A801-4F90-A278-C0C5CF86AA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5BD7-68A0-4452-9DF0-6E9297D37C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3A5E-6DC2-4A0A-B948-C74727A19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4C7C-A75C-4D6A-AB73-288634EF9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5A31-3ADE-4F31-91A7-7CC261F94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-32040"/>
            <a:ext cx="7542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BA88-0CB8-4652-A3E3-626CBCFBB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02FE-3781-4873-B15E-D67BA1060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128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FC80-2DAB-4A71-8569-1A6A99986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6D32-ECDF-4E97-A1B9-8EF8797E2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6480"/>
            <a:ext cx="9139320" cy="6850080"/>
            <a:chOff x="0" y="6480"/>
            <a:chExt cx="9139320" cy="6850080"/>
          </a:xfrm>
        </p:grpSpPr>
        <p:sp>
          <p:nvSpPr>
            <p:cNvPr id="1" name="AutoShape 2"/>
            <p:cNvSpPr/>
            <p:nvPr/>
          </p:nvSpPr>
          <p:spPr>
            <a:xfrm>
              <a:off x="885960" y="1843200"/>
              <a:ext cx="8253360" cy="5013360"/>
            </a:xfrm>
            <a:custGeom>
              <a:avLst/>
              <a:gdLst>
                <a:gd name="textAreaLeft" fmla="*/ 0 w 8253360"/>
                <a:gd name="textAreaRight" fmla="*/ 8253720 w 8253360"/>
                <a:gd name="textAreaTop" fmla="*/ 0 h 5013360"/>
                <a:gd name="textAreaBottom" fmla="*/ 5013720 h 501336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0" y="1843200"/>
              <a:ext cx="884160" cy="5013360"/>
            </a:xfrm>
            <a:custGeom>
              <a:avLst/>
              <a:gdLst>
                <a:gd name="textAreaLeft" fmla="*/ 0 w 884160"/>
                <a:gd name="textAreaRight" fmla="*/ 884520 w 884160"/>
                <a:gd name="textAreaTop" fmla="*/ 0 h 5013360"/>
                <a:gd name="textAreaBottom" fmla="*/ 5013720 h 501336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4"/>
            <p:cNvGrpSpPr/>
            <p:nvPr/>
          </p:nvGrpSpPr>
          <p:grpSpPr>
            <a:xfrm>
              <a:off x="0" y="6480"/>
              <a:ext cx="9139320" cy="6850080"/>
              <a:chOff x="0" y="6480"/>
              <a:chExt cx="9139320" cy="6850080"/>
            </a:xfrm>
          </p:grpSpPr>
          <p:sp>
            <p:nvSpPr>
              <p:cNvPr id="4" name="AutoShape 5"/>
              <p:cNvSpPr/>
              <p:nvPr/>
            </p:nvSpPr>
            <p:spPr>
              <a:xfrm>
                <a:off x="876240" y="6480"/>
                <a:ext cx="17640" cy="11016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101600"/>
                  <a:gd name="textAreaBottom" fmla="*/ 1101600 h 110160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AutoShape 6"/>
              <p:cNvSpPr/>
              <p:nvPr/>
            </p:nvSpPr>
            <p:spPr>
              <a:xfrm>
                <a:off x="876240" y="2576520"/>
                <a:ext cx="17640" cy="42800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4280040"/>
                  <a:gd name="textAreaBottom" fmla="*/ 4280040 h 428004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>
                <a:off x="1617840" y="1833480"/>
                <a:ext cx="7521480" cy="17640"/>
              </a:xfrm>
              <a:custGeom>
                <a:avLst/>
                <a:gdLst>
                  <a:gd name="textAreaLeft" fmla="*/ 0 w 7521480"/>
                  <a:gd name="textAreaRight" fmla="*/ 7521840 w 7521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AutoShape 8"/>
              <p:cNvSpPr/>
              <p:nvPr/>
            </p:nvSpPr>
            <p:spPr>
              <a:xfrm>
                <a:off x="876240" y="2176560"/>
                <a:ext cx="17640" cy="398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AutoShape 9"/>
              <p:cNvSpPr/>
              <p:nvPr/>
            </p:nvSpPr>
            <p:spPr>
              <a:xfrm>
                <a:off x="876240" y="1109520"/>
                <a:ext cx="17640" cy="398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AutoShape 10"/>
              <p:cNvSpPr/>
              <p:nvPr/>
            </p:nvSpPr>
            <p:spPr>
              <a:xfrm>
                <a:off x="876240" y="1509840"/>
                <a:ext cx="17640" cy="6649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AutoShape 11"/>
              <p:cNvSpPr/>
              <p:nvPr/>
            </p:nvSpPr>
            <p:spPr>
              <a:xfrm>
                <a:off x="0" y="1833480"/>
                <a:ext cx="555480" cy="17640"/>
              </a:xfrm>
              <a:custGeom>
                <a:avLst/>
                <a:gdLst>
                  <a:gd name="textAreaLeft" fmla="*/ 0 w 555480"/>
                  <a:gd name="textAreaRight" fmla="*/ 555840 w 55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AutoShape 12"/>
              <p:cNvSpPr/>
              <p:nvPr/>
            </p:nvSpPr>
            <p:spPr>
              <a:xfrm>
                <a:off x="1217520" y="1833480"/>
                <a:ext cx="398520" cy="1764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AutoShape 13"/>
              <p:cNvSpPr/>
              <p:nvPr/>
            </p:nvSpPr>
            <p:spPr>
              <a:xfrm>
                <a:off x="552600" y="1833480"/>
                <a:ext cx="663480" cy="17640"/>
              </a:xfrm>
              <a:custGeom>
                <a:avLst/>
                <a:gdLst>
                  <a:gd name="textAreaLeft" fmla="*/ 0 w 663480"/>
                  <a:gd name="textAreaRight" fmla="*/ 663840 w 663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Text Box 1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Text Box 17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sldNum" idx="1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B4DF65-DF34-45C5-A4E2-F9537AB975D5}" type="slidenum">
              <a:rPr b="0" lang="ru-RU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609560" y="1676520"/>
            <a:ext cx="5784840" cy="5005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785880" y="0"/>
            <a:ext cx="767088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Monotype Corsiva"/>
              </a:rPr>
              <a:t>                  </a:t>
            </a:r>
            <a:r>
              <a:rPr b="0" lang="ru-RU" sz="2800" spc="-1" strike="noStrike">
                <a:solidFill>
                  <a:srgbClr val="f2f2f2"/>
                </a:solidFill>
                <a:latin typeface="Monotype Corsiva"/>
              </a:rPr>
              <a:t>ПУСТЬ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Monotype Corsiva"/>
              </a:rPr>
              <a:t>                       </a:t>
            </a:r>
            <a:r>
              <a:rPr b="0" lang="ru-RU" sz="2800" spc="-1" strike="noStrike">
                <a:solidFill>
                  <a:srgbClr val="f2f2f2"/>
                </a:solidFill>
                <a:latin typeface="Monotype Corsiva"/>
              </a:rPr>
              <a:t>ВСЕ   ДЕТИ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Monotype Corsiva"/>
              </a:rPr>
              <a:t>                                        </a:t>
            </a:r>
            <a:r>
              <a:rPr b="0" lang="ru-RU" sz="2800" spc="-1" strike="noStrike">
                <a:solidFill>
                  <a:srgbClr val="f2f2f2"/>
                </a:solidFill>
                <a:latin typeface="Monotype Corsiva"/>
              </a:rPr>
              <a:t>БУДУТ     СЧАСТЛИВЫ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786720" y="0"/>
            <a:ext cx="235728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116000" y="2505240"/>
            <a:ext cx="6411960" cy="3992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1928880" y="285840"/>
            <a:ext cx="66438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    </a:t>
            </a: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ПУСТЬ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               </a:t>
            </a: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ВСЕГ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            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БУДЕТ         СОЛНЦ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0" y="357120"/>
            <a:ext cx="207180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00040" y="285840"/>
            <a:ext cx="814392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УСТЬ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СЕГ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БУДЕТ         НЕБО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500960" y="571680"/>
            <a:ext cx="952560" cy="961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5857920" y="214200"/>
            <a:ext cx="952560" cy="96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7429680" y="2286000"/>
            <a:ext cx="952200" cy="961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4"/>
          <a:stretch/>
        </p:blipFill>
        <p:spPr>
          <a:xfrm>
            <a:off x="853920" y="1809720"/>
            <a:ext cx="7624800" cy="947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2849400" y="2924280"/>
            <a:ext cx="3162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857240" y="260280"/>
            <a:ext cx="7035840" cy="21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УСТЬ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СЕГ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БУДЕТ             МАМ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822240" y="1749600"/>
            <a:ext cx="7212240" cy="5168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214200" y="357120"/>
            <a:ext cx="157176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14200" y="500040"/>
            <a:ext cx="8643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У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ВСЕГ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БУДЕ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МЫ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547640" y="2243160"/>
            <a:ext cx="5578560" cy="4389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7572240" y="2357280"/>
            <a:ext cx="952560" cy="96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7358040" y="4214880"/>
            <a:ext cx="952560" cy="961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4"/>
          <a:stretch/>
        </p:blipFill>
        <p:spPr>
          <a:xfrm>
            <a:off x="4714920" y="5896080"/>
            <a:ext cx="952560" cy="961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5"/>
          <a:stretch/>
        </p:blipFill>
        <p:spPr>
          <a:xfrm>
            <a:off x="1357200" y="5430960"/>
            <a:ext cx="962280" cy="952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6"/>
          <a:stretch/>
        </p:blipFill>
        <p:spPr>
          <a:xfrm>
            <a:off x="214200" y="3430440"/>
            <a:ext cx="96228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56:02Z</dcterms:created>
  <dc:creator>Владелец</dc:creator>
  <dc:description/>
  <dc:language>en-US</dc:language>
  <cp:lastModifiedBy>Татьяна</cp:lastModifiedBy>
  <dcterms:modified xsi:type="dcterms:W3CDTF">2013-04-16T21:21:56Z</dcterms:modified>
  <cp:revision>86</cp:revision>
  <dc:subject/>
  <dc:title>Слайд 1</dc:title>
</cp:coreProperties>
</file>