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FDA9C-7C4F-40B8-B2C3-E6749A728A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2C069-3836-45F7-A291-F6BA7A9A7E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DA580-F9A3-460F-AED5-59348B7E95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86FB7-D333-4B52-AEA3-C86184E56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75F3C-50D6-480D-978E-20F0E1DD5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E7F409-44B6-4ED6-981F-B3A124C2C74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всегда будет солнце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всегда будет небо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всегда будет мама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всегда буду я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94981-BD4B-4C24-8C49-0882A7FA9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F1DF-F130-422B-B16B-155D2DB5D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01F3-AB88-40B5-90DF-C09F10FF0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08CD-926F-4982-9591-BC2988178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5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1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5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1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2DBF-1592-4D63-A5BF-43035D01CA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FCB8-3205-4FB2-8179-56BE17BED7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E631-239D-4490-93BA-1A2914A06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46E4-351F-4876-8389-12D420D1D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2307-0E8C-4CF1-9085-76E5C2242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-32040"/>
            <a:ext cx="7542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E4B6C-576E-433A-970D-A91AF0920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2E5C-6850-4C1F-B38F-81D582AA8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3433-A2D3-4602-968B-E51657567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7B68-4059-4210-A72B-62B1FD33D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6480"/>
            <a:ext cx="9139320" cy="6850080"/>
            <a:chOff x="0" y="6480"/>
            <a:chExt cx="9139320" cy="6850080"/>
          </a:xfrm>
        </p:grpSpPr>
        <p:sp>
          <p:nvSpPr>
            <p:cNvPr id="1" name="AutoShape 2"/>
            <p:cNvSpPr/>
            <p:nvPr/>
          </p:nvSpPr>
          <p:spPr>
            <a:xfrm>
              <a:off x="885960" y="1843200"/>
              <a:ext cx="8253360" cy="5013360"/>
            </a:xfrm>
            <a:custGeom>
              <a:avLst/>
              <a:gdLst>
                <a:gd name="textAreaLeft" fmla="*/ 0 w 8253360"/>
                <a:gd name="textAreaRight" fmla="*/ 8253720 w 8253360"/>
                <a:gd name="textAreaTop" fmla="*/ 0 h 5013360"/>
                <a:gd name="textAreaBottom" fmla="*/ 5013720 h 501336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0" y="1843200"/>
              <a:ext cx="884160" cy="5013360"/>
            </a:xfrm>
            <a:custGeom>
              <a:avLst/>
              <a:gdLst>
                <a:gd name="textAreaLeft" fmla="*/ 0 w 884160"/>
                <a:gd name="textAreaRight" fmla="*/ 884520 w 884160"/>
                <a:gd name="textAreaTop" fmla="*/ 0 h 5013360"/>
                <a:gd name="textAreaBottom" fmla="*/ 5013720 h 501336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0" y="6480"/>
              <a:ext cx="9139320" cy="6850080"/>
              <a:chOff x="0" y="6480"/>
              <a:chExt cx="9139320" cy="6850080"/>
            </a:xfrm>
          </p:grpSpPr>
          <p:sp>
            <p:nvSpPr>
              <p:cNvPr id="4" name="AutoShape 5"/>
              <p:cNvSpPr/>
              <p:nvPr/>
            </p:nvSpPr>
            <p:spPr>
              <a:xfrm>
                <a:off x="876240" y="6480"/>
                <a:ext cx="17640" cy="11016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101600"/>
                  <a:gd name="textAreaBottom" fmla="*/ 1101600 h 110160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AutoShape 6"/>
              <p:cNvSpPr/>
              <p:nvPr/>
            </p:nvSpPr>
            <p:spPr>
              <a:xfrm>
                <a:off x="876240" y="2576520"/>
                <a:ext cx="17640" cy="42800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4280040"/>
                  <a:gd name="textAreaBottom" fmla="*/ 4280040 h 428004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>
                <a:off x="1617840" y="1833480"/>
                <a:ext cx="7521480" cy="17640"/>
              </a:xfrm>
              <a:custGeom>
                <a:avLst/>
                <a:gdLst>
                  <a:gd name="textAreaLeft" fmla="*/ 0 w 7521480"/>
                  <a:gd name="textAreaRight" fmla="*/ 7521840 w 7521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AutoShape 8"/>
              <p:cNvSpPr/>
              <p:nvPr/>
            </p:nvSpPr>
            <p:spPr>
              <a:xfrm>
                <a:off x="876240" y="217656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AutoShape 9"/>
              <p:cNvSpPr/>
              <p:nvPr/>
            </p:nvSpPr>
            <p:spPr>
              <a:xfrm>
                <a:off x="876240" y="110952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AutoShape 10"/>
              <p:cNvSpPr/>
              <p:nvPr/>
            </p:nvSpPr>
            <p:spPr>
              <a:xfrm>
                <a:off x="876240" y="1509840"/>
                <a:ext cx="17640" cy="6649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AutoShape 11"/>
              <p:cNvSpPr/>
              <p:nvPr/>
            </p:nvSpPr>
            <p:spPr>
              <a:xfrm>
                <a:off x="0" y="1833480"/>
                <a:ext cx="555480" cy="17640"/>
              </a:xfrm>
              <a:custGeom>
                <a:avLst/>
                <a:gdLst>
                  <a:gd name="textAreaLeft" fmla="*/ 0 w 555480"/>
                  <a:gd name="textAreaRight" fmla="*/ 555840 w 55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AutoShape 12"/>
              <p:cNvSpPr/>
              <p:nvPr/>
            </p:nvSpPr>
            <p:spPr>
              <a:xfrm>
                <a:off x="1217520" y="1833480"/>
                <a:ext cx="398520" cy="1764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AutoShape 13"/>
              <p:cNvSpPr/>
              <p:nvPr/>
            </p:nvSpPr>
            <p:spPr>
              <a:xfrm>
                <a:off x="552600" y="1833480"/>
                <a:ext cx="663480" cy="1764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Text Box 1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Text Box 17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ACE9B9-7FC1-4D67-9D9F-D204D5E42476}" type="slidenum">
              <a:rPr b="0" lang="ru-RU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609560" y="1676520"/>
            <a:ext cx="5784840" cy="5005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785880" y="0"/>
            <a:ext cx="767088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Monotype Corsiva"/>
              </a:rPr>
              <a:t>                  </a:t>
            </a:r>
            <a:r>
              <a:rPr b="0" lang="ru-RU" sz="2800" spc="-1" strike="noStrike">
                <a:solidFill>
                  <a:srgbClr val="f2f2f2"/>
                </a:solidFill>
                <a:latin typeface="Monotype Corsiva"/>
              </a:rPr>
              <a:t>ПУСТЬ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Monotype Corsiva"/>
              </a:rPr>
              <a:t>                       </a:t>
            </a:r>
            <a:r>
              <a:rPr b="0" lang="ru-RU" sz="2800" spc="-1" strike="noStrike">
                <a:solidFill>
                  <a:srgbClr val="f2f2f2"/>
                </a:solidFill>
                <a:latin typeface="Monotype Corsiva"/>
              </a:rPr>
              <a:t>ВСЕ   ДЕТИ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Monotype Corsiva"/>
              </a:rPr>
              <a:t>                                        </a:t>
            </a:r>
            <a:r>
              <a:rPr b="0" lang="ru-RU" sz="2800" spc="-1" strike="noStrike">
                <a:solidFill>
                  <a:srgbClr val="f2f2f2"/>
                </a:solidFill>
                <a:latin typeface="Monotype Corsiva"/>
              </a:rPr>
              <a:t>БУДУТ     СЧАСТЛИВЫ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786720" y="0"/>
            <a:ext cx="235728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116000" y="2505240"/>
            <a:ext cx="6411960" cy="3992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1928880" y="285840"/>
            <a:ext cx="66438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ПУСТЬ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       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ВСЕГ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     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БУДЕТ         СОЛНЦЕ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357120"/>
            <a:ext cx="207180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500040" y="285840"/>
            <a:ext cx="814392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УСТЬ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СЕГ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БУДЕТ         НЕБО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500960" y="571680"/>
            <a:ext cx="952560" cy="961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5857920" y="214200"/>
            <a:ext cx="952560" cy="96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7429680" y="2286000"/>
            <a:ext cx="952200" cy="961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4"/>
          <a:stretch/>
        </p:blipFill>
        <p:spPr>
          <a:xfrm>
            <a:off x="853920" y="1809720"/>
            <a:ext cx="7624800" cy="947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2849400" y="2924280"/>
            <a:ext cx="3162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857240" y="260280"/>
            <a:ext cx="703584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УСТЬ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СЕГ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БУДЕТ             МАМ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822240" y="1749600"/>
            <a:ext cx="7212240" cy="5168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214200" y="357120"/>
            <a:ext cx="157176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14200" y="500040"/>
            <a:ext cx="8643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ПУС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ВСЕГ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БУДЕ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                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М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547640" y="2243160"/>
            <a:ext cx="5578560" cy="4389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7572240" y="2357280"/>
            <a:ext cx="952560" cy="96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7358040" y="4214880"/>
            <a:ext cx="952560" cy="961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4"/>
          <a:stretch/>
        </p:blipFill>
        <p:spPr>
          <a:xfrm>
            <a:off x="4714920" y="5896080"/>
            <a:ext cx="952560" cy="961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5"/>
          <a:stretch/>
        </p:blipFill>
        <p:spPr>
          <a:xfrm>
            <a:off x="1357200" y="5430960"/>
            <a:ext cx="962280" cy="952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6"/>
          <a:stretch/>
        </p:blipFill>
        <p:spPr>
          <a:xfrm>
            <a:off x="214200" y="3430440"/>
            <a:ext cx="96228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56:02Z</dcterms:created>
  <dc:creator>Владелец</dc:creator>
  <dc:description/>
  <dc:language>en-US</dc:language>
  <cp:lastModifiedBy>Татьяна</cp:lastModifiedBy>
  <dcterms:modified xsi:type="dcterms:W3CDTF">2013-04-16T21:21:56Z</dcterms:modified>
  <cp:revision>86</cp:revision>
  <dc:subject/>
  <dc:title>Слайд 1</dc:title>
</cp:coreProperties>
</file>