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CCF4-925D-4392-BBD4-F628B8D0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4147-2D1F-4DF5-98E2-D0B0FB49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BDA0-A9F3-433E-885A-4BF4E5A7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A1B7-82C0-46E7-BEC0-2173D410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5F7D-BFAB-4D11-B7B8-159D72F4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6F25-B4F4-47D9-AA91-FD42DA4E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C585-1FCD-40E9-ADAD-7456241A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2686-7884-4D2D-AAAB-EAAAB0EC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02BB-89DF-4315-9856-21F3D5AC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71FF-461E-438B-BBF0-9EF973BC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E46B-2FDB-4EF3-8B6C-61CD009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CBFC-F903-4079-B035-DA835626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F5CF-4F56-4D89-88DD-55470A95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0694-6D95-4029-BAEA-A1449A1D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5E99-9319-4182-A85E-B5BD75B5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D69B-7F3E-467B-B918-57D46E42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6E10-5FEB-42F2-8EC8-8A71D6B0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A318-E19F-4CD4-869A-14AA8263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6571-2046-4134-BFB1-5E46753F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322D-6C06-4267-8675-E0A5C611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F57B-E4E1-4766-8EE1-E12C8C94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0941F-BD3F-415F-B4B0-C6650C37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5E98-48BB-420B-84DA-3443B554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5F74-1240-4F16-A835-BD21A026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4793-FC93-425A-8747-8B5ECF83C9D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6C6B-A00D-4118-AC33-86B759F1070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aa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ПРАВИЛА ЛИЧНОЙ ГИГИЕНЫ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матический классный ча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ставила Пузырникова Евгения Петровна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НЕ ЗАБЫВАЙ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8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нку, возникшую в результате пореза, рекомендуется промыть перекисью водорода; ее края надо обработать раствором йода. Поверхность ранки следует залепить бактерицидным пластырем. Он содержит вещества, убивающие попавших в ранку бактер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ВНИМАНИЕ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 открытую рану проникла грязь или земля, стоит обратиться к врачу. С помощью укола он введет вещества, препятствующие размножению опасных бактерий, развитие которых со временем может привести к судорогам и даже к остановке дых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4341960" y="1749600"/>
            <a:ext cx="4344840" cy="3970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ЗНАЙ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и могут размножаться и на коже человека. Поэтому минимум раз в неделю надо принять душ или ванну, а лицо мыть с мылом каждый день. Твой организм и сам борется с бактериями, пытающимися проникнуть через его защитные преграды. Например, возникающие на коже прыщи и фурункулы — чаще всего следствия борьбы организма с бактериями стафилококками. В гнойном содержимом фурункула могут находиться целые армады недобитых, все еще жизнеспособных микроорганизмов. Поэтому трогать и ковырять такие прыщики опасно. Если их содержимое попадет в кровь, может начаться опасное заболевание — заражение крови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Запомни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грать и брать на руки можно только знакомых животных. Шерсть бездомных собак и кошек может быть источником различных инфек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Tahoma"/>
              </a:rPr>
              <a:t>Будь здоров!</a:t>
            </a:r>
            <a:endParaRPr b="0" lang="en-US" sz="4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Цель: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Формирование здорового образа жизн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Задачи: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ть понятие личной гиги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знакомить учащихся с правилами личной гиги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спитывать бережное отношение к своему здоровь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Соблюдай правила гигиены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древности люди считали причиной болезней неблагосклонность богов. Однако уже тогда они создали правила, которые надо было соблюдать, чтобы сохранить здоровье. Такие правила называются гигиен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Tahoma"/>
              </a:rPr>
              <a:t>Асклепий </a:t>
            </a:r>
            <a:br>
              <a:rPr sz="3800"/>
            </a:br>
            <a:endParaRPr b="0" lang="en-US" sz="3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склепий — бог врачевания в древнегреческой мифологии. Он научился врачебной науке у мудрого кентавра Херона и даже умел готовить лекарства из змеиного яда. Искусство Асклепия было столь велико, что он пришел к дерзкой мысли воскрешать мертвых, за что Зевс сразил его молн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Гигиея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игиея - дочь Асклепия. Она помогала отцу лечить людей. От ее имени и было образовано слово «гигиен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ПОМНИ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того чтобы обезопасить себя от заражения кишечными паразитами и болезнетворными микроорганизмами, надо соблюдать простейшие правила гигиены. Ногти необходимо коротко стричь, чтобы под ними не смогли поселиться бактерии. И, конечно, два раза в день чистить зуб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ЗНАЙ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зентерия, холера, гепатит — примеры болезней, возбудители которых могут проникнуть в тело человека с водой и пищей. Вместе с продуктами в кишечник иногда попадают и яйца глист. Так называют всех паразитических червей, которые могут поселяться в теле человека и животных. Их крошечные, невидимые невооруженным глазом яйца могут попасть в рот вместе с землей или с грязью немытых рук. Источником яиц глист бывает шерсть бродячих животных, недоваренные или непрожаренные мясо и рыб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ircle/>
    <p:sndAc>
      <p:stSnd>
        <p:snd r:embed="rId1" name="whoo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Мойте овощи!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месте с продуктами в кишечник иногда попадают и яйца глистов. Их крошечные, невидимые невооруженным глазом яйца могут попасть в рот вместе с землей на овощах. Поэтому перед употреблением овощи надо обязательно мы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645080" y="1600200"/>
            <a:ext cx="404172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  <p:sndAc>
      <p:stSnd>
        <p:snd r:embed="rId2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4-17T14:36:5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