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31A4A-2DFF-4700-8574-14D9DB88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75A55-5C17-4078-99DC-D6561367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91350-692B-4E6D-9F6A-21134523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E4AD-38FB-4865-83AD-A2F3838C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9D8A-D3BF-4DA3-9DF2-3AE29FD9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B9F3-68CF-4A79-99FE-6CCC6405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47FC-34DD-463E-83DC-FAE37E54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C2CA-FF8F-4793-8BAA-63924829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1285-AAF7-4279-8FED-79A3FEBE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9599-4344-4B6B-8597-D712453C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97A2-92DF-417C-9BCF-FCBA4FBE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E15EC-DBFF-4282-AF93-139889B0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D2F0-69B3-4D1E-A374-54D6A930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413E-0D32-4FCA-8B43-8C755841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4C3C-E55D-4DBE-876F-81C98000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26C8-AD3A-4754-9751-B657031B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50EA-CE40-4C35-BB7A-DA90C61A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6427A-F10F-48ED-B237-42922B6F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5CDE3-70FE-4E56-826B-946DF7FB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C292B-CD74-4B75-AB49-F6B0AF49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267CD-A58B-49DF-B815-A67C54F1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B521F-7BDB-44C7-9BBD-F482402C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3FE3-8BF5-4FE6-AEE7-4F9FAD8D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84B9D-D5A6-43A9-9648-BF37F587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307F-731F-4F26-8CE5-0056FAC0303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1B20-73FF-4B7E-83D1-4FF76CE3300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aa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ПРАВИЛА ЛИЧНОЙ ГИГИЕНЫ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матический классный ча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оставила Пузырникова Евгения Петровна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  <p:sndAc>
      <p:stSnd>
        <p:snd r:embed="rId1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НЕ ЗАБЫВАЙ!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28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нку, возникшую в результате пореза, рекомендуется промыть перекисью водорода; ее края надо обработать раствором йода. Поверхность ранки следует залепить бактерицидным пластырем. Он содержит вещества, убивающие попавших в ранку бактер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  <p:sndAc>
      <p:stSnd>
        <p:snd r:embed="rId1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ВНИМАНИЕ!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в открытую рану проникла грязь или земля, стоит обратиться к врачу. С помощью укола он введет вещества, препятствующие размножению опасных бактерий, развитие которых со временем может привести к судорогам и даже к остановке дых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4341960" y="1749600"/>
            <a:ext cx="4344840" cy="3970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2" name="whoo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ЗНАЙ!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ктерии могут размножаться и на коже человека. Поэтому минимум раз в неделю надо принять душ или ванну, а лицо мыть с мылом каждый день. Твой организм и сам борется с бактериями, пытающимися проникнуть через его защитные преграды. Например, возникающие на коже прыщи и фурункулы — чаще всего следствия борьбы организма с бактериями стафилококками. В гнойном содержимом фурункула могут находиться целые армады недобитых, все еще жизнеспособных микроорганизмов. Поэтому трогать и ковырять такие прыщики опасно. Если их содержимое попадет в кровь, может начаться опасное заболевание — заражение крови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  <p:sndAc>
      <p:stSnd>
        <p:snd r:embed="rId1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Запомни!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грать и брать на руки можно только знакомых животных. Шерсть бездомных собак и кошек может быть источником различных инфек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4645080" y="1600200"/>
            <a:ext cx="404172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2" name="whoos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Будь здоров!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  <p:sndAc>
      <p:stSnd>
        <p:snd r:embed="rId1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Цель: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Формирование здорового образа жизн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  <p:sndAc>
      <p:stSnd>
        <p:snd r:embed="rId1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Задачи: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ть понятие личной гигие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знакомить учащихся с правилами личной гигие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спитывать бережное отношение к своему здоровь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  <p:sndAc>
      <p:stSnd>
        <p:snd r:embed="rId1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Соблюдай правила гигиены!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древности люди считали причиной болезней неблагосклонность богов. Однако уже тогда они создали правила, которые надо было соблюдать, чтобы сохранить здоровье. Такие правила называются гигиен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  <p:sndAc>
      <p:stSnd>
        <p:snd r:embed="rId1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Асклепий </a:t>
            </a:r>
            <a:br>
              <a:rPr sz="3800"/>
            </a:b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склепий — бог врачевания в древнегреческой мифологии. Он научился врачебной науке у мудрого кентавра Херона и даже умел готовить лекарства из змеиного яда. Искусство Асклепия было столь велико, что он пришел к дерзкой мысли воскрешать мертвых, за что Зевс сразил его молние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4645080" y="1600200"/>
            <a:ext cx="404172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2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Гигиея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игиея - дочь Асклепия. Она помогала отцу лечить людей. От ее имени и было образовано слово «гигиена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4645080" y="1600200"/>
            <a:ext cx="404172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2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ПОМНИ!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того чтобы обезопасить себя от заражения кишечными паразитами и болезнетворными микроорганизмами, надо соблюдать простейшие правила гигиены. Ногти необходимо коротко стричь, чтобы под ними не смогли поселиться бактерии. И, конечно, два раза в день чистить зуб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645080" y="1600200"/>
            <a:ext cx="404172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2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ЗНАЙ!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зентерия, холера, гепатит — примеры болезней, возбудители которых могут проникнуть в тело человека с водой и пищей. Вместе с продуктами в кишечник иногда попадают и яйца глист. Так называют всех паразитических червей, которые могут поселяться в теле человека и животных. Их крошечные, невидимые невооруженным глазом яйца могут попасть в рот вместе с землей или с грязью немытых рук. Источником яиц глист бывает шерсть бродячих животных, недоваренные или непрожаренные мясо и рыб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  <p:sndAc>
      <p:stSnd>
        <p:snd r:embed="rId1" name="whoo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Мойте овощи!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месте с продуктами в кишечник иногда попадают и яйца глистов. Их крошечные, невидимые невооруженным глазом яйца могут попасть в рот вместе с землей на овощах. Поэтому перед употреблением овощи надо обязательно мы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4645080" y="1600200"/>
            <a:ext cx="404172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2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4-17T14:36:5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