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8.png" ContentType="image/png"/>
  <Override PartName="/ppt/media/image14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9.jpeg" ContentType="image/jpeg"/>
  <Override PartName="/ppt/media/image26.jpeg" ContentType="image/jpeg"/>
  <Override PartName="/ppt/media/image19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8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0.png" ContentType="image/png"/>
  <Override PartName="/ppt/media/image27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1A09-6D26-4824-9869-A63D963FAB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8F86-D5EE-4176-BA5D-48C0C033F9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F1E-59E7-409A-B813-BC8F63D1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D58-B843-42FD-B8C8-F43CE2B6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BBB-9250-4073-B770-A5FE1F23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F67-CDDE-49BE-9172-65504AEF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B70-3C81-4CF7-9774-CA7794B9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42C7-089A-472A-A578-351B41CD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811-1311-45EE-9C8C-D3C4B976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A25-7BD8-4E94-A776-7D0F812F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104-6FE2-4404-ACAE-C1425B5C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EB1-F0AF-4A35-BF7E-B2E8B0A3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287-E7AE-4B1A-A134-3BF0DEC0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250-BE7B-4D1A-9B83-4D40EC38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1168-ACB6-4C8D-A746-5D733B3E43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755640" y="304920"/>
            <a:ext cx="7912080" cy="858600"/>
          </a:xfrm>
          <a:prstGeom prst="rect">
            <a:avLst/>
          </a:prstGeom>
          <a:ln w="0">
            <a:noFill/>
          </a:ln>
        </p:spPr>
      </p:pic>
      <p:pic>
        <p:nvPicPr>
          <p:cNvPr id="49" name="Подзаголовок 2" descr=""/>
          <p:cNvPicPr/>
          <p:nvPr/>
        </p:nvPicPr>
        <p:blipFill>
          <a:blip r:embed="rId2"/>
          <a:stretch/>
        </p:blipFill>
        <p:spPr>
          <a:xfrm>
            <a:off x="944640" y="1725480"/>
            <a:ext cx="7461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FaNtoM\Рабочий стол\подм.jpeg"/>
          <p:cNvPicPr/>
          <p:nvPr/>
        </p:nvPicPr>
        <p:blipFill>
          <a:blip r:embed="rId1"/>
          <a:stretch/>
        </p:blipFill>
        <p:spPr>
          <a:xfrm>
            <a:off x="6443640" y="3860640"/>
            <a:ext cx="2373480" cy="2652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977760" y="981000"/>
            <a:ext cx="26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дсне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4"/>
          <p:cNvSpPr/>
          <p:nvPr/>
        </p:nvSpPr>
        <p:spPr>
          <a:xfrm>
            <a:off x="1042920" y="981000"/>
            <a:ext cx="79236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Дуга 7"/>
          <p:cNvSpPr/>
          <p:nvPr/>
        </p:nvSpPr>
        <p:spPr>
          <a:xfrm>
            <a:off x="1908000" y="981000"/>
            <a:ext cx="863640" cy="576360"/>
          </a:xfrm>
          <a:custGeom>
            <a:avLst/>
            <a:gdLst>
              <a:gd name="textAreaLeft" fmla="*/ 31680 w 863640"/>
              <a:gd name="textAreaRight" fmla="*/ 851760 w 863640"/>
              <a:gd name="textAreaTop" fmla="*/ 0 h 576360"/>
              <a:gd name="textAreaBottom" fmla="*/ 220320 h 576360"/>
            </a:gdLst>
            <a:ahLst/>
            <a:rect l="textAreaLeft" t="textAreaTop" r="textAreaRight" b="textAreaBottom"/>
            <a:pathLst>
              <a:path stroke="0" w="863600" h="576263">
                <a:moveTo>
                  <a:pt x="31982" y="179308"/>
                </a:moveTo>
                <a:lnTo>
                  <a:pt x="31982" y="179308"/>
                </a:lnTo>
                <a:arcTo wR="431800" hR="288132" stAng="-9886432" swAng="9334305"/>
                <a:lnTo>
                  <a:pt x="431800" y="288132"/>
                </a:lnTo>
                <a:close/>
              </a:path>
              <a:path fill="none" w="863600" h="576263">
                <a:moveTo>
                  <a:pt x="31982" y="179308"/>
                </a:moveTo>
                <a:lnTo>
                  <a:pt x="31982" y="179308"/>
                </a:lnTo>
                <a:arcTo wR="431800" hR="288132" stAng="-9886432" swAng="9334305"/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3635280" y="1197000"/>
            <a:ext cx="289080" cy="2872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0"/>
          <p:cNvSpPr/>
          <p:nvPr/>
        </p:nvSpPr>
        <p:spPr>
          <a:xfrm flipV="1">
            <a:off x="2916360" y="836640"/>
            <a:ext cx="215640" cy="2887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4"/>
          <p:cNvSpPr/>
          <p:nvPr/>
        </p:nvSpPr>
        <p:spPr>
          <a:xfrm>
            <a:off x="3132000" y="836640"/>
            <a:ext cx="360360" cy="2887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8"/>
          <p:cNvSpPr/>
          <p:nvPr/>
        </p:nvSpPr>
        <p:spPr>
          <a:xfrm flipV="1">
            <a:off x="1042920" y="980640"/>
            <a:ext cx="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21"/>
          <p:cNvSpPr/>
          <p:nvPr/>
        </p:nvSpPr>
        <p:spPr>
          <a:xfrm>
            <a:off x="1835280" y="981000"/>
            <a:ext cx="0" cy="216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635760" y="1916280"/>
            <a:ext cx="775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пушке – нач.ф. (что?) опушка – су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еодуш., нариц., ед. ч. ж.р. П.п. 1 с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торост. ч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C:\Documents and Settings\FaNtoM\Рабочий стол\опуш.jpeg"/>
          <p:cNvPicPr/>
          <p:nvPr/>
        </p:nvPicPr>
        <p:blipFill>
          <a:blip r:embed="rId2"/>
          <a:stretch/>
        </p:blipFill>
        <p:spPr>
          <a:xfrm>
            <a:off x="395280" y="4005360"/>
            <a:ext cx="29527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extBox 1" descr=""/>
          <p:cNvPicPr/>
          <p:nvPr/>
        </p:nvPicPr>
        <p:blipFill>
          <a:blip r:embed="rId1"/>
          <a:stretch/>
        </p:blipFill>
        <p:spPr>
          <a:xfrm>
            <a:off x="974880" y="450720"/>
            <a:ext cx="6833880" cy="7984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712800" y="1700280"/>
            <a:ext cx="787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Из всех глаголах выписат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глаголы прошедшего времени, опр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делить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Documents and Settings\FaNtoM\Рабочий стол\Картинки\Новые картинки\Школа\в парах.jpg"/>
          <p:cNvPicPr/>
          <p:nvPr/>
        </p:nvPicPr>
        <p:blipFill>
          <a:blip r:embed="rId2"/>
          <a:stretch/>
        </p:blipFill>
        <p:spPr>
          <a:xfrm>
            <a:off x="3564000" y="4005360"/>
            <a:ext cx="2592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extBox 1" descr=""/>
          <p:cNvPicPr/>
          <p:nvPr/>
        </p:nvPicPr>
        <p:blipFill>
          <a:blip r:embed="rId1"/>
          <a:stretch/>
        </p:blipFill>
        <p:spPr>
          <a:xfrm>
            <a:off x="974880" y="304920"/>
            <a:ext cx="6980040" cy="85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FaNtoM\Рабочий стол\Картинки\Детские рамки\5.jpg"/>
          <p:cNvPicPr/>
          <p:nvPr/>
        </p:nvPicPr>
        <p:blipFill>
          <a:blip r:embed="rId2"/>
          <a:stretch/>
        </p:blipFill>
        <p:spPr>
          <a:xfrm>
            <a:off x="900000" y="1268280"/>
            <a:ext cx="7344000" cy="5040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 rot="21322800">
            <a:off x="2259360" y="2806560"/>
            <a:ext cx="433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С. 106 – 107 прав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Упр. 4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И СВОЮ РАБОТУ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аботал сегодня очень хорош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 меня всё получило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аботал сегодня хорошо и у ме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получило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доволен своей работ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684360" y="206064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684360" y="5229360"/>
            <a:ext cx="91440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684360" y="3860640"/>
            <a:ext cx="914400" cy="914400"/>
          </a:xfrm>
          <a:prstGeom prst="rect">
            <a:avLst/>
          </a:prstGeom>
          <a:solidFill>
            <a:srgbClr val="4328e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FaNtoM\Рабочий стол\Картинки\Шаблоны для презентаций\Смайлики\см4.jpeg"/>
          <p:cNvPicPr/>
          <p:nvPr/>
        </p:nvPicPr>
        <p:blipFill>
          <a:blip r:embed="rId1"/>
          <a:stretch/>
        </p:blipFill>
        <p:spPr>
          <a:xfrm>
            <a:off x="3348000" y="1916280"/>
            <a:ext cx="2519280" cy="273672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4" descr=""/>
          <p:cNvPicPr/>
          <p:nvPr/>
        </p:nvPicPr>
        <p:blipFill>
          <a:blip r:embed="rId2"/>
          <a:stretch/>
        </p:blipFill>
        <p:spPr>
          <a:xfrm>
            <a:off x="2048040" y="615960"/>
            <a:ext cx="5267160" cy="33955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5" descr=""/>
          <p:cNvPicPr/>
          <p:nvPr/>
        </p:nvPicPr>
        <p:blipFill>
          <a:blip r:embed="rId3"/>
          <a:stretch/>
        </p:blipFill>
        <p:spPr>
          <a:xfrm>
            <a:off x="2048040" y="2773440"/>
            <a:ext cx="562752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27000" y="-21420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" descr=""/>
          <p:cNvPicPr/>
          <p:nvPr/>
        </p:nvPicPr>
        <p:blipFill>
          <a:blip r:embed="rId2"/>
          <a:stretch/>
        </p:blipFill>
        <p:spPr>
          <a:xfrm>
            <a:off x="-36360" y="-36360"/>
            <a:ext cx="94852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1" descr=""/>
          <p:cNvPicPr/>
          <p:nvPr/>
        </p:nvPicPr>
        <p:blipFill>
          <a:blip r:embed="rId1"/>
          <a:stretch/>
        </p:blipFill>
        <p:spPr>
          <a:xfrm>
            <a:off x="1109520" y="255600"/>
            <a:ext cx="6639120" cy="3541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FaNtoM\Рабочий стол\Картинки\Школьные принадлежности\Колокольчики\кол.6.jpeg"/>
          <p:cNvPicPr/>
          <p:nvPr/>
        </p:nvPicPr>
        <p:blipFill>
          <a:blip r:embed="rId2"/>
          <a:stretch/>
        </p:blipFill>
        <p:spPr>
          <a:xfrm>
            <a:off x="2916360" y="1197000"/>
            <a:ext cx="2735280" cy="273672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3" descr=""/>
          <p:cNvPicPr/>
          <p:nvPr/>
        </p:nvPicPr>
        <p:blipFill>
          <a:blip r:embed="rId3"/>
          <a:stretch/>
        </p:blipFill>
        <p:spPr>
          <a:xfrm>
            <a:off x="1755720" y="1981080"/>
            <a:ext cx="534024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FaNtoM\Рабочий стол\Картинки\Школьные принадлежности\Доски\доска с портфелем.jpe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" descr=""/>
          <p:cNvPicPr/>
          <p:nvPr/>
        </p:nvPicPr>
        <p:blipFill>
          <a:blip r:embed="rId2"/>
          <a:stretch/>
        </p:blipFill>
        <p:spPr>
          <a:xfrm>
            <a:off x="1974960" y="1407960"/>
            <a:ext cx="5267160" cy="94464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3" descr=""/>
          <p:cNvPicPr/>
          <p:nvPr/>
        </p:nvPicPr>
        <p:blipFill>
          <a:blip r:embed="rId3"/>
          <a:stretch/>
        </p:blipFill>
        <p:spPr>
          <a:xfrm>
            <a:off x="2048040" y="2346480"/>
            <a:ext cx="476064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4438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овторение изученного на прошлых урок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357200"/>
            <a:ext cx="868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0" y="164304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1. Глагол-э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214200" y="221472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i="1" lang="kk-KZ" sz="3600" spc="-1" strike="noStrike">
                <a:solidFill>
                  <a:srgbClr val="000000"/>
                </a:solidFill>
                <a:latin typeface="Constantia"/>
              </a:rPr>
              <a:t>Глаголы в прошедшем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kk-KZ" sz="3600" spc="-1" strike="noStrike">
                <a:solidFill>
                  <a:srgbClr val="000000"/>
                </a:solidFill>
                <a:latin typeface="Constantia"/>
              </a:rPr>
              <a:t>отвечают на вопросы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85840" y="321480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3.Глаголы в прошедшем времени в                                                   ед.ч.изменяют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0" y="4214880"/>
            <a:ext cx="892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4.Для образования формы прошед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шего  времени служит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0" y="5214960"/>
            <a:ext cx="878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5.В форме прошедшего времени пе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ред суффиксом –л- пиш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FaNtoM\Рабочий стол\Минутки чистописания\Весёлые буквы\ф.jpeg"/>
          <p:cNvPicPr/>
          <p:nvPr/>
        </p:nvPicPr>
        <p:blipFill>
          <a:blip r:embed="rId1"/>
          <a:stretch/>
        </p:blipFill>
        <p:spPr>
          <a:xfrm>
            <a:off x="404640" y="1619280"/>
            <a:ext cx="2241720" cy="1914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FaNtoM\Рабочий стол\Минутки чистописания\Прописные буквы чистописание\АЛФАВИТ\img377.jpg"/>
          <p:cNvPicPr/>
          <p:nvPr/>
        </p:nvPicPr>
        <p:blipFill>
          <a:blip r:embed="rId2"/>
          <a:stretch/>
        </p:blipFill>
        <p:spPr>
          <a:xfrm>
            <a:off x="5003640" y="2565360"/>
            <a:ext cx="3792600" cy="403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FaNtoM\Рабочий стол\Минутки чистописания\Посадка\за партой.jpg"/>
          <p:cNvPicPr/>
          <p:nvPr/>
        </p:nvPicPr>
        <p:blipFill>
          <a:blip r:embed="rId3"/>
          <a:stretch/>
        </p:blipFill>
        <p:spPr>
          <a:xfrm>
            <a:off x="250920" y="3789360"/>
            <a:ext cx="1873080" cy="284148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5" descr=""/>
          <p:cNvPicPr/>
          <p:nvPr/>
        </p:nvPicPr>
        <p:blipFill>
          <a:blip r:embed="rId4"/>
          <a:stretch/>
        </p:blipFill>
        <p:spPr>
          <a:xfrm>
            <a:off x="828720" y="450720"/>
            <a:ext cx="763272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extBox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8143920" cy="809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554400" y="1844640"/>
            <a:ext cx="751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Г…рел, ж…лал, за…трака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бедал, пут…шествовал, р…бо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…совал, св…ркал, уж…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686160" y="1844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2342880" y="1844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4143240" y="18446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470520" y="2349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990880" y="2349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6087240" y="2349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86520" y="278136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3062160" y="285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5151240" y="278136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286920" y="3500280"/>
            <a:ext cx="85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-К какому времени относятся глагол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491040" y="4076640"/>
            <a:ext cx="779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-Как отличить глагол в прошедш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времени от глагола в настоящем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будущем врем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855720" y="907920"/>
            <a:ext cx="67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анней в…сной заз…л…нела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оталинах нежная тра…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855720" y="1989000"/>
            <a:ext cx="704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ыл…тели на со…нышко пер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бабачь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2702520" y="907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583240" y="907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4862520" y="907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5582880" y="134136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1766880" y="198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4286880" y="1989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1692360" y="2637000"/>
            <a:ext cx="142920" cy="4316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1550520" y="2205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6"/>
          <p:cNvSpPr/>
          <p:nvPr/>
        </p:nvSpPr>
        <p:spPr>
          <a:xfrm>
            <a:off x="2195640" y="2637000"/>
            <a:ext cx="144360" cy="4316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Documents and Settings\FaNtoM\Рабочий стол\под.jpeg"/>
          <p:cNvPicPr/>
          <p:nvPr/>
        </p:nvPicPr>
        <p:blipFill>
          <a:blip r:embed="rId1"/>
          <a:stretch/>
        </p:blipFill>
        <p:spPr>
          <a:xfrm>
            <a:off x="324000" y="3789360"/>
            <a:ext cx="2735280" cy="280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FaNtoM\Рабочий стол\баб.jpeg"/>
          <p:cNvPicPr/>
          <p:nvPr/>
        </p:nvPicPr>
        <p:blipFill>
          <a:blip r:embed="rId2"/>
          <a:stretch/>
        </p:blipFill>
        <p:spPr>
          <a:xfrm>
            <a:off x="5742000" y="3995640"/>
            <a:ext cx="300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extBox 1" descr=""/>
          <p:cNvPicPr/>
          <p:nvPr/>
        </p:nvPicPr>
        <p:blipFill>
          <a:blip r:embed="rId1"/>
          <a:stretch/>
        </p:blipFill>
        <p:spPr>
          <a:xfrm>
            <a:off x="974880" y="378000"/>
            <a:ext cx="7053120" cy="87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FaNtoM\Рабочий стол\Картинки\Учебники\рус.jpeg"/>
          <p:cNvPicPr/>
          <p:nvPr/>
        </p:nvPicPr>
        <p:blipFill>
          <a:blip r:embed="rId2"/>
          <a:stretch/>
        </p:blipFill>
        <p:spPr>
          <a:xfrm>
            <a:off x="684360" y="2060640"/>
            <a:ext cx="1942920" cy="3024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363840" y="2708280"/>
            <a:ext cx="414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.106 - 107 прав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пр.4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1:00:57Z</dcterms:created>
  <dc:creator>FaNtoM</dc:creator>
  <dc:description/>
  <dc:language>en-US</dc:language>
  <cp:lastModifiedBy>FaNtoM</cp:lastModifiedBy>
  <dcterms:modified xsi:type="dcterms:W3CDTF">2013-04-16T13:25:28Z</dcterms:modified>
  <cp:revision>12</cp:revision>
  <dc:subject/>
  <dc:title>Русский язык</dc:title>
</cp:coreProperties>
</file>