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E02-E754-436A-B567-18D43594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82E-A49D-4F54-8D12-8AF67273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1C7-136B-4A6C-84B4-8FCD10F4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E79-5A0F-482F-B44F-F59E0368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15F7B-BEF4-4FAC-B912-BB513A40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61AA-EF93-4E66-B67E-F248ED3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5A8C-E01C-4ABE-B09B-E91B423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CE9ED-32B5-4403-9C2A-9157968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4953A-FF0C-4E3A-855A-99C27EF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7012-0521-41AF-9777-D7B8C95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6D037-EE86-453F-9EA4-313EF93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F5A-E028-4EBE-AECB-160F8799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912F1-C4F3-4A94-BD71-2088E7A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BE36A-08DA-42A2-BF46-48E1F60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5A79-0D79-44D6-AD34-4418114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5416-FCF7-440B-8888-C23EA5C2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995F-CB83-41E9-A46D-D8D5C11A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D783-51BA-4957-9307-2B8553CA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6E2A-4780-4E1E-88A3-7860F72C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4623-26CB-4A2C-B3C7-3217C73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DE1E-B781-4393-B792-20F76DAF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BDFD-77A3-4662-B83D-ED89D88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6A2-BA61-4EE7-8C01-94D5B619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B8D3-F1EF-4AC8-835D-687DD1F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DF05-86EC-4E76-B18D-265D2D2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37CA-99AC-4F86-9274-5F64B5F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36EA-038C-4D27-9F64-72F6BF9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0069-0706-493E-BB6F-DE07A95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24CE-525C-4F44-BEB0-B5EEAF0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A9AB-9124-4AB0-9F49-42EBF8C1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2D0E-D9C8-491A-9004-31FC105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A9C3-DAF2-4039-86E3-DE8AFB0B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5749-4648-4F73-B3CF-FD1D59CA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341-42CC-4DFE-A5BD-F6C660F6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597E-CEBA-479D-AA2F-7F4402A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3286-97A3-4A75-8124-EAA00522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A682-FE8E-4B00-9327-6BB3B823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8F0E-F61E-4727-B3E0-93998BC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5BF4-DDA3-4600-A947-1B32FB7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55A6-ACF0-4333-9848-9BB7355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C4E7-3A00-4F29-B34E-2C9D82E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8B37-8BED-42AA-BA6D-F8D0453C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05E7-4726-49A0-9E35-D7CAAE70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0D88-C89B-40F3-AEF3-C1C23582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A67-BF31-4CDD-A243-8D25760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AF9F-3474-459B-A3CE-35C53894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69B3-2D47-4D46-A76E-3E2C1E4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6EDD4-7950-492A-B3A0-486B57BE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1D6C-7F82-4AEC-A95E-260F4D0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0569-707F-41D0-8B61-CCD110C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373D-94B3-4DEF-AA09-4703CB6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C4A4-C2CC-4610-A32E-BA80379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62C8-539F-419A-8A7E-CC503F3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FB2B-1A65-4B07-A11C-B7498B8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F95F-93F1-4067-8C3B-14D06DE6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104-E59D-4FC3-A073-24C5D7C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0822F-BC9C-4540-90E5-BC110FAC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B9A2-8ABC-48DC-A1A4-0B262CCA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7EB00-07D8-4A00-88F5-E97FC58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51D84-AD59-41F5-B4E2-216266D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FFDC-8147-4ADF-B826-4B449CFF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7503-3015-489C-A65B-053FD10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18545-73DE-4AF6-840C-1E075DE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A935-3EA8-4114-96BC-BD4C7C3C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A5C5-232B-4C47-A284-DAA9C13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6FA7-9BD7-4F54-B1C9-C956B3B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712-EE18-4F4D-9FF3-D03C569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3D1F-56ED-474A-9D9C-C5B292E4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B5DC-9099-4AFE-AA16-9EFD0F32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6FD4-5367-4BF7-9524-B1E59A08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76EE-88A9-4411-8006-0EA9CE81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E41E9-B1D4-42FC-9D28-035D9E6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5E1A-BCD2-4BA2-9109-9DB48AA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5605-6660-4139-B469-5F574154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88CD-FD01-4523-B5EE-D0EFC7D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E0812-9B71-4822-A0C6-91FC3E52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A164-A9B4-435A-A7B2-1604B19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19C-49A4-4614-91FF-721BC41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2865-93DD-4C93-AD8D-D000319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C4DE2-6D1A-4CDF-9B08-AF307D6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D8FBE-4170-4CD6-A020-2CD034CD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B881-5824-448F-B9B3-6C03E567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65EC-139C-44E3-9ACD-BD2DA240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3A9C8-CAEC-4F29-B808-90F98605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6CCB7-AEFE-4AAF-91B6-83B365E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BEC5C-53FC-475A-BD8B-06CC268A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96894-D06D-4CC6-B6E1-8F79067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121A-39EA-4C9C-A10E-4BA0B32B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2BA-DA16-4C77-9314-E19825A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4C9AA-8290-4F03-8F5D-70F40AB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6137-D5FA-463D-884C-44D9050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D289-BD4B-4207-A989-6CE0715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7C1F-BD56-4B11-8411-2F724FA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B23A3-1C34-4B00-BFE8-727C8D13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EDA3-A609-4E6F-87D4-69F9FA9E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3C06A-62F2-4FBB-B678-97F92E2B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CA1-0453-40E9-872E-F48B435B6C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0B0-8516-40E0-B6E6-D526AE7F23E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13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15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17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1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2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3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4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25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1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2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6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7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8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9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0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1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2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3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4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0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1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14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3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24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31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17FB-C3F4-4BD1-9D98-C97437D5E4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7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1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D85B-788E-495C-920E-E64C7B9084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59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E2E2-B88F-40F4-B8D0-D888BEDC73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89D5-CC81-4E95-BC0E-34185ED0FEB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71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72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7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7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8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7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0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8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2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8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19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20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1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2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3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4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5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6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7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8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9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3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6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6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7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1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8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8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89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9399-8A5A-4797-A908-014A379D42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3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7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6B7-2481-4EE7-80F4-77F862C5F5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deti-book.info/images/pis/fra.jpg&amp;pageurl=http://www.deti-book.info/content/category/46/154/275/&amp;id=69712483&amp;iid=2&amp;imgwidth=315&amp;imgheight=433&amp;imgsize=33205&amp;images_links=b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go.mail.ru/frame.html?imgurl=http://www.nekropol.com/kunde/Rosenblum/FraermanRuvim.jpg&amp;pageurl=http://www.nekropol.com/kunde/Rosenblum/MemoFraermanRuvim.htm&amp;id=39152740&amp;iid=2&amp;imgwidth=215&amp;imgheight=351&amp;imgsize=7408&amp;images_links=b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зентац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Дикая собака Дин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весть о первой любв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8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75742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икая собака Динго, или Повесть о первой любв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6767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 детском лагере в Сибири отдыхали друзья с детства и одноклассники Таня Сабанеева и Филька и теперь они возвращаются домой. Девочку дома встречают старая собака Тигр и старая нянька (мать на работе, а отец не живет с ними с тех пор, как Тане исполнилось 8 месяцев). Девочка мечтает о дикой австралийской собаке Динго, впоследствии дети так её и прозовут за обособленность от 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11" descr="i?id=59613482&amp;tov=0"/>
          <p:cNvPicPr/>
          <p:nvPr/>
        </p:nvPicPr>
        <p:blipFill>
          <a:blip r:embed="rId1"/>
          <a:stretch/>
        </p:blipFill>
        <p:spPr>
          <a:xfrm>
            <a:off x="6713640" y="1197000"/>
            <a:ext cx="24303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лька делится с Таней своим счастьем — ему отец (охотник) подарил лаек. Тема отцовства: Филька гордится своим отцом, Таня сообщает другу, что её отец живет на Маросейке — мальчик раскрывает карту и долго ищет остров с таким названием, но не находит и говорит об этом Тане, которая расплакавшись убегает. Таня ненавидит отца и агрессивно реагирует на эти разговоры с Филь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жды Таня нашла под подушкой матери письмо, в котором отец сообщает о переезде его новой семьи (жена Надежда Петровна и её племянник Коля — приемный сын Таниного отца) в их город. Девочку переполняет чувство ревности и ненависти к тем, которые украли у нее отца. Мать пытается настроить Таню положительно по отношению к от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 то утро, когда должен был приехать отец, девочка сорвала цветы и пошла в порт его встречать, но не найдя его среди приехавших дарит цветы больному мальчику на носилках (она ещё не знает, что это и есть Кол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ется учеба, Таня пытается обо всем забыть, но это у нее не получается. Филька пытается поднять ей настроение (слово товарищ на доске пишет с Ь и объясняет это тем, что это глагол второго 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я лежит с мамой на грядке. Ей хорошо. Она впервые задумалась не только о себе, но и о матери. У ворот полковник — отец. Тяжелая встреча (спустя 14 лет). Таня обращается к отцу на «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я попадает в тот же класс, что и Таня и садится с Филькой. Коля попал в новый, незнакомый для него, мир. Ему очень тяж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я с Колей постоянно ссорятся, причем по Таниной инициативе, идет борьба за внимание отца. Коля умный, любящий сын, он относится к Тане с иронией и насмеш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я рассказывает о встрече с Максимом Горьким в Крыму. Таня принципиально не слушает, это выливается в конфлик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ня (одноклассница) решает, что Таня влюблена в Колю. Филька мстит за это Жене и вместо липучки (смола) угощает её мышонком. Маленький мышонок лежит один на снегу — Таня его согре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 город приехал писатель. Дети решают, кто будет дарить ему цветы Таня или Женя. Выбрали Таню, она гордится такой честью («пожать знаменитому писателю руку»). Таня развернула чернильницу и облила руку, её заметил Коля. Эта сцена демонстрирует, что отношения между врагами стали теплее. Ещё некоторое время спустя Коля предложил Тане танцевать с ней на ел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ый год. Приготовления. «Придет ли он?» Гости, а Коли нет. А ведь совсем недавно сколько горьких и сладких чувств толпилось в её сердце при одной только мысли об отце: Что с ней? Она все время думает о Коле. Филька тяжело переживает Танину влюбленность, так как сам влюблен в Таню. Коля подарил ей аквариум с золотой рыбкой, а Таня попросила эту рыбку зажар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цы. Интрига: Филька сообщает Тане, что Коля завтра идет с Женей на каток, а Коле говорит, что они завтра пойдут с Таней на спектакль в школу. Филька ревнует, но пытается это скрыть. Таня идет на каток, но прячет коньки, так как встречает Колю с Женей. Таня решает забыть Колю и идет в школу на спектакль. Резко начинается буран. Таня бежит на каток, чтобы предупредить ребят. Женя испугалась и быстро ушла домой. Коля упал на ногу и не может идти. Таня бежит к Фильке домой, садится в собачью упряжку. Она бесстрашна и решительна. Собаки вдруг перестали её слушаться, тогда девочка бросила им на растерзание любимого Тигра (это была очень большая жертва). Коля и Таня упали с нарт, но несмотря на страх продолжают бороться за жизнь. Буран усиливается. Таня, рискуя жизнью, тянет Колю на нартах. Филька предупредил пограничников и те вышли на поиски детей, среди них был и их от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никулы. Таня и Филька навещают Колю, который отморозил себе щеки и 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. Слухи о том, что Таня хотела погубить Колю, затащив его на каток. Все против Тани, кроме Фильки. Ставится вопрос об исключении Тани из пионеров. Девочка прячется и плачет в пионерской комнате, потом засыпает. Её нашли. Все узнают от Коли прав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я, проснувшись, возвращается домой. Разговаривают с матерью о доверии, о жизни. Таня понимает, что мать до сих пор любит отца, мать предлагает уех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483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увим Исаевич                Фраерм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95280" y="5660640"/>
            <a:ext cx="6048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«Дикая собака Динго или Повесть о первой любв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4" descr="i?id=69712483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00280"/>
            <a:ext cx="2721240" cy="33843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5" descr="3831"/>
          <p:cNvPicPr/>
          <p:nvPr/>
        </p:nvPicPr>
        <p:blipFill>
          <a:blip r:embed="rId3"/>
          <a:stretch/>
        </p:blipFill>
        <p:spPr>
          <a:xfrm>
            <a:off x="5219640" y="1700280"/>
            <a:ext cx="254952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реча с Филькой, он узнает, что Таня собирается встретиться с Колей на рассвете. Филька из ревности рассказывает об этом их от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. Объяснение Коли в любви. Приходит отец. Таня уходит. Прощание с Филькой. Уходит. Кон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делал Комаров Вадим Ученик 6«А» класс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ский писатель. Родился в Могилеве в бедной еврейской семье. Там он провел детство и окончил реальное училище. Еще в школе полюбил литературу, писал стихи, печатал их. В 1916 г. окончил Харьковский технологический институт. В 1917 г. отправился на Дальний Восток. Был рыбаком, чертёжником, бухгалтером, учителем. В годы гражданской войны в составе партизанского отряда сражался с японскими интервентам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21 г. приехал в Москву. В 1924 г. здесь была издана первая повесть Фраермана «Васька-гиляк». В ней рассказывается о гражданской войне и становлении Советской власти на Дальнем Востоке. Вслед за ней выходят и другие книги – «Вторая весна» (1932) – первое произведение писателя для детей, «Никичен» (1934), «Шпион» (1937), «Дикая собака Динго или Повесть о первой любви» (1939) – самая известная повесть писател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8" descr="i?id=39152740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2080" y="0"/>
            <a:ext cx="2671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ды Великой Отечественной войны Фраерман вступает в ряды народного ополчения, участвует в боях, работает в армейской газ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8" descr="i?id=1616814&amp;tov=3"/>
          <p:cNvPicPr/>
          <p:nvPr/>
        </p:nvPicPr>
        <p:blipFill>
          <a:blip r:embed="rId2"/>
          <a:stretch/>
        </p:blipFill>
        <p:spPr>
          <a:xfrm>
            <a:off x="5148360" y="2637000"/>
            <a:ext cx="2985840" cy="33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59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военное творчество Фраермана обращено, в основном, к детям и подросткам. Рассказы «Путешественники вышли из города (Памяти Аркадия Гайдара)» (1947), «Подарок» (1948), повесть «Дальнее плавание» (1946) – о духовном становлении подростков военных лет. «Подвиг в майскую ночь» (1944) – повесть о Герое Советского Союза С. Шершавине, «Желанный цветок» (1953) – обработка китайских сказок для дет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183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ерман положил начало исследованиям творчества Гайдара своим сборником статей «Жизнь и творчество А. П. Гайдара» (1951), а также книгой-очерком «Любимый писатель детей» (1964). В 1966 г. вышел в свет сборник очерков и рассказов на морально-этические темы «Испытание души», адресованный подростк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1932 по 1965 гг. Рувим Исаевич часто посещал Рязанский край. Жил в пос. Солотча в доме гравёра И. П. Пожалостина. Здесь написана повесть «Дикая собака Динго», которая переведена на многие языки народов ближнего и дальнего зарубежья. По этой книге поставлен кинофильм, на Международном кинофестивале в Венеции получивший главный приз – скульптурную миниатюру «Золотой лев святого Марка» (1962)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раткое содерж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9:19:07Z</dcterms:created>
  <dc:creator>Admin</dc:creator>
  <dc:description/>
  <dc:language>en-US</dc:language>
  <cp:lastModifiedBy>Your User Name</cp:lastModifiedBy>
  <dcterms:modified xsi:type="dcterms:W3CDTF">2009-05-23T16:21:29Z</dcterms:modified>
  <cp:revision>3</cp:revision>
  <dc:subject/>
  <dc:title> Рувим Исаевич                Фраерман</dc:title>
</cp:coreProperties>
</file>