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EF52-FBD2-48C5-AAC3-5B9AE5E71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9AEC-397D-4558-AAE9-E0D5A6B8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0EC4-7802-4A4B-A492-CA69C8C80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33AA-1E63-450D-BF43-F3CE81D3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E2D7A-30AB-43A3-B9EA-EC9F6DA1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D4A7E-4F2C-4E04-AF5A-5D05A40F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D3B3C-DA50-45D6-A998-DAADB4B5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67538-7109-409D-98E9-33AC571F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3EAE1-9C06-4B6D-A4AB-0A6F1831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85B41-E5DA-4A62-BC5B-7FF645FE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A52E5-B3DE-4A58-8428-B8BCF709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9200-A09D-454C-BBCC-5A945799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C55EC-3CAA-4CD4-8DAD-0D5C2DDF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772EB-7BC8-4C13-A2A0-38ECD247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70116-16C5-4EBF-B67F-8B50073C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A56E8-8094-4851-A4C0-5792E6A07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F1872-244B-406B-BA27-5D068A20D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6D228-D5BC-49E8-9621-1D9590DF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987B4-35B3-46FB-980C-B0F0B7CE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55FAA-514E-4E88-88E3-B04C56EE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A0F3E-AA50-4B40-A041-67F281AC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EB279-1070-4CC3-8190-54334B5D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5EAF-5891-41C6-B4B4-5E7EC3A6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A9EEF-7C79-4B06-A5F3-618F7EDC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98640-7074-477F-9E77-A60001BA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A70E3-9C0A-4C9C-976A-604784C3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4553D-FD80-496C-AF8D-6A6BEC75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8CCCC-63A4-4B68-AB86-F044004F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253EA-C09B-4ADF-9E42-8E3B6E7CA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91566-7295-4D36-AB20-77D361C2F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DE5D4-056E-472D-9AE5-2CFAB492F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F6056-2760-4414-BCD7-FCB2CA48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97D64-8F00-42EA-9B8B-0BCDC67E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8EF4-FE9F-46B2-ADC3-ED8BD55D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1DABE-97CF-4C96-923D-158FD626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6D72B-243C-4A80-84F1-52A1BB4D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81B3B-D00E-4B83-B503-99D90143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31AE9-3E49-4F64-8FE1-0910CBD6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28FAE-0C14-4722-8D7B-60DDB75B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BE790-5602-4665-9EEA-828CCD8F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A8AC6-57DC-44FA-9330-155EBD22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AEE2B-269D-44BA-9158-2867BBEE0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7EA1C-610F-4C49-BF7D-4CBE3547A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96DFE-AB8D-4DBC-B040-5892C54D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818F-102A-42BB-B0E4-037AA11A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8AD21-070F-4BE9-82B7-1A9AB7F1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B71A9-81B6-4E68-98B6-8FE9669B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AFEFB-8A59-4B87-B61D-53787844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9350E-4A21-4FE2-BE59-2ABD7F1D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BC39F-3541-4F07-B4AA-E4F42C12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06868-33AC-4737-B625-DED246B4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8435A-6CC9-462F-BF97-1E87546E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D533D-F9E5-4B11-9F8A-8D43302D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B2968-EF8B-41BC-B3B6-4FB6CBDA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F1797-833C-4B10-BC4D-1A847C7ED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CE29-485C-41F4-AA3E-D18698AC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37FAD-83ED-4FFB-B532-6816C0E4B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AFE99-0072-4FA0-9EA0-653B194D1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D8B40-2D2A-43D8-8F99-FB292553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79C65-BCCD-47A9-8524-58373CAD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7C42F-FEC0-484C-A8F1-CA62429A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88D69-67C1-4911-9360-AAB569D0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E7A9C-7B9C-42E8-AACF-2655B42D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0188C-AD1F-4B9F-980B-211E24CF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25204-80A1-4D83-832D-04C8E9AA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8B553-1193-472F-932A-BB73FF03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D8F7-3D7E-47D3-803F-8AA17CBF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ED75F-CFE7-453C-99FD-BB2E74A7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ABDCB-C528-43D8-A8A5-C2A78D41A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47F9B-057A-41AC-B784-65B6AD54E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EDDC2-9575-4471-B588-ADE0AE9B5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B13F9-0344-4609-BA0C-443502C9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1D605-BA31-4D94-810E-AC1CE740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B981F-4559-4D83-902C-4FC55B14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9A5EA-0562-4824-9899-6593573F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38D97-EAFC-43D7-BD60-C853EA8A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CC3EA-78CF-4831-94AF-5D364998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8DD2-D97C-40D8-9A8B-5F9C9576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8022B-B763-491D-83A1-EAC75769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8B561-273A-477A-A3F0-67C0D932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6EC93-4797-4C2F-A737-1CAD80C5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1FEE6-C68A-4C65-9E7A-CDEEFFD2F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6A7EE-B150-458D-B3E2-EDE27CC8F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F3208-DCA2-437A-9CEA-13744C0D8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288E6-5901-4C4E-8E5A-5E918377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C9DFB-DDC5-4E74-9B47-58C7A717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DD3C8-2DBA-495D-88D0-902B1052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9B22E-C9E4-459F-B49A-6610586C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4CDC-1352-40AD-A6AD-A946EE22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95367-6D54-415D-B847-8053CE64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5B14F-5ABF-493A-9953-DE8B8A17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3C7B5-9F3A-46C0-A407-A1DF1013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767C4-5B87-4991-A22A-EC84D2C5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92DD5-A18B-4868-A675-1CCFF509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23A1D-6069-426D-8B2C-92F6E63DD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A6466-59DC-4DF0-A388-256C3ECB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80D5-5174-4404-B55A-6F4F8F1E5D4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C831-9DC5-4B28-8827-20E83117088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13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114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115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prstGeom prst="pie">
                  <a:avLst/>
                </a:pr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6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117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0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121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prstGeom prst="pie">
                      <a:avLst/>
                    </a:pr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2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23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4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25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5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7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8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9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0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1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2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7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4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5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61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162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3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4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5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6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7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8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9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0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1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2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3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74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10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211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3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214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3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224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0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231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6" name="PlaceHolder 1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168C-6AF0-48F6-9BA6-05259406280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78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4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15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4F5E-A862-454D-B8E1-7335CC0A7C0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59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9018-4A35-42F9-B2D3-8A955673060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0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271C-67E8-4933-B2DE-7872E591A29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471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472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473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prstGeom prst="pie">
                  <a:avLst/>
                </a:pr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4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475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78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479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prstGeom prst="pie">
                      <a:avLst/>
                    </a:pr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80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481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82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483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4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5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6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7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8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9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0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1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2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3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4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5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6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7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8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9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0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1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2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3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4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5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6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7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8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9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0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1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2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3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4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5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6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7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8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519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520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1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2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3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4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5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6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7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8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9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0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1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32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33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34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35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36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37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38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39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0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1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2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3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4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5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6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7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8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49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0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1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2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3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4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5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6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7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8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9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0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1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2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3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4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5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6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7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568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569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71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572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81" name="Group 113"/>
            <p:cNvGrpSpPr/>
            <p:nvPr/>
          </p:nvGrpSpPr>
          <p:grpSpPr>
            <a:xfrm>
              <a:off x="1800" y="2135160"/>
              <a:ext cx="5249880" cy="4686120"/>
              <a:chOff x="1800" y="2135160"/>
              <a:chExt cx="5249880" cy="4686120"/>
            </a:xfrm>
          </p:grpSpPr>
          <p:sp>
            <p:nvSpPr>
              <p:cNvPr id="582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8" name="Group 120"/>
              <p:cNvGrpSpPr/>
              <p:nvPr/>
            </p:nvGrpSpPr>
            <p:grpSpPr>
              <a:xfrm>
                <a:off x="4754520" y="2135160"/>
                <a:ext cx="497160" cy="492120"/>
                <a:chOff x="4754520" y="2135160"/>
                <a:chExt cx="497160" cy="492120"/>
              </a:xfrm>
            </p:grpSpPr>
            <p:sp>
              <p:nvSpPr>
                <p:cNvPr id="589" name="Oval 121"/>
                <p:cNvSpPr/>
                <p:nvPr/>
              </p:nvSpPr>
              <p:spPr>
                <a:xfrm rot="2828400">
                  <a:off x="4770360" y="2359440"/>
                  <a:ext cx="31464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Freeform 122"/>
                <p:cNvSpPr/>
                <p:nvPr/>
              </p:nvSpPr>
              <p:spPr>
                <a:xfrm>
                  <a:off x="4869000" y="2256840"/>
                  <a:ext cx="255960" cy="2476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123"/>
                <p:cNvSpPr/>
                <p:nvPr/>
              </p:nvSpPr>
              <p:spPr>
                <a:xfrm>
                  <a:off x="4952520" y="2246400"/>
                  <a:ext cx="183960" cy="17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Freeform 124"/>
                <p:cNvSpPr/>
                <p:nvPr/>
              </p:nvSpPr>
              <p:spPr>
                <a:xfrm>
                  <a:off x="5018040" y="2142720"/>
                  <a:ext cx="228960" cy="2206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125"/>
                <p:cNvSpPr/>
                <p:nvPr/>
              </p:nvSpPr>
              <p:spPr>
                <a:xfrm>
                  <a:off x="5162400" y="2135160"/>
                  <a:ext cx="89280" cy="8244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9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8818-57EA-4466-9028-E8327835A23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636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673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C2DC-D7C0-45EE-91E0-D198E44C4FF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deti-book.info/images/pis/fra.jpg&amp;pageurl=http://www.deti-book.info/content/category/46/154/275/&amp;id=69712483&amp;iid=2&amp;imgwidth=315&amp;imgheight=433&amp;imgsize=33205&amp;images_links=b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go.mail.ru/frame.html?imgurl=http://www.nekropol.com/kunde/Rosenblum/FraermanRuvim.jpg&amp;pageurl=http://www.nekropol.com/kunde/Rosenblum/MemoFraermanRuvim.htm&amp;id=39152740&amp;iid=2&amp;imgwidth=215&amp;imgheight=351&amp;imgsize=7408&amp;images_links=b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223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Презентация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1371600" y="2637000"/>
            <a:ext cx="6400800" cy="30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тем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«Дикая собака Динг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овесть о первой любв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8" name="Beethoven's Symphony No. 9 (Scherzo).wma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7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718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718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75742" fill="hold"/>
                                        <p:tgtEl>
                                          <p:spTgt spid="7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805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2b2b2"/>
                </a:solidFill>
                <a:latin typeface="Arial"/>
              </a:rPr>
              <a:t>Дикая собака Динго, или Повесть о первой любви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67676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 детском лагере в Сибири отдыхали друзья с детства и одноклассники Таня Сабанеева и Филька и теперь они возвращаются домой. Девочку дома встречают старая собака Тигр и старая нянька (мать на работе, а отец не живет с ними с тех пор, как Тане исполнилось 8 месяцев). Девочка мечтает о дикой австралийской собаке Динго, впоследствии дети так её и прозовут за обособленность от коллекти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6" name="Picture 11" descr="i?id=59613482&amp;tov=0"/>
          <p:cNvPicPr/>
          <p:nvPr/>
        </p:nvPicPr>
        <p:blipFill>
          <a:blip r:embed="rId1"/>
          <a:stretch/>
        </p:blipFill>
        <p:spPr>
          <a:xfrm>
            <a:off x="6713640" y="1197000"/>
            <a:ext cx="2430360" cy="39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илька делится с Таней своим счастьем — ему отец (охотник) подарил лаек. Тема отцовства: Филька гордится своим отцом, Таня сообщает другу, что её отец живет на Маросейке — мальчик раскрывает карту и долго ищет остров с таким названием, но не находит и говорит об этом Тане, которая расплакавшись убегает. Таня ненавидит отца и агрессивно реагирует на эти разговоры с Фильк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нажды Таня нашла под подушкой матери письмо, в котором отец сообщает о переезде его новой семьи (жена Надежда Петровна и её племянник Коля — приемный сын Таниного отца) в их город. Девочку переполняет чувство ревности и ненависти к тем, которые украли у нее отца. Мать пытается настроить Таню положительно по отношению к отц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915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 то утро, когда должен был приехать отец, девочка сорвала цветы и пошла в порт его встречать, но не найдя его среди приехавших дарит цветы больному мальчику на носилках (она ещё не знает, что это и есть Коля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чинается учеба, Таня пытается обо всем забыть, но это у нее не получается. Филька пытается поднять ей настроение (слово товарищ на доске пишет с Ь и объясняет это тем, что это глагол второго л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4960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ня лежит с мамой на грядке. Ей хорошо. Она впервые задумалась не только о себе, но и о матери. У ворот полковник — отец. Тяжелая встреча (спустя 14 лет). Таня обращается к отцу на «Вы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ля попадает в тот же класс, что и Таня и садится с Филькой. Коля попал в новый, незнакомый для него, мир. Ему очень тяжел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ня с Колей постоянно ссорятся, причем по Таниной инициативе, идет борьба за внимание отца. Коля умный, любящий сын, он относится к Тане с иронией и насмешк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ля рассказывает о встрече с Максимом Горьким в Крыму. Таня принципиально не слушает, это выливается в конфлик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еня (одноклассница) решает, что Таня влюблена в Колю. Филька мстит за это Жене и вместо липучки (смола) угощает её мышонком. Маленький мышонок лежит один на снегу — Таня его согрева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3516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 город приехал писатель. Дети решают, кто будет дарить ему цветы Таня или Женя. Выбрали Таню, она гордится такой честью («пожать знаменитому писателю руку»). Таня развернула чернильницу и облила руку, её заметил Коля. Эта сцена демонстрирует, что отношения между врагами стали теплее. Ещё некоторое время спустя Коля предложил Тане танцевать с ней на ел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5075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вый год. Приготовления. «Придет ли он?» Гости, а Коли нет. А ведь совсем недавно сколько горьких и сладких чувств толпилось в её сердце при одной только мысли об отце: Что с ней? Она все время думает о Коле. Филька тяжело переживает Танину влюбленность, так как сам влюблен в Таню. Коля подарил ей аквариум с золотой рыбкой, а Таня попросила эту рыбку зажари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/>
          </p:nvPr>
        </p:nvSpPr>
        <p:spPr>
          <a:xfrm>
            <a:off x="456840" y="189000"/>
            <a:ext cx="84358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нцы. Интрига: Филька сообщает Тане, что Коля завтра идет с Женей на каток, а Коле говорит, что они завтра пойдут с Таней на спектакль в школу. Филька ревнует, но пытается это скрыть. Таня идет на каток, но прячет коньки, так как встречает Колю с Женей. Таня решает забыть Колю и идет в школу на спектакль. Резко начинается буран. Таня бежит на каток, чтобы предупредить ребят. Женя испугалась и быстро ушла домой. Коля упал на ногу и не может идти. Таня бежит к Фильке домой, садится в собачью упряжку. Она бесстрашна и решительна. Собаки вдруг перестали её слушаться, тогда девочка бросила им на растерзание любимого Тигра (это была очень большая жертва). Коля и Таня упали с нарт, но несмотря на страх продолжают бороться за жизнь. Буран усиливается. Таня, рискуя жизнью, тянет Колю на нартах. Филька предупредил пограничников и те вышли на поиски детей, среди них был и их оте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никулы. Таня и Филька навещают Колю, который отморозил себе щеки и уш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кола. Слухи о том, что Таня хотела погубить Колю, затащив его на каток. Все против Тани, кроме Фильки. Ставится вопрос об исключении Тани из пионеров. Девочка прячется и плачет в пионерской комнате, потом засыпает. Её нашли. Все узнают от Коли правд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ня, проснувшись, возвращается домой. Разговаривают с матерью о доверии, о жизни. Таня понимает, что мать до сих пор любит отца, мать предлагает уеха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14836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Рувим Исаевич                Фраерма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3095280" y="5660640"/>
            <a:ext cx="604836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«Дикая собака Динго или Повесть о первой любви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1" name="Picture 4" descr="i?id=69712483&amp;tov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700280"/>
            <a:ext cx="2721240" cy="338436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5" descr="3831"/>
          <p:cNvPicPr/>
          <p:nvPr/>
        </p:nvPicPr>
        <p:blipFill>
          <a:blip r:embed="rId3"/>
          <a:stretch/>
        </p:blipFill>
        <p:spPr>
          <a:xfrm>
            <a:off x="5219640" y="1700280"/>
            <a:ext cx="2549520" cy="387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915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треча с Филькой, он узнает, что Таня собирается встретиться с Колей на рассвете. Филька из ревности рассказывает об этом их отц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с. Объяснение Коли в любви. Приходит отец. Таня уходит. Прощание с Филькой. Уходит. Коне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9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Сделал Комаров Вадим Ученик 6«А» класса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5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5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тский писатель. Родился в Могилеве в бедной еврейской семье. Там он провел детство и окончил реальное училище. Еще в школе полюбил литературу, писал стихи, печатал их. В 1916 г. окончил Харьковский технологический институт. В 1917 г. отправился на Дальний Восток. Был рыбаком, чертёжником, бухгалтером, учителем. В годы гражданской войны в составе партизанского отряда сражался с японскими интервентами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-360" y="0"/>
            <a:ext cx="6443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921 г. приехал в Москву. В 1924 г. здесь была издана первая повесть Фраермана «Васька-гиляк». В ней рассказывается о гражданской войне и становлении Советской власти на Дальнем Востоке. Вслед за ней выходят и другие книги – «Вторая весна» (1932) – первое произведение писателя для детей, «Никичен» (1934), «Шпион» (1937), «Дикая собака Динго или Повесть о первой любви» (1939) – самая известная повесть писателя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7" name="Picture 8" descr="i?id=39152740&amp;tov=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72080" y="0"/>
            <a:ext cx="26719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годы Великой Отечественной войны Фраерман вступает в ряды народного ополчения, участвует в боях, работает в армейской газе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9" name="Picture 8" descr="i?id=1616814&amp;tov=3"/>
          <p:cNvPicPr/>
          <p:nvPr/>
        </p:nvPicPr>
        <p:blipFill>
          <a:blip r:embed="rId2"/>
          <a:stretch/>
        </p:blipFill>
        <p:spPr>
          <a:xfrm>
            <a:off x="5148360" y="2637000"/>
            <a:ext cx="2985840" cy="330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/>
          </p:nvPr>
        </p:nvSpPr>
        <p:spPr>
          <a:xfrm>
            <a:off x="323640" y="189000"/>
            <a:ext cx="84596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левоенное творчество Фраермана обращено, в основном, к детям и подросткам. Рассказы «Путешественники вышли из города (Памяти Аркадия Гайдара)» (1947), «Подарок» (1948), повесть «Дальнее плавание» (1946) – о духовном становлении подростков военных лет. «Подвиг в майскую ночь» (1944) – повесть о Герое Советского Союза С. Шершавине, «Желанный цветок» (1953) – обработка китайских сказок для детей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5183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раерман положил начало исследованиям творчества Гайдара своим сборником статей «Жизнь и творчество А. П. Гайдара» (1951), а также книгой-очерком «Любимый писатель детей» (1964). В 1966 г. вышел в свет сборник очерков и рассказов на морально-этические темы «Испытание души», адресованный подростк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569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 1932 по 1965 гг. Рувим Исаевич часто посещал Рязанский край. Жил в пос. Солотча в доме гравёра И. П. Пожалостина. Здесь написана повесть «Дикая собака Динго», которая переведена на многие языки народов ближнего и дальнего зарубежья. По этой книге поставлен кинофильм, на Международном кинофестивале в Венеции получивший главный приз – скульптурную миниатюру «Золотой лев святого Марка» (1962)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4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Краткое содержа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3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3T09:19:07Z</dcterms:created>
  <dc:creator>Admin</dc:creator>
  <dc:description/>
  <dc:language>en-US</dc:language>
  <cp:lastModifiedBy>Your User Name</cp:lastModifiedBy>
  <dcterms:modified xsi:type="dcterms:W3CDTF">2009-05-23T16:21:29Z</dcterms:modified>
  <cp:revision>3</cp:revision>
  <dc:subject/>
  <dc:title> Рувим Исаевич                Фраерман</dc:title>
</cp:coreProperties>
</file>