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C63-F4B6-4F08-8747-E84D0A06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2CC-3BB0-435B-876F-2BC6CB1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463-228A-499D-9CD2-6384CA43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D7B-AC59-4384-9849-6C32E617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AEDB-65A7-4493-AE3A-54D7A39E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8903-0967-45D8-88BE-F8F6FBA9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5186-59F6-4F66-A517-CF872DB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372C-F071-4886-964B-267A30E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6239-CCA9-447E-8C71-A26288BA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D2D5-B9C8-4241-85E7-DBF279B2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7E87-5406-4266-9AC0-077BA5A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86F-32B1-453E-BEC9-1D0E2BC8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8805-F947-4478-AC2F-5C615F0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C8E8-4B71-4810-A02F-B48FD76F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5631-D023-42CE-9445-49565B72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BDC8-1514-438A-A9E7-D1BC70A3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D98D-89B1-4442-BF41-8D95D498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0F9-E1BC-4329-A99C-6698445C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760-95AD-41E5-9553-14156599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2CF-9043-4834-ABA9-C7494E6B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F2D-6F41-4229-A390-910025E8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DDE-E02B-4BFB-88F3-130A0FE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20B-EA28-45E3-BBE8-BE4A7C6A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8AF1-220A-4334-9CB2-FA0459A2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0F60-9544-460C-9C88-8338CEDE78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AD48-5346-4561-93CC-71222D676E4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3573000"/>
            <a:ext cx="91440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РАБОТА С ТЕКСТОВОЙ ИНФОРМАЦИЕЙ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5920"/>
            <a:ext cx="9144000" cy="68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УМ ЗАКЛЮЧА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НЕ ТОЛЬКО В ЗНАНИ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НО И В УМЕН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ПРИЛАГАТЬ ЗН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Arial Black"/>
              </a:rPr>
              <a:t>НА ДЕЛ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6600"/>
                </a:solidFill>
                <a:latin typeface="Arial Black"/>
              </a:rPr>
              <a:t>Аристотель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573000"/>
            <a:ext cx="91440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omic Sans MS"/>
              </a:rPr>
              <a:t>РАБОТА С ТЕКСТОВОЙ ИНФОРМАЦИЕЙ</a:t>
            </a:r>
            <a:endParaRPr b="0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50920" y="907920"/>
            <a:ext cx="784836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АВТОМАТИЗАЦ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ОБРАБОТ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ТЕК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26920" y="476280"/>
            <a:ext cx="748836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3300"/>
              </a:gs>
              <a:gs pos="50000">
                <a:srgbClr val="ffe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00"/>
                </a:solidFill>
                <a:latin typeface="Arial Black"/>
              </a:rPr>
              <a:t>ФОРМАТИРОВА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4869000"/>
            <a:ext cx="7488360" cy="15843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3300"/>
              </a:gs>
              <a:gs pos="50000">
                <a:srgbClr val="ffef66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00"/>
                </a:solidFill>
                <a:latin typeface="Arial Black"/>
              </a:rPr>
              <a:t>РЕДАКТИРОВА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133720"/>
            <a:ext cx="7704000" cy="2663640"/>
          </a:xfrm>
          <a:custGeom>
            <a:avLst/>
            <a:gdLst>
              <a:gd name="textAreaLeft" fmla="*/ 0 w 7704000"/>
              <a:gd name="textAreaRight" fmla="*/ 7704360 w 7704000"/>
              <a:gd name="textAreaTop" fmla="*/ 666000 h 2663640"/>
              <a:gd name="textAreaBottom" fmla="*/ 199800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gradFill rotWithShape="0">
            <a:gsLst>
              <a:gs pos="0">
                <a:srgbClr val="99ff33"/>
              </a:gs>
              <a:gs pos="100000">
                <a:srgbClr val="00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Работа с текстом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2421000"/>
            <a:ext cx="770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изменение содержания документ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55640" y="62064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ДАКТ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5805360"/>
            <a:ext cx="506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u.wikipedia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620640"/>
            <a:ext cx="7129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ЕДАКТИР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843280" y="2997360"/>
            <a:ext cx="2879640" cy="1295280"/>
          </a:xfrm>
          <a:custGeom>
            <a:avLst/>
            <a:gdLst>
              <a:gd name="textAreaLeft" fmla="*/ 0 w 2879640"/>
              <a:gd name="textAreaRight" fmla="*/ 2880000 w 2879640"/>
              <a:gd name="textAreaTop" fmla="*/ 360 h 1295280"/>
              <a:gd name="textAreaBottom" fmla="*/ 129600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2997360"/>
            <a:ext cx="259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Набор тек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997360"/>
            <a:ext cx="31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Исправление опеча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71640" y="4437000"/>
            <a:ext cx="3384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Копирование, перестановка, удаление частей тек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00"/>
                            </p:stCondLst>
                            <p:childTnLst>
                              <p:par>
                                <p:cTn id="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efefe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03280" y="11592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e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ВТОМАТИЗАЦ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e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ef66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ДАКТИРОВА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ef66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133720"/>
            <a:ext cx="6624720" cy="1366560"/>
          </a:xfrm>
          <a:prstGeom prst="flowChartDocument">
            <a:avLst/>
          </a:prstGeom>
          <a:gradFill rotWithShape="0">
            <a:gsLst>
              <a:gs pos="0">
                <a:srgbClr val="ffef66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ПОИСК И ЗАМЕНА СИМВО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3716280"/>
            <a:ext cx="6624720" cy="1366920"/>
          </a:xfrm>
          <a:prstGeom prst="flowChartDocument">
            <a:avLst/>
          </a:prstGeom>
          <a:gradFill rotWithShape="0">
            <a:gsLst>
              <a:gs pos="0">
                <a:srgbClr val="ffef66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ПРОВЕРКА ОРФОГРАФ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5300640"/>
            <a:ext cx="6624720" cy="1366920"/>
          </a:xfrm>
          <a:prstGeom prst="flowChartDocument">
            <a:avLst/>
          </a:prstGeom>
          <a:gradFill rotWithShape="0">
            <a:gsLst>
              <a:gs pos="0">
                <a:srgbClr val="ffef66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АВТОЗАМЕНА И АВТОТЕК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50920" y="907920"/>
            <a:ext cx="784836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4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АВТОМАТИЗАЦ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ОБРАБОТ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3300"/>
                    </a:gs>
                    <a:gs pos="50000">
                      <a:srgbClr val="ffef66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Impact"/>
              </a:rPr>
              <a:t>ТЕКС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3300"/>
                  </a:gs>
                  <a:gs pos="50000">
                    <a:srgbClr val="ffef66"/>
                  </a:gs>
                  <a:gs pos="100000">
                    <a:srgbClr val="6633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5:04:10Z</dcterms:created>
  <dc:creator>Администратор</dc:creator>
  <dc:description/>
  <dc:language>en-US</dc:language>
  <cp:lastModifiedBy>Sergey</cp:lastModifiedBy>
  <dcterms:modified xsi:type="dcterms:W3CDTF">2012-04-24T06:40:40Z</dcterms:modified>
  <cp:revision>7</cp:revision>
  <dc:subject/>
  <dc:title>Слайд 1</dc:title>
</cp:coreProperties>
</file>