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AB0-1C1A-4E4A-B135-4CFBB4DF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F4C-9751-45D2-AA59-E829E26C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80E-C9C8-4D12-9EC4-6B793D62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386-DEED-4229-9F03-D567E012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8682-16C5-49EB-B6D4-B9C805FA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53EC-E2F6-4ABB-A09A-CA44A462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A9F1-1945-4A25-BEE8-37B37937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9297-2CD9-4CB5-95B4-1173254E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160-8781-4C14-86A9-B08B741C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917D-175A-4752-B1A3-05423F99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A53D-4622-4803-B904-558225E0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5C4-1963-40D9-82A7-CBBE007B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E6B9-FE36-49DA-A75D-8FB1C6C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4759-6E16-4E74-9FCE-2033C1E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B835-A19A-49B8-9F6C-4AF2C3F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3195-D594-471D-A95F-4BA65AFF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C75E-3B88-4B66-838D-995D68C2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16C-8AD4-426B-BBA3-19F4BCA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4C5-DBBD-43BC-BBA3-19010816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8AF-F969-46D6-B9B5-E13D27BF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9C9-B17B-4106-84D4-0500DB30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6E1-AB22-443A-907B-ABAAD55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F00-9B0D-4002-9775-E0B53626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0B5-7C18-4195-9E7D-074394C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9499-208B-4F1D-A5AF-1D8312BC64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2DEC-5B2B-42EE-A4B2-FCF13B5FF2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3573000"/>
            <a:ext cx="91440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РАБОТА С ТЕКСТОВОЙ ИНФОРМАЦИЕЙ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5920"/>
            <a:ext cx="9144000" cy="68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УМ ЗАКЛЮЧА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НЕ ТОЛЬКО В ЗНАНИ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НО И В УМ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ПРИЛАГАТЬ ЗН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НА ДЕЛ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00"/>
                </a:solidFill>
                <a:latin typeface="Arial Black"/>
              </a:rPr>
              <a:t>Аристотель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573000"/>
            <a:ext cx="91440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РАБОТА С ТЕКСТОВОЙ ИНФОРМАЦИЕЙ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50920" y="907920"/>
            <a:ext cx="784836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АВТОМАТИЗАЦ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ОБРАБОТ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ТЕК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26920" y="476280"/>
            <a:ext cx="748836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3300"/>
              </a:gs>
              <a:gs pos="50000">
                <a:srgbClr val="ffe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00"/>
                </a:solidFill>
                <a:latin typeface="Arial Black"/>
              </a:rPr>
              <a:t>ФОРМАТИРОВА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4869000"/>
            <a:ext cx="748836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3300"/>
              </a:gs>
              <a:gs pos="50000">
                <a:srgbClr val="ffe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00"/>
                </a:solidFill>
                <a:latin typeface="Arial Black"/>
              </a:rPr>
              <a:t>РЕДАКТИРОВА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133720"/>
            <a:ext cx="7704000" cy="2663640"/>
          </a:xfrm>
          <a:custGeom>
            <a:avLst/>
            <a:gdLst>
              <a:gd name="textAreaLeft" fmla="*/ 0 w 7704000"/>
              <a:gd name="textAreaRight" fmla="*/ 7704360 w 7704000"/>
              <a:gd name="textAreaTop" fmla="*/ 666000 h 2663640"/>
              <a:gd name="textAreaBottom" fmla="*/ 199800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421000"/>
            <a:ext cx="770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изменение содержания документ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55640" y="62064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ДАКТ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5805360"/>
            <a:ext cx="50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u.wikipedia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5640" y="62064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ДАКТ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843280" y="2997360"/>
            <a:ext cx="2879640" cy="1295280"/>
          </a:xfrm>
          <a:custGeom>
            <a:avLst/>
            <a:gdLst>
              <a:gd name="textAreaLeft" fmla="*/ 0 w 2879640"/>
              <a:gd name="textAreaRight" fmla="*/ 2880000 w 2879640"/>
              <a:gd name="textAreaTop" fmla="*/ 360 h 1295280"/>
              <a:gd name="textAreaBottom" fmla="*/ 129600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2997360"/>
            <a:ext cx="259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бор тек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997360"/>
            <a:ext cx="31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справление опеча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4437000"/>
            <a:ext cx="3384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пирование, перестановка, удаление частей тек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0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03280" y="115920"/>
            <a:ext cx="6697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ef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МАТИЗАЦ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ef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ef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ДАКТИРОВА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ef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133720"/>
            <a:ext cx="6624720" cy="1366560"/>
          </a:xfrm>
          <a:prstGeom prst="flowChartDocument">
            <a:avLst/>
          </a:prstGeom>
          <a:gradFill rotWithShape="0">
            <a:gsLst>
              <a:gs pos="0">
                <a:srgbClr val="ffef66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ПОИСК И ЗАМЕН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3716280"/>
            <a:ext cx="6624720" cy="1366920"/>
          </a:xfrm>
          <a:prstGeom prst="flowChartDocument">
            <a:avLst/>
          </a:prstGeom>
          <a:gradFill rotWithShape="0">
            <a:gsLst>
              <a:gs pos="0">
                <a:srgbClr val="ffef66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ПРОВЕРКА ОРФОГРАФ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5300640"/>
            <a:ext cx="6624720" cy="1366920"/>
          </a:xfrm>
          <a:prstGeom prst="flowChartDocument">
            <a:avLst/>
          </a:prstGeom>
          <a:gradFill rotWithShape="0">
            <a:gsLst>
              <a:gs pos="0">
                <a:srgbClr val="ffef66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АВТОЗАМЕНА И АВТОТЕК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907920"/>
            <a:ext cx="784836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АВТОМАТИЗАЦ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ОБРАБОТ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ТЕК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04:10Z</dcterms:created>
  <dc:creator>Администратор</dc:creator>
  <dc:description/>
  <dc:language>en-US</dc:language>
  <cp:lastModifiedBy>Sergey</cp:lastModifiedBy>
  <dcterms:modified xsi:type="dcterms:W3CDTF">2012-04-24T06:40:40Z</dcterms:modified>
  <cp:revision>7</cp:revision>
  <dc:subject/>
  <dc:title>Слайд 1</dc:title>
</cp:coreProperties>
</file>