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8.jpeg" ContentType="image/jpeg"/>
  <Override PartName="/ppt/media/image5.jpeg" ContentType="image/jpeg"/>
  <Override PartName="/ppt/media/image35.png" ContentType="image/pn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13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693-8BD4-4787-B6B9-AE95BFF9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168-5449-4A17-AD53-DF6FB33C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DDB-B20F-456A-84C0-30402E38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055-E2FE-474C-AD43-065F13C7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DAB0E-733B-49CF-8574-B022D832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C3F3-2AEA-4222-A52E-60CB2304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2F082-B81C-4FE9-89DA-BDB7E79C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4093A-434C-4B14-BF51-675B24C9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D470B-8EB8-4EEE-AF5A-B7101958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2B9C8-D87E-4BD0-9C16-C1D8C657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84F19-C39A-49A7-8EA4-6849970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1D3-E123-43C2-9CA7-4D1ABA41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238D1-7DED-4AFE-8CCB-15108D0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B1B2D-FB5C-4FB5-9F09-AC5C1B0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06567-D046-4295-9878-196D127A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AB0CC-D25B-4379-B5BF-9FEC5AD9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8F03F-B8EC-4392-B895-B5187284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3B8FA-65BB-4B40-94C5-E44EF87E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8C0D-C9B0-4DA1-A6D3-78735C8E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2DFDA-90D3-44D8-9180-D589F042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484FE-3FF1-452A-9712-D205633F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67B59-C4A9-43EB-8522-C851041D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0F9-BAAD-4676-BE17-B7E7BCF5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1000-6542-4657-A682-A406A5E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D12D-3F94-47D5-842C-625001CB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2355-CF00-4112-8DA0-FF83124D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0F60-5122-4351-863E-507DB66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F7F8-B5F4-4A9D-BBD5-591DF9BD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83D0-1E41-415E-A8A6-EB0C62D2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B008B-D162-4074-9892-41F9009F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5DF49C-1922-4E2F-9090-5F749322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07EA74-EE1C-47BF-BF1E-B4582B48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87D3E-2FEA-4AF4-8626-3B190B18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ED4-235C-4C8A-9C9F-B23313AA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C65012-77EE-4D5D-AEDB-B1D2B333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33B5E4-A750-4146-8257-1381305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24AB43-EE29-4F2A-A80D-7EDBE303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C694A-D938-47DD-A235-8D97914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02ED70-C42F-46BA-8123-24BFED3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9EF1C-3BA7-4D6B-8D77-8D4110A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3F8D7-41F8-4B42-A8D6-36379180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02347-2223-45E7-B278-0139AEBA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F70CB-7B41-4779-89A5-F43810B6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6C0-CEE0-4FD0-A7AA-978DB10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161-774A-4341-9DFC-4C10C12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351-D2E4-42AE-BC06-00A415D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65D-7A0C-4533-B27F-6DABEF7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FE6-9B80-447E-B3B1-11CD1899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5EAC-7E6C-4761-8480-D88B761551E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3FF6-8EF2-4C59-8AC4-618EEF72B60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8166-3B3C-41BE-A22E-06E14861F2E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ABAE-19EC-4315-8D76-A4C3B6B4AA3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Times New Roman"/>
              </a:rPr>
              <a:t>Выполнил ученик 6 класса 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Times New Roman"/>
              </a:rPr>
              <a:t>МАОУ лицея № 8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Times New Roman"/>
              </a:rPr>
              <a:t>Окороков Дани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efac9"/>
                </a:solidFill>
                <a:latin typeface="Times New Roman"/>
              </a:rPr>
              <a:t>Г. Томс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172" name="01-Дашкевич Владимир--Увертюра (Часть 1, Знакомство).mp3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627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рассказе «Пестрая лента» он остается в темноте один на один с ядовитой змеей, укус которой грозит гибель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другом рассказе «Человек с рассеченной губой» Холмс, переодевшись стариком, отправляется в разбойничий притон, где малейшая неосторожность также грозит смерть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«Рейгетских сквайрах» мистеру Холмсу пришлось противостоять двум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иролюбивым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помещикам, которые пытались задушить е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Данил\Рабочий стол\Документы\Documents\Документы(школа)\Шерлок Холмс\Ш.Х.JPG"/>
          <p:cNvPicPr/>
          <p:nvPr/>
        </p:nvPicPr>
        <p:blipFill>
          <a:blip r:embed="rId2"/>
          <a:stretch/>
        </p:blipFill>
        <p:spPr>
          <a:xfrm>
            <a:off x="1143000" y="1371600"/>
            <a:ext cx="6400800" cy="512136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2" descr=""/>
          <p:cNvPicPr/>
          <p:nvPr/>
        </p:nvPicPr>
        <p:blipFill>
          <a:blip r:embed="rId3"/>
          <a:stretch/>
        </p:blipFill>
        <p:spPr>
          <a:xfrm>
            <a:off x="-19080" y="-6480"/>
            <a:ext cx="925524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Данил\Рабочий стол\Документы\Documents\Документы(школа)\Шерлок Холмс\Х. Ш..JPG"/>
          <p:cNvPicPr/>
          <p:nvPr/>
        </p:nvPicPr>
        <p:blipFill>
          <a:blip r:embed="rId2"/>
          <a:stretch/>
        </p:blipFill>
        <p:spPr>
          <a:xfrm>
            <a:off x="1066680" y="838080"/>
            <a:ext cx="6953400" cy="5562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304560" y="1523520"/>
            <a:ext cx="4211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аждом рассказе о приключениях Шерлока Холмса его мыслительная работа – это настоящий подвиг. Раздумывая над какой-нибудь сложной задачей, представляя ситуацию с разных точек зрения, сопоставляя факты, он может не спать, не есть, не отдыхать целыми сутками, более того, неделями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4572000" y="2131920"/>
            <a:ext cx="4114800" cy="311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истер Холмс редкостно наблюдателен, внимательно и точно, как никто другой, подмечает такие явления, мимо которых люди проходят, не задумываясь. Стоит Холмсу посмотреть на любого человека,  менее того, на вещь – на перчатки, на трость, на шляпу, и он с уверенностью определит характер человека, состоит ли он в браке, чем занимается, какое у него хобби. При взгляде на человека огромное значение для этого сыщика имеют рукава, обувь, пыль, пепел, грязь, ногти, шнуровка ботинок, осанка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ассказе «Собака Баскервилей» Шерлок Холмс определил по трости доктора Мортимера, что этот врач – молодой человек  не старше 30 лет, любезный, рассеянный, не честолюбивый, к тому же, очень любящий свою собаку – кокер-спаниеля. Всё это подтвердилос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C:\Documents and Settings\Данил\Рабочий стол\Документы\Documents\Документы(школа)\Шерлок Холмс\PDVD_036.JPG"/>
          <p:cNvPicPr/>
          <p:nvPr/>
        </p:nvPicPr>
        <p:blipFill>
          <a:blip r:embed="rId3"/>
          <a:stretch/>
        </p:blipFill>
        <p:spPr>
          <a:xfrm>
            <a:off x="4648320" y="2185920"/>
            <a:ext cx="4059000" cy="324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Documents and Settings\Данил\Рабочий стол\Документы\Documents\Документы(школа)\Шерлок Холмс\Шерлок Холмс.JPG"/>
          <p:cNvPicPr/>
          <p:nvPr/>
        </p:nvPicPr>
        <p:blipFill>
          <a:blip r:embed="rId3"/>
          <a:stretch/>
        </p:blipFill>
        <p:spPr>
          <a:xfrm>
            <a:off x="457200" y="2185920"/>
            <a:ext cx="4059360" cy="3247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другом рассказе «Пестрая лента » Холмс при первом взгляде на молодую особу сразу определил, что она рано встала чтобы доехать из пригорода в Лондон, что сначала ехала в двуколке, сидела слева от кучера; затем она добиралась поезд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ресно, что в работе, как и в жизни у Холмса нет ничего полицейского, хоть он и детектив. Шерлок Холмс очень любит музыку Гайдна и Вагнера, сам превосходно играет на скрипке. В разговоре часто цитирует Петрарку, Горация и др. поэтов и писател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мистера Холмса есть труды по химии и психиатрии. Он замечательно фехтует, боксирует,  владеет рядом восточных единоборств, в том числе бартитсу и джиу-джитс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ниги о приключениях великого детектива были написаны для взрослых, но они давно уже стали детскими книгами, а сам Шерлок Холмс  - любимым героем школьник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не мистер Шерлок Холмс нравится за свою храбрость , бесстрашие, самоотверженность, а, главное, за свой дедуктивный метод, благодаря которому были распутаны тысячи преступлени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647960" y="1523520"/>
            <a:ext cx="4059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 курсах по информатике в ТГУ, мы делали проекты, посвященные 130-летию Университета . Я выбрал химический факультет и для создания календаря и мультфильма обратился к превосходному химику и детективу – Шерлоку Холмсу. На календаре он производит опыт горения сахара за утренним чае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Содержимое 8" descr="Календарь с Шерлоком Холмсом.jpg"/>
          <p:cNvPicPr/>
          <p:nvPr/>
        </p:nvPicPr>
        <p:blipFill>
          <a:blip r:embed="rId3"/>
          <a:stretch/>
        </p:blipFill>
        <p:spPr>
          <a:xfrm>
            <a:off x="304920" y="2209680"/>
            <a:ext cx="4572000" cy="317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Documents and Settings\Данил\Рабочий стол\Документы\Documents\Документы(школа)\Шерлок Холмс\Sir-Arthur-Conan-Doyle.jpg"/>
          <p:cNvPicPr/>
          <p:nvPr/>
        </p:nvPicPr>
        <p:blipFill>
          <a:blip r:embed="rId3"/>
          <a:stretch/>
        </p:blipFill>
        <p:spPr>
          <a:xfrm>
            <a:off x="685800" y="2133720"/>
            <a:ext cx="3416400" cy="3321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4114440" y="15235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втор повестей и рассказов о Шерлоке Холмсе, знаменитый английский писатель Артур Конан Дойл, родился в Эдинбурге в 1859 г. Он закончил медицинский факультет, но мечтал о морских путешествиях – плавал по Ледовитому океану, путешествовал в Африк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 числу экранизаций история о Шерлоке Холмсе и докторе Ватсоне попала в Книгу рекордов Гиннеса. На данный момент насчитывается около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10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кинокартин с участием сыщи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Фильмы снимались и в Германии, и в США, и в Канаде, и в Англии, и даже в Австралии, но все-таки сама королева Великобритании Елизавета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наградила рыцарским титулом и орденом Британской Империи лишь одного из шести исполнителей роли Шерлока Холмса – Василия Ливано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28240" y="152352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еличайшему сыщику всех времен и народов поставлено памятников больше, чем любому другому литературному герою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нглийская королева Елизавета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казала основать Музей Шерлока Холмса на Бейкер-стрит, 22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, где по книге А. Конан Дойла жил и работал великий детекти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3" descr="C:\Documents and Settings\Данил\Рабочий стол\Документы\Documents\Документы(школа)\Шерлок Холмс\holmes.bmp"/>
          <p:cNvPicPr/>
          <p:nvPr/>
        </p:nvPicPr>
        <p:blipFill>
          <a:blip r:embed="rId3"/>
          <a:stretch/>
        </p:blipFill>
        <p:spPr>
          <a:xfrm>
            <a:off x="4952880" y="1523880"/>
            <a:ext cx="3276720" cy="491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Данил\Рабочий стол\Документы\Documents\Документы(школа)\Шерлок Холмс\46428327_IMG_9810_edited.jpg"/>
          <p:cNvPicPr/>
          <p:nvPr/>
        </p:nvPicPr>
        <p:blipFill>
          <a:blip r:embed="rId2"/>
          <a:stretch/>
        </p:blipFill>
        <p:spPr>
          <a:xfrm>
            <a:off x="2286000" y="1523880"/>
            <a:ext cx="4495680" cy="480564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4" descr=""/>
          <p:cNvPicPr/>
          <p:nvPr/>
        </p:nvPicPr>
        <p:blipFill>
          <a:blip r:embed="rId3"/>
          <a:stretch/>
        </p:blipFill>
        <p:spPr>
          <a:xfrm>
            <a:off x="139680" y="96840"/>
            <a:ext cx="8785080" cy="136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Documents and Settings\Данил\Рабочий стол\Документы\Documents\Документы(школа)\Шерлок Холмс\i-2668.jpg"/>
          <p:cNvPicPr/>
          <p:nvPr/>
        </p:nvPicPr>
        <p:blipFill>
          <a:blip r:embed="rId2"/>
          <a:stretch/>
        </p:blipFill>
        <p:spPr>
          <a:xfrm>
            <a:off x="2666880" y="1523880"/>
            <a:ext cx="3581640" cy="4775400"/>
          </a:xfrm>
          <a:prstGeom prst="rect">
            <a:avLst/>
          </a:prstGeom>
          <a:ln w="0">
            <a:noFill/>
          </a:ln>
        </p:spPr>
      </p:pic>
      <p:pic>
        <p:nvPicPr>
          <p:cNvPr id="225" name="Заголовок 2" descr=""/>
          <p:cNvPicPr/>
          <p:nvPr/>
        </p:nvPicPr>
        <p:blipFill>
          <a:blip r:embed="rId3"/>
          <a:stretch/>
        </p:blipFill>
        <p:spPr>
          <a:xfrm>
            <a:off x="42840" y="92160"/>
            <a:ext cx="8955000" cy="128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Данил\Рабочий стол\Документы\Documents\Документы(школа)\Шерлок Холмс\HolmesWatsonSculpture.jpg"/>
          <p:cNvPicPr/>
          <p:nvPr/>
        </p:nvPicPr>
        <p:blipFill>
          <a:blip r:embed="rId2"/>
          <a:stretch/>
        </p:blipFill>
        <p:spPr>
          <a:xfrm>
            <a:off x="1219320" y="1371600"/>
            <a:ext cx="6603840" cy="4952880"/>
          </a:xfrm>
          <a:prstGeom prst="rect">
            <a:avLst/>
          </a:prstGeom>
          <a:ln w="0">
            <a:noFill/>
          </a:ln>
        </p:spPr>
      </p:pic>
      <p:pic>
        <p:nvPicPr>
          <p:cNvPr id="227" name="Заголовок 2" descr=""/>
          <p:cNvPicPr/>
          <p:nvPr/>
        </p:nvPicPr>
        <p:blipFill>
          <a:blip r:embed="rId3"/>
          <a:stretch/>
        </p:blipFill>
        <p:spPr>
          <a:xfrm>
            <a:off x="255600" y="225360"/>
            <a:ext cx="8364600" cy="107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Данил\Рабочий стол\Документы\Documents\Документы(школа)\Шерлок Холмс\FOOU1oVSz.jpg"/>
          <p:cNvPicPr/>
          <p:nvPr/>
        </p:nvPicPr>
        <p:blipFill>
          <a:blip r:embed="rId2"/>
          <a:stretch/>
        </p:blipFill>
        <p:spPr>
          <a:xfrm>
            <a:off x="2743200" y="1371600"/>
            <a:ext cx="3429000" cy="516420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2" descr=""/>
          <p:cNvPicPr/>
          <p:nvPr/>
        </p:nvPicPr>
        <p:blipFill>
          <a:blip r:embed="rId3"/>
          <a:stretch/>
        </p:blipFill>
        <p:spPr>
          <a:xfrm>
            <a:off x="103320" y="225360"/>
            <a:ext cx="9016920" cy="100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Я считаю, что великий детектив учит каждого из нас повышенной зоркости, сосредоточенного внимания к самым обыкновенным вещам, он приучает нас ориентироваться в  окружающем мире;  он искореняет, как великий порок всякое ротозейство, верхоглядство, всякое равнодушие к мельчайшим подробностям, деталям окружающей нас жизн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не, хорошо знакомому с Шерлоком Холмсом, всегда интересно и захватывающе перечитывать книги вновь и вновь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зже Артур Конан Дойл обосновался в Лондоне. Доходов медицинская практика не давала, и, ожидая своих пациентов, чтобы как-то заполнить невольный досуг, он начал писать рассказы и очерки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днажды вспомнил чудака Джозефа Белла из мед. техникума в Эдинбурге. Этот Белл удивлял студентов своей наблюдательностью и необыкновенным умением при помощи «дедуктивного метода » разбираться в запутанных житейских проблем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книги Артура Конан Дойла Белл вошел под вымышленным именем Шерлок Холм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Documents and Settings\Данил\Рабочий стол\Документы\Documents\Документы(школа)\Шерлок Холмс\Sherlock_Holmes_Portrait_Paget.jpg"/>
          <p:cNvPicPr/>
          <p:nvPr/>
        </p:nvPicPr>
        <p:blipFill>
          <a:blip r:embed="rId3"/>
          <a:stretch/>
        </p:blipFill>
        <p:spPr>
          <a:xfrm>
            <a:off x="725400" y="1523880"/>
            <a:ext cx="3522600" cy="4572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47960" y="1523880"/>
            <a:ext cx="4059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тех пор «отшельник с Бейкер-стрит» стал одним из самых популярных  и любимых героев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повести и рассказы о нём называются детективными, т.к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ctive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- англ. «сыщик»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Есть во всем Лондоне лишь один человек, который доберется до правды, отыщет виновного и не допустит, чтобы ни в чем не повинные люди  попали на скамью подсудимых. Зовут его Шерлок Холмс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н живет на Бейкер-стрит. Это очень незаметная, тихая улица, которая известна всему миру. Недаром к великому сыщику со всего света стекаются люди, ошеломленные каким-нибудь загадочным, необычайным событием, дерзким поступком или злым преступлением. Это министр и бедная девушка, знатная дама и даже королевская особа, служанка и молодой баронет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Данил\Рабочий стол\Документы\Documents\Документы(школа)\Шерлок Холмс\bakerstreet01.jpg"/>
          <p:cNvPicPr/>
          <p:nvPr/>
        </p:nvPicPr>
        <p:blipFill>
          <a:blip r:embed="rId2"/>
          <a:stretch/>
        </p:blipFill>
        <p:spPr>
          <a:xfrm>
            <a:off x="838080" y="1371600"/>
            <a:ext cx="7162920" cy="5035680"/>
          </a:xfrm>
          <a:prstGeom prst="rect">
            <a:avLst/>
          </a:prstGeom>
          <a:ln w="0">
            <a:noFill/>
          </a:ln>
        </p:spPr>
      </p:pic>
      <p:pic>
        <p:nvPicPr>
          <p:cNvPr id="184" name="Заголовок 2" descr=""/>
          <p:cNvPicPr/>
          <p:nvPr/>
        </p:nvPicPr>
        <p:blipFill>
          <a:blip r:embed="rId3"/>
          <a:stretch/>
        </p:blipFill>
        <p:spPr>
          <a:xfrm>
            <a:off x="450720" y="23760"/>
            <a:ext cx="8302680" cy="1354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ди уверены, что Шерлок Холмс при помощи своей могучей мысли разъяснит, распутает всё, что кажется безнадежно запутанным. Разгадка каждого дела – для Холмса вопрос жизни и смерт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т таких опаснейших подвигов, от которых он уклонился бы, если они могут обеспечить ему победу Добра и Правд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Заголовок 3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04560" y="1523880"/>
            <a:ext cx="4211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 Холмсу, снимающему скромную квартиру на Бейкер-стрит у миссис Хадсон заселился военный врач доктор Джон Ватсон. Поначалу Ватсон принял Холмса за мошенника, но потом ему стало ясно, что Холмс – сыщик, мистер Ватсон стал его помощником и, главное,  друг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Picture 2" descr="C:\Documents and Settings\Данил\Рабочий стол\Документы\Documents\Документы(школа)\Шерлок Холмс\watson.jpg"/>
          <p:cNvPicPr/>
          <p:nvPr/>
        </p:nvPicPr>
        <p:blipFill>
          <a:blip r:embed="rId3"/>
          <a:stretch/>
        </p:blipFill>
        <p:spPr>
          <a:xfrm>
            <a:off x="4495680" y="1752480"/>
            <a:ext cx="4191120" cy="43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C:\Documents and Settings\Данил\Рабочий стол\Документы\Documents\Документы(школа)\Шерлок Холмс\PDVD_035.JPG"/>
          <p:cNvPicPr/>
          <p:nvPr/>
        </p:nvPicPr>
        <p:blipFill>
          <a:blip r:embed="rId3"/>
          <a:stretch/>
        </p:blipFill>
        <p:spPr>
          <a:xfrm>
            <a:off x="457200" y="2185920"/>
            <a:ext cx="4059360" cy="3247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647960" y="1523880"/>
            <a:ext cx="4059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Холмса есть заклятый враг –глава лондонского криминала, скромный  школьный учитель математики Мориарти, который то и дело пытается заколоть, застрелить, сбросить в водопад, отравить сыщика. Но Шерлок Холмс героически храбр, не боится ни яда, ни пул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govskayaev</cp:lastModifiedBy>
  <dcterms:modified xsi:type="dcterms:W3CDTF">2013-04-17T04:07:1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