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8.jpeg" ContentType="image/jpeg"/>
  <Override PartName="/ppt/media/image5.jpeg" ContentType="image/jpeg"/>
  <Override PartName="/ppt/media/image35.png" ContentType="image/png"/>
  <Override PartName="/ppt/media/image28.jpeg" ContentType="image/jpeg"/>
  <Override PartName="/ppt/media/image20.png" ContentType="image/png"/>
  <Override PartName="/ppt/media/image34.jpeg" ContentType="image/jpeg"/>
  <Override PartName="/ppt/media/image7.jpeg" ContentType="image/jpeg"/>
  <Override PartName="/ppt/media/image13.png" ContentType="image/png"/>
  <Override PartName="/ppt/media/image30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9C8-9B9F-4F74-9224-BD6938C3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C33-8F0E-43C0-A405-401DF78C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368-A777-4DEF-BCAB-480A9BB7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5AC-D6F3-4C0D-BF90-F9892310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FF10F-8B09-4F5E-88F9-EFFED8DD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DC42E-E2FD-49C3-AF64-79D58F29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E712A-A29B-49BB-94BE-1606B274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6198D-990D-44D9-8FFE-6E096D03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4138D-79A7-4B81-B755-0619B690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96B29-2CDB-49F6-AE58-AE36D83B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03611-38BA-4F48-89EB-EAFAA6A5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4A6-E8F3-4E04-A67C-04943671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8FEF6-14ED-4191-A913-38FFDB06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2D8BF-6150-44BA-B8FD-D18AE240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7D149-AE69-4D0C-AD57-43058909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EDB28-3F9C-45A3-AAE0-B3411FE2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B00B1-C650-41AB-8FC2-6AF579D1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238D2-3FD9-4ABD-A84C-A26DF686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8CD10-1010-4642-AB32-E3D349C9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8B518-F6C7-4310-AF3E-9EF88A73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2CB21-288E-4C73-A836-0F0D1FD3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ABABB-A765-4CD8-92AA-53B776EF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67F4-383F-4FC8-85A2-D9FE6B1B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2CDBB-985B-4801-B1AD-3B57AE16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185AD-743E-4865-ACEE-6C0ED0A8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5EED1-F86E-4C4A-94D2-4D30CD02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D346D-AD7E-4A38-BAF4-7F2F4F23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CAFC6-5851-42AF-9149-C6F8558E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2DACF-90C8-4449-A560-B448F9A9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9A8B3-023E-47F0-A9EB-18E00131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C4BCD3-85A9-4905-AE51-7083D9E3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57F210-4032-4BD6-8624-FA7F7DC1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9DB5C0-7B8C-45E6-93B5-40A548D1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28B5-CC6D-4D55-9ECC-5A7BEAE7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736139-4459-4CFA-B6AD-78D937A7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1203C8-C552-4B4E-883E-2FC3F1AB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8F93B0-B754-494B-88D8-AB886086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89FED9-B588-4772-AF2C-00B36FF1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9AA76F-9E90-46EA-AB02-3C31457E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107E35-94E0-4784-817D-E6036F0E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A91161-8B2F-4B42-83EC-A8499132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F85234-8A81-46C7-B7C5-5014E813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4072C5-F709-42DE-8AD1-B8B265C5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027-140F-457A-A38C-95E40558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9C5-2BC7-4964-B57F-72937546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6A0-1574-4272-A14A-18137949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B27-8011-4C25-AC97-67A5EE86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F252-13C9-45C5-86D1-83EA7DF8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F0A0-3A07-4ED2-81CC-7ED28EE6CD5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80B3-8A05-4D46-A79D-E86B822D6E3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9B2B-292B-4D00-BA2C-9A4106F11C3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43A8-4D0C-4C4C-930E-315202033C5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Times New Roman"/>
              </a:rPr>
              <a:t>Выполнил ученик 6 класса Г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Times New Roman"/>
              </a:rPr>
              <a:t>МАОУ лицея № 8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Times New Roman"/>
              </a:rPr>
              <a:t>Окороков Дани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Times New Roman"/>
              </a:rPr>
              <a:t>Г. Томс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pic>
        <p:nvPicPr>
          <p:cNvPr id="172" name="01-Дашкевич Владимир--Увертюра (Часть 1, Знакомство).mp3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8627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рассказе «Пестрая лента» он остается в темноте один на один с ядовитой змеей, укус которой грозит гибель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другом рассказе «Человек с рассеченной губой» Холмс, переодевшись стариком, отправляется в разбойничий притон, где малейшая неосторожность также грозит смерть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«Рейгетских сквайрах» мистеру Холмсу пришлось противостоять двум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иролюбивым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помещикам, которые пытались задушить ег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4" name="Заголовок 4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Documents and Settings\Данил\Рабочий стол\Документы\Documents\Документы(школа)\Шерлок Холмс\Ш.Х.JPG"/>
          <p:cNvPicPr/>
          <p:nvPr/>
        </p:nvPicPr>
        <p:blipFill>
          <a:blip r:embed="rId2"/>
          <a:stretch/>
        </p:blipFill>
        <p:spPr>
          <a:xfrm>
            <a:off x="1143000" y="1371600"/>
            <a:ext cx="6400800" cy="512136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2" descr=""/>
          <p:cNvPicPr/>
          <p:nvPr/>
        </p:nvPicPr>
        <p:blipFill>
          <a:blip r:embed="rId3"/>
          <a:stretch/>
        </p:blipFill>
        <p:spPr>
          <a:xfrm>
            <a:off x="-19080" y="-6480"/>
            <a:ext cx="925524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Данил\Рабочий стол\Документы\Documents\Документы(школа)\Шерлок Холмс\Х. Ш..JPG"/>
          <p:cNvPicPr/>
          <p:nvPr/>
        </p:nvPicPr>
        <p:blipFill>
          <a:blip r:embed="rId2"/>
          <a:stretch/>
        </p:blipFill>
        <p:spPr>
          <a:xfrm>
            <a:off x="1066680" y="838080"/>
            <a:ext cx="6953400" cy="5562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304560" y="1523520"/>
            <a:ext cx="4211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каждом рассказе о приключениях Шерлока Холмса его мыслительная работа – это настоящий подвиг. Раздумывая над какой-нибудь сложной задачей, представляя ситуацию с разных точек зрения, сопоставляя факты, он может не спать, не есть, не отдыхать целыми сутками, более того, неделями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3"/>
          <a:stretch/>
        </p:blipFill>
        <p:spPr>
          <a:xfrm>
            <a:off x="4572000" y="2131920"/>
            <a:ext cx="4114800" cy="311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истер Холмс редкостно наблюдателен, внимательно и точно, как никто другой, подмечает такие явления, мимо которых люди проходят, не задумываясь. Стоит Холмсу посмотреть на любого человека,  менее того, на вещь – на перчатки, на трость, на шляпу, и он с уверенностью определит характер человека, состоит ли он в браке, чем занимается, какое у него хобби. При взгляде на человека огромное значение для этого сыщика имеют рукава, обувь, пыль, пепел, грязь, ногти, шнуровка ботинок, осанка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Заголовок 4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рассказе «Собака Баскервилей» Шерлок Холмс определил по трости доктора Мортимера, что этот врач – молодой человек  не старше 30 лет, любезный, рассеянный, не честолюбивый, к тому же, очень любящий свою собаку – кокер-спаниеля. Всё это подтвердилось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Picture 2" descr="C:\Documents and Settings\Данил\Рабочий стол\Документы\Documents\Документы(школа)\Шерлок Холмс\PDVD_036.JPG"/>
          <p:cNvPicPr/>
          <p:nvPr/>
        </p:nvPicPr>
        <p:blipFill>
          <a:blip r:embed="rId3"/>
          <a:stretch/>
        </p:blipFill>
        <p:spPr>
          <a:xfrm>
            <a:off x="4648320" y="2185920"/>
            <a:ext cx="4059000" cy="324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Documents and Settings\Данил\Рабочий стол\Документы\Documents\Документы(школа)\Шерлок Холмс\Шерлок Холмс.JPG"/>
          <p:cNvPicPr/>
          <p:nvPr/>
        </p:nvPicPr>
        <p:blipFill>
          <a:blip r:embed="rId3"/>
          <a:stretch/>
        </p:blipFill>
        <p:spPr>
          <a:xfrm>
            <a:off x="457200" y="2185920"/>
            <a:ext cx="4059360" cy="3247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другом рассказе «Пестрая лента » Холмс при первом взгляде на молодую особу сразу определил, что она рано встала чтобы доехать из пригорода в Лондон, что сначала ехала в двуколке, сидела слева от кучера; затем она добиралась поездо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тересно, что в работе, как и в жизни у Холмса нет ничего полицейского, хоть он и детектив. Шерлок Холмс очень любит музыку Гайдна и Вагнера, сам превосходно играет на скрипке. В разговоре часто цитирует Петрарку, Горация и др. поэтов и писателе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мистера Холмса есть труды по химии и психиатрии. Он замечательно фехтует, боксирует,  владеет рядом восточных единоборств, в том числе бартитсу и джиу-джитсу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1" name="Заголовок 4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ниги о приключениях великого детектива были написаны для взрослых, но они давно уже стали детскими книгами, а сам Шерлок Холмс  - любимым героем школьник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не мистер Шерлок Холмс нравится за свою храбрость , бесстрашие, самоотверженность, а, главное, за свой дедуктивный метод, благодаря которому были распутаны тысячи преступлени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4647960" y="1523520"/>
            <a:ext cx="4059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курсах по информатике в ТГУ, мы делали проекты, посвященные 130-летию Университета . Я выбрал химический факультет и для создания календаря и мультфильма обратился к превосходному химику и детективу – Шерлоку Холмсу. На календаре он производит опыт горения сахара за утренним чае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Содержимое 8" descr="Календарь с Шерлоком Холмсом.jpg"/>
          <p:cNvPicPr/>
          <p:nvPr/>
        </p:nvPicPr>
        <p:blipFill>
          <a:blip r:embed="rId3"/>
          <a:stretch/>
        </p:blipFill>
        <p:spPr>
          <a:xfrm>
            <a:off x="304920" y="2209680"/>
            <a:ext cx="4572000" cy="317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C:\Documents and Settings\Данил\Рабочий стол\Документы\Documents\Документы(школа)\Шерлок Холмс\Sir-Arthur-Conan-Doyle.jpg"/>
          <p:cNvPicPr/>
          <p:nvPr/>
        </p:nvPicPr>
        <p:blipFill>
          <a:blip r:embed="rId3"/>
          <a:stretch/>
        </p:blipFill>
        <p:spPr>
          <a:xfrm>
            <a:off x="685800" y="2133720"/>
            <a:ext cx="3416400" cy="3321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4114440" y="152352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втор повестей и рассказов о Шерлоке Холмсе, знаменитый английский писатель Артур Конан Дойл, родился в Эдинбурге в 1859 г. Он закончил медицинский факультет, но мечтал о морских путешествиях – плавал по Ледовитому океану, путешествовал в Африк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 числу экранизаций история о Шерлоке Холмсе и докторе Ватсоне попала в Книгу рекордов Гиннеса. На данный момент насчитывается около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10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кинокартин с участием сыщик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Фильмы снимались и в Германии, и в США, и в Канаде, и в Англии, и даже в Австралии, но все-таки сама королева Великобритании Елизавета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наградила рыцарским титулом и орденом Британской Империи лишь одного из шести исполнителей роли Шерлока Холмса – Василия Ливанов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Заголовок 4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228240" y="152352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еличайшему сыщику всех времен и народов поставлено памятников больше, чем любому другому литературному герою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нглийская королева Елизавета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иказала основать Музей Шерлока Холмса на Бейкер-стрит, 221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 где по книге А. Конан Дойла жил и работал великий детекти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3" descr="C:\Documents and Settings\Данил\Рабочий стол\Документы\Documents\Документы(школа)\Шерлок Холмс\holmes.bmp"/>
          <p:cNvPicPr/>
          <p:nvPr/>
        </p:nvPicPr>
        <p:blipFill>
          <a:blip r:embed="rId3"/>
          <a:stretch/>
        </p:blipFill>
        <p:spPr>
          <a:xfrm>
            <a:off x="4952880" y="1523880"/>
            <a:ext cx="3276720" cy="491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:\Documents and Settings\Данил\Рабочий стол\Документы\Documents\Документы(школа)\Шерлок Холмс\46428327_IMG_9810_edited.jpg"/>
          <p:cNvPicPr/>
          <p:nvPr/>
        </p:nvPicPr>
        <p:blipFill>
          <a:blip r:embed="rId2"/>
          <a:stretch/>
        </p:blipFill>
        <p:spPr>
          <a:xfrm>
            <a:off x="2286000" y="1523880"/>
            <a:ext cx="4495680" cy="4805640"/>
          </a:xfrm>
          <a:prstGeom prst="rect">
            <a:avLst/>
          </a:prstGeom>
          <a:ln w="0">
            <a:noFill/>
          </a:ln>
        </p:spPr>
      </p:pic>
      <p:pic>
        <p:nvPicPr>
          <p:cNvPr id="223" name="Заголовок 4" descr=""/>
          <p:cNvPicPr/>
          <p:nvPr/>
        </p:nvPicPr>
        <p:blipFill>
          <a:blip r:embed="rId3"/>
          <a:stretch/>
        </p:blipFill>
        <p:spPr>
          <a:xfrm>
            <a:off x="139680" y="96840"/>
            <a:ext cx="8785080" cy="136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Documents and Settings\Данил\Рабочий стол\Документы\Documents\Документы(школа)\Шерлок Холмс\i-2668.jpg"/>
          <p:cNvPicPr/>
          <p:nvPr/>
        </p:nvPicPr>
        <p:blipFill>
          <a:blip r:embed="rId2"/>
          <a:stretch/>
        </p:blipFill>
        <p:spPr>
          <a:xfrm>
            <a:off x="2666880" y="1523880"/>
            <a:ext cx="3581640" cy="4775400"/>
          </a:xfrm>
          <a:prstGeom prst="rect">
            <a:avLst/>
          </a:prstGeom>
          <a:ln w="0">
            <a:noFill/>
          </a:ln>
        </p:spPr>
      </p:pic>
      <p:pic>
        <p:nvPicPr>
          <p:cNvPr id="225" name="Заголовок 2" descr=""/>
          <p:cNvPicPr/>
          <p:nvPr/>
        </p:nvPicPr>
        <p:blipFill>
          <a:blip r:embed="rId3"/>
          <a:stretch/>
        </p:blipFill>
        <p:spPr>
          <a:xfrm>
            <a:off x="42840" y="92160"/>
            <a:ext cx="8955000" cy="12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C:\Documents and Settings\Данил\Рабочий стол\Документы\Documents\Документы(школа)\Шерлок Холмс\HolmesWatsonSculpture.jpg"/>
          <p:cNvPicPr/>
          <p:nvPr/>
        </p:nvPicPr>
        <p:blipFill>
          <a:blip r:embed="rId2"/>
          <a:stretch/>
        </p:blipFill>
        <p:spPr>
          <a:xfrm>
            <a:off x="1219320" y="1371600"/>
            <a:ext cx="6603840" cy="4952880"/>
          </a:xfrm>
          <a:prstGeom prst="rect">
            <a:avLst/>
          </a:prstGeom>
          <a:ln w="0">
            <a:noFill/>
          </a:ln>
        </p:spPr>
      </p:pic>
      <p:pic>
        <p:nvPicPr>
          <p:cNvPr id="227" name="Заголовок 2" descr=""/>
          <p:cNvPicPr/>
          <p:nvPr/>
        </p:nvPicPr>
        <p:blipFill>
          <a:blip r:embed="rId3"/>
          <a:stretch/>
        </p:blipFill>
        <p:spPr>
          <a:xfrm>
            <a:off x="255600" y="225360"/>
            <a:ext cx="8364600" cy="10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Documents and Settings\Данил\Рабочий стол\Документы\Documents\Документы(школа)\Шерлок Холмс\FOOU1oVSz.jpg"/>
          <p:cNvPicPr/>
          <p:nvPr/>
        </p:nvPicPr>
        <p:blipFill>
          <a:blip r:embed="rId2"/>
          <a:stretch/>
        </p:blipFill>
        <p:spPr>
          <a:xfrm>
            <a:off x="2743200" y="1371600"/>
            <a:ext cx="3429000" cy="5164200"/>
          </a:xfrm>
          <a:prstGeom prst="rect">
            <a:avLst/>
          </a:prstGeom>
          <a:ln w="0">
            <a:noFill/>
          </a:ln>
        </p:spPr>
      </p:pic>
      <p:pic>
        <p:nvPicPr>
          <p:cNvPr id="229" name="Заголовок 2" descr=""/>
          <p:cNvPicPr/>
          <p:nvPr/>
        </p:nvPicPr>
        <p:blipFill>
          <a:blip r:embed="rId3"/>
          <a:stretch/>
        </p:blipFill>
        <p:spPr>
          <a:xfrm>
            <a:off x="103320" y="225360"/>
            <a:ext cx="9016920" cy="100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Я считаю, что великий детектив учит каждого из нас повышенной зоркости, сосредоточенного внимания к самым обыкновенным вещам, он приучает нас ориентироваться в  окружающем мире;  он искореняет, как великий порок всякое ротозейство, верхоглядство, всякое равнодушие к мельчайшим подробностям, деталям окружающей нас жизн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не, хорошо знакомому с Шерлоком Холмсом, всегда интересно и захватывающе перечитывать книги вновь и вновь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зже Артур Конан Дойл обосновался в Лондоне. Доходов медицинская практика не давала, и, ожидая своих пациентов, чтобы как-то заполнить невольный досуг, он начал писать рассказы и очерки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днажды вспомнил чудака Джозефа Белла из мед. техникума в Эдинбурге. Этот Белл удивлял студентов своей наблюдательностью и необыкновенным умением при помощи «дедуктивного метода » разбираться в запутанных житейских проблема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книги Артура Конан Дойла Белл вошел под вымышленным именем Шерлок Холм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Заголовок 4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C:\Documents and Settings\Данил\Рабочий стол\Документы\Documents\Документы(школа)\Шерлок Холмс\Sherlock_Holmes_Portrait_Paget.jpg"/>
          <p:cNvPicPr/>
          <p:nvPr/>
        </p:nvPicPr>
        <p:blipFill>
          <a:blip r:embed="rId3"/>
          <a:stretch/>
        </p:blipFill>
        <p:spPr>
          <a:xfrm>
            <a:off x="725400" y="1523880"/>
            <a:ext cx="3522600" cy="4572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647960" y="1523880"/>
            <a:ext cx="4059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тех пор «отшельник с Бейкер-стрит» стал одним из самых популярных  и любимых героев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повести и рассказы о нём называются детективными, т.к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ctive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- англ. «сыщик»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Есть во всем Лондоне лишь один человек, который доберется до правды, отыщет виновного и не допустит, чтобы ни в чем не повинные люди  попали на скамью подсудимых. Зовут его Шерлок Холмс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н живет на Бейкер-стрит. Это очень незаметная, тихая улица, которая известна всему миру. Недаром к великому сыщику со всего света стекаются люди, ошеломленные каким-нибудь загадочным, необычайным событием, дерзким поступком или злым преступлением. Это министр и бедная девушка, знатная дама и даже королевская особа, служанка и молодой баронет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Заголовок 4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Данил\Рабочий стол\Документы\Documents\Документы(школа)\Шерлок Холмс\bakerstreet01.jpg"/>
          <p:cNvPicPr/>
          <p:nvPr/>
        </p:nvPicPr>
        <p:blipFill>
          <a:blip r:embed="rId2"/>
          <a:stretch/>
        </p:blipFill>
        <p:spPr>
          <a:xfrm>
            <a:off x="838080" y="1371600"/>
            <a:ext cx="7162920" cy="5035680"/>
          </a:xfrm>
          <a:prstGeom prst="rect">
            <a:avLst/>
          </a:prstGeom>
          <a:ln w="0">
            <a:noFill/>
          </a:ln>
        </p:spPr>
      </p:pic>
      <p:pic>
        <p:nvPicPr>
          <p:cNvPr id="184" name="Заголовок 2" descr=""/>
          <p:cNvPicPr/>
          <p:nvPr/>
        </p:nvPicPr>
        <p:blipFill>
          <a:blip r:embed="rId3"/>
          <a:stretch/>
        </p:blipFill>
        <p:spPr>
          <a:xfrm>
            <a:off x="450720" y="23760"/>
            <a:ext cx="8302680" cy="135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ди уверены, что Шерлок Холмс при помощи своей могучей мысли разъяснит, распутает всё, что кажется безнадежно запутанным. Разгадка каждого дела – для Холмса вопрос жизни и смерт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т таких опаснейших подвигов, от которых он уклонился бы, если они могут обеспечить ему победу Добра и Правды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Заголовок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304560" y="1523880"/>
            <a:ext cx="4211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 Холмсу, снимающему скромную квартиру на Бейкер-стрит у миссис Хадсон заселился военный врач доктор Джон Ватсон. Поначалу Ватсон принял Холмса за мошенника, но потом ему стало ясно, что Холмс – сыщик, мистер Ватсон стал его помощником и, главное,  друго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Picture 2" descr="C:\Documents and Settings\Данил\Рабочий стол\Документы\Documents\Документы(школа)\Шерлок Холмс\watson.jpg"/>
          <p:cNvPicPr/>
          <p:nvPr/>
        </p:nvPicPr>
        <p:blipFill>
          <a:blip r:embed="rId3"/>
          <a:stretch/>
        </p:blipFill>
        <p:spPr>
          <a:xfrm>
            <a:off x="4495680" y="1752480"/>
            <a:ext cx="4191120" cy="43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Данил\Рабочий стол\Документы\Documents\Документы(школа)\Шерлок Холмс\PDVD_035.JPG"/>
          <p:cNvPicPr/>
          <p:nvPr/>
        </p:nvPicPr>
        <p:blipFill>
          <a:blip r:embed="rId3"/>
          <a:stretch/>
        </p:blipFill>
        <p:spPr>
          <a:xfrm>
            <a:off x="457200" y="2185920"/>
            <a:ext cx="4059360" cy="3247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647960" y="1523880"/>
            <a:ext cx="4059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Холмса есть заклятый враг –глава лондонского криминала, скромный  школьный учитель математики Мориарти, который то и дело пытается заколоть, застрелить, сбросить в водопад, отравить сыщика. Но Шерлок Холмс героически храбр, не боится ни яда, ни пуль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govskayaev</cp:lastModifiedBy>
  <dcterms:modified xsi:type="dcterms:W3CDTF">2013-04-17T04:07:1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