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562-7F11-4750-BF2F-99CE8B79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C09-474E-4A2E-8DB6-25F0922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24D3F-3160-4CAD-8FAE-EC62238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E49E3-F190-47D9-9558-7914F3C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D2D00-8DF6-4EB3-98F1-A5DC9E8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9AF64-8769-4297-B7D3-C9633EC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5B26D-60F9-4A5A-84DD-3E7DEFF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16AF2-28A1-4A26-B143-96E0094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6AD01-8F62-4036-9D19-BD298E0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4399E-11AD-405C-8097-962CC8C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54799-7C6A-4A7E-8AB0-C527C552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A9FA0-EA46-430A-9C81-723A5007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088-F269-4B78-ADED-938F2CC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7E88C-200D-4462-8FBD-A87E4851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D8FB5-2EE4-4CEF-A237-93A5BC17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90340-3BF1-49C3-A95A-484EBD96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8DEED-D02C-46E8-9C0D-79684F8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15538-2E79-4E30-A462-DC6153E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A2FDF-9F42-4867-8F9F-2740CC0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0635F-CFB0-4572-A984-DA63568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86F83-5A26-4829-BEBD-E701977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39915-83AC-4BAF-8F2B-7552A03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5C372-9831-4CE1-8D7A-D13AE52E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C2B-7F7F-47D2-88C9-AF094FC7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09C4B-6B7C-4C3B-B82B-7086814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6932-7A34-4EF0-8A98-57ED90C9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7194C-4D71-4C65-AE49-BEA2168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5BA54-EF81-4ADA-88C4-568C5CA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51B5A-C1B6-4091-83ED-73F971C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C0E1-46DD-41B6-B99F-E66F41C5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1C8EB-3353-4CA4-ABEB-EA450235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ACB30-B348-4A33-9950-635FE81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94806-B556-46F2-AFC6-520DBD1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2B003-710B-4005-B869-67FD20D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C585-FFE2-4226-B968-CFA1EFC1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D631-A35A-4183-9E86-E55F8FCD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A194-8DC2-44C6-919D-784B79CD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72FB7-1841-4A9B-8C76-DAD56415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EA17B-9568-4719-B8AB-ED69EF8F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8A409-1EF6-4550-B068-77D8C968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493C1-3B1B-4724-AF83-59D1441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15593-7F30-4478-B0F0-ECE0240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3269D-D112-4794-8394-DC8365F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DB805-2276-451A-8D11-58518BB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C1851-324A-4A92-AACF-C23270B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1E6-319E-4692-A271-3CA3760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CE3F6-68A9-44D0-B030-3CC1917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E9147-4732-442B-AC69-18F99000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62A9-4457-4AD9-93BF-8C8E920A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B5E09-06AA-49CF-AF2C-F21F565B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5961-977F-47C7-92C8-3831C86F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654FD-D779-4A39-A340-8A6EDE61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7F280-485E-466F-8C0C-8D543DFD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8BD9E-5565-449A-AB15-78DD7B9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7C761-190C-48AF-8ADF-19FFD287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0A9FC-2995-4871-A8BA-DAAE83FC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AF9-B7FC-4516-84C1-C0393BA8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77558-BE72-4DE9-A316-71853AE6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B6F83-7FE0-417D-88E2-9733F72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3A3D8-DEDB-4353-BC62-0C1ACD4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14348-A47F-4DED-A60D-6731189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949F5-2B09-49D6-A53A-CCDD6C1B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7A85F-E808-4A44-A52F-2205915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40EEA-8EF6-4D45-93A8-A6AB64BC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A1032-3A8B-4C7A-98F9-4190C963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76946-F630-497A-92A8-D6F9DF5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35D0E-09E3-4474-AA97-7377D30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FE3-6DF4-4E4D-AB53-E48C14D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FDF34-BD26-4347-B195-3374595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380B2-4767-4E82-9D0E-C43BD97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AE969-6526-4516-9DF3-14D21AB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A864A-E4ED-4B95-8728-FD70FB6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25EBA-FB16-4EBE-ADAE-AADE442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9FACB-B226-42F2-9915-B95842D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4F1B9-766F-4212-9E77-832C0E7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661E0-0A50-4CE3-AE1A-29B761B0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04949-25B0-497D-8DC4-CBD166DA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8291A-BEC8-4053-8C1A-38979317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148-B62A-4224-933D-A0D6F4F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C9F2A-F2E7-4B9D-94A4-535BB29F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643D9-1C0D-46C9-A0BF-10FD56EF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86BC6-38A7-4A48-B85B-D6B1428C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87457-61CC-4713-A8C2-A78D5ACB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CF80D-077E-4F21-9829-B4CBCA8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3A92C-E2B7-45A4-9510-8CC4D70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1C57E-C5F2-41C9-B11A-5B3B4A77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BC772-D145-46AB-90EC-CD07D0D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4C8C0-5FF6-4F17-B001-F59961D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814DF-E730-43D7-83C9-0707CDE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845-A4E9-4B5B-B4A5-769DE26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66859-2284-4515-A3F2-E822DD57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D0EEB-D54B-4CE8-9DF3-A0D235B1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27AE9-977B-486E-8C92-93AB6CE7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D2C26-0562-4B15-AF8B-22698264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E235E-F487-4E58-8981-C4E47D5F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5CF40-608B-49EA-BFDE-B84E11F0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92687-7CB1-4361-AED3-11150B7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1EC53-7512-4262-B683-934C49D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09C34-CDBC-4411-91BD-E913364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94DEE-F544-4A59-8CD0-1F4AC20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59F-A914-4E0F-A1A7-25041EC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284CF-204E-4829-AA81-34071E18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2B801-1D7E-4F84-A269-C0B7B96F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35D0B-00B1-4CE2-95EE-4EFE10F4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9B6-CF3D-46C5-9438-AE0C329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1BC-951F-46EA-A681-DE499FE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B38D-0DBB-45E1-A5E5-6D70D9F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F32-C144-4B08-962B-9E926C3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85E-8944-4487-8435-1154765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52BC-A9F9-465C-840A-6EAF227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7CB4-0B22-42D7-89B5-7DFFAAE9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B212-D862-4148-B8B0-49ED091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0635-8EAA-4C0A-B388-4D6A53DC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C49D-024A-43F6-82C3-7B5AB76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B5ED-2EA8-4CB2-BF49-2FD1A11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6B8-FE25-4901-B72D-E93C642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999F-C17A-4D30-9648-1AA274D1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F4DB-EDA7-43D7-9514-8B0B7A5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032B-E6AE-4DE7-95E8-C93E889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0F07-401B-42CE-BEC4-D9B51D8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B5BF-D97C-4C5C-95B6-47D71727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945A-6357-4B9C-9055-B78BA92E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5ED2-967E-41F7-B38E-92420E3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E1118-9BB6-4336-9406-7CF51862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5A95-03F0-46B1-B1EC-7AB3209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FE56-B995-485C-9EDF-373367F3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0B7-94B2-4526-90E6-E8F7FD09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D880-4897-4407-A150-5164F266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AD34-56A9-45E5-B150-167FE80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D3B0-9091-43A8-B677-53A3A17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A0B4-0855-4575-89E6-00FB896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F8D2-0838-485D-B410-693744B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3839-2246-415F-BEBB-DB85610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AB61-F9A2-429E-83D8-B672BA7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2AE7-AA7D-4CE2-8C21-C41AB2A9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0017-C2C1-4A03-9B1A-218DA94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3335-E2ED-4637-AEF5-3B108D0F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319-C649-4713-84C6-6055492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5795-A805-4BB8-B3FE-87E738C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E4F3-8E9A-4D75-B616-E11500CE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CB0A-6D2D-447A-A083-7BD4379C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3C30-F1DC-420D-87F0-9BFFAED0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464DD-B6DE-4572-B023-CFA2E3F1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43BB-AA1F-4F9F-831A-7C83593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AE7B-5767-4C6B-9BAC-4550F05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694C-D175-4DE6-9E2D-4D9D844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E087-E94D-4A2B-897A-8FA10AC0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C51E-8205-4B23-81DA-1785722E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15D-CABF-444F-B684-EB697FE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9CAE-4070-44DE-9281-F2F6BECA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F7EDF-450C-4EF6-8486-94462BC7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35CFB-4381-445B-BCF4-F53EEB8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FAE72-6983-4B33-8A65-7BC150A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B0CE6-87C7-4102-9C5B-02EC3E16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B5796-117F-43A8-8B2F-1A60206A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5ED7C-33D1-4D98-924D-2FC86AB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20B1D-CA6B-42F8-AC38-7DBAC30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1FC2E-013E-4B6C-A1AD-0317B7D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4E88D-B506-4641-AD36-EA343FF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D09-571F-4583-99F6-73DAB56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39546-0403-43D7-BE8B-A5E48FF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FF3BA-7128-4ECC-B0CD-B0B853B5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2DD95-44CC-4ECC-BA5A-B0AAFDBD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A5BD-4C3D-44E0-9889-9310720D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342B-27E1-487D-BEE1-DC3A801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BAE5-17A7-470B-846C-29F2D6AD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1C07-4570-4430-A8D2-311F972F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2FFAA-E325-46BA-B706-072B1E8F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1FCB-7E1E-4CEE-BB9C-CD84409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A885-081E-47A8-95E0-231D02A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A32-D518-44F6-B140-42630FA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A59E-1E76-46C1-B568-09E81B70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CA3A-B21E-4220-B705-10CE1F9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D9CA-4645-475E-8AED-C35C925E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66AAA-B4E2-408F-B2C3-6C9EE86A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3AE1-134D-4A75-AA65-E7833B83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8DD9-9665-4914-B3CD-F05DDAFA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E42BF-1627-4EEB-8EEE-CDB888A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5B5B-F898-42A3-97CE-A4A41A83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485D-9D23-43C8-B345-5C24DE3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B931-7ACE-4354-9B66-196CD247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608-9A9B-4ED6-AE59-D569509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3EE4-A988-4677-BB3F-5C35EA6C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0A52-CDFB-4200-A782-C4C5C8E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484E-EAF5-4801-9796-1478DF8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2A66-0F0B-4C2C-8F7F-D87107B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63767-EE19-450D-940B-1509782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B173-2EFA-4312-9464-3A4A48B8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383E-D7F5-471D-A083-E65F32D9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10BAC-C35F-4C9E-8AAB-2EB9F22F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92DAC-5570-4090-8F0E-A7DDE960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764F8-DFAC-452F-BBF2-2E49D084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4AC-F722-472B-9456-AA504868C6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5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019-E4A8-47AF-A5FA-69B280A7A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1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2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813-5823-4D21-83C2-A4D13B45AE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09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09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11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11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11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2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1F20-E788-44DD-A121-2D2E5B4E90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17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C8CB-0670-4FA5-84DA-9105803AFD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2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471-2F8A-467E-ADFC-5BB3FD2EE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6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52A-2558-46B2-AF26-5D8FDB3569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D47-6D64-4A40-8159-6B3DA40AE1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69F6-CC14-40AF-923C-D0F1E122F5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0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FAB-5436-4AA7-8A3F-67F35C38A6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5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5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5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E22-0788-4F01-B735-8FCF4E52CB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B31-7AAD-45FF-9FC7-F720AD6B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8D0-9393-413A-8C82-BA86943CC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14B-2392-430A-ADEC-D11BC585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F4F-F8E8-4D1D-9CF3-F9F891E68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9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C43-A445-4778-8B60-93BDCF98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9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«Химия и здоровь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-360" y="3068280"/>
            <a:ext cx="93963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иенко Ксения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аяся группы №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: Бузмакова С.В.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тель информа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908000" y="1484280"/>
            <a:ext cx="5472360" cy="3960720"/>
          </a:xfrm>
          <a:custGeom>
            <a:avLst/>
            <a:gdLst>
              <a:gd name="textAreaLeft" fmla="*/ 1368000 w 5472360"/>
              <a:gd name="textAreaRight" fmla="*/ 4104360 w 547236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195640" y="3068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ер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 rot="5400000">
            <a:off x="-1377360" y="3329640"/>
            <a:ext cx="489600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6" name=""/>
          <p:cNvSpPr txBox="1"/>
          <p:nvPr/>
        </p:nvSpPr>
        <p:spPr>
          <a:xfrm rot="5400000">
            <a:off x="5742000" y="3337560"/>
            <a:ext cx="482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кроэлемен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604360" y="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71" h="21600">
                <a:moveTo>
                  <a:pt x="1223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71" h="21600">
                <a:moveTo>
                  <a:pt x="9659" y="8224"/>
                </a:moveTo>
                <a:lnTo>
                  <a:pt x="13524" y="8224"/>
                </a:lnTo>
                <a:lnTo>
                  <a:pt x="13524" y="15221"/>
                </a:lnTo>
                <a:lnTo>
                  <a:pt x="14812" y="15221"/>
                </a:lnTo>
                <a:lnTo>
                  <a:pt x="14812" y="16144"/>
                </a:lnTo>
                <a:lnTo>
                  <a:pt x="9659" y="16144"/>
                </a:lnTo>
                <a:lnTo>
                  <a:pt x="9659" y="15221"/>
                </a:lnTo>
                <a:lnTo>
                  <a:pt x="10948" y="15221"/>
                </a:lnTo>
                <a:lnTo>
                  <a:pt x="10948" y="9129"/>
                </a:lnTo>
                <a:lnTo>
                  <a:pt x="9659" y="912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акроэлементы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745920" y="1572120"/>
            <a:ext cx="6968880" cy="4571640"/>
            <a:chOff x="745920" y="1572120"/>
            <a:chExt cx="6968880" cy="4571640"/>
          </a:xfrm>
        </p:grpSpPr>
        <p:sp>
          <p:nvSpPr>
            <p:cNvPr id="1390" name="_s24582"/>
            <p:cNvSpPr/>
            <p:nvPr/>
          </p:nvSpPr>
          <p:spPr>
            <a:xfrm>
              <a:off x="3287880" y="2222640"/>
              <a:ext cx="1885320" cy="18594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_s24583"/>
            <p:cNvSpPr/>
            <p:nvPr/>
          </p:nvSpPr>
          <p:spPr>
            <a:xfrm>
              <a:off x="3287880" y="157212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ль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_s24590"/>
            <p:cNvSpPr/>
            <p:nvPr/>
          </p:nvSpPr>
          <p:spPr>
            <a:xfrm>
              <a:off x="3908520" y="2576160"/>
              <a:ext cx="1885320" cy="18594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_s24591"/>
            <p:cNvSpPr/>
            <p:nvPr/>
          </p:nvSpPr>
          <p:spPr>
            <a:xfrm>
              <a:off x="5829480" y="248364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л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_s24592"/>
            <p:cNvSpPr/>
            <p:nvPr/>
          </p:nvSpPr>
          <p:spPr>
            <a:xfrm>
              <a:off x="3908520" y="3282120"/>
              <a:ext cx="1885320" cy="18594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_s24593"/>
            <p:cNvSpPr/>
            <p:nvPr/>
          </p:nvSpPr>
          <p:spPr>
            <a:xfrm>
              <a:off x="5829480" y="476964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Натр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_s24596"/>
            <p:cNvSpPr/>
            <p:nvPr/>
          </p:nvSpPr>
          <p:spPr>
            <a:xfrm>
              <a:off x="3289320" y="3635280"/>
              <a:ext cx="1885320" cy="1859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_s24597"/>
            <p:cNvSpPr/>
            <p:nvPr/>
          </p:nvSpPr>
          <p:spPr>
            <a:xfrm>
              <a:off x="3287880" y="567972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Хл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_s24584"/>
            <p:cNvSpPr/>
            <p:nvPr/>
          </p:nvSpPr>
          <p:spPr>
            <a:xfrm>
              <a:off x="2668680" y="3283920"/>
              <a:ext cx="1885320" cy="185940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_s24585"/>
            <p:cNvSpPr/>
            <p:nvPr/>
          </p:nvSpPr>
          <p:spPr>
            <a:xfrm>
              <a:off x="745920" y="476964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аг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_s24586"/>
            <p:cNvSpPr/>
            <p:nvPr/>
          </p:nvSpPr>
          <p:spPr>
            <a:xfrm>
              <a:off x="2666520" y="2577600"/>
              <a:ext cx="1885320" cy="18594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_s24587"/>
            <p:cNvSpPr/>
            <p:nvPr/>
          </p:nvSpPr>
          <p:spPr>
            <a:xfrm>
              <a:off x="745920" y="248364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осф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8000">
    <p:zoom dir="in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икроэлемен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878760" y="1548720"/>
            <a:ext cx="7384320" cy="4704480"/>
            <a:chOff x="878760" y="1548720"/>
            <a:chExt cx="7384320" cy="4704480"/>
          </a:xfrm>
        </p:grpSpPr>
        <p:sp>
          <p:nvSpPr>
            <p:cNvPr id="1404" name="_s26717"/>
            <p:cNvSpPr/>
            <p:nvPr/>
          </p:nvSpPr>
          <p:spPr>
            <a:xfrm>
              <a:off x="3639240" y="2218320"/>
              <a:ext cx="1863720" cy="1914120"/>
            </a:xfrm>
            <a:prstGeom prst="ellipse">
              <a:avLst/>
            </a:prstGeom>
            <a:solidFill>
              <a:srgbClr val="008000">
                <a:alpha val="50000"/>
              </a:srgbClr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_s26718"/>
            <p:cNvSpPr/>
            <p:nvPr/>
          </p:nvSpPr>
          <p:spPr>
            <a:xfrm>
              <a:off x="3639240" y="154872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Желез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_s26723"/>
            <p:cNvSpPr/>
            <p:nvPr/>
          </p:nvSpPr>
          <p:spPr>
            <a:xfrm>
              <a:off x="4139640" y="2430720"/>
              <a:ext cx="1863360" cy="1914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4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_s26724"/>
            <p:cNvSpPr/>
            <p:nvPr/>
          </p:nvSpPr>
          <p:spPr>
            <a:xfrm>
              <a:off x="5863680" y="209700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Цин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_s26725"/>
            <p:cNvSpPr/>
            <p:nvPr/>
          </p:nvSpPr>
          <p:spPr>
            <a:xfrm>
              <a:off x="4346640" y="2944080"/>
              <a:ext cx="1863360" cy="19141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_s26726"/>
            <p:cNvSpPr/>
            <p:nvPr/>
          </p:nvSpPr>
          <p:spPr>
            <a:xfrm>
              <a:off x="6399360" y="366264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Й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_s26727"/>
            <p:cNvSpPr/>
            <p:nvPr/>
          </p:nvSpPr>
          <p:spPr>
            <a:xfrm>
              <a:off x="4139640" y="3457800"/>
              <a:ext cx="1863360" cy="19141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_s26728"/>
            <p:cNvSpPr/>
            <p:nvPr/>
          </p:nvSpPr>
          <p:spPr>
            <a:xfrm>
              <a:off x="5863680" y="522648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_s26729"/>
            <p:cNvSpPr/>
            <p:nvPr/>
          </p:nvSpPr>
          <p:spPr>
            <a:xfrm>
              <a:off x="3639240" y="3669840"/>
              <a:ext cx="1863720" cy="191412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_s26730"/>
            <p:cNvSpPr/>
            <p:nvPr/>
          </p:nvSpPr>
          <p:spPr>
            <a:xfrm>
              <a:off x="3639240" y="577656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Хр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_s26719"/>
            <p:cNvSpPr/>
            <p:nvPr/>
          </p:nvSpPr>
          <p:spPr>
            <a:xfrm>
              <a:off x="3138840" y="3457800"/>
              <a:ext cx="1863720" cy="191412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_s26720"/>
            <p:cNvSpPr/>
            <p:nvPr/>
          </p:nvSpPr>
          <p:spPr>
            <a:xfrm>
              <a:off x="1414440" y="522648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еле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_s26721"/>
            <p:cNvSpPr/>
            <p:nvPr/>
          </p:nvSpPr>
          <p:spPr>
            <a:xfrm>
              <a:off x="2931840" y="2944080"/>
              <a:ext cx="1863720" cy="19141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_s26722"/>
            <p:cNvSpPr/>
            <p:nvPr/>
          </p:nvSpPr>
          <p:spPr>
            <a:xfrm>
              <a:off x="878760" y="366264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аргане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_s26731"/>
            <p:cNvSpPr/>
            <p:nvPr/>
          </p:nvSpPr>
          <p:spPr>
            <a:xfrm>
              <a:off x="3138840" y="2430720"/>
              <a:ext cx="1863720" cy="19141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4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_s26732"/>
            <p:cNvSpPr/>
            <p:nvPr/>
          </p:nvSpPr>
          <p:spPr>
            <a:xfrm>
              <a:off x="1414440" y="209700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олибде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Минеральная вод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18" h="21600">
                <a:moveTo>
                  <a:pt x="138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18" h="21600">
                <a:moveTo>
                  <a:pt x="11283" y="8224"/>
                </a:moveTo>
                <a:lnTo>
                  <a:pt x="15147" y="8224"/>
                </a:lnTo>
                <a:lnTo>
                  <a:pt x="15147" y="15221"/>
                </a:lnTo>
                <a:lnTo>
                  <a:pt x="16435" y="15221"/>
                </a:lnTo>
                <a:lnTo>
                  <a:pt x="16435" y="16144"/>
                </a:lnTo>
                <a:lnTo>
                  <a:pt x="11283" y="16144"/>
                </a:lnTo>
                <a:lnTo>
                  <a:pt x="11283" y="15221"/>
                </a:lnTo>
                <a:lnTo>
                  <a:pt x="12571" y="15221"/>
                </a:lnTo>
                <a:lnTo>
                  <a:pt x="12571" y="9129"/>
                </a:lnTo>
                <a:lnTo>
                  <a:pt x="11283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Химический состав минеральной 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карбон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льф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г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+К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ь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-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тр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более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тр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минерализ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 – 2,8 мг/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3000">
    <p:zoom dir="in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"/>
          <p:cNvGrpSpPr/>
          <p:nvPr/>
        </p:nvGrpSpPr>
        <p:grpSpPr>
          <a:xfrm>
            <a:off x="505800" y="171720"/>
            <a:ext cx="8350200" cy="6508440"/>
            <a:chOff x="505800" y="171720"/>
            <a:chExt cx="8350200" cy="6508440"/>
          </a:xfrm>
        </p:grpSpPr>
        <p:sp>
          <p:nvSpPr>
            <p:cNvPr id="1425" name="_s49202"/>
            <p:cNvSpPr/>
            <p:nvPr/>
          </p:nvSpPr>
          <p:spPr>
            <a:xfrm flipH="1" flipV="1">
              <a:off x="3150000" y="1849320"/>
              <a:ext cx="1012320" cy="10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_s49201"/>
            <p:cNvSpPr/>
            <p:nvPr/>
          </p:nvSpPr>
          <p:spPr>
            <a:xfrm>
              <a:off x="1766880" y="67176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ягкая 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_s49200"/>
            <p:cNvSpPr/>
            <p:nvPr/>
          </p:nvSpPr>
          <p:spPr>
            <a:xfrm flipH="1" flipV="1">
              <a:off x="2202840" y="2823840"/>
              <a:ext cx="164484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_s49199"/>
            <p:cNvSpPr/>
            <p:nvPr/>
          </p:nvSpPr>
          <p:spPr>
            <a:xfrm>
              <a:off x="505800" y="197100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льцие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_s49198"/>
            <p:cNvSpPr/>
            <p:nvPr/>
          </p:nvSpPr>
          <p:spPr>
            <a:xfrm flipH="1">
              <a:off x="2202840" y="3632040"/>
              <a:ext cx="1647720" cy="39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_s49197"/>
            <p:cNvSpPr/>
            <p:nvPr/>
          </p:nvSpPr>
          <p:spPr>
            <a:xfrm>
              <a:off x="505800" y="357804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трие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_s49196"/>
            <p:cNvSpPr/>
            <p:nvPr/>
          </p:nvSpPr>
          <p:spPr>
            <a:xfrm flipH="1">
              <a:off x="3147480" y="3956760"/>
              <a:ext cx="1022040" cy="104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_s49195"/>
            <p:cNvSpPr/>
            <p:nvPr/>
          </p:nvSpPr>
          <p:spPr>
            <a:xfrm>
              <a:off x="1766880" y="487728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ислая 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_s49194"/>
            <p:cNvSpPr/>
            <p:nvPr/>
          </p:nvSpPr>
          <p:spPr>
            <a:xfrm>
              <a:off x="4678560" y="4080600"/>
              <a:ext cx="432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_s49193"/>
            <p:cNvSpPr/>
            <p:nvPr/>
          </p:nvSpPr>
          <p:spPr>
            <a:xfrm>
              <a:off x="3808800" y="5373720"/>
              <a:ext cx="174420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елезист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_s49192"/>
            <p:cNvSpPr/>
            <p:nvPr/>
          </p:nvSpPr>
          <p:spPr>
            <a:xfrm>
              <a:off x="5194080" y="3953520"/>
              <a:ext cx="1014480" cy="105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_s49191"/>
            <p:cNvSpPr/>
            <p:nvPr/>
          </p:nvSpPr>
          <p:spPr>
            <a:xfrm>
              <a:off x="5850000" y="487728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тор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_s49190"/>
            <p:cNvSpPr/>
            <p:nvPr/>
          </p:nvSpPr>
          <p:spPr>
            <a:xfrm>
              <a:off x="5508360" y="3626640"/>
              <a:ext cx="1647720" cy="402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_s49189"/>
            <p:cNvSpPr/>
            <p:nvPr/>
          </p:nvSpPr>
          <p:spPr>
            <a:xfrm>
              <a:off x="7111080" y="357624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гние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_s49188"/>
            <p:cNvSpPr/>
            <p:nvPr/>
          </p:nvSpPr>
          <p:spPr>
            <a:xfrm flipV="1">
              <a:off x="5506200" y="2824200"/>
              <a:ext cx="1649880" cy="39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_s49187"/>
            <p:cNvSpPr/>
            <p:nvPr/>
          </p:nvSpPr>
          <p:spPr>
            <a:xfrm>
              <a:off x="7111080" y="196920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лор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_s49186"/>
            <p:cNvSpPr/>
            <p:nvPr/>
          </p:nvSpPr>
          <p:spPr>
            <a:xfrm flipV="1">
              <a:off x="5189760" y="1849320"/>
              <a:ext cx="1019160" cy="104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_s49185"/>
            <p:cNvSpPr/>
            <p:nvPr/>
          </p:nvSpPr>
          <p:spPr>
            <a:xfrm>
              <a:off x="5847840" y="66816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ульфа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_s49184"/>
            <p:cNvSpPr/>
            <p:nvPr/>
          </p:nvSpPr>
          <p:spPr>
            <a:xfrm flipV="1">
              <a:off x="4678560" y="1477800"/>
              <a:ext cx="0" cy="12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_s49183"/>
            <p:cNvSpPr/>
            <p:nvPr/>
          </p:nvSpPr>
          <p:spPr>
            <a:xfrm>
              <a:off x="3805920" y="17172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карбона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_s49182"/>
            <p:cNvSpPr/>
            <p:nvPr/>
          </p:nvSpPr>
          <p:spPr>
            <a:xfrm>
              <a:off x="3805920" y="2775240"/>
              <a:ext cx="1744920" cy="13064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747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Со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zoom dir="in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лезные свойства природной питьевой минеральной воды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ает жизненный тон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ализует обменные процессы в организ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выведению шлаков и токси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пищевар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калорийна и помогает уменьшить аппетит во время ди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снижению в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ладает противовоспалительным и бактерицидным свойств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кровообра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держит хл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вкусовые ка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репляет зубную эма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пятствует развитию кариеса и пародон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1000"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6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4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88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84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88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104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68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372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46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Бикарбонатна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40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держи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ее 600 миллиграммо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карбонат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активно занимающимся спорт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дным детям (особенно при частой рвот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ным цистит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zoom dir="in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1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2000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2000"/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ульфат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держи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ее 200 миллиграммо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льфат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, у кого проблемы с печен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ет слабительный эффек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1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Хлорид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00 миллиграммов хлорид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ориды, часто соединенные с натрием, помогают регулировать работу кишечника, желчных путей и печени, поэтому воду стоит пить тем, у кого есть проблемы в эт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14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Витам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569080" cy="512460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70930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270" h="21600">
                <a:moveTo>
                  <a:pt x="121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270" h="21600">
                <a:moveTo>
                  <a:pt x="9559" y="8224"/>
                </a:moveTo>
                <a:lnTo>
                  <a:pt x="13423" y="8224"/>
                </a:lnTo>
                <a:lnTo>
                  <a:pt x="13423" y="15221"/>
                </a:lnTo>
                <a:lnTo>
                  <a:pt x="14711" y="15221"/>
                </a:lnTo>
                <a:lnTo>
                  <a:pt x="14711" y="16144"/>
                </a:lnTo>
                <a:lnTo>
                  <a:pt x="9559" y="16144"/>
                </a:lnTo>
                <a:lnTo>
                  <a:pt x="9559" y="15221"/>
                </a:lnTo>
                <a:lnTo>
                  <a:pt x="10847" y="15221"/>
                </a:lnTo>
                <a:lnTo>
                  <a:pt x="10847" y="9129"/>
                </a:lnTo>
                <a:lnTo>
                  <a:pt x="9559" y="912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агн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50 миллиграммов магн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рессовых ситуациях, поскольку магний участвует в механизме, регулирующем реакцию организма на стрес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77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770" fill="hold"/>
                                        <p:tgtEl>
                                          <p:spTgt spid="14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7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Фтор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 миллиграмма фтора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менным; людям, страдающим остеопорозом (особенно полезно ее чередовать с водой, богатой кальцием); а также тем, кто живет в районе, где фторируется водопроводная в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1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8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Железист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 миллиграмма железа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страдающим железодефицитной анем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77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770" fill="hold"/>
                                        <p:tgtEl>
                                          <p:spTgt spid="1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исл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50 миллиграммов ангидридов углекислоты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, у кого понижена кислотность желудочного со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1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300"/>
                            </p:stCondLst>
                            <p:childTnLst>
                              <p:par>
                                <p:cTn id="7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6450"/>
                            </p:stCondLst>
                            <p:childTnLst>
                              <p:par>
                                <p:cTn id="7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тр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00 миллиграммов натр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лохом пищеварении (в сочетании с хлоридной водой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7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770" fill="hold"/>
                                        <p:tgtEl>
                                          <p:spTgt spid="1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льц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50 миллиграммов кальц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не пьющим молоко, беременным женщинам, а также детям и подросткам. Согласно последним исследованиям, проведенным в США, такая вода понижает давление у гиперто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77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770" fill="hold"/>
                                        <p:tgtEl>
                                          <p:spTgt spid="1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200"/>
                            </p:stCondLst>
                            <p:childTnLst>
                              <p:par>
                                <p:cTn id="8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9500"/>
                            </p:stCondLst>
                            <p:childTnLst>
                              <p:par>
                                <p:cTn id="8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ягкая и жестк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характеристик минеральной воды - ее жесткость, то есть степень суммарного содержания кальция и магния. Жесткая вода рекомендуется детям, пожилым людям и тем, кто страдает остеопорозом. Мягкая же хорошо подойдет для приготовления настоев, отваров, лечебных сиропов, ликеров. Правда, некоторые ученые полагают, что мягкая вода способствует развитию сердечно-сосудистых заболеваний, но серьезных доказательств этому пока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77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770" fill="hold"/>
                                        <p:tgtEl>
                                          <p:spTgt spid="1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лезные свойства природной питьевой минеральной воды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ает жизненный тон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ализует обменные процессы в организ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выведению шлаков и токси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пищевар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калорийна и помогает уменьшить аппетит во время ди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снижению в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ладает противовоспалительным и бактерицидным свойств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кровообра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держит хл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вкусовые ка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репляет зубную эма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пятствует развитию кариеса и пародон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960"/>
                            </p:stCondLst>
                            <p:childTnLst>
                              <p:par>
                                <p:cTn id="9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520"/>
                            </p:stCondLst>
                            <p:childTnLst>
                              <p:par>
                                <p:cTn id="9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40"/>
                            </p:stCondLst>
                            <p:childTnLst>
                              <p:par>
                                <p:cTn id="9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880"/>
                            </p:stCondLst>
                            <p:childTnLst>
                              <p:par>
                                <p:cTn id="9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784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8880"/>
                            </p:stCondLst>
                            <p:childTnLst>
                              <p:par>
                                <p:cTn id="9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1040"/>
                            </p:stCondLst>
                            <p:childTnLst>
                              <p:par>
                                <p:cTn id="9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680"/>
                            </p:stCondLst>
                            <p:childTnLst>
                              <p:par>
                                <p:cTn id="9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372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4600"/>
                            </p:stCondLst>
                            <p:childTnLst>
                              <p:par>
                                <p:cTn id="9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420120"/>
            <a:ext cx="8229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2556000" y="333360"/>
            <a:ext cx="388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акой витамин содержится в ярко желтых, зеленых и оранжевых фруктах и овощах?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итамин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Витамин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Витамин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2124000" y="1628640"/>
            <a:ext cx="5184720" cy="3241800"/>
          </a:xfrm>
          <a:custGeom>
            <a:avLst/>
            <a:gdLst>
              <a:gd name="textAreaLeft" fmla="*/ 0 w 5184720"/>
              <a:gd name="textAreaRight" fmla="*/ 5185080 w 5184720"/>
              <a:gd name="textAreaTop" fmla="*/ 810360 h 3241800"/>
              <a:gd name="textAreaBottom" fmla="*/ 2431440 h 324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411280" y="2781360"/>
            <a:ext cx="46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26920" y="4861080"/>
            <a:ext cx="748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Водорастворимы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все остальные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187280" y="0"/>
            <a:ext cx="698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Жирорастворимы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(A, D, E,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 какую группу входит витамин С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одораствор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Жирораствор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ункция витамина К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Сохранение костной ткани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Много жизненных фун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Для нормальной свертываемости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акая группа не относиться к минералам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Макро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Мини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Микро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а сколько групп делиться соли минеральной воды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>
            <a:hlinkClick r:id="rId1" action="ppaction://hlinksldjump"/>
          </p:cNvPr>
          <p:cNvSpPr/>
          <p:nvPr/>
        </p:nvSpPr>
        <p:spPr>
          <a:xfrm>
            <a:off x="3059280" y="5516640"/>
            <a:ext cx="4608360" cy="1008000"/>
          </a:xfrm>
          <a:custGeom>
            <a:avLst/>
            <a:gdLst>
              <a:gd name="textAreaLeft" fmla="*/ 65160 w 4608360"/>
              <a:gd name="textAreaRight" fmla="*/ 4543200 w 46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98723" h="21600">
                <a:moveTo>
                  <a:pt x="0" y="0"/>
                </a:moveTo>
                <a:lnTo>
                  <a:pt x="98723" y="0"/>
                </a:lnTo>
                <a:lnTo>
                  <a:pt x="98723" y="21600"/>
                </a:lnTo>
                <a:lnTo>
                  <a:pt x="0" y="21600"/>
                </a:lnTo>
                <a:close/>
              </a:path>
              <a:path fill="lightenLess" w="98723" h="21600">
                <a:moveTo>
                  <a:pt x="0" y="0"/>
                </a:moveTo>
                <a:lnTo>
                  <a:pt x="98723" y="0"/>
                </a:lnTo>
                <a:lnTo>
                  <a:pt x="97323" y="1400"/>
                </a:lnTo>
                <a:lnTo>
                  <a:pt x="1400" y="1400"/>
                </a:lnTo>
                <a:close/>
              </a:path>
              <a:path fill="darken" w="98723" h="21600">
                <a:moveTo>
                  <a:pt x="98723" y="0"/>
                </a:moveTo>
                <a:lnTo>
                  <a:pt x="98723" y="21600"/>
                </a:lnTo>
                <a:lnTo>
                  <a:pt x="97323" y="20200"/>
                </a:lnTo>
                <a:lnTo>
                  <a:pt x="97323" y="1400"/>
                </a:lnTo>
                <a:close/>
              </a:path>
              <a:path fill="darkenLess" w="98723" h="21600">
                <a:moveTo>
                  <a:pt x="98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323" y="20200"/>
                </a:lnTo>
                <a:close/>
              </a:path>
              <a:path fill="lighten" w="98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ыбор во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250920" y="2349360"/>
            <a:ext cx="8642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6699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>
                        <a:alpha val="4901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авильный ответ</a:t>
            </a:r>
            <a:endParaRPr b="0" lang="en-US" sz="1800" spc="1" strike="noStrike">
              <a:ln w="19080">
                <a:solidFill>
                  <a:srgbClr val="006699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900000" y="220500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33">
                        <a:alpha val="60392"/>
                      </a:srgbClr>
                    </a:gs>
                    <a:gs pos="100000">
                      <a:srgbClr val="33cc33">
                        <a:alpha val="91372"/>
                      </a:srgbClr>
                    </a:gs>
                  </a:gsLst>
                  <a:lin ang="10800000"/>
                </a:gradFill>
                <a:latin typeface="Arial"/>
              </a:rPr>
              <a:t>Неправильный отв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33">
                      <a:alpha val="60392"/>
                    </a:srgbClr>
                  </a:gs>
                  <a:gs pos="100000">
                    <a:srgbClr val="33cc33">
                      <a:alpha val="91372"/>
                    </a:srgbClr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572000" y="4941720"/>
            <a:ext cx="4103640" cy="1079640"/>
          </a:xfrm>
          <a:custGeom>
            <a:avLst/>
            <a:gdLst>
              <a:gd name="textAreaLeft" fmla="*/ 69840 w 4103640"/>
              <a:gd name="textAreaRight" fmla="*/ 4033800 w 4103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82080" h="21600">
                <a:moveTo>
                  <a:pt x="0" y="0"/>
                </a:moveTo>
                <a:lnTo>
                  <a:pt x="82080" y="0"/>
                </a:lnTo>
                <a:lnTo>
                  <a:pt x="82080" y="21600"/>
                </a:lnTo>
                <a:lnTo>
                  <a:pt x="0" y="21600"/>
                </a:lnTo>
                <a:close/>
              </a:path>
              <a:path fill="lightenLess" w="82080" h="21600">
                <a:moveTo>
                  <a:pt x="0" y="0"/>
                </a:moveTo>
                <a:lnTo>
                  <a:pt x="82080" y="0"/>
                </a:lnTo>
                <a:lnTo>
                  <a:pt x="80680" y="1400"/>
                </a:lnTo>
                <a:lnTo>
                  <a:pt x="1400" y="1400"/>
                </a:lnTo>
                <a:close/>
              </a:path>
              <a:path fill="darken" w="82080" h="21600">
                <a:moveTo>
                  <a:pt x="82080" y="0"/>
                </a:moveTo>
                <a:lnTo>
                  <a:pt x="82080" y="21600"/>
                </a:lnTo>
                <a:lnTo>
                  <a:pt x="80680" y="20200"/>
                </a:lnTo>
                <a:lnTo>
                  <a:pt x="80680" y="1400"/>
                </a:lnTo>
                <a:close/>
              </a:path>
              <a:path fill="darkenLess" w="82080" h="21600">
                <a:moveTo>
                  <a:pt x="82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80" y="20200"/>
                </a:lnTo>
                <a:close/>
              </a:path>
              <a:path fill="lighten" w="82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ыбрать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чается только в продуктах животн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тся в ярко жёлтых, зелёных и оранжевых фруктах и овощ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183200" cy="5543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2 0.026 -0.07724 0.058 -0.07724 L 0.192 -0.07724 C 0.224 -0.07724 0.25 -0.04262 0.25 0 L 0.25 0.1758 C 0.25 0.21841 0.224 0.25437 0.192 0.25437 L 0.058 0.25437 C 0.026 0.25437 0 0.21841 0 0.1758 Z">
                                      <p:cBhvr>
                                        <p:cTn id="96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тамин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витамин в большой степени оказывает влияние на рост и сохранение костной ткани 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60720" cy="217476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960720" cy="243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2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7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Витамин 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 для нормальной свёртываемости крови и синтеза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4643280" y="1593720"/>
            <a:ext cx="3924360" cy="4030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яет собой привычный жирорастворимый витамин, встречающийся в нескольких вариан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716720" cy="3363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1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мплекс витаминов группы 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025640" y="1652400"/>
            <a:ext cx="3876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 этих витаминов необходимы для выполнения множества функций, но их первостепенная задача заключается в высвобождении энергии из углеводов, жиров и 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427560" cy="208908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527280" cy="236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8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91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известный из жизненно необходимых питатель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яется при профилактике и лечении общих простудны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11600" cy="3907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55:16Z</dcterms:created>
  <dc:creator>User</dc:creator>
  <dc:description/>
  <dc:language>en-US</dc:language>
  <cp:lastModifiedBy>Сергей</cp:lastModifiedBy>
  <dcterms:modified xsi:type="dcterms:W3CDTF">2008-06-23T15:54:58Z</dcterms:modified>
  <cp:revision>40</cp:revision>
  <dc:subject/>
  <dc:title>«Химия и здоровье»</dc:title>
</cp:coreProperties>
</file>