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2F9-0474-4E8C-9C51-7BDD88EA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68D-BD6E-480C-9866-6837299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02683-C7EF-4FBC-9756-2E682F9A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9F71C-F89A-4BD2-98AB-D0EBF72D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78B8C-AB02-43AA-A65C-0E9DAF26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F8B45-1136-47CF-AA7C-23D2708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2B4EE9-5A71-426C-9ACC-A7AF282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ED949-4138-4B45-8444-B454F66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B8667-23D1-4AE1-A63E-47B157A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175E0-40CA-4240-B108-80ECA8FC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53E33-FAE4-4F7A-AB4E-303D274F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D98D0-6F91-4003-8AAC-4CB87F94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F1D-A0A0-481A-A660-EE93CC54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A6150-5047-42DE-9846-42220F4B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2315E-0F2B-4EF2-B099-A8B81BD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16F42-FC72-42A1-B4C5-AECC0D2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AE34C-3EC2-427F-9634-9F28A6E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7F38D-A64C-4743-AB2C-14D2156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7C52C-0373-42D6-96BB-5A292800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B587F-DEF0-47D0-8A4D-AB8F1E6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A4A18-72AD-4F98-AFF6-AA531CD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CBEA8-F41C-4F70-B182-4C06493D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5620D-76D0-4B06-A98E-B823A6F9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5DC-318D-4799-8647-DBE7F14C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8D00-2398-482A-97B5-97D4AC56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9A7F1-C7AF-4222-8FBA-503112EF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934B-15D8-4FA6-B584-2DB66A41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62BC-52C6-4C4B-B4E4-4450452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4EB7B-C73E-4E68-B311-67C453FB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9C52F-3720-4DEE-9A02-CFB8C71A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D3235-6C5D-4C0E-BC76-FC9C1749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467FD-44BC-4AEA-BF86-99BD71DB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C1295-D096-48E0-901E-30C606C6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64FF1-3578-4696-9D28-21D5405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F3C2-DD85-4415-AD0A-674652C5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3B2E8-A353-49B3-A89D-6A8AF18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D8873-1AE2-44C3-AE4D-3A6A0DE6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F77BE-1CF9-4097-9B0D-AB26DF6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44AB2-E218-4605-BA4E-D3E31CCF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BE9F-5985-4FF8-8591-C8F2D2F0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B3694-0E0A-457D-8CE2-BBB7C51D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786D4-35DC-47C0-8DD0-E7C59FB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BA7CF-2CCD-4102-85B4-C0C9C6F4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CA9B9-98CF-49DE-8BDA-4A26F6D9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09A3E-EBD7-406F-AD2D-1B7FA16B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EFD2-18D9-4E06-B987-2C2F127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706D-9AA6-44E1-AFB2-D4ADF5BE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917B6-8DA7-4C6B-99DC-9A4235C4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8B50D-55B1-4356-89C2-CA2C5BA3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73BA-1A93-4323-BF65-ACB676D4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E4024-9E94-4640-BDFD-BE17D8B1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272D7-4BC1-4428-A20E-828F5F3B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8D4F9-5F3D-419D-B419-27684AA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B6986-D119-4FA2-B604-B06C7F4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5C605-C7AE-4654-9751-F8478A65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710CA-700F-4DF4-BEBE-2C4FC68A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D289-4EB6-477F-B6EC-9DF343F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7BE99-21A5-4806-ADA3-1E839E55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61678-78F0-44A0-B8FA-F4CB56F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714D3-EB7E-45F8-A9E1-9E115E9A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F995E-C3BC-42D1-8A6B-4F484E7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C6F62-A1E3-4B68-B770-C8C8D794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2D5BE-AB0C-4878-9F06-CCC6A267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B3BFD-4FF7-4769-9E27-0E5E8161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EA553-1E89-4E35-936C-388419A1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16A95-FEA3-48BC-8763-34F29D2A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B634D-FC65-4E4F-BF24-FB536BB8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D13D-CAF3-402F-BD18-46CA5855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D7BE7-77DB-4B97-ABE2-20872302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2CC52-2400-4750-A6E5-440E7665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61C01-50DF-41EA-AEAC-BAA36BE5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49620-2192-446C-9AA7-47D0176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30A2B-577C-4F55-807E-46814AF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B65AD-0E6A-414F-A8DC-F5995E2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6C192C-0ADA-4E89-B631-F2AE560E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B7AB4-F886-45A0-9036-F8BA32C5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E1E34-6782-42BB-AD4E-425653B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2F7BB5-EDB7-4C01-A50F-FFC0D5E5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BBC-B8DF-46BB-B502-E6EA607C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D04E6-45F7-42D8-BF81-9D1930A3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FBF09-E872-4F42-81FF-7930293D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FB039-FBC8-4A56-95D6-15A1155A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973E8-B83F-4DA2-8C1F-05206D05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000808-3A56-4345-B74B-96D720DF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A733D-493B-4A9B-8013-49D9BC5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A29BBA-C8BB-4616-8D1D-64C572C6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48A60-3ACF-43CF-812E-982A4B9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DFCEF-54F4-482B-AA43-66D82B7B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E0FA6-3EBE-43BE-B086-00B85322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8B3-A367-4346-ABB4-32CEBA5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125424-74E1-4C66-BD1F-874A7F89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CB287-9073-491E-968A-F81BAC5B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9AF6A-B5B6-4AB4-8364-6F7BE51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C6CE3-CB34-4952-B47E-9B9757C2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BE9069-3B1E-4FE0-AF5D-DF013734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A8E04-30C5-42B2-9616-1EB5744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E6E46-724B-4903-A94E-0AA6639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0D88E-FD1B-4DE2-A2C2-973003A7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0D79F3-6449-46F1-87D0-A1797105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9AE4A-A2F0-4409-934F-2D493539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0281-82CF-4618-95A9-1BAF257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69F31-EE54-4040-B687-1EF6854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318ED2-8A5E-4EA6-B94B-2FB3320F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414F8-708A-459E-9268-9033F0B8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F6F-D470-4871-BFA9-29AA6F14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8A2D-9767-450D-AD41-CB4AF2B8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7FC-E7A2-4074-8845-A746EBC7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FF0-22E6-4281-A508-6B7A998D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EC11-A9CE-4BA3-9636-C9F458D3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47D2-3160-46F4-A41F-9BC96293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54C7-4E1A-48B8-B3DF-2000CE60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7150-CE66-42E7-9C7C-1FFEB06E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5446-DE0D-4F92-B9F9-C9A46E51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EF474-68FF-4A94-BE5E-597AF20C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1204-BB8D-48B8-9365-98BB260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FCB-F30C-4346-A881-12DAA40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55E8-186F-4C30-831C-46F6910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D8B4-63B6-40D1-94CE-96E9132B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46EA0-BD6B-4B92-9652-CBD6695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2751-B6D3-4DEF-AAAB-22CC77A8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6176-D9BD-4912-9260-A70F003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5973-0ECA-473E-ADDC-A1C361BC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D230A-C83C-4073-A77F-C84E14BF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EC733-8579-4102-844D-074FC0B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BE19-10A3-4725-9D8A-CFF7369E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04A89-C0DE-4C91-A988-B536125A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AEC-3A38-4630-AA90-A50F4B57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C690-ADA2-41DE-9655-220B22FB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4999-3DE6-4E9D-BFBB-C4D3A6F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625F-C922-4A29-BDBA-E4790262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B6816-ECC2-4C94-87AE-331B4D3B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624A5-50FF-411F-8081-0711AEBF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B5E3-459A-4717-B56E-7564C7BE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E4E4A-9326-49F1-92A1-D121A25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13778-8E45-448E-8AAF-7FDB68C6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82F86-7903-4186-87E7-255BE873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F8DF-B4E7-4A90-8385-31EFBA5F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D80-E813-4151-A2B7-35E95FEE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E0A3E-AF31-41BF-B11E-AF09C7B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420D6-7E95-4B66-9B8C-F5D8C117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9572-E287-4DD7-9A4E-C80C8BE2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D1CD6-E2C6-4011-8F62-CCFD413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3D56A-8DC3-4C02-990B-7FF44731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BAAB-2EF5-4B94-A252-DF764E1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958B-28DE-4629-A982-A5E28FCB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23D3F-1F7C-4C9F-95B2-85FB89A0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A0A51-5841-4621-90D2-0777B240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7C17-C347-4E28-A333-830F7592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284-A4D0-4E52-8F86-1BDA156D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5059-BFE0-498E-BA7F-D2516E20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1F83A8-4E70-4AAD-B2E8-A57C0D4C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2E13C-3057-467C-8C13-763ACF1E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B5D8A-9533-4E2B-B32C-BDCAAC9E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45F809-5421-4F0B-BBE1-BB1C6B49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7A2B4-4B0D-42F5-BEAF-7AE2B495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A0099-D507-4084-98AA-C7B856B8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234B8-5AE2-46B9-8D25-9A109F7A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D2F30E-63F4-4E5F-98B0-73E6244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EF014-11BF-42B7-95FC-1A820A82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2A9-770F-454D-AB79-865620BE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16A6B0-8E73-4C8B-9561-E866C66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D3D84B-3704-4D78-8F02-1B655C54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BC80E-2B36-4234-907F-FDE6BD27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69622-6FD8-42DA-83A6-2F0A5491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F14BB-7220-4BDA-9B02-1DD011C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77AC-7605-4816-9EA7-A51ADF77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4BC97-41E5-465A-8245-8A3F7AF2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248C-D9B4-4171-9AB6-2E98924F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9B468-062C-4618-90BD-088F297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EE1A7-AF4B-42CF-AC92-4ED8242B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B25-9B75-4CCE-A719-D1D3240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BC148-243F-4B15-8D50-7B7FCC6A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FBE6F-AB0D-404C-823E-A39807E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2C41-8E92-4EC6-8D5C-7D11E13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285FF-E86D-4421-82C8-AB1B1869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5BBF-381E-4C58-9F76-47D08F87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3BE0-ED13-4EFE-A8AF-F5BCC695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BBF96-B170-45CC-B847-F8E355B2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89054-D2BF-4056-93B8-489D6E3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B8C42-7216-47B1-ABE9-DF3B0B10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5D6C-8888-4D98-B466-4B696A8E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7AE-4600-4DA3-A774-9F4AECCD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9B0B3-B67C-484A-A80C-BECAB6C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2298F-0A3B-437A-8A16-6E45579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3015B-C884-47F1-A785-242580D6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DF5D7-5D2A-4519-8E7A-58ECB56F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03EC-F5FB-4AFC-974B-751478E6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F3ED-EA91-4AEC-82E0-1654FDF4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50903-BA42-4CE4-8E47-8FFEB533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5FC8E-33AD-4C0E-ABDA-836658FF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CDF49-D00D-4335-AF8E-703D4EF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DEF79-BA7D-4824-AFD7-4192C464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2DD1-BA56-40EA-8112-DB983E018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55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01A-5561-4F01-BF0D-EE2B1920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1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2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5BA9-4687-4197-9D04-C7DCB4487C7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09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09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11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11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11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2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7817-945C-494C-9E2E-014B59525C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17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85DB-2FE0-4469-917F-8BD05CCF1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2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4900-2517-4E2E-87D8-9CB8C0327B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266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B56-A014-449A-A7E0-81F6853D99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1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CBD-0A33-48F3-9DB3-1704170149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1B9-149C-45F1-8DEC-F81016BAAA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0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EF0-8FC7-476E-A02B-F056D53C08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5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5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5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27CE-09C0-4BCA-920C-CA47BC4093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D08-ADBB-4EEC-9642-C4DA4E6C8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BD5-E3EC-4EEA-A165-859136121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2FD3-57B8-43A7-AE57-61BD2D764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9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4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AE9-ACEB-444E-95D7-ECEF3FFF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98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DE55-8BF1-4BBE-95B5-F5937E28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5.xml"/><Relationship Id="rId3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5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9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«Химия и здоровье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-360" y="3068280"/>
            <a:ext cx="93963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гиенко Ксения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ащаяся группы №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: Бузмакова С.В.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подаватель информат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6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908000" y="1484280"/>
            <a:ext cx="5472360" cy="3960720"/>
          </a:xfrm>
          <a:custGeom>
            <a:avLst/>
            <a:gdLst>
              <a:gd name="textAreaLeft" fmla="*/ 1368000 w 5472360"/>
              <a:gd name="textAreaRight" fmla="*/ 4104360 w 547236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195640" y="306864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нер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 rot="5400000">
            <a:off x="-1377360" y="3329640"/>
            <a:ext cx="4896000" cy="63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кроэлемен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6" name=""/>
          <p:cNvSpPr txBox="1"/>
          <p:nvPr/>
        </p:nvSpPr>
        <p:spPr>
          <a:xfrm rot="5400000">
            <a:off x="5742000" y="3337560"/>
            <a:ext cx="4824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кроэлемен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604360" y="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1223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71" h="21600">
                <a:moveTo>
                  <a:pt x="1223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71" h="21600">
                <a:moveTo>
                  <a:pt x="9659" y="8224"/>
                </a:moveTo>
                <a:lnTo>
                  <a:pt x="13524" y="8224"/>
                </a:lnTo>
                <a:lnTo>
                  <a:pt x="13524" y="15221"/>
                </a:lnTo>
                <a:lnTo>
                  <a:pt x="14812" y="15221"/>
                </a:lnTo>
                <a:lnTo>
                  <a:pt x="14812" y="16144"/>
                </a:lnTo>
                <a:lnTo>
                  <a:pt x="9659" y="16144"/>
                </a:lnTo>
                <a:lnTo>
                  <a:pt x="9659" y="15221"/>
                </a:lnTo>
                <a:lnTo>
                  <a:pt x="10948" y="15221"/>
                </a:lnTo>
                <a:lnTo>
                  <a:pt x="10948" y="9129"/>
                </a:lnTo>
                <a:lnTo>
                  <a:pt x="9659" y="912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акроэлементы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745920" y="1572120"/>
            <a:ext cx="6968880" cy="4571640"/>
            <a:chOff x="745920" y="1572120"/>
            <a:chExt cx="6968880" cy="4571640"/>
          </a:xfrm>
        </p:grpSpPr>
        <p:sp>
          <p:nvSpPr>
            <p:cNvPr id="1390" name="_s24582"/>
            <p:cNvSpPr/>
            <p:nvPr/>
          </p:nvSpPr>
          <p:spPr>
            <a:xfrm>
              <a:off x="3287880" y="2222640"/>
              <a:ext cx="1885320" cy="185940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_s24583"/>
            <p:cNvSpPr/>
            <p:nvPr/>
          </p:nvSpPr>
          <p:spPr>
            <a:xfrm>
              <a:off x="3287880" y="157212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льц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_s24590"/>
            <p:cNvSpPr/>
            <p:nvPr/>
          </p:nvSpPr>
          <p:spPr>
            <a:xfrm>
              <a:off x="3908520" y="2576160"/>
              <a:ext cx="1885320" cy="185940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_s24591"/>
            <p:cNvSpPr/>
            <p:nvPr/>
          </p:nvSpPr>
          <p:spPr>
            <a:xfrm>
              <a:off x="5829480" y="248364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ал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_s24592"/>
            <p:cNvSpPr/>
            <p:nvPr/>
          </p:nvSpPr>
          <p:spPr>
            <a:xfrm>
              <a:off x="3908520" y="3282120"/>
              <a:ext cx="1885320" cy="18594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_s24593"/>
            <p:cNvSpPr/>
            <p:nvPr/>
          </p:nvSpPr>
          <p:spPr>
            <a:xfrm>
              <a:off x="5829480" y="476964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Натр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_s24596"/>
            <p:cNvSpPr/>
            <p:nvPr/>
          </p:nvSpPr>
          <p:spPr>
            <a:xfrm>
              <a:off x="3289320" y="3635280"/>
              <a:ext cx="1885320" cy="18594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_s24597"/>
            <p:cNvSpPr/>
            <p:nvPr/>
          </p:nvSpPr>
          <p:spPr>
            <a:xfrm>
              <a:off x="3287880" y="567972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Хл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_s24584"/>
            <p:cNvSpPr/>
            <p:nvPr/>
          </p:nvSpPr>
          <p:spPr>
            <a:xfrm>
              <a:off x="2668680" y="3283920"/>
              <a:ext cx="1885320" cy="185940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_s24585"/>
            <p:cNvSpPr/>
            <p:nvPr/>
          </p:nvSpPr>
          <p:spPr>
            <a:xfrm>
              <a:off x="745920" y="4769640"/>
              <a:ext cx="188532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аг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_s24586"/>
            <p:cNvSpPr/>
            <p:nvPr/>
          </p:nvSpPr>
          <p:spPr>
            <a:xfrm>
              <a:off x="2666520" y="2577600"/>
              <a:ext cx="1885320" cy="18594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_s24587"/>
            <p:cNvSpPr/>
            <p:nvPr/>
          </p:nvSpPr>
          <p:spPr>
            <a:xfrm>
              <a:off x="745920" y="2483640"/>
              <a:ext cx="18853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осф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8000">
    <p:zoom dir="in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Микроэлемен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878760" y="1548720"/>
            <a:ext cx="7384320" cy="4704480"/>
            <a:chOff x="878760" y="1548720"/>
            <a:chExt cx="7384320" cy="4704480"/>
          </a:xfrm>
        </p:grpSpPr>
        <p:sp>
          <p:nvSpPr>
            <p:cNvPr id="1404" name="_s26717"/>
            <p:cNvSpPr/>
            <p:nvPr/>
          </p:nvSpPr>
          <p:spPr>
            <a:xfrm>
              <a:off x="3639240" y="2218320"/>
              <a:ext cx="1863720" cy="1914120"/>
            </a:xfrm>
            <a:prstGeom prst="ellipse">
              <a:avLst/>
            </a:prstGeom>
            <a:solidFill>
              <a:srgbClr val="008000">
                <a:alpha val="50000"/>
              </a:srgbClr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_s26718"/>
            <p:cNvSpPr/>
            <p:nvPr/>
          </p:nvSpPr>
          <p:spPr>
            <a:xfrm>
              <a:off x="3639240" y="154872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Желез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_s26723"/>
            <p:cNvSpPr/>
            <p:nvPr/>
          </p:nvSpPr>
          <p:spPr>
            <a:xfrm>
              <a:off x="4139640" y="2430720"/>
              <a:ext cx="1863360" cy="1914120"/>
            </a:xfrm>
            <a:prstGeom prst="ellipse">
              <a:avLst/>
            </a:prstGeom>
            <a:solidFill>
              <a:srgbClr val="ff6600">
                <a:alpha val="50000"/>
              </a:srgbClr>
            </a:solidFill>
            <a:ln w="4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_s26724"/>
            <p:cNvSpPr/>
            <p:nvPr/>
          </p:nvSpPr>
          <p:spPr>
            <a:xfrm>
              <a:off x="5863680" y="209700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Цин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_s26725"/>
            <p:cNvSpPr/>
            <p:nvPr/>
          </p:nvSpPr>
          <p:spPr>
            <a:xfrm>
              <a:off x="4346640" y="2944080"/>
              <a:ext cx="1863360" cy="191412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_s26726"/>
            <p:cNvSpPr/>
            <p:nvPr/>
          </p:nvSpPr>
          <p:spPr>
            <a:xfrm>
              <a:off x="6399360" y="366264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Й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_s26727"/>
            <p:cNvSpPr/>
            <p:nvPr/>
          </p:nvSpPr>
          <p:spPr>
            <a:xfrm>
              <a:off x="4139640" y="3457800"/>
              <a:ext cx="1863360" cy="19141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_s26728"/>
            <p:cNvSpPr/>
            <p:nvPr/>
          </p:nvSpPr>
          <p:spPr>
            <a:xfrm>
              <a:off x="5863680" y="522648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_s26729"/>
            <p:cNvSpPr/>
            <p:nvPr/>
          </p:nvSpPr>
          <p:spPr>
            <a:xfrm>
              <a:off x="3639240" y="3669840"/>
              <a:ext cx="1863720" cy="191412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_s26730"/>
            <p:cNvSpPr/>
            <p:nvPr/>
          </p:nvSpPr>
          <p:spPr>
            <a:xfrm>
              <a:off x="3639240" y="577656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Хро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_s26719"/>
            <p:cNvSpPr/>
            <p:nvPr/>
          </p:nvSpPr>
          <p:spPr>
            <a:xfrm>
              <a:off x="3138840" y="3457800"/>
              <a:ext cx="1863720" cy="191412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_s26720"/>
            <p:cNvSpPr/>
            <p:nvPr/>
          </p:nvSpPr>
          <p:spPr>
            <a:xfrm>
              <a:off x="1414440" y="522648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еле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_s26721"/>
            <p:cNvSpPr/>
            <p:nvPr/>
          </p:nvSpPr>
          <p:spPr>
            <a:xfrm>
              <a:off x="2931840" y="2944080"/>
              <a:ext cx="1863720" cy="19141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_s26722"/>
            <p:cNvSpPr/>
            <p:nvPr/>
          </p:nvSpPr>
          <p:spPr>
            <a:xfrm>
              <a:off x="878760" y="3662640"/>
              <a:ext cx="1863720" cy="4770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аргане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_s26731"/>
            <p:cNvSpPr/>
            <p:nvPr/>
          </p:nvSpPr>
          <p:spPr>
            <a:xfrm>
              <a:off x="3138840" y="2430720"/>
              <a:ext cx="1863720" cy="19141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46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_s26732"/>
            <p:cNvSpPr/>
            <p:nvPr/>
          </p:nvSpPr>
          <p:spPr>
            <a:xfrm>
              <a:off x="1414440" y="2097000"/>
              <a:ext cx="1863720" cy="47664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18900000" blurRad="0" rotWithShape="0">
                <a:srgbClr val="99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олибде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zoom dir="in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Минеральная вода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1" name=""/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38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18" h="21600">
                <a:moveTo>
                  <a:pt x="138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18" h="21600">
                <a:moveTo>
                  <a:pt x="11283" y="8224"/>
                </a:moveTo>
                <a:lnTo>
                  <a:pt x="15147" y="8224"/>
                </a:lnTo>
                <a:lnTo>
                  <a:pt x="15147" y="15221"/>
                </a:lnTo>
                <a:lnTo>
                  <a:pt x="16435" y="15221"/>
                </a:lnTo>
                <a:lnTo>
                  <a:pt x="16435" y="16144"/>
                </a:lnTo>
                <a:lnTo>
                  <a:pt x="11283" y="16144"/>
                </a:lnTo>
                <a:lnTo>
                  <a:pt x="11283" y="15221"/>
                </a:lnTo>
                <a:lnTo>
                  <a:pt x="12571" y="15221"/>
                </a:lnTo>
                <a:lnTo>
                  <a:pt x="12571" y="9129"/>
                </a:lnTo>
                <a:lnTo>
                  <a:pt x="11283" y="912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Химический состав минеральной во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2098800"/>
                <a:gridCol w="613080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карбон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-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и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льф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0-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г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+К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ль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-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тр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более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тр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минерализ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 – 2,8 мг/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3000">
    <p:zoom dir="in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"/>
          <p:cNvGrpSpPr/>
          <p:nvPr/>
        </p:nvGrpSpPr>
        <p:grpSpPr>
          <a:xfrm>
            <a:off x="505800" y="171720"/>
            <a:ext cx="8350200" cy="6508440"/>
            <a:chOff x="505800" y="171720"/>
            <a:chExt cx="8350200" cy="6508440"/>
          </a:xfrm>
        </p:grpSpPr>
        <p:sp>
          <p:nvSpPr>
            <p:cNvPr id="1425" name="_s49202"/>
            <p:cNvSpPr/>
            <p:nvPr/>
          </p:nvSpPr>
          <p:spPr>
            <a:xfrm flipH="1" flipV="1">
              <a:off x="3150000" y="1849320"/>
              <a:ext cx="1012320" cy="10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_s49201"/>
            <p:cNvSpPr/>
            <p:nvPr/>
          </p:nvSpPr>
          <p:spPr>
            <a:xfrm>
              <a:off x="1766880" y="67176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ягкая 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_s49200"/>
            <p:cNvSpPr/>
            <p:nvPr/>
          </p:nvSpPr>
          <p:spPr>
            <a:xfrm flipH="1" flipV="1">
              <a:off x="2202840" y="2823840"/>
              <a:ext cx="1644840" cy="405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_s49199"/>
            <p:cNvSpPr/>
            <p:nvPr/>
          </p:nvSpPr>
          <p:spPr>
            <a:xfrm>
              <a:off x="505800" y="197100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альцие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_s49198"/>
            <p:cNvSpPr/>
            <p:nvPr/>
          </p:nvSpPr>
          <p:spPr>
            <a:xfrm flipH="1">
              <a:off x="2202840" y="3632040"/>
              <a:ext cx="1647720" cy="39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_s49197"/>
            <p:cNvSpPr/>
            <p:nvPr/>
          </p:nvSpPr>
          <p:spPr>
            <a:xfrm>
              <a:off x="505800" y="357804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трие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_s49196"/>
            <p:cNvSpPr/>
            <p:nvPr/>
          </p:nvSpPr>
          <p:spPr>
            <a:xfrm flipH="1">
              <a:off x="3147480" y="3956760"/>
              <a:ext cx="1022040" cy="104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_s49195"/>
            <p:cNvSpPr/>
            <p:nvPr/>
          </p:nvSpPr>
          <p:spPr>
            <a:xfrm>
              <a:off x="1766880" y="487728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ислая 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_s49194"/>
            <p:cNvSpPr/>
            <p:nvPr/>
          </p:nvSpPr>
          <p:spPr>
            <a:xfrm>
              <a:off x="4678560" y="4080600"/>
              <a:ext cx="4320" cy="1295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_s49193"/>
            <p:cNvSpPr/>
            <p:nvPr/>
          </p:nvSpPr>
          <p:spPr>
            <a:xfrm>
              <a:off x="3808800" y="5373720"/>
              <a:ext cx="174420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елезист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_s49192"/>
            <p:cNvSpPr/>
            <p:nvPr/>
          </p:nvSpPr>
          <p:spPr>
            <a:xfrm>
              <a:off x="5194080" y="3953520"/>
              <a:ext cx="1014480" cy="105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_s49191"/>
            <p:cNvSpPr/>
            <p:nvPr/>
          </p:nvSpPr>
          <p:spPr>
            <a:xfrm>
              <a:off x="5850000" y="487728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тор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_s49190"/>
            <p:cNvSpPr/>
            <p:nvPr/>
          </p:nvSpPr>
          <p:spPr>
            <a:xfrm>
              <a:off x="5508360" y="3626640"/>
              <a:ext cx="1647720" cy="402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_s49189"/>
            <p:cNvSpPr/>
            <p:nvPr/>
          </p:nvSpPr>
          <p:spPr>
            <a:xfrm>
              <a:off x="7111080" y="357624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агние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_s49188"/>
            <p:cNvSpPr/>
            <p:nvPr/>
          </p:nvSpPr>
          <p:spPr>
            <a:xfrm flipV="1">
              <a:off x="5506200" y="2824200"/>
              <a:ext cx="1649880" cy="398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_s49187"/>
            <p:cNvSpPr/>
            <p:nvPr/>
          </p:nvSpPr>
          <p:spPr>
            <a:xfrm>
              <a:off x="7111080" y="1969200"/>
              <a:ext cx="1744920" cy="13064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лори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_s49186"/>
            <p:cNvSpPr/>
            <p:nvPr/>
          </p:nvSpPr>
          <p:spPr>
            <a:xfrm flipV="1">
              <a:off x="5189760" y="1849320"/>
              <a:ext cx="1019160" cy="104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_s49185"/>
            <p:cNvSpPr/>
            <p:nvPr/>
          </p:nvSpPr>
          <p:spPr>
            <a:xfrm>
              <a:off x="5847840" y="66816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ульфа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_s49184"/>
            <p:cNvSpPr/>
            <p:nvPr/>
          </p:nvSpPr>
          <p:spPr>
            <a:xfrm flipV="1">
              <a:off x="4678560" y="1477800"/>
              <a:ext cx="0" cy="12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_s49183"/>
            <p:cNvSpPr/>
            <p:nvPr/>
          </p:nvSpPr>
          <p:spPr>
            <a:xfrm>
              <a:off x="3805920" y="171720"/>
              <a:ext cx="1744920" cy="13060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Бикарбона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_s49182"/>
            <p:cNvSpPr/>
            <p:nvPr/>
          </p:nvSpPr>
          <p:spPr>
            <a:xfrm>
              <a:off x="3805920" y="2775240"/>
              <a:ext cx="1744920" cy="130644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747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Сол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15000"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00"/>
                            </p:stCondLst>
                            <p:childTnLst>
                              <p:par>
                                <p:cTn id="4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лезные свойства природной питьевой минеральной воды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ает жизненный тон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ализует обменные процессы в организ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выведению шлаков и токси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пищевар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калорийна и помогает уменьшить аппетит во время ди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снижению в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ладает противовоспалительным и бактерицидным свойств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кровообра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держит хл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вкусовые ка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репляет зубную эма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пятствует развитию кариеса и пародон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1000">
    <p:zoom dir="in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96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2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4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88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7840"/>
                            </p:stCondLst>
                            <p:childTnLst>
                              <p:par>
                                <p:cTn id="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88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104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68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372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460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Бикарбонатная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5407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держи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ее 600 миллиграммо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карбонат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активно занимающимся спорт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рудным детям (особенно при частой рвот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ным цистит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2000"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1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1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0" dur="2000"/>
                                        <p:tgtEl>
                                          <p:spTgt spid="1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8000"/>
                            </p:stCondLst>
                            <p:childTnLst>
                              <p:par>
                                <p:cTn id="5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1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1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ульфат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одержит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ее 200 миллиграммо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льфат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, у кого проблемы с печень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еет слабительный эффек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in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14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400" fill="hold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400" fill="hold"/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Хлорид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00 миллиграммов хлоридов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ориды, часто соединенные с натрием, помогают регулировать работу кишечника, желчных путей и печени, поэтому воду стоит пить тем, у кого есть проблемы в этой обл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7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1" dur="770" fill="hold"/>
                                        <p:tgtEl>
                                          <p:spTgt spid="14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3" dur="77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5" dur="77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000"/>
                            </p:stCondLst>
                            <p:childTnLst>
                              <p:par>
                                <p:cTn id="6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Витамин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569080" cy="512460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709308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1213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270" h="21600">
                <a:moveTo>
                  <a:pt x="1213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270" h="21600">
                <a:moveTo>
                  <a:pt x="9559" y="8224"/>
                </a:moveTo>
                <a:lnTo>
                  <a:pt x="13423" y="8224"/>
                </a:lnTo>
                <a:lnTo>
                  <a:pt x="13423" y="15221"/>
                </a:lnTo>
                <a:lnTo>
                  <a:pt x="14711" y="15221"/>
                </a:lnTo>
                <a:lnTo>
                  <a:pt x="14711" y="16144"/>
                </a:lnTo>
                <a:lnTo>
                  <a:pt x="9559" y="16144"/>
                </a:lnTo>
                <a:lnTo>
                  <a:pt x="9559" y="15221"/>
                </a:lnTo>
                <a:lnTo>
                  <a:pt x="10847" y="15221"/>
                </a:lnTo>
                <a:lnTo>
                  <a:pt x="10847" y="9129"/>
                </a:lnTo>
                <a:lnTo>
                  <a:pt x="9559" y="912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агн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50 миллиграммов магн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рессовых ситуациях, поскольку магний участвует в механизме, регулирующем реакцию организма на стрес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77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2" dur="770" fill="hold"/>
                                        <p:tgtEl>
                                          <p:spTgt spid="14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6" dur="7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Фторн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 миллиграмма фтора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еременным; людям, страдающим остеопорозом (особенно полезно ее чередовать с водой, богатой кальцием); а также тем, кто живет в районе, где фторируется водопроводная в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1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8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Железист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 миллиграмма железа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страдающим железодефицитной анем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1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000"/>
                            </p:stCondLst>
                            <p:childTnLst>
                              <p:par>
                                <p:cTn id="7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500"/>
                            </p:stCondLst>
                            <p:childTnLst>
                              <p:par>
                                <p:cTn id="7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исл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50 миллиграммов ангидридов углекислоты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, у кого понижена кислотность желудочного со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77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7" dur="770" fill="hold"/>
                                        <p:tgtEl>
                                          <p:spTgt spid="1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300"/>
                            </p:stCondLst>
                            <p:childTnLst>
                              <p:par>
                                <p:cTn id="7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450"/>
                            </p:stCondLst>
                            <p:childTnLst>
                              <p:par>
                                <p:cTn id="7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Натр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200 миллиграммов натр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плохом пищеварении (в сочетании с хлоридной водой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77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770" fill="hold"/>
                                        <p:tgtEl>
                                          <p:spTgt spid="1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800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3000"/>
                            </p:stCondLst>
                            <p:childTnLst>
                              <p:par>
                                <p:cTn id="8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4000"/>
                            </p:stCondLst>
                            <p:childTnLst>
                              <p:par>
                                <p:cTn id="8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альциев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ржит: более 150 миллиграммов кальция на лит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комендуетс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юдям, не пьющим молоко, беременным женщинам, а также детям и подросткам. Согласно последним исследованиям, проведенным в США, такая вода понижает давление у гиперто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77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4" dur="770" fill="hold"/>
                                        <p:tgtEl>
                                          <p:spTgt spid="14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6" dur="7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8" dur="7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7200"/>
                            </p:stCondLst>
                            <p:childTnLst>
                              <p:par>
                                <p:cTn id="8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9500"/>
                            </p:stCondLst>
                            <p:childTnLst>
                              <p:par>
                                <p:cTn id="8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Мягкая и жесткая вод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на из главных характеристик минеральной воды - ее жесткость, то есть степень суммарного содержания кальция и магния. Жесткая вода рекомендуется детям, пожилым людям и тем, кто страдает остеопорозом. Мягкая же хорошо подойдет для приготовления настоев, отваров, лечебных сиропов, ликеров. Правда, некоторые ученые полагают, что мягкая вода способствует развитию сердечно-сосудистых заболеваний, но серьезных доказательств этому пока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in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77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8" dur="770" fill="hold"/>
                                        <p:tgtEl>
                                          <p:spTgt spid="14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0" dur="77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000"/>
                            </p:stCondLst>
                            <p:childTnLst>
                              <p:par>
                                <p:cTn id="8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7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8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Полезные свойства природной питьевой минеральной воды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ает жизненный тон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рмализует обменные процессы в организм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выведению шлаков и токси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пищевар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калорийна и помогает уменьшить аппетит во время ди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особствует снижению ве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ладает противовоспалительным и бактерицидным свойство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кровообращ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содержит хл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лучшает вкусовые кач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крепляет зубную эма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пятствует развитию кариеса и пародонто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zoom dir="in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1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960"/>
                            </p:stCondLst>
                            <p:childTnLst>
                              <p:par>
                                <p:cTn id="9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1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520"/>
                            </p:stCondLst>
                            <p:childTnLst>
                              <p:par>
                                <p:cTn id="9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80"/>
                                        <p:tgtEl>
                                          <p:spTgt spid="1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40"/>
                            </p:stCondLst>
                            <p:childTnLst>
                              <p:par>
                                <p:cTn id="9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1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880"/>
                            </p:stCondLst>
                            <p:childTnLst>
                              <p:par>
                                <p:cTn id="9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7840"/>
                            </p:stCondLst>
                            <p:childTnLst>
                              <p:par>
                                <p:cTn id="9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80"/>
                                        <p:tgtEl>
                                          <p:spTgt spid="1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8880"/>
                            </p:stCondLst>
                            <p:childTnLst>
                              <p:par>
                                <p:cTn id="9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1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1040"/>
                            </p:stCondLst>
                            <p:childTnLst>
                              <p:par>
                                <p:cTn id="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1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80"/>
                                        <p:tgtEl>
                                          <p:spTgt spid="1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2680"/>
                            </p:stCondLst>
                            <p:childTnLst>
                              <p:par>
                                <p:cTn id="9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1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372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1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4600"/>
                            </p:stCondLst>
                            <p:childTnLst>
                              <p:par>
                                <p:cTn id="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1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420120"/>
            <a:ext cx="8229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 в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2556000" y="333360"/>
            <a:ext cx="388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Какой витамин содержится в ярко желтых, зеленых и оранжевых фруктах и овощах?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итамин 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Витамин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600" spc="-1" strike="noStrike" u="sng">
                <a:solidFill>
                  <a:srgbClr val="9999ff"/>
                </a:solidFill>
                <a:uFillTx/>
                <a:latin typeface="Arial"/>
                <a:hlinkClick r:id="rId4" action="ppaction://hlinksldjump"/>
              </a:rPr>
              <a:t>Витамин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Arial"/>
                <a:hlinkClick r:id="rId5" action="ppaction://hlinksldjump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/>
          <p:nvPr/>
        </p:nvSpPr>
        <p:spPr>
          <a:xfrm>
            <a:off x="2124000" y="1628640"/>
            <a:ext cx="5184720" cy="3241800"/>
          </a:xfrm>
          <a:custGeom>
            <a:avLst/>
            <a:gdLst>
              <a:gd name="textAreaLeft" fmla="*/ 0 w 5184720"/>
              <a:gd name="textAreaRight" fmla="*/ 5185080 w 5184720"/>
              <a:gd name="textAreaTop" fmla="*/ 810360 h 3241800"/>
              <a:gd name="textAreaBottom" fmla="*/ 2431440 h 324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411280" y="2781360"/>
            <a:ext cx="460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826920" y="4861080"/>
            <a:ext cx="748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Водорастворимы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все остальные</a:t>
            </a: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187280" y="0"/>
            <a:ext cx="6985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00"/>
                </a:solidFill>
                <a:latin typeface="Arial"/>
              </a:rPr>
              <a:t>Жирорастворимы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Arial"/>
              </a:rPr>
              <a:t>(A, D, E, K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2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В какую группу входит витамин С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Водораствор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Жирорастворим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Функция витамина К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 action="ppaction://hlinksldjump"/>
              </a:rPr>
              <a:t>Сохранение костной ткани организ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 action="ppaction://hlinksldjump"/>
              </a:rPr>
              <a:t>Много жизненных фун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3" action="ppaction://hlinksldjump"/>
              </a:rPr>
              <a:t>Для нормальной свертываемости кр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Какая группа не относиться к минералам?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Макро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Мини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Микроэлемен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На сколько групп делиться соли минеральной воды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>
            <a:hlinkClick r:id="rId1" action="ppaction://hlinksldjump"/>
          </p:cNvPr>
          <p:cNvSpPr/>
          <p:nvPr/>
        </p:nvSpPr>
        <p:spPr>
          <a:xfrm>
            <a:off x="3059280" y="5516640"/>
            <a:ext cx="4608360" cy="1008000"/>
          </a:xfrm>
          <a:custGeom>
            <a:avLst/>
            <a:gdLst>
              <a:gd name="textAreaLeft" fmla="*/ 65160 w 4608360"/>
              <a:gd name="textAreaRight" fmla="*/ 4543200 w 460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98723" h="21600">
                <a:moveTo>
                  <a:pt x="0" y="0"/>
                </a:moveTo>
                <a:lnTo>
                  <a:pt x="98723" y="0"/>
                </a:lnTo>
                <a:lnTo>
                  <a:pt x="98723" y="21600"/>
                </a:lnTo>
                <a:lnTo>
                  <a:pt x="0" y="21600"/>
                </a:lnTo>
                <a:close/>
              </a:path>
              <a:path fill="lightenLess" w="98723" h="21600">
                <a:moveTo>
                  <a:pt x="0" y="0"/>
                </a:moveTo>
                <a:lnTo>
                  <a:pt x="98723" y="0"/>
                </a:lnTo>
                <a:lnTo>
                  <a:pt x="97323" y="1400"/>
                </a:lnTo>
                <a:lnTo>
                  <a:pt x="1400" y="1400"/>
                </a:lnTo>
                <a:close/>
              </a:path>
              <a:path fill="darken" w="98723" h="21600">
                <a:moveTo>
                  <a:pt x="98723" y="0"/>
                </a:moveTo>
                <a:lnTo>
                  <a:pt x="98723" y="21600"/>
                </a:lnTo>
                <a:lnTo>
                  <a:pt x="97323" y="20200"/>
                </a:lnTo>
                <a:lnTo>
                  <a:pt x="97323" y="1400"/>
                </a:lnTo>
                <a:close/>
              </a:path>
              <a:path fill="darkenLess" w="98723" h="21600">
                <a:moveTo>
                  <a:pt x="98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323" y="20200"/>
                </a:lnTo>
                <a:close/>
              </a:path>
              <a:path fill="lighten" w="98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ыбор во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250920" y="2349360"/>
            <a:ext cx="86421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6699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>
                        <a:alpha val="49019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авильный ответ</a:t>
            </a:r>
            <a:endParaRPr b="0" lang="en-US" sz="1800" spc="1" strike="noStrike">
              <a:ln w="19080">
                <a:solidFill>
                  <a:srgbClr val="006699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>
                      <a:alpha val="49019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8000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 txBox="1"/>
          <p:nvPr/>
        </p:nvSpPr>
        <p:spPr>
          <a:xfrm>
            <a:off x="900000" y="2205000"/>
            <a:ext cx="7775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33">
                        <a:alpha val="60392"/>
                      </a:srgbClr>
                    </a:gs>
                    <a:gs pos="100000">
                      <a:srgbClr val="33cc33">
                        <a:alpha val="91372"/>
                      </a:srgbClr>
                    </a:gs>
                  </a:gsLst>
                  <a:lin ang="10800000"/>
                </a:gradFill>
                <a:latin typeface="Arial"/>
              </a:rPr>
              <a:t>Неправильный отве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33">
                      <a:alpha val="60392"/>
                    </a:srgbClr>
                  </a:gs>
                  <a:gs pos="100000">
                    <a:srgbClr val="33cc33">
                      <a:alpha val="91372"/>
                    </a:srgbClr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572000" y="4941720"/>
            <a:ext cx="4103640" cy="1079640"/>
          </a:xfrm>
          <a:custGeom>
            <a:avLst/>
            <a:gdLst>
              <a:gd name="textAreaLeft" fmla="*/ 69840 w 4103640"/>
              <a:gd name="textAreaRight" fmla="*/ 4033800 w 4103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82080" h="21600">
                <a:moveTo>
                  <a:pt x="0" y="0"/>
                </a:moveTo>
                <a:lnTo>
                  <a:pt x="82080" y="0"/>
                </a:lnTo>
                <a:lnTo>
                  <a:pt x="82080" y="21600"/>
                </a:lnTo>
                <a:lnTo>
                  <a:pt x="0" y="21600"/>
                </a:lnTo>
                <a:close/>
              </a:path>
              <a:path fill="lightenLess" w="82080" h="21600">
                <a:moveTo>
                  <a:pt x="0" y="0"/>
                </a:moveTo>
                <a:lnTo>
                  <a:pt x="82080" y="0"/>
                </a:lnTo>
                <a:lnTo>
                  <a:pt x="80680" y="1400"/>
                </a:lnTo>
                <a:lnTo>
                  <a:pt x="1400" y="1400"/>
                </a:lnTo>
                <a:close/>
              </a:path>
              <a:path fill="darken" w="82080" h="21600">
                <a:moveTo>
                  <a:pt x="82080" y="0"/>
                </a:moveTo>
                <a:lnTo>
                  <a:pt x="82080" y="21600"/>
                </a:lnTo>
                <a:lnTo>
                  <a:pt x="80680" y="20200"/>
                </a:lnTo>
                <a:lnTo>
                  <a:pt x="80680" y="1400"/>
                </a:lnTo>
                <a:close/>
              </a:path>
              <a:path fill="darkenLess" w="82080" h="21600">
                <a:moveTo>
                  <a:pt x="82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80" y="20200"/>
                </a:lnTo>
                <a:close/>
              </a:path>
              <a:path fill="lighten" w="82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ыбрать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речается только в продуктах животного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тся в ярко жёлтых, зелёных и оранжевых фруктах и овощ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4183200" cy="5543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path" presetID="2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2 0.026 -0.07724 0.058 -0.07724 L 0.192 -0.07724 C 0.224 -0.07724 0.25 -0.04262 0.25 0 L 0.25 0.1758 C 0.25 0.21841 0.224 0.25437 0.192 0.25437 L 0.058 0.25437 C 0.026 0.25437 0 0.21841 0 0.1758 Z">
                                      <p:cBhvr>
                                        <p:cTn id="96" dur="2000" fill="hold"/>
                                        <p:tgtEl>
                                          <p:spTgt spid="1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итамин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7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т витамин в большой степени оказывает влияние на рост и сохранение костной ткани в организ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960720" cy="217476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3960720" cy="24386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2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7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Витамин 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 для нормальной свёртываемости крови и синтеза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2" name="" descr=""/>
          <p:cNvPicPr/>
          <p:nvPr/>
        </p:nvPicPr>
        <p:blipFill>
          <a:blip r:embed="rId1"/>
          <a:stretch/>
        </p:blipFill>
        <p:spPr>
          <a:xfrm>
            <a:off x="4643280" y="1593720"/>
            <a:ext cx="3924360" cy="40309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2000"/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ляет собой привычный жирорастворимый витамин, встречающийся в нескольких вариан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4716720" cy="33638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1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омплекс витаминов группы 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025640" y="1652400"/>
            <a:ext cx="38764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лекс этих витаминов необходимы для выполнения множества функций, но их первостепенная задача заключается в высвобождении энергии из углеводов, жиров и 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5219640" y="1557360"/>
            <a:ext cx="3427560" cy="2089080"/>
          </a:xfrm>
          <a:prstGeom prst="rect">
            <a:avLst/>
          </a:prstGeom>
          <a:ln w="0">
            <a:noFill/>
          </a:ln>
        </p:spPr>
      </p:pic>
      <p:pic>
        <p:nvPicPr>
          <p:cNvPr id="1379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527280" cy="236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6" dur="2000" fill="hold"/>
                                        <p:tgtEl>
                                          <p:spTgt spid="1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189" dur="2000" fill="hold"/>
                                        <p:tgtEl>
                                          <p:spTgt spid="1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итамин 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известный из жизненно необходимых питатель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яется при профилактике и лечении общих простудных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11600" cy="3907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zoom dir="in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55:16Z</dcterms:created>
  <dc:creator>User</dc:creator>
  <dc:description/>
  <dc:language>en-US</dc:language>
  <cp:lastModifiedBy>Сергей</cp:lastModifiedBy>
  <dcterms:modified xsi:type="dcterms:W3CDTF">2008-06-23T15:54:58Z</dcterms:modified>
  <cp:revision>40</cp:revision>
  <dc:subject/>
  <dc:title>«Химия и здоровье»</dc:title>
</cp:coreProperties>
</file>