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69E9-B23C-4ABF-8AE7-1149D8DF62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C45-2786-489A-86DE-AAF355DF9601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C1BE-D422-40B7-B4F1-ACE5FC57A659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6ED-4134-4F72-96AF-96F2D70157CB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3A11-FDC5-4179-B9B7-8B699B7B21EC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4223-4A47-483D-B9D0-880CC7709BCA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7193-22C1-4582-899C-39F85B2E3555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D3B8-E3AB-4342-B3D4-B0C1A80D915C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667C-436B-4211-B099-F8A78572ABE6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0193-652C-4F50-8391-0C228FD05A57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0B82-5919-4CF7-BA15-91336CFEB4D0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F8CB-E9AC-49C4-A71A-248A32B01040}" type="slidenum">
              <a:rPr b="0" lang="ru-RU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61D0-377D-4262-BEEC-83BC5429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00D-F60B-460C-8C87-3862A90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E7C-724F-4FBB-AE9E-DD15D9E9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2FB-CD3A-4E48-A145-AD407653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5CBC-F4A8-4A6D-8F03-D77913B8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10C0-7F72-40CD-B06B-17DD3DB3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8CF4-3AF0-4A04-A130-1F71D5FC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FB7C-B848-43D5-A43E-95C004DB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3F5-A23E-4CC6-B7B2-5F7F9FB6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5D64-5456-40A7-AD9A-29C08DD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5F20-53A1-46C4-924C-17AA0FE7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114-42C2-47C8-AAFE-C5A5DC52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0D51-7068-460F-A4CC-1107DB9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9AE-3BC5-47E1-BF60-B3BBA1D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343C-86BE-4B4E-ADF1-40CCB41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7083-8E8A-43FD-90FA-9007627E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F0CA-6695-4DEC-A01D-E7A3B4AF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429-F89D-4B20-B355-AC43B492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C8F-86EB-49D4-8901-8370B54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558-5AA5-460D-B334-893AF7E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B56-33E0-4C67-B74D-715BEABC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91D-3E27-4B7A-93AD-5BBC0823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F95-67A5-465C-B1FC-95757EF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4C3-1728-4E38-8457-DFC9637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EDB-0E67-4DD1-9EAC-F8DAFD59E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>
                <a:gd name="textAreaLeft" fmla="*/ 360 w 9142560"/>
                <a:gd name="textAreaRight" fmla="*/ 9143280 w 9142560"/>
                <a:gd name="textAreaTop" fmla="*/ 0 h 2158920"/>
                <a:gd name="textAreaBottom" fmla="*/ 2159280 h 2158920"/>
              </a:gdLst>
              <a:ahLst/>
              <a:rect l="textAreaLeft" t="textAreaTop" r="textAreaRight" b="textAreaBottom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>
                <a:gd name="textAreaLeft" fmla="*/ 0 w 9131400"/>
                <a:gd name="textAreaRight" fmla="*/ 9131400 w 913140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3630-2E36-437C-B313-09730F6D48F6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br.1gs.ru/img/hbr_b_4022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5588.vkontakte.ru/u80174125/-14/x_2ece8a1d.jpg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707920"/>
            <a:ext cx="705636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ff"/>
                </a:solidFill>
                <a:latin typeface="Comic Sans MS"/>
              </a:rPr>
              <a:t>Интеллектуальный </a:t>
            </a:r>
            <a:br>
              <a:rPr sz="4800"/>
            </a:br>
            <a:r>
              <a:rPr b="1" lang="ru-RU" sz="4800" spc="-1" strike="noStrike">
                <a:solidFill>
                  <a:srgbClr val="0066ff"/>
                </a:solidFill>
                <a:latin typeface="Comic Sans MS"/>
              </a:rPr>
              <a:t> клуб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0" descr="cast-news-nivel-6---hanayama---55lei-178458"/>
          <p:cNvPicPr/>
          <p:nvPr/>
        </p:nvPicPr>
        <p:blipFill>
          <a:blip r:embed="rId2"/>
          <a:stretch/>
        </p:blipFill>
        <p:spPr>
          <a:xfrm rot="660000">
            <a:off x="264600" y="-12600"/>
            <a:ext cx="18288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Финансовый пла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77580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Выручка от оказания услуг –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                                </a:t>
            </a: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8255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Издержки – 7440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2761a"/>
                </a:solidFill>
                <a:latin typeface="Verdana"/>
              </a:rPr>
              <a:t>Прибыль – 8150.00 руб.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34" name="Picture 5" descr="hbr_b_40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3213000"/>
            <a:ext cx="2533680" cy="3168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1605960" y="836640"/>
            <a:ext cx="616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761a"/>
                </a:solidFill>
                <a:latin typeface="Comic Sans MS"/>
              </a:rPr>
              <a:t>Спасибо </a:t>
            </a:r>
            <a:br>
              <a:rPr sz="6600"/>
            </a:br>
            <a:r>
              <a:rPr b="1" lang="ru-RU" sz="6600" spc="-1" strike="noStrike">
                <a:solidFill>
                  <a:srgbClr val="d2761a"/>
                </a:solidFill>
                <a:latin typeface="Comic Sans MS"/>
              </a:rPr>
              <a:t>за внимание!</a:t>
            </a:r>
            <a:endParaRPr b="0" lang="en-US" sz="66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36" name="Picture 9" descr="x_2ece8a1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924280"/>
            <a:ext cx="9001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24000" y="225720"/>
            <a:ext cx="842472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Бизнес-план создания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ученического кооператива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настольных игр и головоломок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Адрес предприятия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Российская Федерация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Томская область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Кожевниковский район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с. Кожевниково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ул. Гагарина № 9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Предприниматель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d2761a"/>
                </a:solidFill>
                <a:latin typeface="Comic Sans MS"/>
              </a:rPr>
              <a:t>Храмов Илья Михайлович</a:t>
            </a:r>
            <a:r>
              <a:rPr b="0" lang="ru-RU" sz="1800" spc="-1" strike="noStrike">
                <a:solidFill>
                  <a:srgbClr val="d2761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761a"/>
                </a:solidFill>
                <a:latin typeface="Comic Sans MS"/>
              </a:rPr>
              <a:t>               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Залётова Снежанна Михайловн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Мисуркина Виктория Олеговн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Суть предлагаемого проекта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: создание на базе классов информатики КСОШ № 1 школьного ученического кооператива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Работники предприятия – обучающиеся 10-11 классов.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«Интеллект-клуб» будет работать во внеурочное время,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                      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пять дней в неделю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2761a"/>
                </a:solidFill>
                <a:uFillTx/>
                <a:latin typeface="Comic Sans MS"/>
              </a:rPr>
              <a:t>Совокупная стоимость проекта:</a:t>
            </a:r>
            <a:r>
              <a:rPr b="1" lang="ru-RU" sz="2000" spc="-1" strike="noStrike">
                <a:solidFill>
                  <a:srgbClr val="d2761a"/>
                </a:solidFill>
                <a:latin typeface="Comic Sans MS"/>
              </a:rPr>
              <a:t>  2900.00 руб.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761a"/>
                </a:solidFill>
                <a:latin typeface="Comic Sans MS"/>
              </a:rPr>
              <a:t>Введение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Целью создания бизнес - проекта «Интеллект клуба» является увлечение школьников во внеурочное время, а так же развитие в них дополнительных качеств, таких как усидчивость, внимательность, логика, мышление и многих других. 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06" name="Picture 4" descr="Изображение1 003"/>
          <p:cNvPicPr/>
          <p:nvPr/>
        </p:nvPicPr>
        <p:blipFill>
          <a:blip r:embed="rId1"/>
          <a:stretch/>
        </p:blipFill>
        <p:spPr>
          <a:xfrm>
            <a:off x="4427640" y="1916280"/>
            <a:ext cx="4387680" cy="3744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-108000" y="-171360"/>
            <a:ext cx="9468000" cy="718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2987640" y="29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788000" y="2421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2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5651640" y="306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2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78800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8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419640" y="378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1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63528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9%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Характеристик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услуг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59280" y="1989000"/>
            <a:ext cx="418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d2761a"/>
                </a:solidFill>
                <a:latin typeface="Comic Sans MS"/>
              </a:rPr>
              <a:t>Играя в головоломки, вы развиваемся, учимся решать задачи (в том числе и жизненные) нестандартными способами,  расширяя свои возможности, в т.ч. и возможности восприятия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17" name="Picture 4" descr="SAM_0619"/>
          <p:cNvPicPr/>
          <p:nvPr/>
        </p:nvPicPr>
        <p:blipFill>
          <a:blip r:embed="rId1"/>
          <a:stretch/>
        </p:blipFill>
        <p:spPr>
          <a:xfrm>
            <a:off x="539640" y="1989000"/>
            <a:ext cx="4054680" cy="34862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Характеристика конкурентов</a:t>
            </a:r>
            <a:r>
              <a:rPr b="1" lang="ru-RU" sz="3200" spc="-1" strike="noStrike">
                <a:solidFill>
                  <a:srgbClr val="d2761a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На сегодня в с. Кожевниково   нет развлекательных заведений или клубов предоставляющих аналогичные услуги для детей младшего и среднего школьного возраста и подростков.</a:t>
            </a: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0" name="Picture 4" descr="038-0-1"/>
          <p:cNvPicPr/>
          <p:nvPr/>
        </p:nvPicPr>
        <p:blipFill>
          <a:blip r:embed="rId1"/>
          <a:stretch/>
        </p:blipFill>
        <p:spPr>
          <a:xfrm>
            <a:off x="1332000" y="2103480"/>
            <a:ext cx="61196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План маркетинга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Реклама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Клуб будет использовать элементы фирменного стиля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1)Фирменное название «Интеллект-клуб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2)Слоган: 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2761a"/>
                </a:solidFill>
                <a:latin typeface="Verdana"/>
              </a:rPr>
              <a:t>«Не ленись, не зевай, интеллект свой повышай!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d2761a"/>
                </a:solidFill>
                <a:latin typeface="Verdana"/>
              </a:rPr>
              <a:t>3)Фирменный знак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3" name="Picture 4" descr="cast-news-nivel-6---hanayama---55lei-178458"/>
          <p:cNvPicPr/>
          <p:nvPr/>
        </p:nvPicPr>
        <p:blipFill>
          <a:blip r:embed="rId1"/>
          <a:stretch/>
        </p:blipFill>
        <p:spPr>
          <a:xfrm>
            <a:off x="5651640" y="4410000"/>
            <a:ext cx="2336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Организационный пла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Юридический статус клуба – школьный кооператив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Verdana"/>
              </a:rPr>
              <a:t>Административно-управленческий персонал: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Arial"/>
              </a:rPr>
              <a:t>Директор;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Arial"/>
              </a:rPr>
              <a:t>Менеджеры. 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26" name="Picture 7" descr="SAM_0191"/>
          <p:cNvPicPr/>
          <p:nvPr/>
        </p:nvPicPr>
        <p:blipFill>
          <a:blip r:embed="rId1"/>
          <a:stretch/>
        </p:blipFill>
        <p:spPr>
          <a:xfrm>
            <a:off x="3851280" y="3213000"/>
            <a:ext cx="4824360" cy="32925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2761a"/>
                </a:solidFill>
                <a:latin typeface="Comic Sans MS"/>
              </a:rPr>
              <a:t>План рисков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Пожар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Прорыв водопровод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Отключение электричеств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Снижение посещаемости по причине сезона заболеваемост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Заболевший персонал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Выход из строя компьютерной техник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Грабёж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Несчастный случай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761a"/>
                </a:solidFill>
                <a:latin typeface="Comic Sans MS"/>
              </a:rPr>
              <a:t>Землетрясение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229" name="Picture 4" descr="9582719_ca02_1024x2000"/>
          <p:cNvPicPr/>
          <p:nvPr/>
        </p:nvPicPr>
        <p:blipFill>
          <a:blip r:embed="rId1"/>
          <a:srcRect l="7662" t="5618" r="7617" b="7707"/>
          <a:stretch/>
        </p:blipFill>
        <p:spPr>
          <a:xfrm rot="451200">
            <a:off x="6372360" y="4797000"/>
            <a:ext cx="2014560" cy="2060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9582719_ca02_1024x2000"/>
          <p:cNvPicPr/>
          <p:nvPr/>
        </p:nvPicPr>
        <p:blipFill>
          <a:blip r:embed="rId2"/>
          <a:srcRect l="7666" t="5630" r="7622" b="7709"/>
          <a:stretch/>
        </p:blipFill>
        <p:spPr>
          <a:xfrm rot="2480400">
            <a:off x="7357680" y="2077920"/>
            <a:ext cx="1407960" cy="1440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9582719_ca02_1024x2000"/>
          <p:cNvPicPr/>
          <p:nvPr/>
        </p:nvPicPr>
        <p:blipFill>
          <a:blip r:embed="rId3"/>
          <a:srcRect l="7652" t="5636" r="7615" b="7689"/>
          <a:stretch/>
        </p:blipFill>
        <p:spPr>
          <a:xfrm rot="451200">
            <a:off x="6227640" y="1125000"/>
            <a:ext cx="8175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01:57:46Z</dcterms:created>
  <dc:creator>дом</dc:creator>
  <dc:description/>
  <dc:language>en-US</dc:language>
  <cp:lastModifiedBy>Снежана</cp:lastModifiedBy>
  <dcterms:modified xsi:type="dcterms:W3CDTF">2012-10-04T14:36:58Z</dcterms:modified>
  <cp:revision>4</cp:revision>
  <dc:subject/>
  <dc:title>Слайд 1</dc:title>
</cp:coreProperties>
</file>