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3E4-2E42-43E5-AF8E-A1CF55C0E0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AB0-6A0B-4C94-81EB-4C792AB4D631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716-2622-41C0-B8E9-928E66B45F8A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043-3FC6-4C4D-896B-B430FB93A457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B62A-9512-40B4-8B38-65E5B3CD4672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42C0-DA29-47C3-BBDE-543C9EF34E80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BA3-7FA0-499D-9FAE-019DAAA11266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517B-2D4A-4CDF-B12A-863E6A6B6744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5B2-7BBE-4B5B-960A-A513373224D4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865-799F-4AF4-AA76-A36C3D11CD32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5340-8B5A-435D-A5F7-F6768DC1CF8D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EEB-0DF9-400A-8BCB-85D8A366DE03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2EF-C335-440D-B460-79B299F7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D7F-9134-4298-9034-3ACFEF6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371-5F3F-4C92-A136-DE3ADFF9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870-2755-4889-B9FA-A05CBF4A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3D8C-15F0-4494-B7BF-059957A6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96F8-D099-4636-A7DA-F03B4296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819E-5FA0-4918-ACAA-66F50FD1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345-A8A9-4595-9837-C47329E6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6154-2D86-40A4-ABF2-C05DC60D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546-722F-4207-90FC-7CF0117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659-452F-4EB4-B3C1-FA640B4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16B-E244-4BD3-A5C3-176E95C3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294A-C8EC-4B3C-969A-B672637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850B-604D-4816-8B16-3B91EA1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328-C5AF-4A54-9D28-8D4F8B0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D09-81B1-4638-A227-ABDD791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CF98-7AD4-4828-8412-FB8941FA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19C-875F-41D9-ACCC-8057B0A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5C1-6CDE-49D0-A3F1-E89B576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36A-03B8-4F4B-8762-7F703AF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63E-168C-44A6-83A4-0A4ADE0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245-C0F8-48DB-B332-E1800C8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13B-B06D-4318-B240-2F8C690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B58-5D65-4D05-B4F2-A5FDFF2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F7B-223A-4D41-AF00-FBB69468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>
                <a:gd name="textAreaLeft" fmla="*/ 360 w 9142560"/>
                <a:gd name="textAreaRight" fmla="*/ 9143280 w 91425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>
                <a:gd name="textAreaLeft" fmla="*/ 0 w 9131400"/>
                <a:gd name="textAreaRight" fmla="*/ 9131400 w 9131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931-9320-4F20-8309-B823C6C59F51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br.1gs.ru/img/hbr_b_402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5588.vkontakte.ru/u80174125/-14/x_2ece8a1d.jpg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705636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Comic Sans MS"/>
              </a:rPr>
              <a:t>Интеллектуальный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Comic Sans MS"/>
              </a:rPr>
              <a:t> клуб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cast-news-nivel-6---hanayama---55lei-178458"/>
          <p:cNvPicPr/>
          <p:nvPr/>
        </p:nvPicPr>
        <p:blipFill>
          <a:blip r:embed="rId2"/>
          <a:stretch/>
        </p:blipFill>
        <p:spPr>
          <a:xfrm rot="660000">
            <a:off x="264600" y="-12600"/>
            <a:ext cx="18288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Финансовый пла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758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Выручка от оказания услуг –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                                </a:t>
            </a: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8255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Издержки – 7440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Прибыль – 815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34" name="Picture 5" descr="hbr_b_4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3213000"/>
            <a:ext cx="2533680" cy="316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1605960" y="836640"/>
            <a:ext cx="616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761a"/>
                </a:solidFill>
                <a:latin typeface="Comic Sans MS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d2761a"/>
                </a:solidFill>
                <a:latin typeface="Comic Sans MS"/>
              </a:rPr>
              <a:t>за внимание!</a:t>
            </a:r>
            <a:endParaRPr b="0" lang="en-US" sz="66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36" name="Picture 9" descr="x_2ece8a1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924280"/>
            <a:ext cx="9001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24000" y="225720"/>
            <a:ext cx="8424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Бизнес-план создания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ученического кооператива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настольных игр и головоломок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Адрес предприятия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Российская Федерация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Томская область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Кожевниковский район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с. Кожевниково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ул. Гагарина № 9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Предприниматель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d2761a"/>
                </a:solidFill>
                <a:latin typeface="Comic Sans MS"/>
              </a:rPr>
              <a:t>Храмов Илья Михайлович</a:t>
            </a:r>
            <a:r>
              <a:rPr b="0" lang="ru-RU" sz="1800" spc="-1" strike="noStrike">
                <a:solidFill>
                  <a:srgbClr val="d2761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761a"/>
                </a:solidFill>
                <a:latin typeface="Comic Sans MS"/>
              </a:rPr>
              <a:t>               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Залётова Снежанна Михайловн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Мисуркина Виктория Олеговн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Суть предлагаемого проекта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: создание на базе классов информатики КСОШ № 1 школьного ученического кооператив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Работники предприятия – обучающиеся 10-11 классов.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 будет работать во внеурочное время,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пять дней в неделю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Совокупная стоимость проекта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2900.00 руб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761a"/>
                </a:solidFill>
                <a:latin typeface="Comic Sans MS"/>
              </a:rPr>
              <a:t>Введение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Целью создания бизнес - проекта «Интеллект клуба» является увлечение школьников во внеурочное время, а так же развитие в них дополнительных качеств, таких как усидчивость, внимательность, логика, мышление и многих других. 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06" name="Picture 4" descr="Изображение1 003"/>
          <p:cNvPicPr/>
          <p:nvPr/>
        </p:nvPicPr>
        <p:blipFill>
          <a:blip r:embed="rId1"/>
          <a:stretch/>
        </p:blipFill>
        <p:spPr>
          <a:xfrm>
            <a:off x="4427640" y="1916280"/>
            <a:ext cx="4387680" cy="3744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468000" cy="718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2987640" y="29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788000" y="2421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651640" y="306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2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78800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419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1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63528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Характеристик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услуг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9280" y="1989000"/>
            <a:ext cx="418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Играя в головоломки, вы развиваемся, учимся решать задачи (в том числе и жизненные) нестандартными способами,  расширяя свои возможности, в т.ч. и возможности восприятия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17" name="Picture 4" descr="SAM_0619"/>
          <p:cNvPicPr/>
          <p:nvPr/>
        </p:nvPicPr>
        <p:blipFill>
          <a:blip r:embed="rId1"/>
          <a:stretch/>
        </p:blipFill>
        <p:spPr>
          <a:xfrm>
            <a:off x="539640" y="1989000"/>
            <a:ext cx="4054680" cy="34862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Характеристика конкурентов</a:t>
            </a:r>
            <a:r>
              <a:rPr b="1" lang="ru-RU" sz="3200" spc="-1" strike="noStrike">
                <a:solidFill>
                  <a:srgbClr val="d2761a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На сегодня в с. Кожевниково   нет развлекательных заведений или клубов предоставляющих аналогичные услуги для детей младшего и среднего школьного возраста и подростков.</a:t>
            </a: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0" name="Picture 4" descr="038-0-1"/>
          <p:cNvPicPr/>
          <p:nvPr/>
        </p:nvPicPr>
        <p:blipFill>
          <a:blip r:embed="rId1"/>
          <a:stretch/>
        </p:blipFill>
        <p:spPr>
          <a:xfrm>
            <a:off x="1332000" y="2103480"/>
            <a:ext cx="61196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План маркетинга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Реклама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Клуб будет использовать элементы фирменного стиля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1)Фирменное название «Интеллект-клуб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2)Слоган: 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2761a"/>
                </a:solidFill>
                <a:latin typeface="Verdana"/>
              </a:rPr>
              <a:t>«Не ленись, не зевай, интеллект свой повышай!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3)Фирменный знак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3" name="Picture 4" descr="cast-news-nivel-6---hanayama---55lei-178458"/>
          <p:cNvPicPr/>
          <p:nvPr/>
        </p:nvPicPr>
        <p:blipFill>
          <a:blip r:embed="rId1"/>
          <a:stretch/>
        </p:blipFill>
        <p:spPr>
          <a:xfrm>
            <a:off x="5651640" y="4410000"/>
            <a:ext cx="233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Организационный пла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Юридический статус клуба – школьный кооператив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Административно-управленческий персонал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Arial"/>
              </a:rPr>
              <a:t>Директор;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Arial"/>
              </a:rPr>
              <a:t>Менеджеры. 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26" name="Picture 7" descr="SAM_0191"/>
          <p:cNvPicPr/>
          <p:nvPr/>
        </p:nvPicPr>
        <p:blipFill>
          <a:blip r:embed="rId1"/>
          <a:stretch/>
        </p:blipFill>
        <p:spPr>
          <a:xfrm>
            <a:off x="3851280" y="3213000"/>
            <a:ext cx="4824360" cy="32925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План рисков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Пожар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Прорыв водопровод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Отключение электричеств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Снижение посещаемости по причине сезона заболеваемост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Заболевший персона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Выход из строя компьютерной техник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Грабёж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Несчастный случай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Землетрясение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9" name="Picture 4" descr="9582719_ca02_1024x2000"/>
          <p:cNvPicPr/>
          <p:nvPr/>
        </p:nvPicPr>
        <p:blipFill>
          <a:blip r:embed="rId1"/>
          <a:srcRect l="7662" t="5618" r="7617" b="7707"/>
          <a:stretch/>
        </p:blipFill>
        <p:spPr>
          <a:xfrm rot="451200">
            <a:off x="6372360" y="4797000"/>
            <a:ext cx="2014560" cy="206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9582719_ca02_1024x2000"/>
          <p:cNvPicPr/>
          <p:nvPr/>
        </p:nvPicPr>
        <p:blipFill>
          <a:blip r:embed="rId2"/>
          <a:srcRect l="7666" t="5630" r="7622" b="7709"/>
          <a:stretch/>
        </p:blipFill>
        <p:spPr>
          <a:xfrm rot="2480400">
            <a:off x="7357680" y="207792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9582719_ca02_1024x2000"/>
          <p:cNvPicPr/>
          <p:nvPr/>
        </p:nvPicPr>
        <p:blipFill>
          <a:blip r:embed="rId3"/>
          <a:srcRect l="7652" t="5636" r="7615" b="7689"/>
          <a:stretch/>
        </p:blipFill>
        <p:spPr>
          <a:xfrm rot="451200">
            <a:off x="6227640" y="1125000"/>
            <a:ext cx="817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1:57:46Z</dcterms:created>
  <dc:creator>дом</dc:creator>
  <dc:description/>
  <dc:language>en-US</dc:language>
  <cp:lastModifiedBy>Снежана</cp:lastModifiedBy>
  <dcterms:modified xsi:type="dcterms:W3CDTF">2012-10-04T14:36:58Z</dcterms:modified>
  <cp:revision>4</cp:revision>
  <dc:subject/>
  <dc:title>Слайд 1</dc:title>
</cp:coreProperties>
</file>