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021-24D0-4719-A932-EE2EC093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A42-AC7F-4935-9B40-D90B2C7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74E-4FFF-4946-B6D6-24F48F34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6F3-BA19-4069-9371-E77A3C82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80B-6A8A-402A-9357-D66C789E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A287-58D0-4091-B4FD-EBC43A62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EF4-AD8E-45A9-9F57-A31E5DDC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5568-7F4D-4A3D-8A13-018AA02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67F-A234-4651-968B-B5E9B7A2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9A28-413D-4ABC-A596-2CFA999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CF86-37CA-41F8-820A-F1C8EB2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85B-B0E1-4D51-B854-D6ABB2EB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6319-FA4F-4459-BEBF-E1651F4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19A2-12E0-475A-B741-EE72DCA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2B23-99E6-40CD-9AEB-3242D56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44B9-2F1F-474C-BA1A-81B043B6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FB6-CAC6-46C7-9256-C93C81AB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6A5-21F4-41DD-AA2E-AA0F307C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860-8D2D-4DB9-9769-3C56DFCD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D34-BABF-404D-9410-EFA80515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EC7-171D-441F-A089-AC59D1D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C11-D6FE-4FE3-BE94-6594650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5A1-2A33-468F-AEBA-61D89AC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51F-149C-442A-9C5A-4F757C7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B26-6A2E-44D4-B4FA-E7B02BDDADE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6CF0-756D-4847-8919-1743A0E2AA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2124000" y="494172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оект выполнен учителем-логопедом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БДОУ «Детский сад №136» г.Чебоксары Минобразования Чувашии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овой А.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504720" y="1557360"/>
            <a:ext cx="799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Использование наглядного моделирова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503280" y="2708280"/>
            <a:ext cx="799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в развитии связной реч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3"/>
          <p:cNvSpPr txBox="1"/>
          <p:nvPr/>
        </p:nvSpPr>
        <p:spPr>
          <a:xfrm>
            <a:off x="503280" y="3860640"/>
            <a:ext cx="799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детей дошкольного возраста с ОН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14" descr="AG00317_"/>
          <p:cNvPicPr/>
          <p:nvPr/>
        </p:nvPicPr>
        <p:blipFill>
          <a:blip r:embed="rId1"/>
          <a:stretch/>
        </p:blipFill>
        <p:spPr>
          <a:xfrm>
            <a:off x="826920" y="0"/>
            <a:ext cx="17290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71676E-006 L 0.94513 0.01364 E">
                                      <p:cBhvr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Результаты контрольного эксперимента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эксперимента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684360" y="1844640"/>
          <a:ext cx="77040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23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Результаты контрольного эксперимента </a:t>
            </a:r>
            <a:br>
              <a:rPr sz="3600"/>
            </a:b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контро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179280" y="1413000"/>
          <a:ext cx="85330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5330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7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Продвижение дошкольников с ОНР в овладении навыками связного высказывания с помощью наглядного моделирования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эксперимента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684360" y="1844640"/>
          <a:ext cx="7704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2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Продвижение дошкольников с ОНР в овладении навыками связного высказывания с помощью наглядного моделирования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контро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611280" y="1844640"/>
          <a:ext cx="777708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777708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7921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Сравнительная динамика продвижения старших дошкольников с ОНР контрольной и экспериментальной групп в успешности овладения навыками связной речи средствами наглядного моделир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684360" y="1844640"/>
          <a:ext cx="770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6"/>
          <p:cNvSpPr txBox="1"/>
          <p:nvPr/>
        </p:nvSpPr>
        <p:spPr>
          <a:xfrm>
            <a:off x="250920" y="33336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Использованные ресурс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332000" y="981000"/>
            <a:ext cx="7200720" cy="57520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енгер Л.А., Дьяченко О.М. Угадай, как нас зовут. М., 199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Бородич А.М. Методика развития речи детей дошкольного возраста. М., 198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иноградова Н.Ф. Развитие связной речи детей старшего дошкольного возраста на основе ознакомления с природой. М., 197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оробьева В.К. Методика развития связной речи у детей с системным недоразвитием речи. М., 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Глухов В.П. Формирование связной речи детей дошкольного возраста с общим речевым недоразвитием. М., 200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Жукова Н.С., Мастюкова Е.М., Филичева Т.Б. Преодоление задержки речевого развития у дошкольников. М., 19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гры и упражнения по развитию умственных способностей у детей дошкольного возраста /Л.А.Венгер, О.М.Дъяченко, Р.И.Говорова, Л.И.Цеханская; Сост.Л.А.Венгер, О.М.Дъяченко. М.: Просвещение, 1989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Коноваленко В.В., Коноваленко С.В. Развитие связной речи. М., 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Коноваленко В.В., Коноваленко С.В. Формирование связной речи и развитие логического мышления у детей старшего дошкольного возраста с ОНР. М., 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Малетина Н., Пономарева Л. Моделирование в описательной речи детей с ОНР // Дошкольное воспитание. 2004. №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Никитина А.Ю. Приемы и методы, используемые для развития связной речи детей //Логопедия. 2003. №№ 1-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Нищева Н.В. Будем говорить правильно. СПб., 200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Придумай слово: Речевые игры и упражнения для дошкольников. / Под ред.О.С.Ушаковой. М.,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Ткаченко Т.А. Использование схем в составлении описательных рассказов. // Дошкольное воспитание. 1990. № 1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Филичева Т.Б., Чиркина Г.В. Подготовка к школе детей с общим недоразвитием речи в условиях специального детского сада. М., 199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Черных В.И., Баранова А.Г. Коррекционная работа с детьми дошкольного возраста, имеющими ОНР I, II, III уровней. // Коррекция речевого и психического развития детей 4-7 лет. / Под ред. П.Н.Лосева. М., 2005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Ягодова Л. Как развивать связную речь дошкольников // Народная школа. 2004. №6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333360"/>
            <a:ext cx="71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нно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26920" y="981000"/>
            <a:ext cx="7777440" cy="4757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редлагаемый проект рассчитан на детей старшего дошкольного возраста с общим недоразвитием речи. Наглядное моделирование является эффективным методом в развитии связной речи у старших дошкольников с речевым недоразвитием. Опорные картинки, стилизованные изображения реальных предметов, карточки-символы, различные по форме и по цвету, помогают детям выстроить логичный, последовательный, от простого к сложному, повествовательный рассказ, активизировать мыслительную деятельность, а также слуховой, зрительный и тактильно-двигательный анализаторы, которые часто выступают как компенсаторные механизмы. Практическая значимость проекта для учителей-логопедов и воспитателей детского сада заключается в описании методических приемов коррекционной работы по совершенствованию связной речи средствами наглядного моделирования у детей дошкольного возраста с общим недоразвитием реч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3512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1187280" y="404640"/>
            <a:ext cx="640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Цели и задачи проек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92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95280" y="1125360"/>
            <a:ext cx="8209080" cy="48106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6600ff"/>
                </a:solidFill>
                <a:latin typeface="Comic Sans MS"/>
              </a:rPr>
              <a:t>формирование связной речи детей старшего дошкольного возраста с ОНР средствами наглядног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Comic Sans MS"/>
              </a:rPr>
              <a:t>моделиров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Научить детей пользоваться схемами, помогающими составлять описательные рассказы о деревьях, овощах и фруктах, диких и домашних животных, временах года, игрушках и д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Научить детей пользоваться сенсорно-графической программой исследования предмета, которая показывает детям, что от перестановки порядка признаков последовательность рассказа не нарушае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Дать понятие о моделях, включающих опорные стилизованные картинки, которые напоминают детям о так называемых «ключевых» словах рассказа и способствуют правильному определению последовательности высказыв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Развивать навык описания предметов и явлений в различных играх и упражнения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Развивать познавательный интерес, мышление, наблюдательность, любознательность дет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Воспитывать правильную связную речь детей.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64080"/>
            <a:ext cx="7272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e00b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39607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сутствие системы в работе с детьми дошкольного возраста с ОНР по осуществлению комплексного подхода в развитии связной речи посредством замещения и наглядного моделир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224000" y="260280"/>
            <a:ext cx="65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Опорные картинки, стилизованные изображения реальных предметов, карточки-символы, различные по форме и по цвету, помогают детям выстроить логичный, последовательный, от простого к сложному, повествовательный рассказ, активизировать мыслительную деятельность, а также слуховой, зрительный и тактильно-двигательный анализаторы, которые часто выступают как компенсаторные механизмы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 в результате систематических занятий дети с нарушением речи хорошо усваивают смысл логико-грамматических конструкций, лучше констатируют предложения различных типов, составляют развернутые рассказы, понимают значение глаголов, категории рода и прилагательных, овладевают полноценным лексическим и синтаксическим анализом предложени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0b0"/>
                </a:solidFill>
                <a:latin typeface="Comic Sans MS"/>
              </a:rPr>
              <a:t>Педагоги: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 Успешная апробация занятий, разработанных игр и упражнений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 эффективное воздействие данных занятий на развитие связной речи детей дошкольного возраста с ОНР посредством наглядного моделир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0b0"/>
                </a:solidFill>
                <a:latin typeface="Comic Sans MS"/>
              </a:rPr>
              <a:t>Родители:</a:t>
            </a:r>
            <a:r>
              <a:rPr b="1" lang="ru-RU" sz="1600" spc="-1" strike="noStrike">
                <a:solidFill>
                  <a:srgbClr val="2e00b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Проявление интереса к развитию связной речи детей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предоставление разнообразных материалов с целью формирования у детей устойчивого интереса к развитию связной речи детей дошкольного возраста с речевым недоразвитием средствами наглядного моделир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611280" y="33336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Этапы реализации проек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55640" y="1268280"/>
            <a:ext cx="78487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ый этап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дготовительны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зучение новейших достижений педагогической теории и практики по направлению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абот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одбор диагностического инструментария.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ыявление критериев оценки уровня овла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ебенком    наглядным моделированием для развития связной реч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торой этап – констатирующий эксперимен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оведение констатирующего эксперимен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Формирование экспериментальной и контрольной групп детей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ачественный и количественный анализ результатов об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етий этап – формирующий эксперимент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пределение путей работы по формированию связной речи детей экспериментальной группы с ОНР посредством наглядного моделирования (игры, упражнения, рассказы, сказки и т.д.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етверты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ап – контрольный эксперимент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пределение влияния проведенной коррекционно-образовательной работы на развитие связной речи посредством наглядного моделирования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равнительный анализ показателей констатирующего и контрольного обслед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оотношение успешности выполнения заданий контрольной и экспериментальной группами детей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726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02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54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466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69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4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4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4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4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91984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0312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WordArt 8"/>
          <p:cNvSpPr txBox="1"/>
          <p:nvPr/>
        </p:nvSpPr>
        <p:spPr>
          <a:xfrm>
            <a:off x="900000" y="260280"/>
            <a:ext cx="758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Материалы учебно-методического паке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826920" y="1125360"/>
            <a:ext cx="7345440" cy="58546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исание УМП </a:t>
            </a:r>
            <a:r>
              <a:rPr b="1" lang="ru-RU" sz="1800" spc="-1" strike="noStrike">
                <a:solidFill>
                  <a:srgbClr val="00b2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зит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разцы работ учащихс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зентация проекта для дет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терии оценки работ учащих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 презентации, публикации,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идактические материалы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етодические материал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гры и упраж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ния по составлению рассказ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пекты занятий по сказка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ятия по серии сюжетных картин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териал для работы с родителя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емы для составления описательных рассказов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одики исследования для дошкольник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сок использованных источников и литературы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2e00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0b0"/>
                </a:solidFill>
                <a:latin typeface="Arial"/>
              </a:rPr>
              <a:t>Список организационных материал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гласительн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8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78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418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486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373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Среднегрупповой речевой профиль успешности выполнения заданий методик старшими дошкольниками с ОНР </a:t>
            </a: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(констатирующий эксперимен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684360" y="1844640"/>
          <a:ext cx="770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3672000"/>
                  </a:xfrm>
                  <a:prstGeom prst="rect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63272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Распределение детей по уровням успешности выполнения методики по развитию связной речи и умения использовать разного рода заместители </a:t>
            </a: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(констатирующий эксперимент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684360" y="1773360"/>
          <a:ext cx="77040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7040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15:31Z</dcterms:created>
  <dc:creator>Home</dc:creator>
  <dc:description/>
  <dc:language>en-US</dc:language>
  <cp:lastModifiedBy>1</cp:lastModifiedBy>
  <dcterms:modified xsi:type="dcterms:W3CDTF">2013-04-17T09:24:22Z</dcterms:modified>
  <cp:revision>36</cp:revision>
  <dc:subject/>
  <dc:title>Слайд 1</dc:title>
</cp:coreProperties>
</file>