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47A-8BC0-4C74-B2BB-A8EF0E1E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94E-BD2E-4AA2-969C-F9753491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2BB-CDE9-41D3-B2FB-D4762602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ED2-22F7-4C4F-9490-04CA8CDC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F75-C7AC-4422-A668-C86B45BA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308D-37D2-45FC-989C-8D251931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9A07-27EB-454D-8247-EC4ADC3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6CDF-9C2E-41FA-B053-648B6C03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9AFF-C534-4612-9836-C8281424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D26F-A76A-413A-B759-A7DD2F31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31DB-4274-48C9-8137-FF9F527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517-D407-4D1F-96F1-4F4C0A22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E779-4F08-4E82-91B9-615EFE5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92A1-FE7F-43ED-A096-B8DA47C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7D52-7392-4C94-8637-A6065A4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3597-A125-4071-98AC-FF27363E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528-5D3E-4B6C-BD21-9A806478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3D3-2E1E-4352-BC25-678C381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5F5-5FB7-44D5-87D2-17AADDC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BE8-32D6-4973-8C93-5249B8D8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722-C71B-4914-9DD3-9398151B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FF9-6C51-4144-AC1D-2645BC5E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DCD-BF79-4482-84BA-D4BEF6C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398-E8DB-4A47-AC6F-C98182A3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843-8685-4198-8427-BBFB00F9CF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ADD-53C1-4302-BD32-4D94DEA079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7"/>
          <p:cNvSpPr/>
          <p:nvPr/>
        </p:nvSpPr>
        <p:spPr>
          <a:xfrm>
            <a:off x="2124000" y="494172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роект выполнен учителем-логопедом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МБДОУ «Детский сад №136» г.Чебоксары Минобразования Чувашии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овой А.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8"/>
          <p:cNvSpPr txBox="1"/>
          <p:nvPr/>
        </p:nvSpPr>
        <p:spPr>
          <a:xfrm>
            <a:off x="504720" y="1557360"/>
            <a:ext cx="799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Использование наглядного моделировани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2"/>
          <p:cNvSpPr txBox="1"/>
          <p:nvPr/>
        </p:nvSpPr>
        <p:spPr>
          <a:xfrm>
            <a:off x="503280" y="2708280"/>
            <a:ext cx="799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в развитии связной реч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3"/>
          <p:cNvSpPr txBox="1"/>
          <p:nvPr/>
        </p:nvSpPr>
        <p:spPr>
          <a:xfrm>
            <a:off x="503280" y="3860640"/>
            <a:ext cx="799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детей дошкольного возраста с ОН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14" descr="AG00317_"/>
          <p:cNvPicPr/>
          <p:nvPr/>
        </p:nvPicPr>
        <p:blipFill>
          <a:blip r:embed="rId1"/>
          <a:stretch/>
        </p:blipFill>
        <p:spPr>
          <a:xfrm>
            <a:off x="826920" y="0"/>
            <a:ext cx="17290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71676E-006 L 0.94513 0.01364 E">
                                      <p:cBhvr>
                                        <p:cTn id="20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Результаты контрольного эксперимента</a:t>
            </a:r>
            <a:br>
              <a:rPr sz="3200"/>
            </a:b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эксперимента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684360" y="1844640"/>
          <a:ext cx="77040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23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Результаты контрольного эксперимента </a:t>
            </a:r>
            <a:br>
              <a:rPr sz="36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контро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179280" y="1413000"/>
          <a:ext cx="85330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5330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7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Продвижение дошкольников с ОНР в овладении навыками связного высказывания с помощью наглядного моделирования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эксперимента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684360" y="1844640"/>
          <a:ext cx="7704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662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Продвижение дошкольников с ОНР в овладении навыками связного высказывания с помощью наглядного моделирования </a:t>
            </a:r>
            <a:br>
              <a:rPr sz="2400"/>
            </a:b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(контрольная групп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611280" y="1844640"/>
          <a:ext cx="777708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777708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151920"/>
            <a:ext cx="7921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Сравнительная динамика продвижения старших дошкольников с ОНР контрольной и экспериментальной групп в успешности овладения навыками связной речи средствами наглядного моделиров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684360" y="1844640"/>
          <a:ext cx="770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6"/>
          <p:cNvSpPr txBox="1"/>
          <p:nvPr/>
        </p:nvSpPr>
        <p:spPr>
          <a:xfrm>
            <a:off x="250920" y="333360"/>
            <a:ext cx="741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Использованные ресурс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332000" y="981000"/>
            <a:ext cx="7200720" cy="57520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енгер Л.А., Дьяченко О.М. Угадай, как нас зовут. М., 199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Бородич А.М. Методика развития речи детей дошкольного возраста. М., 1984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иноградова Н.Ф. Развитие связной речи детей старшего дошкольного возраста на основе ознакомления с природой. М., 197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Воробьева В.К. Методика развития связной речи у детей с системным недоразвитием речи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Глухов В.П. Формирование связной речи детей дошкольного возраста с общим речевым недоразвитием. М., 200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Жукова Н.С., Мастюкова Е.М., Филичева Т.Б. Преодоление задержки речевого развития у дошкольников. М., 19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Игры и упражнения по развитию умственных способностей у детей дошкольного возраста /Л.А.Венгер, О.М.Дъяченко, Р.И.Говорова, Л.И.Цеханская; Сост.Л.А.Венгер, О.М.Дъяченко. М.: Просвещение, 1989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Коноваленко В.В., Коноваленко С.В. Развитие связной речи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Коноваленко В.В., Коноваленко С.В. Формирование связной речи и развитие логического мышления у детей старшего дошкольного возраста с ОНР. М., 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Малетина Н., Пономарева Л. Моделирование в описательной речи детей с ОНР // Дошкольное воспитание. 2004. № 6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Никитина А.Ю. Приемы и методы, используемые для развития связной речи детей //Логопедия. 2003. №№ 1-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Нищева Н.В. Будем говорить правильно. СПб., 2002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Придумай слово: Речевые игры и упражнения для дошкольников. / Под ред.О.С.Ушаковой. М.,200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Ткаченко Т.А. Использование схем в составлении описательных рассказов. // Дошкольное воспитание. 1990. № 10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Филичева Т.Б., Чиркина Г.В. Подготовка к школе детей с общим недоразвитием речи в условиях специального детского сада. М., 1993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Черных В.И., Баранова А.Г. Коррекционная работа с детьми дошкольного возраста, имеющими ОНР I, II, III уровней. // Коррекция речевого и психического развития детей 4-7 лет. / Под ред. П.Н.Лосева. М., 2005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omic Sans MS"/>
              </a:rPr>
              <a:t>Ягодова Л. Как развивать связную речь дошкольников // Народная школа. 2004. №6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333360"/>
            <a:ext cx="7129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Анно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26920" y="981000"/>
            <a:ext cx="7777440" cy="4757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едлагаемый проект рассчитан на детей старшего дошкольного возраста с общим недоразвитием речи. Наглядное моделирование является эффективным методом в развитии связной речи у старших дошкольников с речевым недоразвитием. Опорные картинки, стилизованные изображения реальных предметов, карточки-символы, различные по форме и по цвету, помогают детям выстроить логичный, последовательный, от простого к сложному, повествовательный рассказ, активизировать мыслительную деятельность, а также слуховой, зрительный и тактильно-двигательный анализаторы, которые часто выступают как компенсаторные механизмы. Практическая значимость проекта для учителей-логопедов и воспитателей детского сада заключается в описании методических приемов коррекционной работы по совершенствованию связной речи средствами наглядного моделирования у детей дошкольного возраста с общим недоразвитием реч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3512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1187280" y="404640"/>
            <a:ext cx="640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Цели и задачи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592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95280" y="1125360"/>
            <a:ext cx="8209080" cy="48106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6600ff"/>
                </a:solidFill>
                <a:latin typeface="Comic Sans MS"/>
              </a:rPr>
              <a:t>формирование связной речи детей старшего дошкольного возраста с ОНР средствами наглядног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Comic Sans MS"/>
              </a:rPr>
              <a:t>моделирова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 проект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Научить детей пользоваться схемами, помогающими составлять описательные рассказы о деревьях, овощах и фруктах, диких и домашних животных, временах года, игрушках и др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Научить детей пользоваться сенсорно-графической программой исследования предмета, которая показывает детям, что от перестановки порядка признаков последовательность рассказа не нарушаетс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Дать понятие о моделях, включающих опорные стилизованные картинки, которые напоминают детям о так называемых «ключевых» словах рассказа и способствуют правильному определению последовательности высказывания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Развивать навык описания предметов и явлений в различных играх и упражнениях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Развивать познавательный интерес, мышление, наблюдательность, любознательность детей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omic Sans MS"/>
              </a:rPr>
              <a:t>Воспитывать правильную связную речь детей.</a:t>
            </a:r>
            <a:r>
              <a:rPr b="0" lang="ru-RU" sz="1800" spc="-1" strike="noStrike">
                <a:solidFill>
                  <a:srgbClr val="ff66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5640" y="64080"/>
            <a:ext cx="7272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e00b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39607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тсутствие системы в работе с детьми дошкольного возраста с ОНР по осуществлению комплексного подхода в развитии связной речи посредством замещения и наглядного моделиров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1224000" y="260280"/>
            <a:ext cx="658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бл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0256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Comic Sans MS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68000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mic Sans MS"/>
              </a:rPr>
              <a:t>Дети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Опорные картинки, стилизованные изображения реальных предметов, карточки-символы, различные по форме и по цвету, помогают детям выстроить логичный, последовательный, от простого к сложному, повествовательный рассказ, активизировать мыслительную деятельность, а также слуховой, зрительный и тактильно-двигательный анализаторы, которые часто выступают как компенсаторные механизмы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в результате систематических занятий дети с нарушением речи хорошо усваивают смысл логико-грамматических конструкций, лучше констатируют предложения различных типов, составляют развернутые рассказы, понимают значение глаголов, категории рода и прилагательных, овладевают полноценным лексическим и синтаксическим анализом предложений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0b0"/>
                </a:solidFill>
                <a:latin typeface="Comic Sans MS"/>
              </a:rPr>
              <a:t>Педагоги: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Успешная апробация занятий, разработанных игр и упражнений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- эффективное воздействие данных занятий на развитие связной речи детей дошкольного возраста с ОНР посредством наглядного моделир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00b0"/>
                </a:solidFill>
                <a:latin typeface="Comic Sans MS"/>
              </a:rPr>
              <a:t>Родители:</a:t>
            </a:r>
            <a:r>
              <a:rPr b="1" lang="ru-RU" sz="1600" spc="-1" strike="noStrike">
                <a:solidFill>
                  <a:srgbClr val="2e00b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роявление интереса к развитию связной речи детей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1400" spc="-1" strike="noStrike">
                <a:solidFill>
                  <a:srgbClr val="ff0000"/>
                </a:solidFill>
                <a:latin typeface="Comic Sans MS"/>
              </a:rPr>
              <a:t>предоставление разнообразных материалов с целью формирования у детей устойчивого интереса к развитию связной речи детей дошкольного возраста с речевым недоразвитием средствами наглядного моделир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611280" y="33336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Этапы реализации проекта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55640" y="1268280"/>
            <a:ext cx="78487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ый этап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дготовительны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Изучение новейших достижений педагогической теории и практики по направлению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аботы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одбор диагностического инструментария.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ыявление критериев оценки уровня овла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ребенком    наглядным моделированием для развития связной реч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торой этап – констатирующий эксперимен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оведение констатирующего эксперимент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Формирование экспериментальной и контрольной групп детей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Качественный и количественный анализ результатов об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етий этап – формирующий эксперимент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пределение путей работы по формированию связной речи детей экспериментальной группы с ОНР посредством наглядного моделирования (игры, упражнения, рассказы, сказки и т.д.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етверты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ап – контрольный эксперимент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Определение влияния проведенной коррекционно-образовательной работы на развитие связной речи посредством наглядного моделирования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равнительный анализ показателей констатирующего и контрольного обследования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Соотношение успешности выполнения заданий контрольной и экспериментальной группами детей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726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02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254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466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694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4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4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4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4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1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91984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0312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WordArt 8"/>
          <p:cNvSpPr txBox="1"/>
          <p:nvPr/>
        </p:nvSpPr>
        <p:spPr>
          <a:xfrm>
            <a:off x="900000" y="260280"/>
            <a:ext cx="758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Материалы учебно-методического паке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826920" y="1125360"/>
            <a:ext cx="7345440" cy="585468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исание УМП </a:t>
            </a:r>
            <a:r>
              <a:rPr b="1" lang="ru-RU" sz="1800" spc="-1" strike="noStrike">
                <a:solidFill>
                  <a:srgbClr val="00b2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зитка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разцы работ учащихся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кл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зентация проекта для дете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терии оценки работ учащих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 презентации, публикации,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идактические материалы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ссвор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етодические материалы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гры и упражн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ния по составлению рассказ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пекты занятий по сказка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ятия по серии сюжетных картино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териал для работы с родителям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емы для составления описательных рассказов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одики исследования для дошкольник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исок использованных источников и литературы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2e00b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e00b0"/>
                </a:solidFill>
                <a:latin typeface="Arial"/>
              </a:rPr>
              <a:t>Список организационных материал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гласительн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68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208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278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348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418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486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373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Comic Sans MS"/>
              </a:rPr>
              <a:t>Среднегрупповой речевой профиль успешности выполнения заданий методик старшими дошкольниками с ОНР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(констатирующий эксперимент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684360" y="1844640"/>
          <a:ext cx="77040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7704000" cy="3672000"/>
                  </a:xfrm>
                  <a:prstGeom prst="rect">
                    <a:avLst/>
                  </a:prstGeom>
                  <a:ln w="381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151920"/>
            <a:ext cx="7632720" cy="16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Распределение детей по уровням успешности выполнения методики по развитию связной речи и умения использовать разного рода заместители </a:t>
            </a:r>
            <a:r>
              <a:rPr b="1" lang="ru-RU" sz="2000" spc="-1" strike="noStrike">
                <a:solidFill>
                  <a:srgbClr val="6600ff"/>
                </a:solidFill>
                <a:latin typeface="Comic Sans MS"/>
              </a:rPr>
              <a:t>(констатирующий эксперимент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684360" y="1773360"/>
          <a:ext cx="77040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7040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15:31Z</dcterms:created>
  <dc:creator>Home</dc:creator>
  <dc:description/>
  <dc:language>en-US</dc:language>
  <cp:lastModifiedBy>1</cp:lastModifiedBy>
  <dcterms:modified xsi:type="dcterms:W3CDTF">2013-04-17T09:24:22Z</dcterms:modified>
  <cp:revision>36</cp:revision>
  <dc:subject/>
  <dc:title>Слайд 1</dc:title>
</cp:coreProperties>
</file>