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BE8E-56F4-4FAB-AD6D-C36491FB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699-4272-4E1F-82C7-72AF8A02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374-9ADB-4C89-8694-1F04B80D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A90C-0A8C-4240-B084-D37A1B13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062C-51C2-4AAB-9F69-8B1BE86E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984B-33D9-4D19-AB77-64007AF5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831E-E5F3-40A1-9D32-8F4E7A38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33ED-666D-4C73-86B8-6335CEAA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AE20-C06D-402C-8140-C3706F8A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215B-097B-4889-AC77-61CFA879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D5FE-E55A-4806-A34B-061344AA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8A6B-A064-44F2-9E0C-FF88BEE1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CA31-ECEF-4357-8665-6BE0650C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4FF9-FB78-4AE3-809C-DEE777B7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B48F-37BA-4C02-8303-2838D1EB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63D4-D784-412E-8973-E84D80FB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E0C4-35B6-43BB-9AC8-ADA4B9BF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27328-34EA-40EA-9683-010123D9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41AA1-6CFD-4C86-A4AA-0659F53D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EDF35-B693-4581-A12E-F6EFAC09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9F734-CD07-49D3-8358-137DA608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62AD8-D746-47E3-A56A-DC5F8A7B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8DEA-1F84-4377-983A-20908FCF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E9151-1716-4AB3-9714-B2CA4743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3CA6F-CE3D-4324-918A-4AF82095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52AE8-4278-415D-8FDB-8D33F4DE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BBA04-5AC3-47D3-A976-F0BF444C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840EF-BF7C-4A5F-ADCE-1F698BB2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7534A-4406-4F7C-A5BB-2D68FA3D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08C2C-44CE-40E7-AD61-1C71928D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3B457-C40B-48F5-83FA-145057B8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A01B0-C018-4A82-B945-C011859A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4A3F0-F76F-40DB-BD68-09525F3F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936B-1159-4C16-921E-2AD91742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227F1-3D95-4C60-B23B-9D1FEDA5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E7B3B-3D23-45CB-AD41-0C28BCE3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EEFCC-B4F2-439D-9AE5-C695E44D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F4718-9105-469F-9959-5C5A8503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3D507-4FB7-4695-98FA-CC9CE300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AD278-DE49-4AA6-95AC-C4AD5C06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D5A7C-BCC4-4A40-8C6E-9C6DC500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F0F63-5333-4ECF-90C8-0F32965F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03228-8BDA-451C-B56C-6907B3DD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09C70-4C6C-400A-978E-786067F0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CCA-F22F-4B97-A17C-6E8FB801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98F94-0E6C-4782-8502-39C92F7A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3B1CF-1080-4962-B0BA-C7DA4683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D3555-27C9-4AE4-8E8F-35C12595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6F59B-9ADF-44BA-A7EF-63D4919E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6B74B-FEB2-465B-8BFD-A8BC48FC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B0209-FAAE-4EDB-B072-526024EE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C363C-1987-4522-8E39-356887BB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B1EE7-B5CC-4DBB-A29B-3E96E5C6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D9853-7413-4075-9153-F9EF6D93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D64C8-7972-483D-937C-DE271A3E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9FA0-B1B4-4387-812F-1C32B26D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9AB8B-A80F-4042-ADB9-F807E721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571A-34B8-4AB7-AF81-FCE646D8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65D-CF47-4A89-BED0-41B7F5B2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29F3-8989-45ED-956A-C0F26DE7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45C9-989C-449D-9853-6776E54D34A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36C5-547B-46E0-9318-725F97A613B5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02A9-2236-4F24-9359-7D2F895E902B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6631-81EE-457B-9B2F-3CE3E9BCC143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3DD4-4C1F-4AB1-90F6-58FD2CB5CFDA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5" descr=""/>
          <p:cNvPicPr/>
          <p:nvPr/>
        </p:nvPicPr>
        <p:blipFill>
          <a:blip r:embed="rId1"/>
          <a:stretch/>
        </p:blipFill>
        <p:spPr>
          <a:xfrm>
            <a:off x="3181320" y="530280"/>
            <a:ext cx="5718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214800" y="349992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rebuchet MS"/>
              </a:rPr>
              <a:t>Бочкарникова Наталья Викторовна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rebuchet MS"/>
              </a:rPr>
              <a:t>Учитель начальных классов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rebuchet MS"/>
              </a:rPr>
              <a:t>МОУ « ООШ» с Перетино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Trebuchet MS"/>
              </a:rPr>
              <a:t>Партизанского района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317520" y="225360"/>
            <a:ext cx="6046920" cy="11826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инквейн- это стихотворение, которое требует синтеза информации и материала в кратких выражениях. Слово синквейн происходит от французского, которое означает « пять»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Таким образом, синквейн-это стихотворение, состоящее из   пяти строк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4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 строчка- тема ( одно существительное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 строчка – описание темы в двух слова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 2 прилагательных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 строчка- описание действия в рамках темы тремя словами ( 3 глагола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 строчка- фраза из 4 слов, показывающая отношение к теме ( целое предложение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5строчка- синоним из одного слова к тем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.Бабочк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.Воздушная,ярка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.Порхает, вьётся, радуетс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4. Воздушное создание весело порхает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5. Чудо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4357800" y="2000160"/>
            <a:ext cx="2930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6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тема ( существительное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определение ( 2 прилагательных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 действие ( 3 глагола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.ассоциации ( 4 существительных-переход к антонимам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5. действие ( 3 глагола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6. определение (2 прилагательных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7. тема ( существительное – антоним теме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3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1.Жаб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2.Завистливая, коварна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3.Угрожает, завидует, злитс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4.Зависть,жестокость,красота, нежност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5.Радует, любуется, пахнет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6.Ароматная, удивительна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7. Роз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agmaticaKMM"/>
              </a:rPr>
              <a:t>Æàáà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2"/>
          <a:stretch/>
        </p:blipFill>
        <p:spPr>
          <a:xfrm>
            <a:off x="4284720" y="1557360"/>
            <a:ext cx="2808360" cy="2087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"/>
          <p:cNvPicPr/>
          <p:nvPr/>
        </p:nvPicPr>
        <p:blipFill>
          <a:blip r:embed="rId3"/>
          <a:stretch/>
        </p:blipFill>
        <p:spPr>
          <a:xfrm>
            <a:off x="5076720" y="3610080"/>
            <a:ext cx="2160720" cy="19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4" descr=""/>
          <p:cNvPicPr/>
          <p:nvPr/>
        </p:nvPicPr>
        <p:blipFill>
          <a:blip r:embed="rId1"/>
          <a:stretch/>
        </p:blipFill>
        <p:spPr>
          <a:xfrm>
            <a:off x="244440" y="-60480"/>
            <a:ext cx="7461360" cy="16941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1773000"/>
            <a:ext cx="7238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ы- блестящий учитель, у вас прекрасные ученик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ари ребенку радость творчества, осознание авторского голос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еди ученика от собственного опыта к общественном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удь не « над», а ряд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дуйся вопросу , но отвечать не спеш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чи анализировать каждый этап работ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ритикуя, стимулируй учени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200560" y="281160"/>
            <a:ext cx="3625920" cy="14983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5435280" y="1844280"/>
            <a:ext cx="3429000" cy="33591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4e7ed"/>
                </a:solidFill>
                <a:latin typeface="Trebuchet MS"/>
              </a:rPr>
              <a:t>Развитие мыслительных навыков учащихся, необходимых не только в учебе, но и в обычной жизни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rebuchet MS"/>
              </a:rPr>
              <a:t>Умение принимать взвешенные решения. Анализировать различные стороны явлений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4" name="Рисунок 3" descr="дети.wmf"/>
          <p:cNvPicPr/>
          <p:nvPr/>
        </p:nvPicPr>
        <p:blipFill>
          <a:blip r:embed="rId2"/>
          <a:stretch/>
        </p:blipFill>
        <p:spPr>
          <a:xfrm>
            <a:off x="476280" y="85896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4" descr=""/>
          <p:cNvPicPr/>
          <p:nvPr/>
        </p:nvPicPr>
        <p:blipFill>
          <a:blip r:embed="rId1"/>
          <a:stretch/>
        </p:blipFill>
        <p:spPr>
          <a:xfrm>
            <a:off x="212760" y="262080"/>
            <a:ext cx="7523280" cy="7254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267920"/>
            <a:ext cx="7238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рмирование </a:t>
            </a: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нового стиля мышл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витие </a:t>
            </a: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умения извлекать актуальную информацию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витие умения систематизации своего и чужого опыта по изучаемым вопросам, анализа его ценности для развития собственного поним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рмирование способности к самостоятельной постановке цели обуч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рмирование </a:t>
            </a: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базовых качеств лич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рмирование культуры чт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030320"/>
          </a:xfrm>
          <a:prstGeom prst="rect">
            <a:avLst/>
          </a:prstGeom>
          <a:ln w="0">
            <a:noFill/>
          </a:ln>
        </p:spPr>
      </p:pic>
      <p:pic>
        <p:nvPicPr>
          <p:cNvPr id="228" name="Объект 3" descr=""/>
          <p:cNvPicPr/>
          <p:nvPr/>
        </p:nvPicPr>
        <p:blipFill>
          <a:blip r:embed="rId2"/>
          <a:stretch/>
        </p:blipFill>
        <p:spPr>
          <a:xfrm>
            <a:off x="450720" y="1255680"/>
            <a:ext cx="725508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ластер- это графическая организац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атериала, показывающая смысловые поля того или иного понятия. Слово «кластер» в переводе означает пучок, созвездие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ставляют кластеры на стадии осмысления и рефлексии. Этот прием позволяет систематизировать новую информацию по отношению к уже имеющимся у них представлениям, а также в соответствии с категориями зна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ставление кластера позволяет учащимся свободно и открыто думать по поводу какой-либо темы, самостоятельно выстраивать причинно- следственные связ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ченик записывает в центре листа ключевое понятие, а от него рисует стрелки-лучи в разные стороны, которые соединяют это слово с другими, от которых в свою очередь лучи расходятся далее и дале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Содержимое 4" descr=""/>
          <p:cNvPicPr/>
          <p:nvPr/>
        </p:nvPicPr>
        <p:blipFill>
          <a:blip r:embed="rId2"/>
          <a:stretch/>
        </p:blipFill>
        <p:spPr>
          <a:xfrm>
            <a:off x="4157640" y="1596960"/>
            <a:ext cx="35845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4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611280" y="15570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от прием организации индивидуальной и групповой работы учащихся в начальной стадии урока, когда идет актуализация имеющегося у них опыта и знаний. Он позволяет выяснить все, что знают или думают ученики по обсуждаемой теме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доске можно нарисовать значок корзины, в которой условно будет собрано все то, что все ученики вместе знают по изучаемой тем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4" descr=""/>
          <p:cNvPicPr/>
          <p:nvPr/>
        </p:nvPicPr>
        <p:blipFill>
          <a:blip r:embed="rId1"/>
          <a:stretch/>
        </p:blipFill>
        <p:spPr>
          <a:xfrm>
            <a:off x="317520" y="225360"/>
            <a:ext cx="6046920" cy="11826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557000"/>
            <a:ext cx="72388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бмен информацией проводится по следующей процедуре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задается прямой вопрос о том, что известно ученикам  по той или иной проблем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начала  каждый ученик вспоминает и записывает в тетради все что он знает по данной проблем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Затем происходит обмен информацией в парах или группах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Далее каждая группа по кругу называет какое-то одно сведение или факт, при этом не повторяя ранее сказанного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се сведения  кратко в виде тезисов записываются учителем в « корзинке» идей ( без комментариев) , даже  если они ошибочны. В корзину идей можно « сбрасывать» факты, мнения, имена, проблемы, понятия, имеющие отношение к теме урока. Далее в ходе урока эти разрозненные в сознании ребенка факты или мнения могут быть связаны в логические цеп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се ошибки исправляются далее, по мере освоения новой информаци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7"/>
          <p:cNvSpPr/>
          <p:nvPr/>
        </p:nvSpPr>
        <p:spPr>
          <a:xfrm>
            <a:off x="6892920" y="2444760"/>
            <a:ext cx="1079640" cy="5763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6915240" y="4132440"/>
            <a:ext cx="1122120" cy="62208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10"/>
          <p:cNvSpPr/>
          <p:nvPr/>
        </p:nvSpPr>
        <p:spPr>
          <a:xfrm>
            <a:off x="5711760" y="755640"/>
            <a:ext cx="1081080" cy="5763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1"/>
          <p:cNvSpPr/>
          <p:nvPr/>
        </p:nvSpPr>
        <p:spPr>
          <a:xfrm>
            <a:off x="250920" y="2281320"/>
            <a:ext cx="1081080" cy="5763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2"/>
          <p:cNvSpPr/>
          <p:nvPr/>
        </p:nvSpPr>
        <p:spPr>
          <a:xfrm>
            <a:off x="3564000" y="404640"/>
            <a:ext cx="1079280" cy="5763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13"/>
          <p:cNvSpPr/>
          <p:nvPr/>
        </p:nvSpPr>
        <p:spPr>
          <a:xfrm>
            <a:off x="1308240" y="765000"/>
            <a:ext cx="1079280" cy="5763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4"/>
          <p:cNvSpPr/>
          <p:nvPr/>
        </p:nvSpPr>
        <p:spPr>
          <a:xfrm>
            <a:off x="230040" y="3946680"/>
            <a:ext cx="1079640" cy="5745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8"/>
          <p:cNvSpPr/>
          <p:nvPr/>
        </p:nvSpPr>
        <p:spPr>
          <a:xfrm>
            <a:off x="1487520" y="1335240"/>
            <a:ext cx="720720" cy="515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16"/>
          <p:cNvSpPr/>
          <p:nvPr/>
        </p:nvSpPr>
        <p:spPr>
          <a:xfrm>
            <a:off x="3743280" y="981000"/>
            <a:ext cx="720720" cy="515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18"/>
          <p:cNvSpPr/>
          <p:nvPr/>
        </p:nvSpPr>
        <p:spPr>
          <a:xfrm rot="16200000">
            <a:off x="1222200" y="3949560"/>
            <a:ext cx="720720" cy="568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низ 19"/>
          <p:cNvSpPr/>
          <p:nvPr/>
        </p:nvSpPr>
        <p:spPr>
          <a:xfrm rot="16200000">
            <a:off x="1271520" y="2379600"/>
            <a:ext cx="719280" cy="516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трелка вниз 20"/>
          <p:cNvSpPr/>
          <p:nvPr/>
        </p:nvSpPr>
        <p:spPr>
          <a:xfrm>
            <a:off x="5892840" y="1341360"/>
            <a:ext cx="718920" cy="515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низ 21"/>
          <p:cNvSpPr/>
          <p:nvPr/>
        </p:nvSpPr>
        <p:spPr>
          <a:xfrm rot="5400000">
            <a:off x="6251760" y="2523240"/>
            <a:ext cx="720720" cy="515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низ 22"/>
          <p:cNvSpPr/>
          <p:nvPr/>
        </p:nvSpPr>
        <p:spPr>
          <a:xfrm rot="5400000">
            <a:off x="6328080" y="4204440"/>
            <a:ext cx="720720" cy="515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Объект 2" descr=""/>
          <p:cNvPicPr/>
          <p:nvPr/>
        </p:nvPicPr>
        <p:blipFill>
          <a:blip r:embed="rId2"/>
          <a:stretch/>
        </p:blipFill>
        <p:spPr>
          <a:xfrm>
            <a:off x="2208240" y="1851120"/>
            <a:ext cx="3948120" cy="3306600"/>
          </a:xfrm>
          <a:prstGeom prst="rect">
            <a:avLst/>
          </a:prstGeom>
          <a:ln w="0">
            <a:noFill/>
          </a:ln>
        </p:spPr>
      </p:pic>
      <p:pic>
        <p:nvPicPr>
          <p:cNvPr id="254" name="Объект 2" descr=""/>
          <p:cNvPicPr/>
          <p:nvPr/>
        </p:nvPicPr>
        <p:blipFill>
          <a:blip r:embed="rId3"/>
          <a:stretch/>
        </p:blipFill>
        <p:spPr>
          <a:xfrm>
            <a:off x="2130480" y="1857240"/>
            <a:ext cx="3948120" cy="3306960"/>
          </a:xfrm>
          <a:prstGeom prst="rect">
            <a:avLst/>
          </a:prstGeom>
          <a:ln w="0">
            <a:noFill/>
          </a:ln>
        </p:spPr>
      </p:pic>
      <p:pic>
        <p:nvPicPr>
          <p:cNvPr id="255" name="Объект 2" descr=""/>
          <p:cNvPicPr/>
          <p:nvPr/>
        </p:nvPicPr>
        <p:blipFill>
          <a:blip r:embed="rId4"/>
          <a:stretch/>
        </p:blipFill>
        <p:spPr>
          <a:xfrm>
            <a:off x="2141640" y="1857240"/>
            <a:ext cx="394812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6:37:38Z</dcterms:created>
  <dc:creator>admin</dc:creator>
  <dc:description/>
  <dc:language>en-US</dc:language>
  <cp:lastModifiedBy>админ</cp:lastModifiedBy>
  <dcterms:modified xsi:type="dcterms:W3CDTF">2013-04-17T09:52:29Z</dcterms:modified>
  <cp:revision>45</cp:revision>
  <dc:subject/>
  <dc:title>Развитие критического мышления через чтение и письмо</dc:title>
</cp:coreProperties>
</file>