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8444-4920-499D-B3BB-CE1D0E67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C3A4-E7D4-4CE8-A5E4-1724F07B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71E-1975-4D6F-B7B8-FCFBE421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60B7-4D0D-4D3E-98B4-17FF4045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7305-8F79-4FA1-90B1-B98A7953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70A4-12AD-4086-BF02-FCB58F88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9283-3F82-4A60-8941-A79E1B73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49EF-4EEB-444A-A965-F7F502C8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A138-D139-41A1-AC9A-852F15FD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69C5-D35D-422F-8441-5A376799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9521-40FB-43BA-AE16-2BB6D36A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5D81-7C57-417F-AB60-B11B1E24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1EC1-A84B-4C3A-9127-320DC088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FEAE-9D90-488F-8AE7-443B03BF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2BF2-6631-440A-BE06-DC7C3ECD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FF70-7929-4DB5-A7D7-7E773D19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9CEB-36D2-4E51-8F50-E687D252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676BB-CB6E-461C-B893-30D83E63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1DB31-24B4-4160-8B0D-39AB33C1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DD487-D25C-4B10-A748-3ADD9000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7F1DD-B9AF-4238-96BE-DC5B3DE7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A8C5E-CEEA-42D0-8B90-C7D3FAE4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DCFF-B48A-4E90-991A-AC7B1FE7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D88DC-D28C-4A73-9743-8B0CF498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64E48-138E-49A9-AD94-AA0ED0A6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1651B-CE63-4D7E-BEE9-2A2A8BA9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DE4F7-A928-4523-A60C-03552832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18DB7-758D-4332-A0C2-A5DB99A2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C4C13-C683-4BB3-9487-F6ABD636B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25E60-991A-44BA-895E-5F453CF1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29D72-0573-4570-AED6-E4EAFC19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6BAB6-EB36-4E2A-B2CC-5C5437C2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DC468-3E58-4CB8-9D32-0B64E6C7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3949-8A3E-428A-8F8E-44BBC017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8BD06-70BE-443F-8720-FF93CAAB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57A29-9AAF-4DFC-9E36-6DE61BA8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2E876-765B-483B-9713-B250D53D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1D0F9-68E2-41AD-ADA1-E9D63D1E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93B2B-F078-4278-A998-D1A180EA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3EE89-6CF8-4800-AFB8-8AFB1B4D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691F8-665D-4377-AC6C-DE7C1B4E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AB63F-21EB-4EA3-96A0-5957EFF0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1B878-6018-4D4A-82B4-686CB509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D14EB-8B02-482D-B574-689A748B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4D51-4092-414E-8B86-BBEBBFCF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FCB59-346E-4076-A87A-139FE7AB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F3FC9-9CFD-4A8F-85BC-51B8E03D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67F61-C012-4672-9B26-C4979E7A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5DBA9-43C1-483A-A78A-630FD1A4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2737E-7A45-4F09-8A08-4C10EE59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0A3A4-E9C6-4D08-A778-F100DB1A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60B13-BD32-494B-A0E1-CE393CF5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1158E-57E5-4206-99EF-35C0BB18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E7EC7-F11B-4082-9369-F41C95CE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CB02D-7861-4EA8-9195-33BBDA04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EF36-9E5C-47C8-96F2-164F7BA9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D4E7F-FBD2-4E78-8EAF-ACB14861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0579-01D9-4876-826E-F7232F24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CB03-E65F-4994-9E1D-6AD2ADEC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64CA-752C-4D87-9401-C01690AC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3281-24A5-40B2-BB51-97E8BA6915B3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C298-7993-4DE6-8908-5CBBB6427793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C0C1-0016-4703-BE22-488E3C0BB7B3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AEA2-AF8B-4638-9ED1-8D9429BD85DF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1B84-174C-44BB-A73F-E9CD7AB6C7F7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5" descr=""/>
          <p:cNvPicPr/>
          <p:nvPr/>
        </p:nvPicPr>
        <p:blipFill>
          <a:blip r:embed="rId1"/>
          <a:stretch/>
        </p:blipFill>
        <p:spPr>
          <a:xfrm>
            <a:off x="3181320" y="530280"/>
            <a:ext cx="5718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214800" y="3499920"/>
            <a:ext cx="5114880" cy="110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rebuchet MS"/>
              </a:rPr>
              <a:t>Бочкарникова Наталья Викторовна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rebuchet MS"/>
              </a:rPr>
              <a:t>Учитель начальных классов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rebuchet MS"/>
              </a:rPr>
              <a:t>МОУ « ООШ» с Перетино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Trebuchet MS"/>
              </a:rPr>
              <a:t>Партизанского района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317520" y="225360"/>
            <a:ext cx="6046920" cy="11826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13372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инквейн- это стихотворение, которое требует синтеза информации и материала в кратких выражениях. Слово синквейн происходит от французского, которое означает « пять»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Таким образом, синквейн-это стихотворение, состоящее из   пяти строк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4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 строчка- тема ( одно существительное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 строчка – описание темы в двух словах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 2 прилагательных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 строчка- описание действия в рамках темы тремя словами ( 3 глагола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 строчка- фраза из 4 слов, показывающая отношение к теме ( целое предложение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5строчка- синоним из одного слова к тем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1.Бабочк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2.Воздушная,ярка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3.Порхает, вьётся, радуетс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4. Воздушное создание весело порхает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5. Чудо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4357800" y="2000160"/>
            <a:ext cx="2930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6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тема ( существительное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определение ( 2 прилагательных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 действие ( 3 глагола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.ассоциации ( 4 существительных-переход к антонимам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5. действие ( 3 глагола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6. определение (2 прилагательных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7. тема ( существительное – антоним теме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3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1.Жаб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2.Завистливая, коварна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3.Угрожает, завидует, злитс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4.Зависть,жестокость,красота, нежност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5.Радует, любуется, пахнет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6.Ароматная, удивительна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7. Роз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ragmaticaKMM"/>
              </a:rPr>
              <a:t>Æàáà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2"/>
          <a:stretch/>
        </p:blipFill>
        <p:spPr>
          <a:xfrm>
            <a:off x="4284720" y="1557360"/>
            <a:ext cx="2808360" cy="2087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"/>
          <p:cNvPicPr/>
          <p:nvPr/>
        </p:nvPicPr>
        <p:blipFill>
          <a:blip r:embed="rId3"/>
          <a:stretch/>
        </p:blipFill>
        <p:spPr>
          <a:xfrm>
            <a:off x="5076720" y="3610080"/>
            <a:ext cx="2160720" cy="19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4" descr=""/>
          <p:cNvPicPr/>
          <p:nvPr/>
        </p:nvPicPr>
        <p:blipFill>
          <a:blip r:embed="rId1"/>
          <a:stretch/>
        </p:blipFill>
        <p:spPr>
          <a:xfrm>
            <a:off x="244440" y="-60480"/>
            <a:ext cx="7461360" cy="16941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57200" y="1773000"/>
            <a:ext cx="7238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ы- блестящий учитель, у вас прекрасные ученик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дари ребенку радость творчества, осознание авторского голос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еди ученика от собственного опыта к общественном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удь не « над», а ряд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дуйся вопросу , но отвечать не спеш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чи анализировать каждый этап работ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ритикуя, стимулируй ученик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5200560" y="281160"/>
            <a:ext cx="3625920" cy="14983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5435280" y="1844280"/>
            <a:ext cx="3429000" cy="33591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4e7ed"/>
                </a:solidFill>
                <a:latin typeface="Trebuchet MS"/>
              </a:rPr>
              <a:t>Развитие мыслительных навыков учащихся, необходимых не только в учебе, но и в обычной жизни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Умение принимать взвешенные решения. Анализировать различные стороны явлений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4" name="Рисунок 3" descr="дети.wmf"/>
          <p:cNvPicPr/>
          <p:nvPr/>
        </p:nvPicPr>
        <p:blipFill>
          <a:blip r:embed="rId2"/>
          <a:stretch/>
        </p:blipFill>
        <p:spPr>
          <a:xfrm>
            <a:off x="476280" y="85896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4" descr=""/>
          <p:cNvPicPr/>
          <p:nvPr/>
        </p:nvPicPr>
        <p:blipFill>
          <a:blip r:embed="rId1"/>
          <a:stretch/>
        </p:blipFill>
        <p:spPr>
          <a:xfrm>
            <a:off x="212760" y="262080"/>
            <a:ext cx="7523280" cy="7254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267920"/>
            <a:ext cx="72388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Формирование </a:t>
            </a: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нового стиля мышле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витие </a:t>
            </a: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умения извлекать актуальную информацию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витие умения систематизации своего и чужого опыта по изучаемым вопросам, анализа его ценности для развития собственного поним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Формирование способности к самостоятельной постановке цели обуче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Формирование </a:t>
            </a: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базовых качеств личн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Формирование культуры чте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030320"/>
          </a:xfrm>
          <a:prstGeom prst="rect">
            <a:avLst/>
          </a:prstGeom>
          <a:ln w="0">
            <a:noFill/>
          </a:ln>
        </p:spPr>
      </p:pic>
      <p:pic>
        <p:nvPicPr>
          <p:cNvPr id="228" name="Объект 3" descr=""/>
          <p:cNvPicPr/>
          <p:nvPr/>
        </p:nvPicPr>
        <p:blipFill>
          <a:blip r:embed="rId2"/>
          <a:stretch/>
        </p:blipFill>
        <p:spPr>
          <a:xfrm>
            <a:off x="450720" y="1255680"/>
            <a:ext cx="725508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ластер- это графическая организац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атериала, показывающая смысловые поля того или иного понятия. Слово «кластер» в переводе означает пучок, созвездие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ставляют кластеры на стадии осмысления и рефлексии. Этот прием позволяет систематизировать новую информацию по отношению к уже имеющимся у них представлениям, а также в соответствии с категориями зна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ставление кластера позволяет учащимся свободно и открыто думать по поводу какой-либо темы, самостоятельно выстраивать причинно- следственные связ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ченик записывает в центре листа ключевое понятие, а от него рисует стрелки-лучи в разные стороны, которые соединяют это слово с другими, от которых в свою очередь лучи расходятся далее и дале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Содержимое 4" descr=""/>
          <p:cNvPicPr/>
          <p:nvPr/>
        </p:nvPicPr>
        <p:blipFill>
          <a:blip r:embed="rId2"/>
          <a:stretch/>
        </p:blipFill>
        <p:spPr>
          <a:xfrm>
            <a:off x="4157640" y="1596960"/>
            <a:ext cx="35845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4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611280" y="15570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тот прием организации индивидуальной и групповой работы учащихся в начальной стадии урока, когда идет актуализация имеющегося у них опыта и знаний. Он позволяет выяснить все, что знают или думают ученики по обсуждаемой теме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доске можно нарисовать значок корзины, в которой условно будет собрано все то, что все ученики вместе знают по изучаемой тем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4" descr=""/>
          <p:cNvPicPr/>
          <p:nvPr/>
        </p:nvPicPr>
        <p:blipFill>
          <a:blip r:embed="rId1"/>
          <a:stretch/>
        </p:blipFill>
        <p:spPr>
          <a:xfrm>
            <a:off x="317520" y="225360"/>
            <a:ext cx="6046920" cy="11826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557000"/>
            <a:ext cx="72388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бмен информацией проводится по следующей процедуре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. задается прямой вопрос о том, что известно ученикам  по той или иной проблем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начала  каждый ученик вспоминает и записывает в тетради все что он знает по данной проблем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Затем происходит обмен информацией в парах или группах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Далее каждая группа по кругу называет какое-то одно сведение или факт, при этом не повторяя ранее сказанного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се сведения  кратко в виде тезисов записываются учителем в « корзинке» идей ( без комментариев) , даже  если они ошибочны. В корзину идей можно « сбрасывать» факты, мнения, имена, проблемы, понятия, имеющие отношение к теме урока. Далее в ходе урока эти разрозненные в сознании ребенка факты или мнения могут быть связаны в логические цепи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се ошибки исправляются далее, по мере освоения новой информаци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7"/>
          <p:cNvSpPr/>
          <p:nvPr/>
        </p:nvSpPr>
        <p:spPr>
          <a:xfrm>
            <a:off x="6892920" y="2444760"/>
            <a:ext cx="1079640" cy="57636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6915240" y="4132440"/>
            <a:ext cx="1122120" cy="62208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10"/>
          <p:cNvSpPr/>
          <p:nvPr/>
        </p:nvSpPr>
        <p:spPr>
          <a:xfrm>
            <a:off x="5711760" y="755640"/>
            <a:ext cx="1081080" cy="57636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11"/>
          <p:cNvSpPr/>
          <p:nvPr/>
        </p:nvSpPr>
        <p:spPr>
          <a:xfrm>
            <a:off x="250920" y="2281320"/>
            <a:ext cx="1081080" cy="57636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12"/>
          <p:cNvSpPr/>
          <p:nvPr/>
        </p:nvSpPr>
        <p:spPr>
          <a:xfrm>
            <a:off x="3564000" y="404640"/>
            <a:ext cx="1079280" cy="57636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13"/>
          <p:cNvSpPr/>
          <p:nvPr/>
        </p:nvSpPr>
        <p:spPr>
          <a:xfrm>
            <a:off x="1308240" y="765000"/>
            <a:ext cx="1079280" cy="57636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14"/>
          <p:cNvSpPr/>
          <p:nvPr/>
        </p:nvSpPr>
        <p:spPr>
          <a:xfrm>
            <a:off x="230040" y="3946680"/>
            <a:ext cx="1079640" cy="57456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низ 8"/>
          <p:cNvSpPr/>
          <p:nvPr/>
        </p:nvSpPr>
        <p:spPr>
          <a:xfrm>
            <a:off x="1487520" y="1335240"/>
            <a:ext cx="720720" cy="515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низ 16"/>
          <p:cNvSpPr/>
          <p:nvPr/>
        </p:nvSpPr>
        <p:spPr>
          <a:xfrm>
            <a:off x="3743280" y="981000"/>
            <a:ext cx="720720" cy="515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низ 18"/>
          <p:cNvSpPr/>
          <p:nvPr/>
        </p:nvSpPr>
        <p:spPr>
          <a:xfrm rot="16200000">
            <a:off x="1222200" y="3949560"/>
            <a:ext cx="720720" cy="568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трелка вниз 19"/>
          <p:cNvSpPr/>
          <p:nvPr/>
        </p:nvSpPr>
        <p:spPr>
          <a:xfrm rot="16200000">
            <a:off x="1271520" y="2379600"/>
            <a:ext cx="719280" cy="516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трелка вниз 20"/>
          <p:cNvSpPr/>
          <p:nvPr/>
        </p:nvSpPr>
        <p:spPr>
          <a:xfrm>
            <a:off x="5892840" y="1341360"/>
            <a:ext cx="718920" cy="515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трелка вниз 21"/>
          <p:cNvSpPr/>
          <p:nvPr/>
        </p:nvSpPr>
        <p:spPr>
          <a:xfrm rot="5400000">
            <a:off x="6251760" y="2523240"/>
            <a:ext cx="720720" cy="515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трелка вниз 22"/>
          <p:cNvSpPr/>
          <p:nvPr/>
        </p:nvSpPr>
        <p:spPr>
          <a:xfrm rot="5400000">
            <a:off x="6328080" y="4204440"/>
            <a:ext cx="720720" cy="515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Объект 2" descr=""/>
          <p:cNvPicPr/>
          <p:nvPr/>
        </p:nvPicPr>
        <p:blipFill>
          <a:blip r:embed="rId2"/>
          <a:stretch/>
        </p:blipFill>
        <p:spPr>
          <a:xfrm>
            <a:off x="2208240" y="1851120"/>
            <a:ext cx="3948120" cy="3306600"/>
          </a:xfrm>
          <a:prstGeom prst="rect">
            <a:avLst/>
          </a:prstGeom>
          <a:ln w="0">
            <a:noFill/>
          </a:ln>
        </p:spPr>
      </p:pic>
      <p:pic>
        <p:nvPicPr>
          <p:cNvPr id="254" name="Объект 2" descr=""/>
          <p:cNvPicPr/>
          <p:nvPr/>
        </p:nvPicPr>
        <p:blipFill>
          <a:blip r:embed="rId3"/>
          <a:stretch/>
        </p:blipFill>
        <p:spPr>
          <a:xfrm>
            <a:off x="2130480" y="1857240"/>
            <a:ext cx="3948120" cy="3306960"/>
          </a:xfrm>
          <a:prstGeom prst="rect">
            <a:avLst/>
          </a:prstGeom>
          <a:ln w="0">
            <a:noFill/>
          </a:ln>
        </p:spPr>
      </p:pic>
      <p:pic>
        <p:nvPicPr>
          <p:cNvPr id="255" name="Объект 2" descr=""/>
          <p:cNvPicPr/>
          <p:nvPr/>
        </p:nvPicPr>
        <p:blipFill>
          <a:blip r:embed="rId4"/>
          <a:stretch/>
        </p:blipFill>
        <p:spPr>
          <a:xfrm>
            <a:off x="2141640" y="1857240"/>
            <a:ext cx="394812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6:37:38Z</dcterms:created>
  <dc:creator>admin</dc:creator>
  <dc:description/>
  <dc:language>en-US</dc:language>
  <cp:lastModifiedBy>админ</cp:lastModifiedBy>
  <dcterms:modified xsi:type="dcterms:W3CDTF">2013-04-17T09:52:29Z</dcterms:modified>
  <cp:revision>45</cp:revision>
  <dc:subject/>
  <dc:title>Развитие критического мышления через чтение и письмо</dc:title>
</cp:coreProperties>
</file>