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18.gif" ContentType="image/gif"/>
  <Override PartName="/ppt/media/image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81F-D5E8-45A0-8177-7297CF03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8CA-8E3C-4206-B58E-81E227B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E880-CA04-4591-B0B1-33B145D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38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00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38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00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8D2-50F8-4CC8-96CD-CBC3377E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2C4-87B3-42C3-98AA-B877AFC6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94CA-BDCC-4FD3-91CC-90EE3139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452D-F443-4D38-AE8E-0FFD1A3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E316-ADAF-4DB4-8BD3-FF42AA06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8E74-F5FA-4A2C-9378-C86638A6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0C8-4D4E-485E-9FA0-11E83F9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E3AB-9158-4B9F-BEAA-3B4382B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EA4-70B6-43B1-8018-1077EB93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96A2-0EF9-4F8C-B901-7A544CC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9DF0-E182-4516-84F3-98D6175A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CD65-76E3-40A2-949F-AEF46633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FCB4-188E-4EAC-9D68-1B31EEF26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38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0080" y="166500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04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38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0080" y="3813480"/>
            <a:ext cx="25005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7EB-98A2-4365-B44F-4B27C1CF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DCC-9BF3-4559-B1DB-E5313FEE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835-953B-44FE-8E48-39FA115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395-B0AE-4B54-A03A-C6A92FE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04840"/>
            <a:ext cx="7765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453-8F9E-4A85-B490-751AB577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420-AE71-480E-ACC3-240DF0E1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7480" y="381348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DB8-B0CD-41A9-BD43-494A16D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665000"/>
            <a:ext cx="37897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040" y="3813480"/>
            <a:ext cx="7766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7B9-12CC-4AE8-993E-D355530A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8160" y="-12600"/>
            <a:ext cx="9232920" cy="6933600"/>
            <a:chOff x="-38160" y="-12600"/>
            <a:chExt cx="9232920" cy="6933600"/>
          </a:xfrm>
        </p:grpSpPr>
        <p:sp>
          <p:nvSpPr>
            <p:cNvPr id="1" name="Rectangle 2"/>
            <p:cNvSpPr/>
            <p:nvPr/>
          </p:nvSpPr>
          <p:spPr>
            <a:xfrm>
              <a:off x="8744040" y="-12600"/>
              <a:ext cx="449280" cy="692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-31680" y="-12600"/>
              <a:ext cx="450720" cy="693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-17640" y="-7560"/>
              <a:ext cx="9198000" cy="451080"/>
            </a:xfrm>
            <a:custGeom>
              <a:avLst/>
              <a:gdLst>
                <a:gd name="textAreaLeft" fmla="*/ 998280 w 9198000"/>
                <a:gd name="textAreaRight" fmla="*/ 8199720 w 9198000"/>
                <a:gd name="textAreaTop" fmla="*/ 48960 h 451080"/>
                <a:gd name="textAreaBottom" fmla="*/ 402120 h 4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-37800" y="6466680"/>
              <a:ext cx="9232920" cy="453960"/>
            </a:xfrm>
            <a:custGeom>
              <a:avLst/>
              <a:gdLst>
                <a:gd name="textAreaLeft" fmla="*/ 1004760 w 9232920"/>
                <a:gd name="textAreaRight" fmla="*/ 8228160 w 9232920"/>
                <a:gd name="textAreaTop" fmla="*/ 48960 h 453960"/>
                <a:gd name="textAreaBottom" fmla="*/ 405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72880" y="279360"/>
              <a:ext cx="861696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040" y="1665000"/>
            <a:ext cx="77662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36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360"/>
            <a:ext cx="288936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360"/>
            <a:ext cx="18986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E2C96-9739-4861-A6C0-8B897810930B}" type="slidenum"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"/>
          <p:cNvGrpSpPr/>
          <p:nvPr/>
        </p:nvGrpSpPr>
        <p:grpSpPr>
          <a:xfrm>
            <a:off x="-38160" y="-12600"/>
            <a:ext cx="9232920" cy="6933600"/>
            <a:chOff x="-38160" y="-12600"/>
            <a:chExt cx="9232920" cy="6933600"/>
          </a:xfrm>
        </p:grpSpPr>
        <p:sp>
          <p:nvSpPr>
            <p:cNvPr id="48" name="Rectangle 2"/>
            <p:cNvSpPr/>
            <p:nvPr/>
          </p:nvSpPr>
          <p:spPr>
            <a:xfrm>
              <a:off x="8744040" y="-12600"/>
              <a:ext cx="449280" cy="692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-31680" y="-12600"/>
              <a:ext cx="450720" cy="693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-17640" y="-7560"/>
              <a:ext cx="9198000" cy="451080"/>
            </a:xfrm>
            <a:custGeom>
              <a:avLst/>
              <a:gdLst>
                <a:gd name="textAreaLeft" fmla="*/ 998280 w 9198000"/>
                <a:gd name="textAreaRight" fmla="*/ 8199720 w 9198000"/>
                <a:gd name="textAreaTop" fmla="*/ 48960 h 451080"/>
                <a:gd name="textAreaBottom" fmla="*/ 402120 h 45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-37800" y="6466680"/>
              <a:ext cx="9232920" cy="453960"/>
            </a:xfrm>
            <a:custGeom>
              <a:avLst/>
              <a:gdLst>
                <a:gd name="textAreaLeft" fmla="*/ 1004760 w 9232920"/>
                <a:gd name="textAreaRight" fmla="*/ 8228160 w 9232920"/>
                <a:gd name="textAreaTop" fmla="*/ 48960 h 453960"/>
                <a:gd name="textAreaBottom" fmla="*/ 405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272880" y="279360"/>
              <a:ext cx="8616960" cy="6327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82640"/>
            <a:ext cx="7765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20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200"/>
            <a:ext cx="2889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6040" y="6154200"/>
            <a:ext cx="18986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FA940-8E13-4D14-970D-3E6A74D00EAD}" type="slidenum">
              <a:rPr b="0" lang="ru-RU" sz="1400" spc="-1" strike="noStrike">
                <a:solidFill>
                  <a:srgbClr val="eaeaea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Group 11"/>
          <p:cNvGrpSpPr/>
          <p:nvPr/>
        </p:nvGrpSpPr>
        <p:grpSpPr>
          <a:xfrm>
            <a:off x="609480" y="3324240"/>
            <a:ext cx="7994880" cy="368280"/>
            <a:chOff x="609480" y="3324240"/>
            <a:chExt cx="7994880" cy="368280"/>
          </a:xfrm>
        </p:grpSpPr>
        <p:sp>
          <p:nvSpPr>
            <p:cNvPr id="58" name="Rectangle 12"/>
            <p:cNvSpPr/>
            <p:nvPr/>
          </p:nvSpPr>
          <p:spPr>
            <a:xfrm>
              <a:off x="609480" y="3470400"/>
              <a:ext cx="7994880" cy="22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3"/>
            <p:cNvSpPr/>
            <p:nvPr/>
          </p:nvSpPr>
          <p:spPr>
            <a:xfrm>
              <a:off x="615960" y="3324240"/>
              <a:ext cx="7837560" cy="2714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622440" y="339408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622440" y="347040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>
              <a:off x="622440" y="3546360"/>
              <a:ext cx="7834320" cy="0"/>
            </a:xfrm>
            <a:prstGeom prst="line">
              <a:avLst/>
            </a:prstGeom>
            <a:ln cap="sq"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>
              <a:off x="622440" y="337968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622440" y="345600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22440" y="3532320"/>
              <a:ext cx="7834320" cy="0"/>
            </a:xfrm>
            <a:prstGeom prst="line">
              <a:avLst/>
            </a:prstGeom>
            <a:ln cap="sq"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0406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УЛИКОВСКАЯ  БИТВ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делала Гаврилина  Соф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287280" y="4367160"/>
            <a:ext cx="2028960" cy="22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408720" y="4535640"/>
            <a:ext cx="24480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УЛИКОВСКАЯ  БИТВ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400800" y="-5940360"/>
            <a:ext cx="1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96200" y="6335640"/>
            <a:ext cx="1440" cy="103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0" y="-133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00800" y="-492120"/>
            <a:ext cx="14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2076480" y="358128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-71280" y="1440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00800" y="-963720"/>
            <a:ext cx="1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2000160" y="619128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1"/>
          <p:cNvSpPr/>
          <p:nvPr/>
        </p:nvSpPr>
        <p:spPr>
          <a:xfrm>
            <a:off x="0" y="119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6400800" y="-92160"/>
            <a:ext cx="14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4"/>
          <a:stretch/>
        </p:blipFill>
        <p:spPr>
          <a:xfrm>
            <a:off x="8412120" y="3373560"/>
            <a:ext cx="157320" cy="12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4"/>
          <p:cNvSpPr/>
          <p:nvPr/>
        </p:nvSpPr>
        <p:spPr>
          <a:xfrm>
            <a:off x="0" y="1639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6400800" y="-1654200"/>
            <a:ext cx="144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5"/>
          <a:stretch/>
        </p:blipFill>
        <p:spPr>
          <a:xfrm>
            <a:off x="8362800" y="624852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7"/>
          <p:cNvSpPr/>
          <p:nvPr/>
        </p:nvSpPr>
        <p:spPr>
          <a:xfrm>
            <a:off x="0" y="84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18" descr=""/>
          <p:cNvPicPr/>
          <p:nvPr/>
        </p:nvPicPr>
        <p:blipFill>
          <a:blip r:embed="rId6"/>
          <a:stretch/>
        </p:blipFill>
        <p:spPr>
          <a:xfrm>
            <a:off x="289080" y="1436760"/>
            <a:ext cx="2914560" cy="2019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9"/>
          <p:cNvSpPr/>
          <p:nvPr/>
        </p:nvSpPr>
        <p:spPr>
          <a:xfrm>
            <a:off x="755640" y="3789360"/>
            <a:ext cx="712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уликовская битва, произошедшая 8 сентября 1380 года между русской ратью князя Дмитрия Ивановича и татарскими полчищами Мамая, стала поворотным событием русской истории. И хотя Московская Русь вследствие битвы освободилась от ордынского ига лишь на два года, Куликовская битва привела к ментальному объединению Руси и положила начало формированию великорусской н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0" descr=""/>
          <p:cNvPicPr/>
          <p:nvPr/>
        </p:nvPicPr>
        <p:blipFill>
          <a:blip r:embed="rId7"/>
          <a:stretch/>
        </p:blipFill>
        <p:spPr>
          <a:xfrm>
            <a:off x="6840360" y="1197000"/>
            <a:ext cx="2087640" cy="2163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400800" y="-14401800"/>
            <a:ext cx="1440" cy="87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072120" y="5780160"/>
            <a:ext cx="47520" cy="1238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0" y="-5632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400800" y="-13130280"/>
            <a:ext cx="1440" cy="81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0" y="-4986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0484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одготовка к битв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4360" y="3384720"/>
            <a:ext cx="92757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ля навязывания противнику решающей битвы в поле ещё до подхода союзных Мамаю литовцев или рязанцев, а также чтобы использовать водный рубеж для защиты собственного тыла в случае их подхода[13] русские войска перешли на южный берег Дона и уничтожили за собой мос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ечером 7 сентября русские войска были выстроены в боевые порядки. Большой полк и весь двор московского князя встали в центре. Ими командовал московский окольничий Тимофей Вельямин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2225520" y="1355760"/>
            <a:ext cx="3846600" cy="208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-216000" y="6335640"/>
            <a:ext cx="128520" cy="13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https://encrypted-tbn1.gstatic.com/images?q=tbn:ANd9GcTxb3SCy5Je1OfOxy4DSJXhrKiBj_caS79dRm80hDkgkrGZyxQtd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9647280" y="3600360"/>
            <a:ext cx="1440" cy="1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5"/>
          <a:stretch/>
        </p:blipFill>
        <p:spPr>
          <a:xfrm>
            <a:off x="6875640" y="963720"/>
            <a:ext cx="213660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400800" y="-14365440"/>
            <a:ext cx="1440" cy="87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4495680" y="64008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0" y="-5613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400800" y="-14182560"/>
            <a:ext cx="1440" cy="86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8629560" y="640080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-552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3114720" y="1052640"/>
            <a:ext cx="2914560" cy="335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3311640" y="5681520"/>
            <a:ext cx="25192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а вним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3:29:00Z</dcterms:created>
  <dc:creator>Наташа</dc:creator>
  <dc:description/>
  <dc:language>en-US</dc:language>
  <cp:lastModifiedBy>Учитель</cp:lastModifiedBy>
  <dcterms:modified xsi:type="dcterms:W3CDTF">2013-04-17T12:30:58Z</dcterms:modified>
  <cp:revision>6</cp:revision>
  <dc:subject/>
  <dc:title>КУЛИКОВСКАЯ  БИТВА</dc:title>
</cp:coreProperties>
</file>