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18.gif" ContentType="image/gif"/>
  <Override PartName="/ppt/media/image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F65-0864-4F28-87FC-40869612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7766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040" y="3813480"/>
            <a:ext cx="7766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AEE-51DB-416C-9FDB-26D32692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7480" y="381348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1F5-EBC4-43CC-BCF1-FDCD39EB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3880" y="166500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0080" y="166500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040" y="381348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3880" y="381348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0080" y="381348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B18-3E7E-49D7-BD41-99D96688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14A0-3AB3-4A8B-BC15-ECC7E57A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040" y="1665000"/>
            <a:ext cx="776628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7D5F-E487-43AB-9BA7-EB3A0341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77662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5E9A-0FF5-4FE5-A499-E5031A0F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42FE-3535-4AB2-99AE-03C9194E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67E6-CDC4-4114-82F3-0DD16295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20484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9B1C-5BF8-4BBF-8017-3C8E806E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036A-0E52-4A1E-B12A-E4BE9B0E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040" y="1665000"/>
            <a:ext cx="776628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DAA-B28F-4810-870C-28599E48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7480" y="381348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4C49-3ABC-4C8D-BEBB-38C89B85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7766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0B80-5F6E-4BAD-BF82-728EB216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7766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040" y="3813480"/>
            <a:ext cx="7766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9876-7D16-448E-8D36-5106B787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7480" y="381348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34DC-5F4D-4822-89A3-1D51806A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3880" y="166500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0080" y="166500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040" y="381348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3880" y="381348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0080" y="381348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22E2-0F3D-4119-80D9-4113085A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77662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164-68D1-4335-9630-2F152682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49B-3D15-4B8F-8C08-240350AC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EE6-E724-4BDF-9296-EF1B0A5C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0484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08F-7129-4897-B2F7-6638B7CA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84D-70C2-45E0-B709-905F749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7480" y="381348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227-0D5B-4080-971A-BE0FCE4D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7766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3C9-44D6-4584-B140-4F14E866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8160" y="-12600"/>
            <a:ext cx="9232920" cy="6933600"/>
            <a:chOff x="-38160" y="-12600"/>
            <a:chExt cx="9232920" cy="6933600"/>
          </a:xfrm>
        </p:grpSpPr>
        <p:sp>
          <p:nvSpPr>
            <p:cNvPr id="1" name="Rectangle 2"/>
            <p:cNvSpPr/>
            <p:nvPr/>
          </p:nvSpPr>
          <p:spPr>
            <a:xfrm>
              <a:off x="8744040" y="-12600"/>
              <a:ext cx="449280" cy="6926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-31680" y="-12600"/>
              <a:ext cx="450720" cy="693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 flipH="1" flipV="1" rot="10800000">
              <a:off x="-17640" y="-7560"/>
              <a:ext cx="9198000" cy="451080"/>
            </a:xfrm>
            <a:custGeom>
              <a:avLst/>
              <a:gdLst>
                <a:gd name="textAreaLeft" fmla="*/ 998280 w 9198000"/>
                <a:gd name="textAreaRight" fmla="*/ 8199720 w 9198000"/>
                <a:gd name="textAreaTop" fmla="*/ 48960 h 451080"/>
                <a:gd name="textAreaBottom" fmla="*/ 402120 h 45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 flipV="1">
              <a:off x="-37800" y="6466680"/>
              <a:ext cx="9232920" cy="453960"/>
            </a:xfrm>
            <a:custGeom>
              <a:avLst/>
              <a:gdLst>
                <a:gd name="textAreaLeft" fmla="*/ 1004760 w 9232920"/>
                <a:gd name="textAreaRight" fmla="*/ 8228160 w 9232920"/>
                <a:gd name="textAreaTop" fmla="*/ 48960 h 453960"/>
                <a:gd name="textAreaBottom" fmla="*/ 405000 h 4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72880" y="279360"/>
              <a:ext cx="8616960" cy="6327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040" y="1665000"/>
            <a:ext cx="77662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360"/>
            <a:ext cx="18986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360"/>
            <a:ext cx="28893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360"/>
            <a:ext cx="18986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33D8D-3623-4AD8-A9D0-42558208AF28}" type="slidenum"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"/>
          <p:cNvGrpSpPr/>
          <p:nvPr/>
        </p:nvGrpSpPr>
        <p:grpSpPr>
          <a:xfrm>
            <a:off x="-38160" y="-12600"/>
            <a:ext cx="9232920" cy="6933600"/>
            <a:chOff x="-38160" y="-12600"/>
            <a:chExt cx="9232920" cy="6933600"/>
          </a:xfrm>
        </p:grpSpPr>
        <p:sp>
          <p:nvSpPr>
            <p:cNvPr id="48" name="Rectangle 2"/>
            <p:cNvSpPr/>
            <p:nvPr/>
          </p:nvSpPr>
          <p:spPr>
            <a:xfrm>
              <a:off x="8744040" y="-12600"/>
              <a:ext cx="449280" cy="6926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Rectangle 3"/>
            <p:cNvSpPr/>
            <p:nvPr/>
          </p:nvSpPr>
          <p:spPr>
            <a:xfrm>
              <a:off x="-31680" y="-12600"/>
              <a:ext cx="450720" cy="693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 flipH="1" flipV="1" rot="10800000">
              <a:off x="-17640" y="-7560"/>
              <a:ext cx="9198000" cy="451080"/>
            </a:xfrm>
            <a:custGeom>
              <a:avLst/>
              <a:gdLst>
                <a:gd name="textAreaLeft" fmla="*/ 998280 w 9198000"/>
                <a:gd name="textAreaRight" fmla="*/ 8199720 w 9198000"/>
                <a:gd name="textAreaTop" fmla="*/ 48960 h 451080"/>
                <a:gd name="textAreaBottom" fmla="*/ 402120 h 45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 flipV="1">
              <a:off x="-37800" y="6466680"/>
              <a:ext cx="9232920" cy="453960"/>
            </a:xfrm>
            <a:custGeom>
              <a:avLst/>
              <a:gdLst>
                <a:gd name="textAreaLeft" fmla="*/ 1004760 w 9232920"/>
                <a:gd name="textAreaRight" fmla="*/ 8228160 w 9232920"/>
                <a:gd name="textAreaTop" fmla="*/ 48960 h 453960"/>
                <a:gd name="textAreaBottom" fmla="*/ 405000 h 4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272880" y="279360"/>
              <a:ext cx="8616960" cy="6327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826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200"/>
            <a:ext cx="18986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200"/>
            <a:ext cx="28890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6040" y="6154200"/>
            <a:ext cx="18986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3F0CC-ADEE-4CA2-895A-9A27DDAB8668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Group 11"/>
          <p:cNvGrpSpPr/>
          <p:nvPr/>
        </p:nvGrpSpPr>
        <p:grpSpPr>
          <a:xfrm>
            <a:off x="609480" y="3324240"/>
            <a:ext cx="7994880" cy="368280"/>
            <a:chOff x="609480" y="3324240"/>
            <a:chExt cx="7994880" cy="368280"/>
          </a:xfrm>
        </p:grpSpPr>
        <p:sp>
          <p:nvSpPr>
            <p:cNvPr id="58" name="Rectangle 12"/>
            <p:cNvSpPr/>
            <p:nvPr/>
          </p:nvSpPr>
          <p:spPr>
            <a:xfrm>
              <a:off x="609480" y="3470400"/>
              <a:ext cx="7994880" cy="22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615960" y="3324240"/>
              <a:ext cx="7837560" cy="27144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cap="sq"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>
              <a:off x="622440" y="3394080"/>
              <a:ext cx="7834320" cy="0"/>
            </a:xfrm>
            <a:prstGeom prst="line">
              <a:avLst/>
            </a:prstGeom>
            <a:ln cap="sq"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622440" y="3470400"/>
              <a:ext cx="7834320" cy="0"/>
            </a:xfrm>
            <a:prstGeom prst="line">
              <a:avLst/>
            </a:prstGeom>
            <a:ln cap="sq"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622440" y="3546360"/>
              <a:ext cx="7834320" cy="0"/>
            </a:xfrm>
            <a:prstGeom prst="line">
              <a:avLst/>
            </a:prstGeom>
            <a:ln cap="sq"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>
              <a:off x="622440" y="3379680"/>
              <a:ext cx="7834320" cy="0"/>
            </a:xfrm>
            <a:prstGeom prst="line">
              <a:avLst/>
            </a:prstGeom>
            <a:ln cap="sq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Line 18"/>
            <p:cNvSpPr/>
            <p:nvPr/>
          </p:nvSpPr>
          <p:spPr>
            <a:xfrm>
              <a:off x="622440" y="3456000"/>
              <a:ext cx="7834320" cy="0"/>
            </a:xfrm>
            <a:prstGeom prst="line">
              <a:avLst/>
            </a:prstGeom>
            <a:ln cap="sq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622440" y="3532320"/>
              <a:ext cx="7834320" cy="0"/>
            </a:xfrm>
            <a:prstGeom prst="line">
              <a:avLst/>
            </a:prstGeom>
            <a:ln cap="sq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0406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УЛИКОВСКАЯ  БИТВ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делала Гаврилина  Соф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287280" y="4367160"/>
            <a:ext cx="2028960" cy="2257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6408720" y="4535640"/>
            <a:ext cx="2448000" cy="2087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УЛИКОВСКАЯ  БИТВ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840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400800" y="-5940360"/>
            <a:ext cx="14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496200" y="6335640"/>
            <a:ext cx="1440" cy="103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0" y="-1332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00800" y="-492120"/>
            <a:ext cx="14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2076480" y="358128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-71280" y="1440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400800" y="-963720"/>
            <a:ext cx="14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3"/>
          <a:stretch/>
        </p:blipFill>
        <p:spPr>
          <a:xfrm>
            <a:off x="2000160" y="6191280"/>
            <a:ext cx="1800" cy="14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1"/>
          <p:cNvSpPr/>
          <p:nvPr/>
        </p:nvSpPr>
        <p:spPr>
          <a:xfrm>
            <a:off x="0" y="119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6400800" y="-92160"/>
            <a:ext cx="14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3" descr=""/>
          <p:cNvPicPr/>
          <p:nvPr/>
        </p:nvPicPr>
        <p:blipFill>
          <a:blip r:embed="rId4"/>
          <a:stretch/>
        </p:blipFill>
        <p:spPr>
          <a:xfrm>
            <a:off x="8412120" y="3373560"/>
            <a:ext cx="157320" cy="12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4"/>
          <p:cNvSpPr/>
          <p:nvPr/>
        </p:nvSpPr>
        <p:spPr>
          <a:xfrm>
            <a:off x="0" y="1639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6400800" y="-1654200"/>
            <a:ext cx="14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16" descr=""/>
          <p:cNvPicPr/>
          <p:nvPr/>
        </p:nvPicPr>
        <p:blipFill>
          <a:blip r:embed="rId5"/>
          <a:stretch/>
        </p:blipFill>
        <p:spPr>
          <a:xfrm>
            <a:off x="8362800" y="6248520"/>
            <a:ext cx="1800" cy="14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7"/>
          <p:cNvSpPr/>
          <p:nvPr/>
        </p:nvSpPr>
        <p:spPr>
          <a:xfrm>
            <a:off x="0" y="846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8" descr=""/>
          <p:cNvPicPr/>
          <p:nvPr/>
        </p:nvPicPr>
        <p:blipFill>
          <a:blip r:embed="rId6"/>
          <a:stretch/>
        </p:blipFill>
        <p:spPr>
          <a:xfrm>
            <a:off x="289080" y="1436760"/>
            <a:ext cx="2914560" cy="2019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9"/>
          <p:cNvSpPr/>
          <p:nvPr/>
        </p:nvSpPr>
        <p:spPr>
          <a:xfrm>
            <a:off x="755640" y="3789360"/>
            <a:ext cx="712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уликовская битва, произошедшая 8 сентября 1380 года между русской ратью князя Дмитрия Ивановича и татарскими полчищами Мамая, стала поворотным событием русской истории. И хотя Московская Русь вследствие битвы освободилась от ордынского ига лишь на два года, Куликовская битва привела к ментальному объединению Руси и положила начало формированию великорусской на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20" descr=""/>
          <p:cNvPicPr/>
          <p:nvPr/>
        </p:nvPicPr>
        <p:blipFill>
          <a:blip r:embed="rId7"/>
          <a:stretch/>
        </p:blipFill>
        <p:spPr>
          <a:xfrm>
            <a:off x="6840360" y="1197000"/>
            <a:ext cx="2087640" cy="21636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400800" y="-14401800"/>
            <a:ext cx="1440" cy="87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6072120" y="5780160"/>
            <a:ext cx="47520" cy="1238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0" y="-5632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400800" y="-13130280"/>
            <a:ext cx="1440" cy="81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0" y="-4986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одготовка к битв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4360" y="3384720"/>
            <a:ext cx="92757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ля навязывания противнику решающей битвы в поле ещё до подхода союзных Мамаю литовцев или рязанцев, а также чтобы использовать водный рубеж для защиты собственного тыла в случае их подхода[13] русские войска перешли на южный берег Дона и уничтожили за собой мос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ечером 7 сентября русские войска были выстроены в боевые порядки. Большой полк и весь двор московского князя встали в центре. Ими командовал московский окольничий Тимофей Вельямин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10" descr=""/>
          <p:cNvPicPr/>
          <p:nvPr/>
        </p:nvPicPr>
        <p:blipFill>
          <a:blip r:embed="rId3"/>
          <a:stretch/>
        </p:blipFill>
        <p:spPr>
          <a:xfrm>
            <a:off x="2225520" y="1355760"/>
            <a:ext cx="3846600" cy="2084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-216000" y="6335640"/>
            <a:ext cx="128520" cy="13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https://encrypted-tbn1.gstatic.com/images?q=tbn:ANd9GcTxb3SCy5Je1OfOxy4DSJXhrKiBj_caS79dRm80hDkgkrGZyxQtd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4"/>
          <a:stretch/>
        </p:blipFill>
        <p:spPr>
          <a:xfrm>
            <a:off x="9647280" y="360036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5"/>
          <a:stretch/>
        </p:blipFill>
        <p:spPr>
          <a:xfrm>
            <a:off x="6875640" y="963720"/>
            <a:ext cx="213660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400800" y="-14365440"/>
            <a:ext cx="1440" cy="87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4495680" y="6400800"/>
            <a:ext cx="1800" cy="14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0" y="-5613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400800" y="-14182560"/>
            <a:ext cx="1440" cy="86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8629560" y="6400800"/>
            <a:ext cx="1800" cy="14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0" y="-552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3"/>
          <a:stretch/>
        </p:blipFill>
        <p:spPr>
          <a:xfrm>
            <a:off x="3114720" y="1052640"/>
            <a:ext cx="2914560" cy="3355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3311640" y="5681520"/>
            <a:ext cx="25192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а вним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13:29:00Z</dcterms:created>
  <dc:creator>Наташа</dc:creator>
  <dc:description/>
  <dc:language>en-US</dc:language>
  <cp:lastModifiedBy>Учитель</cp:lastModifiedBy>
  <dcterms:modified xsi:type="dcterms:W3CDTF">2013-04-17T12:30:58Z</dcterms:modified>
  <cp:revision>6</cp:revision>
  <dc:subject/>
  <dc:title>КУЛИКОВСКАЯ  БИТВА</dc:title>
</cp:coreProperties>
</file>