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jpeg" ContentType="image/jpeg"/>
  <Override PartName="/ppt/media/image33.png" ContentType="image/png"/>
  <Override PartName="/ppt/media/image14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72E-4BB9-4EEF-B62E-1A55FD9F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A8E-155D-4749-9C2E-39CD4525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A544-9891-482F-B2A0-F57E9930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4F4-B8F7-4D41-8065-61CF4F67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DF8-810A-471A-972D-72A34ECB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637-75F8-4010-91B4-826B8066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125-0745-40ED-A096-DEFE76B6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EEF-E0D1-43CA-989F-8C47905D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01A-FFB1-477B-9D74-7DEC9BC3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2AC-57E8-41FA-AF96-8A93C47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D1F-9722-4802-9DB6-7DE3204F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92E-A633-45DF-A3BB-2196334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02A1-3BAB-4DE4-A4A7-C6632298B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7416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79786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ть или курит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797360"/>
            <a:ext cx="4562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e1c11"/>
                </a:solidFill>
                <a:uFillTx/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e1c11"/>
                </a:solidFill>
                <a:uFillTx/>
                <a:latin typeface="Arial"/>
              </a:rPr>
              <a:t>ученик 6а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e1c11"/>
                </a:solidFill>
                <a:uFillTx/>
                <a:latin typeface="Arial"/>
              </a:rPr>
              <a:t>Жуков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011-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32720" cy="5313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ля курящей молоде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чины курения школьни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Из-за рекламы — 3,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По «телику» все курят — 4,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Родители курят — 4,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Назло взрослым — 5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Потому что запрещают — 5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Скучно — 7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6. Сигареты доступны — 7,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равится — 8,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Хочу быть взрослым — 10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Это «круто» — 10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Снять стресс — 12,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Друзья курят — 20,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3280" y="141300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грамма по результатам о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19640" y="2276640"/>
            <a:ext cx="30654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относитесь к курени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Никогда не пробо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робовал, но теперь не ку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Курю, но очень ред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Покуриваю регуляр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Курю ежедне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112920" cy="348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348000" y="2133720"/>
            <a:ext cx="466920" cy="3456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6360" y="155736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зраст курящих шк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1989000"/>
            <a:ext cx="4033800" cy="312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ка женского курени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5194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ашей плане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ят 12%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следние 20 л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ящих женщин подскочи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три ра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-е годы - 5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0-е годы - 9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- более 3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щины, имеющие т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ее образование, курят больш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м женщины с высшим образ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исла курящих девуше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яза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зможно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«гламуризацией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у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йча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ло трети девоч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5 — 16 л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корбный факт: сигарет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орачивае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елю сильной полови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з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5 лет, а слабой 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690640" cy="3129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тремительного роста эпидемии табакокурени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3284640"/>
            <a:ext cx="8229600" cy="28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90-х мировую табачную индустрию, ждал к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спасли её мы с вами: после самого крупного в истории Америки штрафа - 206 миллиардов долларов, повышения акцизов на сигареты и запрета на курение в общественных местах почти по всему миру, рынок бывшего СССР стал для табачного бизнеса единственным шансом сохранить продаж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тремительного роста эпидемии табакоку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6048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лынули потоки дешевых американских сигар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е компании вложили около 2 млрд долларов в развитие производства табачных изделий в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93 году принято решение о создании совместных предприятий с табачными транснациональными комп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ТК активно продвигали свою продукцию, что привело к росту рекламы табака, в том числе и на телевид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ачный рынок оказался полностью под контролем лидеров мирового табачного бизне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37280" y="1557360"/>
            <a:ext cx="300672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281800" cy="4636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лоббирования интересов табачной индус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98 г.- инициирован проект национального закона о борьбе против табака (положения об акцизах, об ограничении курения на рабочих местах, о рекламе, а также о предупреждающих надпися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2001-м ВОЗ объявила о начале подготовки Рамочной Конвенции по борьбе против табака (РКБТ) (за максимально короткий срок — 3 года — вступили 90% стран ми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, подписавшая конвенцию, на момент 2001 года не имела ни одного закона, ограничивающего табакоку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01 г.- законопроект«Об ограничении курения табака»  был при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сия и Рамочная Конвенция В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58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требования конвен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ный запрет рекламы таба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рет курения в общественных местах, включая рабочие места, транспорт и поме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упредительны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дписи о вреде таба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закрывающие не мене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фронталь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ерхности па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ринимаются согласно конвенции в течение трех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ля лоббистов возникла новая задача —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аксимально ослабить и затормозить действие конвенции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3241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53080" y="189000"/>
            <a:ext cx="259092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битый законо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2960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кумент является продуктом табачного лоб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ой смыс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ичное ограничение курения на рабочих мест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й маленький в мире 4-процентный размер предупредительных надписей на пачк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жнейшие положения о рекламе, о спонсорстве табачными компаниями благотворительных и детских мероприятий и об акцизе были сняты с обс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еспрецедентное давление табачников на парламент привело к тому, ч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в законе не осталось ни одной из реально эффективных мер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 которым относятся повышение акцизов, полный запрет рекламы табака, запрет курения в закрытых помещениях и броские предупреждения на пачках сига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баку - зелёный св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2007 г. в России полность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рещена реклама таба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наружных стендах и в общественном транспо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ект федерального закона «Технический регламент на табачную продукцию» урегулировал ключевой вопрос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 размерах предупредительных надпис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на пачках сигарет: вместо 4% принято не мен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 одной стороны и не мене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с другой стороны па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упредительные надписи должны меняться и быть написаны на языке страны, возможны графические изображ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дписи: «Легкие», «Мягкие», «С пониженным содержанием смолы» и т.п. запреща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00720" y="1196640"/>
            <a:ext cx="3743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Сегодня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метро наводнено рекламой сигарет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не меньше, чем несколько лет наз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 Министерстве экономического развития резко выступили против введения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графических изображений о пагубных последствиях ку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В Минэкономразвития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отив запрета на использование терминов типа «лёгкие» и «мягкие» на сигаретных пачках.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87480" cy="98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707160" y="2637000"/>
            <a:ext cx="2436840" cy="1461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95640" y="1916280"/>
            <a:ext cx="251964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93080" y="4149720"/>
            <a:ext cx="1697040" cy="244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520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 социальную значим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, в чем причина стремительного роста эпидемии табакокурения и кому выгодна продажа табака в Ро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татистику по данной проблем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историей в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350028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а пепельница - незаменимый помощник в борьбе с кур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866880" cy="16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43280" y="3645000"/>
            <a:ext cx="2857680" cy="285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ения в борьбе с ку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9760" y="1508040"/>
            <a:ext cx="197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етчик неку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агаю принять за основу следующее обращение от лица учащихся гимназии №399 к нашему Президен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26474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ажаемый Президент Российской Федераци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ите свой Нар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о, жёстко и властно многократно повысьте акциз на табачную продук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сборов направьте в детские учреждения  и на медицину. Финансовые потоки должны быть прозрачны и понятны каждому гражданину. Народ Вас поддержит. Станьте героем, войдите в Исто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180036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19640" y="3906720"/>
            <a:ext cx="3924360" cy="2951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 признала курение таба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распространённым заболеванием современ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аже объявила ег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идем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абакокурения в мире ежегодно умирает около 6000000 челове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табакокурения в России - самое высокое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: вы-больны, они-бог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41280"/>
            <a:ext cx="4532400" cy="5616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3960720" cy="3066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580000" y="952560"/>
            <a:ext cx="3406680" cy="2778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ртность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ырождение н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20 лет в России от курения скончалось 5,8 миллионов челов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ый показатель смертности с 1990 года вырос со 150 тысяч до 35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так как курение в нашей стране считается «мужской» привычкой – каждый второй мужчина не доживает до пен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ртность в России на сегодняшний день колеблется около отметки в 2 млн чел. ежегодно. При этом 17% этого показателя приходится на ку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ы табакокурения в стране обходятся государству в 0,4% ВВ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каждый курильщик за каждые 10 лет курения «прокуривает» одну машину среднего класса, например,  Mazda6, Ford Focus, Audi A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и главных причин Большого московского пожара 1634 года назвали ку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пожара за курение предусматривался штраф, после него курение оказалось под запретом с наказанием в виде смертной казни за его нару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й первой (в 1965 г.) запретила рекламу табачных изделий в СМИ Великобритания— главная законодательница «курительных мод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в мире живут чуть более миллиарда человек, которые являются курильщи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ая курящая страна —Росс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ая малокурящая страна — Бут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20-ом веке курение унесло жизни 100 миллионов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ым 21-ого грозит унести миллиар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4856040"/>
            <a:ext cx="3887640" cy="2001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176720" cy="3395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хая стат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56000" y="981000"/>
            <a:ext cx="478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есть секу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табак уноси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у жиз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жегод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танови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ой смерти 5,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лн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 всех живущих ныне, кто в той или иной степени является пассивным курильщиком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ечение года умрет 600 000 челове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2030г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ичество смерт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ледствие куре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величится до 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лн чел. в год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ста челове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выкуривающих в день до пятнадцати сигарет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ять умрут от онкологическ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боле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реднем кажд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ильщик сокраща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ю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ь на 18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55897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атистика курения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3280" y="1196640"/>
            <a:ext cx="4500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заним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потреблению табака в ми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подростковому ку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улярно кур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 мужч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% женщ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учащихся высших учебных заведений кури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% юнош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% девуш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пятиклассников кур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 мальч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% дев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 10-11 клас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мальч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% девоч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285120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1944720" cy="1568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2017800" cy="1519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атистика подросткового курени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158256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588000" y="2781360"/>
            <a:ext cx="194472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692360" y="191628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132000" y="2924280"/>
            <a:ext cx="1447920" cy="165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7265880" y="3645000"/>
            <a:ext cx="1878120" cy="270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0" y="4348080"/>
            <a:ext cx="7164360" cy="2509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54120" y="6491160"/>
            <a:ext cx="67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и молодежи уровень курения составляет почти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8:53:43Z</dcterms:created>
  <dc:creator>Andrey Kuzmin</dc:creator>
  <dc:description/>
  <dc:language>en-US</dc:language>
  <cp:lastModifiedBy>Anastasia</cp:lastModifiedBy>
  <dcterms:modified xsi:type="dcterms:W3CDTF">2013-04-16T23:49:41Z</dcterms:modified>
  <cp:revision>9</cp:revision>
  <dc:subject/>
  <dc:title>    Жить или курить?</dc:title>
</cp:coreProperties>
</file>