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jpeg" ContentType="image/jpeg"/>
  <Override PartName="/ppt/media/image26.jpeg" ContentType="image/jpeg"/>
  <Override PartName="/ppt/media/image25.jpeg" ContentType="image/jpeg"/>
  <Override PartName="/ppt/media/image32.png" ContentType="image/png"/>
  <Override PartName="/ppt/media/image24.png" ContentType="image/png"/>
  <Override PartName="/ppt/media/image11.jpeg" ContentType="image/jpeg"/>
  <Override PartName="/ppt/media/image22.png" ContentType="image/png"/>
  <Override PartName="/ppt/media/image21.png" ContentType="image/png"/>
  <Override PartName="/ppt/media/image18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9.png" ContentType="image/png"/>
  <Override PartName="/ppt/media/image36.png" ContentType="image/png"/>
  <Override PartName="/ppt/media/image6.png" ContentType="image/png"/>
  <Override PartName="/ppt/media/image28.png" ContentType="image/png"/>
  <Override PartName="/ppt/media/image7.jpeg" ContentType="image/jpeg"/>
  <Override PartName="/ppt/media/image5.png" ContentType="image/png"/>
  <Override PartName="/ppt/media/image35.png" ContentType="image/png"/>
  <Override PartName="/ppt/media/image30.jpeg" ContentType="image/jpeg"/>
  <Override PartName="/ppt/media/image31.jpeg" ContentType="image/jpeg"/>
  <Override PartName="/ppt/media/image33.png" ContentType="image/png"/>
  <Override PartName="/ppt/media/image14.jpeg" ContentType="image/jpeg"/>
  <Override PartName="/ppt/media/image13.jpeg" ContentType="image/jpeg"/>
  <Override PartName="/ppt/media/image23.png" ContentType="image/png"/>
  <Override PartName="/ppt/media/image3.jpeg" ContentType="image/jpeg"/>
  <Override PartName="/ppt/media/image37.jpeg" ContentType="image/jpeg"/>
  <Override PartName="/ppt/media/image34.png" ContentType="image/png"/>
  <Override PartName="/ppt/media/image12.jpeg" ContentType="image/jpeg"/>
  <Override PartName="/ppt/media/image4.png" ContentType="image/png"/>
  <Override PartName="/ppt/media/image20.png" ContentType="image/png"/>
  <Override PartName="/ppt/media/image2.jpeg" ContentType="image/jpeg"/>
  <Override PartName="/ppt/media/image1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D8914-FD67-4E7F-8359-70657C4C1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36A58-CAFA-4357-B986-7CCED5E1D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BC274-137D-46F5-9C7C-D59464319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492F8-9871-457F-A838-AAAB0493F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AAAE3-B23E-4E7A-99C2-EF0FDF91E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E1153-9CBB-4BF7-96EF-0A4A326AB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DD9CA-92B9-49CC-B0AC-D88048C05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B0BDE-F8C4-4992-870C-3AF2B7DB9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DAF47-AC90-42C2-9FFB-E161FA23E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0A4A1-5D86-4114-8E1A-7221CBD87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6D591-9D0D-4DD7-B181-1A76D0BED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36889-95CE-4171-9F64-B8738E8FC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7DF7E-F304-483B-A877-BFCB6BF7DF1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image" Target="../media/image18.jpeg"/><Relationship Id="rId8" Type="http://schemas.openxmlformats.org/officeDocument/2006/relationships/image" Target="../media/image19.jpeg"/><Relationship Id="rId9" Type="http://schemas.openxmlformats.org/officeDocument/2006/relationships/image" Target="../media/image20.png"/><Relationship Id="rId10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074160" cy="68403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50560" y="2205000"/>
            <a:ext cx="797868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Жить или курить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11280" y="4797360"/>
            <a:ext cx="45622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1e1c11"/>
                </a:solidFill>
                <a:uFillTx/>
                <a:latin typeface="Arial"/>
              </a:rPr>
              <a:t>Работу выполни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1e1c11"/>
                </a:solidFill>
                <a:uFillTx/>
                <a:latin typeface="Arial"/>
              </a:rPr>
              <a:t>ученик 6а класс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1e1c11"/>
                </a:solidFill>
                <a:uFillTx/>
                <a:latin typeface="Arial"/>
              </a:rPr>
              <a:t>Жуков Андр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Санкт-Петербур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2011-201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826920" y="1341360"/>
            <a:ext cx="7632720" cy="531360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Доля курящей молодеж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ричины курения школьников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08000" y="1916280"/>
            <a:ext cx="4387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. </a:t>
            </a: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Из-за рекламы — 3,7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1. </a:t>
            </a: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По «телику» все курят — 4,6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. Родители курят — 4,8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. Назло взрослым — 5,3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. Потому что запрещают — 5,5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. Скучно — 7,3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6. Сигареты доступны — 7,5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. Нравится — 8,6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Хочу быть взрослым — 10,1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Это «круто» — 10,1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Снять стресс — 12,1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Друзья курят — 20,4%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43280" y="1413000"/>
            <a:ext cx="4245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иаграмма по результатам опро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219640" y="2276640"/>
            <a:ext cx="3065400" cy="32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ак вы относитесь к курению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647960" y="1600200"/>
            <a:ext cx="4244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Никогда не пробова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Пробовал, но теперь не кур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Курю, но очень редк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 Покуриваю регулярн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. Курю ежедневн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50920" y="2133720"/>
            <a:ext cx="3112920" cy="34891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3348000" y="2133720"/>
            <a:ext cx="466920" cy="34560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396360" y="1557360"/>
            <a:ext cx="332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озраст курящих школьни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4932360" y="1989000"/>
            <a:ext cx="4033800" cy="31244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Статистика женского курения в Росс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-360" y="1483920"/>
            <a:ext cx="5194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нашей планете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урят 12% женщи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 последние 20 лет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цен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курящих женщин подскочил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три раз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0-е годы - 5%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990-е годы - 9%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егодня - более 30%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енщины, имеющие только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реднее образование, курят больше,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чем женщины с высшим образовани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величени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числа курящих девушек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вязан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возможно,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 «гламуризацией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курен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ейчас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коло трети девочек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15 — 16 лет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уря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скорбный факт: сигарета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корачивает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дставителю сильной половины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жизн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на 5 лет, а слабой —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 1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1341360"/>
            <a:ext cx="2690640" cy="3129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чины стремительного роста эпидемии табакокурения в Росс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3284640"/>
            <a:ext cx="8229600" cy="28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начале 90-х мировую табачную индустрию, ждал кр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о спасли её мы с вами: после самого крупного в истории Америки штрафа - 206 миллиардов долларов, повышения акцизов на сигареты и запрета на курение в общественных местах почти по всему миру, рынок бывшего СССР стал для табачного бизнеса единственным шансом сохранить продаж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чины стремительного роста эпидемии табакокур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60483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лынули потоки дешевых американских сигар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абачные компании вложили около 2 млрд долларов в развитие производства табачных изделий в Росси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1993 году принято решение о создании совместных предприятий с табачными транснациональными компания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ТК активно продвигали свою продукцию, что привело к росту рекламы табака, в том числе и на телевиден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абачный рынок оказался полностью под контролем лидеров мирового табачного бизнес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137280" y="1557360"/>
            <a:ext cx="3006720" cy="446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250920" y="1413000"/>
            <a:ext cx="8281800" cy="463680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стория лоббирования интересов табачной индустр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1998 г.- инициирован проект национального закона о борьбе против табака (положения об акцизах, об ограничении курения на рабочих местах, о рекламе, а также о предупреждающих надписях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 2001-м ВОЗ объявила о начале подготовки Рамочной Конвенции по борьбе против табака (РКБТ) (за максимально короткий срок — 3 года — вступили 90% стран мира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оссия, подписавшая конвенцию, на момент 2001 года не имела ни одного закона, ограничивающего табакокуре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2001 г.- законопроект«Об ограничении курения табака»  был приня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Россия и Рамочная Конвенция ВО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55800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92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6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2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6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сновные требования конвенци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2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6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2160" indent="-92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6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лный запрет рекламы табак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2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6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2160" indent="-92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6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запрет курения в общественных местах, включая рабочие места, транспорт и помеще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2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6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2160" indent="-92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6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едупредительные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адписи о вреде табак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закрывающие не менее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0%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фронтальной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верхности пачк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принимаются согласно конвенции в течение трех лет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2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6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2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6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Для лоббистов возникла новая задача —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максимально ослабить и затормозить действие конвенции.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5724360" y="1700280"/>
            <a:ext cx="3241800" cy="424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6553080" y="189000"/>
            <a:ext cx="2590920" cy="324000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8920" y="259920"/>
            <a:ext cx="718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Убитый законопроек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8229600" cy="578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окумент является продуктом табачного лобб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Основной смысл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частичное ограничение курения на рабочих местах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амый маленький в мире 4-процентный размер предупредительных надписей на пачках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ажнейшие положения о рекламе, о спонсорстве табачными компаниями благотворительных и детских мероприятий и об акцизе были сняты с обсужд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Беспрецедентное давление табачников на парламент привело к тому, что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в законе не осталось ни одной из реально эффективных мер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к которым относятся повышение акцизов, полный запрет рекламы табака, запрет курения в закрытых помещениях и броские предупреждения на пачках сигар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Табаку - зелёный свет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40672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 2007 г. в России полностью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запрещена реклама табак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на наружных стендах и в общественном транспорт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роект федерального закона «Технический регламент на табачную продукцию» урегулировал ключевой вопрос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о размерах предупредительных надписей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на пачках сигарет: вместо 4% принято не менее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0%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— с одной стороны и не менее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0%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— с другой стороны пачк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редупредительные надписи должны меняться и быть написаны на языке страны, возможны графические изображени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Надписи: «Легкие», «Мягкие», «С пониженным содержанием смолы» и т.п. запрещаютс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400720" y="1196640"/>
            <a:ext cx="374328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Сегодня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метро наводнено рекламой сигарет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 не меньше, чем несколько лет назад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В Министерстве экономического развития резко выступили против введения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графических изображений о пагубных последствиях кур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В Минэкономразвития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против запрета на использование терминов типа «лёгкие» и «мягкие» на сигаретных пачках.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08000" y="115920"/>
            <a:ext cx="987480" cy="9810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6707160" y="2637000"/>
            <a:ext cx="2436840" cy="14619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3995640" y="1916280"/>
            <a:ext cx="2519640" cy="180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7093080" y="4149720"/>
            <a:ext cx="1697040" cy="244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Цель и задач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65200" y="1628640"/>
            <a:ext cx="8578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казать социальную значимость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ы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яснить, в чем причина стремительного роста эпидемии табакокурения и кому выгодна продажа табака в Росси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учить статистику по данной проблем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накомиться с историей вопро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971640" y="1700280"/>
            <a:ext cx="2016000" cy="2016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755640" y="3500280"/>
            <a:ext cx="2519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Эта пепельница - незаменимый помощник в борьбе с курени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4716360" y="1989000"/>
            <a:ext cx="866880" cy="16192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4643280" y="3645000"/>
            <a:ext cx="2857680" cy="28548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едложения в борьбе с курени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649760" y="1508040"/>
            <a:ext cx="197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четчик некур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едлагаю принять за основу следующее обращение от лица учащихся гимназии №399 к нашему Президент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11280" y="2647440"/>
            <a:ext cx="8229600" cy="421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важаемый Президент Российской Федерации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щитите свой Народ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рочно, жёстко и властно многократно повысьте акциз на табачную продукц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ход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 сборов направьте в детские учреждения  и на медицину. Финансовые потоки должны быть прозрачны и понятны каждому гражданину. Народ Вас поддержит. Станьте героем, войдите в Истор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79280" y="1052640"/>
            <a:ext cx="1800360" cy="150012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219640" y="3906720"/>
            <a:ext cx="3924360" cy="295128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уально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 признала курение табака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ым распространённым заболеванием современност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даже объявила его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пидемией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 табакокурения в мире ежегодно умирает около 6000000 человек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пространение табакокурения в России - самое высокое в мир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потеза: вы-больны, они-богат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1241280"/>
            <a:ext cx="4532400" cy="5616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3564000" y="3284640"/>
            <a:ext cx="3960720" cy="30668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5580000" y="952560"/>
            <a:ext cx="3406680" cy="27781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мертность в Росс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Вырождение н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8360" y="3428640"/>
            <a:ext cx="822960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За 20 лет в России от курения скончалось 5,8 миллионов человек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Ежегодный показатель смертности с 1990 года вырос со 150 тысяч до 350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 так как курение в нашей стране считается «мужской» привычкой – каждый второй мужчина не доживает до пенс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мертность в России на сегодняшний день колеблется около отметки в 2 млн чел. ежегодно. При этом 17% этого показателя приходится на кур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облемы табакокурения в стране обходятся государству в 0,4% ВВП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России каждый курильщик за каждые 10 лет курения «прокуривает» одну машину среднего класса, например,  Mazda6, Ford Focus, Audi A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-55440"/>
            <a:ext cx="9144000" cy="691344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4859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Немного истор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реди главных причин Большого московского пожара 1634 года назвали куре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о пожара за курение предусматривался штраф, после него курение оказалось под запретом с наказанием в виде смертной казни за его наруше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амой первой (в 1965 г.) запретила рекламу табачных изделий в СМИ Великобритания— главная законодательница «курительных мод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сего в мире живут чуть более миллиарда человек, которые являются курильщикам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амая курящая страна —Росс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амая малокурящая страна — Бута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 20-ом веке курение унесло жизни 100 миллионов челове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ым 21-ого грозит унести миллиар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572000" y="4856040"/>
            <a:ext cx="3887640" cy="2001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250920" y="1557360"/>
            <a:ext cx="4176720" cy="339552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ухая статист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356000" y="981000"/>
            <a:ext cx="478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аждые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шесть секу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табак уносит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дну жизнь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Ежегодно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урение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становится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ичиной смерти 5,4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млн че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зо всех живущих ныне, кто в той или иной степени является пассивным курильщиком,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 течение года умрет 600 000 человек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 2030г.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оличество смертей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вследствие курения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величится до 10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млн чел. в год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з ста человек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выкуривающих в день до пятнадцати сигарет,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есять умрут от онкологических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заболевани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среднем каждый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урильщик сокращает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вою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жизнь на 18 ле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859280" cy="558972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татистика курения в Росс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43280" y="1196640"/>
            <a:ext cx="450072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Россия занимает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первое место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по потреблению табака в мир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первое место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по подростковому курени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Регулярно куря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5% мужчин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1% женщи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реди учащихся высших учебных заведений курит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5% юноше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4% девуше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реди пятиклассников куря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5% мальчик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% девочек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 10-11 классу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3% мальчиков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8% девоче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3924360" y="1557360"/>
            <a:ext cx="2851200" cy="21859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732720" y="836640"/>
            <a:ext cx="1944720" cy="15685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179280" y="981000"/>
            <a:ext cx="2017800" cy="151920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Статистика подросткового курения в Росс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4"/>
          <a:stretch/>
        </p:blipFill>
        <p:spPr>
          <a:xfrm>
            <a:off x="324000" y="2781360"/>
            <a:ext cx="1582560" cy="12762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5"/>
          <a:stretch/>
        </p:blipFill>
        <p:spPr>
          <a:xfrm>
            <a:off x="6588000" y="2781360"/>
            <a:ext cx="1944720" cy="154296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6"/>
          <a:stretch/>
        </p:blipFill>
        <p:spPr>
          <a:xfrm>
            <a:off x="1692360" y="1916280"/>
            <a:ext cx="1800000" cy="18000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7"/>
          <a:stretch/>
        </p:blipFill>
        <p:spPr>
          <a:xfrm>
            <a:off x="3132000" y="2924280"/>
            <a:ext cx="1447920" cy="16570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8"/>
          <a:stretch/>
        </p:blipFill>
        <p:spPr>
          <a:xfrm>
            <a:off x="7265880" y="3645000"/>
            <a:ext cx="1878120" cy="27082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9"/>
          <a:stretch/>
        </p:blipFill>
        <p:spPr>
          <a:xfrm>
            <a:off x="0" y="4348080"/>
            <a:ext cx="7164360" cy="250992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1554120" y="6491160"/>
            <a:ext cx="672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реди молодежи уровень курения составляет почти 7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7T08:53:43Z</dcterms:created>
  <dc:creator>Andrey Kuzmin</dc:creator>
  <dc:description/>
  <dc:language>en-US</dc:language>
  <cp:lastModifiedBy>Anastasia</cp:lastModifiedBy>
  <dcterms:modified xsi:type="dcterms:W3CDTF">2013-04-16T23:49:41Z</dcterms:modified>
  <cp:revision>9</cp:revision>
  <dc:subject/>
  <dc:title>    Жить или курить?</dc:title>
</cp:coreProperties>
</file>