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035-C419-4DC7-8C1B-9810A2AF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F77-A063-4CEC-970A-A0717D29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4B3-D0A4-4FD9-BEAC-30F8318F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DFB-EF10-41B7-9132-AF4A6453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2C21-128B-4944-AED5-1BF96CDC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669F-DDE4-44C9-9A0E-AF4DB98D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0FED-E238-470F-9896-BEC25365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6BBC-545B-498B-A8E6-167E7562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EBEF-A683-4145-88F5-38A0465B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9501-9FC0-4E77-B96E-1622319C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359C-3BD2-4A98-90D6-140911C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283-A965-4BFF-9E95-63560201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EBDE-41A3-4E2C-B44D-FF1953D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CF97-FBB3-4E78-A7CC-1F971438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FF16-1CC1-41D8-9F70-B79B6210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D788-85E6-437E-9676-7ECDE41D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167B-92B6-4C7D-B547-B4F3CEA8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664-F2B8-463B-B481-DDAF86B7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F3D-C2C3-4EC9-9184-1BF5B9DD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C6F-5169-42CE-8410-D967AE77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595-709A-410B-A04A-0C7F4ACA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53C-3E5C-4C8E-87B0-4CB3410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F62-FF6D-4C94-9A77-54AB054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DFC-288E-41E9-A6A0-BCFD839F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45e7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45e719"/>
                </a:gs>
                <a:gs pos="100000">
                  <a:srgbClr val="ccff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5e719"/>
                </a:gs>
                <a:gs pos="100000">
                  <a:srgbClr val="206b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45e719"/>
                </a:gs>
                <a:gs pos="100000">
                  <a:srgbClr val="206b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8f39"/>
                </a:gs>
                <a:gs pos="100000">
                  <a:srgbClr val="cc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45e719"/>
                </a:gs>
                <a:gs pos="100000">
                  <a:srgbClr val="ccff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7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E54-3143-4C24-8955-E17EA971A0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45e7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45e719"/>
                </a:gs>
                <a:gs pos="100000">
                  <a:srgbClr val="ccff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5e719"/>
                </a:gs>
                <a:gs pos="100000">
                  <a:srgbClr val="206b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45e719"/>
                </a:gs>
                <a:gs pos="100000">
                  <a:srgbClr val="206b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8f39"/>
                </a:gs>
                <a:gs pos="100000">
                  <a:srgbClr val="cc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45e719"/>
                </a:gs>
                <a:gs pos="100000">
                  <a:srgbClr val="ccff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7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60BD-741F-4BF5-B0A2-7D078756B52C}" type="slidenum">
              <a:rPr b="0" lang="ru-RU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90;&#1093;&#1086;&#1076;&#1099;" TargetMode="External"/><Relationship Id="rId2" Type="http://schemas.openxmlformats.org/officeDocument/2006/relationships/hyperlink" Target="http://ru.wikipedia.org/wiki/&#1057;&#1074;&#1072;&#1083;&#1082;&#1072;" TargetMode="External"/><Relationship Id="rId3" Type="http://schemas.openxmlformats.org/officeDocument/2006/relationships/hyperlink" Target="http://ru.wikipedia.org/w/index.php?title=&#1047;&#1072;&#1093;&#1086;&#1088;&#1086;&#1085;&#1077;&#1085;&#1080;&#1077;_&#1086;&#1090;&#1093;&#1086;&#1076;&#1086;&#1074;&amp;action=edit&amp;redlink=1" TargetMode="External"/><Relationship Id="rId4" Type="http://schemas.openxmlformats.org/officeDocument/2006/relationships/hyperlink" Target="http://ru.wikipedia.org/wiki/&#1057;&#1074;&#1072;&#1083;&#1082;&#1072;" TargetMode="External"/><Relationship Id="rId5" Type="http://schemas.openxmlformats.org/officeDocument/2006/relationships/hyperlink" Target="http://ru.wikipedia.org/wiki/&#1057;&#1074;&#1072;&#1083;&#1082;&#1072;" TargetMode="External"/><Relationship Id="rId6" Type="http://schemas.openxmlformats.org/officeDocument/2006/relationships/hyperlink" Target="http://ru.wikipedia.org/wiki/&#1057;&#1074;&#1072;&#1083;&#1082;&#1072;" TargetMode="External"/><Relationship Id="rId7" Type="http://schemas.openxmlformats.org/officeDocument/2006/relationships/hyperlink" Target="http://ru.wikipedia.org/wiki/&#1054;&#1082;&#1088;&#1091;&#1078;&#1072;&#1102;&#1097;&#1072;&#1103;_&#1089;&#1088;&#1077;&#1076;&#1072;" TargetMode="External"/><Relationship Id="rId8" Type="http://schemas.openxmlformats.org/officeDocument/2006/relationships/hyperlink" Target="http://ru.wikipedia.org/wiki/&#1054;&#1090;&#1093;&#1086;&#1076;&#1099;" TargetMode="External"/><Relationship Id="rId9" Type="http://schemas.openxmlformats.org/officeDocument/2006/relationships/hyperlink" Target="http://ru.wikipedia.org/w/index.php?title=&#1042;&#1088;&#1077;&#1076;&#1080;&#1090;&#1077;&#1083;&#1080;&amp;action=edit&amp;redlink=1" TargetMode="External"/><Relationship Id="rId10" Type="http://schemas.openxmlformats.org/officeDocument/2006/relationships/hyperlink" Target="http://ru.wikipedia.org/wiki/&#1055;&#1072;&#1088;&#1072;&#1079;&#1080;&#1090;&#1099;" TargetMode="External"/><Relationship Id="rId11" Type="http://schemas.openxmlformats.org/officeDocument/2006/relationships/hyperlink" Target="http://ru.wikipedia.org/wiki/&#1057;&#1090;&#1086;&#1095;&#1085;&#1099;&#1077;_&#1074;&#1086;&#1076;&#1099;" TargetMode="External"/><Relationship Id="rId12" Type="http://schemas.openxmlformats.org/officeDocument/2006/relationships/hyperlink" Target="http://ru.wikipedia.org/wiki/&#1057;&#1074;&#1072;&#1083;&#1082;&#1072;" TargetMode="External"/><Relationship Id="rId13" Type="http://schemas.openxmlformats.org/officeDocument/2006/relationships/hyperlink" Target="http://ru.wikipedia.org/wiki/&#1043;&#1072;&#1079;" TargetMode="External"/><Relationship Id="rId14" Type="http://schemas.openxmlformats.org/officeDocument/2006/relationships/hyperlink" Target="http://ru.wikipedia.org/wiki/&#1052;&#1077;&#1090;&#1072;&#1085;" TargetMode="External"/><Relationship Id="rId15" Type="http://schemas.openxmlformats.org/officeDocument/2006/relationships/hyperlink" Target="http://ru.wikipedia.org/wiki/&#1059;&#1075;&#1083;&#1077;&#1082;&#1080;&#1089;&#1083;&#1099;&#1081;_&#1075;&#1072;&#1079;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Проект</a:t>
            </a:r>
            <a:br>
              <a:rPr sz="5400"/>
            </a:br>
            <a:r>
              <a:rPr b="1" lang="ru-RU" sz="5400" spc="-1" strike="noStrike">
                <a:solidFill>
                  <a:srgbClr val="3333ff"/>
                </a:solidFill>
                <a:latin typeface="Times New Roman"/>
              </a:rPr>
              <a:t>«</a:t>
            </a:r>
            <a:r>
              <a:rPr b="1" i="1" lang="ru-RU" sz="5400" spc="-1" strike="noStrike">
                <a:solidFill>
                  <a:srgbClr val="3333ff"/>
                </a:solidFill>
                <a:latin typeface="Script MT Bold"/>
              </a:rPr>
              <a:t>Как меньше загрязнять окружающую среду»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4572000"/>
            <a:ext cx="6019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втор Богдан Лидия 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ч-ся 4 а класса МБОУ СОШ №21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d1"/>
                </a:solidFill>
                <a:latin typeface="Times New Roman"/>
              </a:rPr>
              <a:t>Загрязнение</a:t>
            </a: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dd1"/>
                </a:solidFill>
                <a:latin typeface="Times New Roman"/>
              </a:rPr>
              <a:t>бытовыми отходами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ывоз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"/>
              </a:rPr>
              <a:t>мусора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2"/>
              </a:rPr>
              <a:t>свалку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одразумевает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3"/>
              </a:rPr>
              <a:t>захоронение отходов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что является обычной практикой для многих стран.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4"/>
              </a:rPr>
              <a:t>Свалк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обычно появляются на месте заброшенных или уже неиспользуемых карьеров, шахт и котлованов. Правильно спроектированная и грамотно управляемая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5"/>
              </a:rPr>
              <a:t>свалка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соответствует всем нормам гигиены и является относительно не дорогостоящим методом утилизации отходов. Заброшенные, неправильно спроектированные и плохо управляемые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6"/>
              </a:rPr>
              <a:t>свалк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могут стать угрозой для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7"/>
              </a:rPr>
              <a:t>окружающей среды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: летящий во все стороны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8"/>
              </a:rPr>
              <a:t>мусор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различные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9"/>
              </a:rPr>
              <a:t>вредител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0"/>
              </a:rPr>
              <a:t>паразиты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и, наконец,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1"/>
              </a:rPr>
              <a:t>сточные воды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Ещё одной распространенной проблемой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2"/>
              </a:rPr>
              <a:t>свалок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является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3"/>
              </a:rPr>
              <a:t>газ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(имеющий в своем составе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4"/>
              </a:rPr>
              <a:t>метан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5"/>
              </a:rPr>
              <a:t>углекислый газ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, выделяющийся в результате анаэробного разложения органических отходов. Газ источает зловонный запах, уничтожает всю растительность  на поверхности и способствует образованию парникового эффекта. 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24" name="Picture 5" descr="пшгвап"/>
          <p:cNvPicPr/>
          <p:nvPr/>
        </p:nvPicPr>
        <p:blipFill>
          <a:blip r:embed="rId16"/>
          <a:stretch/>
        </p:blipFill>
        <p:spPr>
          <a:xfrm>
            <a:off x="4876920" y="1295280"/>
            <a:ext cx="3809880" cy="266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ргнпе"/>
          <p:cNvPicPr/>
          <p:nvPr/>
        </p:nvPicPr>
        <p:blipFill>
          <a:blip r:embed="rId17"/>
          <a:stretch/>
        </p:blipFill>
        <p:spPr>
          <a:xfrm>
            <a:off x="4876920" y="396252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Это результат загрязнения почв!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28" name="Picture 5" descr="В087"/>
          <p:cNvPicPr/>
          <p:nvPr/>
        </p:nvPicPr>
        <p:blipFill>
          <a:blip r:embed="rId1"/>
          <a:stretch/>
        </p:blipFill>
        <p:spPr>
          <a:xfrm>
            <a:off x="457200" y="1600200"/>
            <a:ext cx="4114800" cy="4572000"/>
          </a:xfrm>
          <a:prstGeom prst="rect">
            <a:avLst/>
          </a:prstGeom>
          <a:ln w="76320">
            <a:solidFill>
              <a:srgbClr val="282886"/>
            </a:solidFill>
            <a:miter/>
          </a:ln>
        </p:spPr>
      </p:pic>
      <p:pic>
        <p:nvPicPr>
          <p:cNvPr id="129" name="Picture 8" descr="Таймыр"/>
          <p:cNvPicPr/>
          <p:nvPr/>
        </p:nvPicPr>
        <p:blipFill>
          <a:blip r:embed="rId2"/>
          <a:stretch/>
        </p:blipFill>
        <p:spPr>
          <a:xfrm>
            <a:off x="4572000" y="1600200"/>
            <a:ext cx="4114800" cy="4572000"/>
          </a:xfrm>
          <a:prstGeom prst="rect">
            <a:avLst/>
          </a:prstGeom>
          <a:ln w="76320">
            <a:solidFill>
              <a:srgbClr val="28288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cript MT Bold"/>
              </a:rPr>
              <a:t>Памятка о защите почв от засорения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</a:rPr>
              <a:t>Запрещается: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 сброс отходов производства в  воду и на почву;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 размещение опасных отходов на территориях, прилегающих к городским и сельским поселениям, в лесопарковых зонах, на путях миграции животных и иных местах, в которых может быть создана опасность для окружающей природной среды и здоровья человека;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 захоронение опасных, в том числе и радиоактивных отходов,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уничтожение растительности и почв  в связи с разработкой ископаемых, проведением различных строительных работ,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</a:rPr>
              <a:t>Необходимо: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внедрение технологических процессов (производств) по переработке и утилизации свалочных масс.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регулировать подачу воды, чтобы не происходило засоления почв,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ограничивать количество вносимых минеральных удобрений и пестицидов,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при проведении строительных работ, необходимо снятие и сохранения плодородного почвенного слоя земли, 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 внедрять малоотходные технологии на основе новейших научно-технических достижений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 принимать меры по предупреждению аварий, при обращении с отходами.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при устройстве дорог, стоянок, гаражей должны предусматриваться мероприятия, препятствующие загрязнению почвы нефтепродуктами, 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постоянно осуществлять мероприятия по охране земель от загрязнения отходами производства</a:t>
            </a:r>
            <a:r>
              <a:rPr b="0" lang="ru-RU" sz="1600" spc="-1" strike="noStrike">
                <a:solidFill>
                  <a:srgbClr val="9999ff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 использовать мусор в хозяйстве?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жерелье из бутылок                       украшение для         газона</a:t>
            </a:r>
            <a:endParaRPr b="0" lang="en-US" sz="20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34" name="Picture 4" descr="i"/>
          <p:cNvPicPr/>
          <p:nvPr/>
        </p:nvPicPr>
        <p:blipFill>
          <a:blip r:embed="rId1"/>
          <a:stretch/>
        </p:blipFill>
        <p:spPr>
          <a:xfrm>
            <a:off x="4648320" y="2624040"/>
            <a:ext cx="2971800" cy="3395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пг"/>
          <p:cNvPicPr/>
          <p:nvPr/>
        </p:nvPicPr>
        <p:blipFill>
          <a:blip r:embed="rId2"/>
          <a:stretch/>
        </p:blipFill>
        <p:spPr>
          <a:xfrm>
            <a:off x="762120" y="2673360"/>
            <a:ext cx="33526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 использовать мусор в хозяйстве?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крашение для сада                                     светильник</a:t>
            </a:r>
            <a:endParaRPr b="0" lang="en-US" sz="20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38" name="Picture 4" descr="ен"/>
          <p:cNvPicPr/>
          <p:nvPr/>
        </p:nvPicPr>
        <p:blipFill>
          <a:blip r:embed="rId1"/>
          <a:stretch/>
        </p:blipFill>
        <p:spPr>
          <a:xfrm>
            <a:off x="838080" y="243828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рош"/>
          <p:cNvPicPr/>
          <p:nvPr/>
        </p:nvPicPr>
        <p:blipFill>
          <a:blip r:embed="rId2"/>
          <a:stretch/>
        </p:blipFill>
        <p:spPr>
          <a:xfrm>
            <a:off x="4876920" y="2438280"/>
            <a:ext cx="2743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 использовать мусор в хозяйстве ?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Уютная кровать</a:t>
            </a:r>
            <a:endParaRPr b="0" lang="en-US" sz="28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42" name="Picture 4" descr="пррп"/>
          <p:cNvPicPr/>
          <p:nvPr/>
        </p:nvPicPr>
        <p:blipFill>
          <a:blip r:embed="rId1"/>
          <a:stretch/>
        </p:blipFill>
        <p:spPr>
          <a:xfrm>
            <a:off x="1905120" y="2743200"/>
            <a:ext cx="4800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f0000"/>
                </a:solidFill>
                <a:latin typeface="Times New Roman"/>
              </a:rPr>
              <a:t>Берегите природу!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4" name="Picture 4" descr="Охрана почв"/>
          <p:cNvPicPr/>
          <p:nvPr/>
        </p:nvPicPr>
        <p:blipFill>
          <a:blip r:embed="rId1"/>
          <a:stretch/>
        </p:blipFill>
        <p:spPr>
          <a:xfrm>
            <a:off x="1122480" y="1670040"/>
            <a:ext cx="6673680" cy="85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04-17T11:29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