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32.wmf" ContentType="image/x-wmf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8.wmf" ContentType="image/x-wmf"/>
  <Override PartName="/ppt/media/image27.jpeg" ContentType="image/jpeg"/>
  <Override PartName="/ppt/media/image6.jpeg" ContentType="image/jpeg"/>
  <Override PartName="/ppt/media/image30.wmf" ContentType="image/x-wmf"/>
  <Override PartName="/ppt/media/image33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.gif" ContentType="image/gif"/>
  <Override PartName="/ppt/media/image12.jpeg" ContentType="image/jpeg"/>
  <Override PartName="/ppt/media/image2.gif" ContentType="image/gif"/>
  <Override PartName="/ppt/media/image19.jpeg" ContentType="image/jpeg"/>
  <Override PartName="/ppt/media/image29.wmf" ContentType="image/x-wmf"/>
  <Override PartName="/ppt/media/image31.wmf" ContentType="image/x-wmf"/>
  <Override PartName="/ppt/media/image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A6A-C59F-41D2-881F-6163DD4B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B68-4762-43DC-9B7C-FFC314B0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849-2AD5-4725-B740-1F2410DB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906-77D9-4397-97BB-E0286C3C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95A-BE13-4CAA-BA41-7B565D80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B47-E826-4F20-BA89-FCA7E63A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D4C-1135-41B7-9272-8A143664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EBC-DA60-44D9-9105-379E78C1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018-2F87-4A1E-9B96-2240FB73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413-D6F3-46F8-926F-E6B21317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0D2-A29B-49C0-9BBA-76D60C54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648-1113-402C-9935-FE75CD83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6899-3461-4914-9592-DAA27955C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User/&#1052;&#1086;&#1080;%20&#1076;&#1086;&#1082;&#1091;&#1084;&#1077;&#1085;&#1090;&#1099;/&#1074;&#1080;&#1076;&#1099;%20&#1094;&#1086;&#1088;.doc" TargetMode="External"/><Relationship Id="rId2" Type="http://schemas.openxmlformats.org/officeDocument/2006/relationships/hyperlink" Target="file:///C:/Documents%20and%20Settings/User/&#1052;&#1086;&#1080;%20&#1076;&#1086;&#1082;&#1091;&#1084;&#1077;&#1085;&#1090;&#1099;/&#1074;&#1080;&#1076;&#1099;%20&#1094;&#1086;&#1088;.do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2636640"/>
            <a:ext cx="676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ЦОР как средство повышения интереса к изучаемым предме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лакат (слайд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аналог обычного плак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содержать определение, правило, формулировку теоремы или формулу с иллюстрациями к ним, различные изображения, схемы, таблицы, тек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лакат иллюстр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image001"/>
          <p:cNvPicPr/>
          <p:nvPr/>
        </p:nvPicPr>
        <p:blipFill>
          <a:blip r:embed="rId1"/>
          <a:stretch/>
        </p:blipFill>
        <p:spPr>
          <a:xfrm>
            <a:off x="1908000" y="1413000"/>
            <a:ext cx="68122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лакат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image002"/>
          <p:cNvPicPr/>
          <p:nvPr/>
        </p:nvPicPr>
        <p:blipFill>
          <a:blip r:embed="rId1"/>
          <a:stretch/>
        </p:blipFill>
        <p:spPr>
          <a:xfrm>
            <a:off x="2124000" y="1413000"/>
            <a:ext cx="65613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лакат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age003"/>
          <p:cNvPicPr/>
          <p:nvPr/>
        </p:nvPicPr>
        <p:blipFill>
          <a:blip r:embed="rId1"/>
          <a:stretch/>
        </p:blipFill>
        <p:spPr>
          <a:xfrm>
            <a:off x="1908000" y="134136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Интерактивный плакат -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004"/>
          <p:cNvPicPr/>
          <p:nvPr/>
        </p:nvPicPr>
        <p:blipFill>
          <a:blip r:embed="rId1"/>
          <a:stretch/>
        </p:blipFill>
        <p:spPr>
          <a:xfrm>
            <a:off x="1763640" y="2421000"/>
            <a:ext cx="68961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Интерактив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image008"/>
          <p:cNvPicPr/>
          <p:nvPr/>
        </p:nvPicPr>
        <p:blipFill>
          <a:blip r:embed="rId1"/>
          <a:stretch/>
        </p:blipFill>
        <p:spPr>
          <a:xfrm>
            <a:off x="2195640" y="162864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Интерактивный рису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image015"/>
          <p:cNvPicPr/>
          <p:nvPr/>
        </p:nvPicPr>
        <p:blipFill>
          <a:blip r:embed="rId1"/>
          <a:stretch/>
        </p:blipFill>
        <p:spPr>
          <a:xfrm>
            <a:off x="1908000" y="1484280"/>
            <a:ext cx="6553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Комплексная интерактивная таб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age012"/>
          <p:cNvPicPr/>
          <p:nvPr/>
        </p:nvPicPr>
        <p:blipFill>
          <a:blip r:embed="rId1"/>
          <a:stretch/>
        </p:blipFill>
        <p:spPr>
          <a:xfrm>
            <a:off x="2195640" y="1628640"/>
            <a:ext cx="63450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Презент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довательность нескольких слайдов или серия чертежей с подписями, поддерживающая объяснение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Презентация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 формате 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age017"/>
          <p:cNvPicPr/>
          <p:nvPr/>
        </p:nvPicPr>
        <p:blipFill>
          <a:blip r:embed="rId1"/>
          <a:stretch/>
        </p:blipFill>
        <p:spPr>
          <a:xfrm>
            <a:off x="1908000" y="162864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зучение и анализ ЦОР, используемых на учебных занят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Рисунок2"/>
          <p:cNvPicPr/>
          <p:nvPr/>
        </p:nvPicPr>
        <p:blipFill>
          <a:blip r:embed="rId1"/>
          <a:stretch/>
        </p:blipFill>
        <p:spPr>
          <a:xfrm>
            <a:off x="4500720" y="3357720"/>
            <a:ext cx="3030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Презентация с дикторским сопровожде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mage018"/>
          <p:cNvPicPr/>
          <p:nvPr/>
        </p:nvPicPr>
        <p:blipFill>
          <a:blip r:embed="rId1"/>
          <a:stretch/>
        </p:blipFill>
        <p:spPr>
          <a:xfrm>
            <a:off x="1979640" y="1628640"/>
            <a:ext cx="65149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Интерактивная презентация с дикторским сопровожд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19"/>
          <p:cNvPicPr/>
          <p:nvPr/>
        </p:nvPicPr>
        <p:blipFill>
          <a:blip r:embed="rId1"/>
          <a:stretch/>
        </p:blipFill>
        <p:spPr>
          <a:xfrm>
            <a:off x="2340000" y="1557360"/>
            <a:ext cx="60483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идеоролики (анимаци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ляют собой небольшие (не более 5-7 минут) анимации, нарисованные в формате flash, или составленные из последовательности синтезированных трехмерных изобра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Видеоролик с музыкальным сопровожде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mage021"/>
          <p:cNvPicPr/>
          <p:nvPr/>
        </p:nvPicPr>
        <p:blipFill>
          <a:blip r:embed="rId1"/>
          <a:stretch/>
        </p:blipFill>
        <p:spPr>
          <a:xfrm>
            <a:off x="2124000" y="1700280"/>
            <a:ext cx="6114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идеоролик -ле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mage022"/>
          <p:cNvPicPr/>
          <p:nvPr/>
        </p:nvPicPr>
        <p:blipFill>
          <a:blip r:embed="rId1"/>
          <a:stretch/>
        </p:blipFill>
        <p:spPr>
          <a:xfrm>
            <a:off x="2124000" y="1484280"/>
            <a:ext cx="6551640" cy="51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идеоролик для иллюстрации действ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age023"/>
          <p:cNvPicPr/>
          <p:nvPr/>
        </p:nvPicPr>
        <p:blipFill>
          <a:blip r:embed="rId1"/>
          <a:stretch/>
        </p:blipFill>
        <p:spPr>
          <a:xfrm>
            <a:off x="1908000" y="1844640"/>
            <a:ext cx="6777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Учебный моду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бор ЦОР обеспечивают резкое расширение сектора самостоятельной учебной работы учащихся за счет использования активно-деятельностных форм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Иллюстрированный учебный моду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age025"/>
          <p:cNvPicPr/>
          <p:nvPr/>
        </p:nvPicPr>
        <p:blipFill>
          <a:blip r:embed="rId1"/>
          <a:stretch/>
        </p:blipFill>
        <p:spPr>
          <a:xfrm>
            <a:off x="2050920" y="1527120"/>
            <a:ext cx="655344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Гипертекстовый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учебный моду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age026"/>
          <p:cNvPicPr/>
          <p:nvPr/>
        </p:nvPicPr>
        <p:blipFill>
          <a:blip r:embed="rId1"/>
          <a:stretch/>
        </p:blipFill>
        <p:spPr>
          <a:xfrm>
            <a:off x="1657440" y="1633680"/>
            <a:ext cx="58291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Гипертекстовый иллюстрированный учебный моду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image027"/>
          <p:cNvPicPr/>
          <p:nvPr/>
        </p:nvPicPr>
        <p:blipFill>
          <a:blip r:embed="rId1"/>
          <a:stretch/>
        </p:blipFill>
        <p:spPr>
          <a:xfrm>
            <a:off x="1835280" y="2205000"/>
            <a:ext cx="639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000" y="475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ить и проанализировать ЦОР, используемых на занят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анализ эффективности использования ЦОР на учебных зан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ктивизировать использование ЦОР на учебных занят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Рисунок7"/>
          <p:cNvPicPr/>
          <p:nvPr/>
        </p:nvPicPr>
        <p:blipFill>
          <a:blip r:embed="rId1"/>
          <a:stretch/>
        </p:blipFill>
        <p:spPr>
          <a:xfrm>
            <a:off x="6588000" y="4724280"/>
            <a:ext cx="15051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Иллюстированная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image028"/>
          <p:cNvPicPr/>
          <p:nvPr/>
        </p:nvPicPr>
        <p:blipFill>
          <a:blip r:embed="rId1"/>
          <a:stretch/>
        </p:blipFill>
        <p:spPr>
          <a:xfrm>
            <a:off x="1908000" y="1557360"/>
            <a:ext cx="63342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Интерактивная модель  - зада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mage033"/>
          <p:cNvPicPr/>
          <p:nvPr/>
        </p:nvPicPr>
        <p:blipFill>
          <a:blip r:embed="rId1"/>
          <a:stretch/>
        </p:blipFill>
        <p:spPr>
          <a:xfrm>
            <a:off x="2050920" y="1989000"/>
            <a:ext cx="63914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Задание – конструк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036"/>
          <p:cNvPicPr/>
          <p:nvPr/>
        </p:nvPicPr>
        <p:blipFill>
          <a:blip r:embed="rId1"/>
          <a:stretch/>
        </p:blipFill>
        <p:spPr>
          <a:xfrm>
            <a:off x="1979640" y="1700280"/>
            <a:ext cx="6391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Тренаж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image037"/>
          <p:cNvPicPr/>
          <p:nvPr/>
        </p:nvPicPr>
        <p:blipFill>
          <a:blip r:embed="rId1"/>
          <a:stretch/>
        </p:blipFill>
        <p:spPr>
          <a:xfrm>
            <a:off x="2050920" y="1773360"/>
            <a:ext cx="639144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Интерактивная дидактическ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image038"/>
          <p:cNvPicPr/>
          <p:nvPr/>
        </p:nvPicPr>
        <p:blipFill>
          <a:blip r:embed="rId1"/>
          <a:stretch/>
        </p:blipFill>
        <p:spPr>
          <a:xfrm>
            <a:off x="1908000" y="1557360"/>
            <a:ext cx="6400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039"/>
          <p:cNvPicPr/>
          <p:nvPr/>
        </p:nvPicPr>
        <p:blipFill>
          <a:blip r:embed="rId1"/>
          <a:stretch/>
        </p:blipFill>
        <p:spPr>
          <a:xfrm>
            <a:off x="1835280" y="1700280"/>
            <a:ext cx="6840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Тестов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mage042"/>
          <p:cNvPicPr/>
          <p:nvPr/>
        </p:nvPicPr>
        <p:blipFill>
          <a:blip r:embed="rId1"/>
          <a:stretch/>
        </p:blipFill>
        <p:spPr>
          <a:xfrm>
            <a:off x="1979640" y="1557360"/>
            <a:ext cx="6400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Контро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mage046"/>
          <p:cNvPicPr/>
          <p:nvPr/>
        </p:nvPicPr>
        <p:blipFill>
          <a:blip r:embed="rId1"/>
          <a:stretch/>
        </p:blipFill>
        <p:spPr>
          <a:xfrm>
            <a:off x="2124000" y="1628640"/>
            <a:ext cx="63914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Нравятся ли вам уроки с использованием ИКТ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457200" y="2749680"/>
          <a:ext cx="403848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9680"/>
                    <a:ext cx="403848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1"/>
          <p:cNvGraphicFramePr/>
          <p:nvPr/>
        </p:nvGraphicFramePr>
        <p:xfrm>
          <a:off x="2195640" y="1773360"/>
          <a:ext cx="6242040" cy="4500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1773360"/>
                    <a:ext cx="624204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акие формы обучения с использованием ЦОР вам нравя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7"/>
          <p:cNvGraphicFramePr/>
          <p:nvPr/>
        </p:nvGraphicFramePr>
        <p:xfrm>
          <a:off x="1835280" y="2060640"/>
          <a:ext cx="627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060640"/>
                    <a:ext cx="627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Ц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цифровой образовательный ресур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ий содержательно обособленный объект, предназначенный для образовательных целей и представленный в цифровой, электронной, «компьютерной» фор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акие этапы урока нравятся с использованием ЦОР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1908000" y="1628640"/>
          <a:ext cx="65660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628640"/>
                    <a:ext cx="65660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акой группе ЦОР вы даете больше предпочтений</a:t>
            </a:r>
            <a:r>
              <a:rPr b="0" lang="ru-RU" sz="40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1692360" y="1700280"/>
          <a:ext cx="720072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700280"/>
                    <a:ext cx="7200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Работу выполн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овалова Элина – учащаяся 11 класса МОУ «Олорская средняя общеобразовате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1"/>
          <p:cNvPicPr/>
          <p:nvPr/>
        </p:nvPicPr>
        <p:blipFill>
          <a:blip r:embed="rId1"/>
          <a:stretch/>
        </p:blipFill>
        <p:spPr>
          <a:xfrm>
            <a:off x="1619280" y="1700280"/>
            <a:ext cx="2951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Ц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139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тья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Wor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 иллюстрациями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DF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др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ллюстрация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PEG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ллюстрация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PEG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 сопроводительным текстом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нига в виде набора отсканированных страниц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F 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оглавлением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нига в формате HTML (набор файлов HTML и связанных с ними картин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удиозапис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идеозапись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vX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зентация в формате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Power Poin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дельный медиаобъект учебного курса, выполненного на определенной технологической плат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Comic Sans MS"/>
              </a:rPr>
              <a:t>Ц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92000" y="1599840"/>
            <a:ext cx="6994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Виды ЦОР.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 Анализ видов ЦОР по образовательно-методическим функциям представлен на рис.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Классификация ЦОР по типу представленной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иведена на рис.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рис.3 –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формы использования ЦОР в сопоставлении с традиционными формами обучени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Варианты организации учеб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7280" y="177336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1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Фронтальная работа с классом + группов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2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Фронтальная работа с классом + индивидуальная работа.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ариант 3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спользование домашних компьют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Comic Sans MS"/>
              </a:rPr>
              <a:t>Урок комбинированного т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предъявлени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закрепление и отработка навыков путем различного рода практических занят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контроль или аттестация учебных дости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Демонстрационные материал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ставлены во всех без исключения наборах ЦО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и материалы проще всего встраиваются в традиционную структуру урок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имущества от их использования очевид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2T16:40:28Z</dcterms:created>
  <dc:creator>лорижщ</dc:creator>
  <dc:description/>
  <dc:language>en-US</dc:language>
  <cp:lastModifiedBy>Admin</cp:lastModifiedBy>
  <dcterms:modified xsi:type="dcterms:W3CDTF">2013-04-18T10:15:22Z</dcterms:modified>
  <cp:revision>6</cp:revision>
  <dc:subject/>
  <dc:title>ЦОР как средство повышения интереса к изучаемым предметам</dc:title>
</cp:coreProperties>
</file>