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7F0-759E-4071-9421-7B44876510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C8E6-AA44-47A7-92BC-087D163F3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0AF-DBF2-4F92-B165-0D1AE1C7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1DE-D082-43C9-846A-5F03066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F80-D96C-48BB-8A1C-21782044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309-54FB-4BDC-896C-0F21177C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6DE-EAED-4A02-A39B-B8FB6D76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D552-07CA-4473-B668-3FCB6B28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762-120B-4F14-98C2-2B3BB104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2AB-1FC2-4B39-B44A-8C8DF88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4D9-0E67-431B-BE3A-B682F27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D3B8-6150-46DC-AF60-EB39D8B3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E609-8114-4DD8-9E16-57A75DF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8C9-1ABD-4FEF-8E46-0D57749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DDE-F031-458F-9DC8-3D125AA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582-3F3B-4FD6-A24C-7FF55FB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09C0-597B-47B0-B635-E6E9F74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9CE6-2956-4375-B576-B83CA6E5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1F86-8B01-4A75-9F0A-A9AF427E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84E-55AD-42E2-B78F-C1B0F58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92E-080E-4428-9339-E10A0D6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AA8-A6B8-4F5D-8673-4D6692A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068-8D60-4256-94BE-8B671F1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144-7F47-4DE4-ACED-B45FC9A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E70-2DF7-4506-94EB-DD73562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048-A62B-4DF1-8AAE-CF26AD4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FCE-98F4-40C6-97ED-6414EB4484CF}" type="slidenum">
              <a:rPr b="1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EBC0-3099-412E-B5F9-42C192767A47}" type="slidenum">
              <a:rPr b="1" lang="ru-RU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Визитная карточка детского объединения «Вече»</a:t>
            </a:r>
            <a:br>
              <a:rPr sz="36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ОБУ ДОД ЦВР на базе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ОБУ Ушумунской СОШ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Руководитель: Хлынова Татьяна Владими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159. I ч.  Molto Allegro.mp3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зультаты деятельност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2011 – 20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49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униципальный уров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- победители районного конкурса «Моя малая Роди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 человек  - 2 место в викторине «Моё избирательное право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– победители конкурса «Портфолио» в номинации «Искатель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 человек – грамоты за участие в конкурсе «Портфолио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человека – победители заочных и очных олимпиад по истории праву, обществозна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участие в 5 Муниципальной научно – практической конференции «Шаг в науку» - 2 место в номинации «Обществознани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4920" y="106668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ластной уровень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Грамота за 1 место в областном заочном конкурсе «Святая Русь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– участник областной краеведческой конференции «Моя малая Роди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- Диплом за 3 место в номинации «Экологическая культура» областного этапа Всероссийского заочного конкурса «Моя малая Родина: природа, культура, этнос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 человек – участники дистанционной викторины «Дорогами Отечественной войны 1812 года» . Благодар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человек – грамота за 3 место в областном конкурсе «Блажен кто предков сердцем чтит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человека - участие    в конкурсе сочинений «Праздник горький и святой – моя семья и война» 2 и  3 место в районном конкурсе, сертификатами на областном уров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человека – участники этнографической смены в г. Благовещенс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аправления деятельност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2361960"/>
            <a:ext cx="3467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нография как нау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15080" y="2361960"/>
            <a:ext cx="346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торическое краевед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D:\Рабочие документы\Таня\11 - 12\вече\работы детей\фото - конкурс\мы путешествуем\в шкорльном музеи п. Сиваки.JPG"/>
          <p:cNvPicPr/>
          <p:nvPr/>
        </p:nvPicPr>
        <p:blipFill>
          <a:blip r:embed="rId1"/>
          <a:stretch/>
        </p:blipFill>
        <p:spPr>
          <a:xfrm>
            <a:off x="990720" y="37339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Рабочие документы\Таня\11 - 12\вече\работы детей\фото - конкурс\мы путешествуем\P1050175.JPG"/>
          <p:cNvPicPr/>
          <p:nvPr/>
        </p:nvPicPr>
        <p:blipFill>
          <a:blip r:embed="rId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Наши праздник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D:\Рабочие документы\Таня\09- 10\Фотки\ЗИМА\P1040497.JPG"/>
          <p:cNvPicPr/>
          <p:nvPr/>
        </p:nvPicPr>
        <p:blipFill>
          <a:blip r:embed="rId1"/>
          <a:stretch/>
        </p:blipFill>
        <p:spPr>
          <a:xfrm>
            <a:off x="5486400" y="198108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4043880" y="45943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ляда и Св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Рабочие документы\Таня\11 - 12\вече\работы детей\фото - конкурс\наши праздники\Суженный, покажись!.JPG"/>
          <p:cNvPicPr/>
          <p:nvPr/>
        </p:nvPicPr>
        <p:blipFill>
          <a:blip r:embed="rId2"/>
          <a:stretch/>
        </p:blipFill>
        <p:spPr>
          <a:xfrm>
            <a:off x="1981080" y="2286000"/>
            <a:ext cx="2691000" cy="20178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D:\Рабочие документы\Таня\11 - 12\фото\2 четверть\DSC00807.JPG"/>
          <p:cNvPicPr/>
          <p:nvPr/>
        </p:nvPicPr>
        <p:blipFill>
          <a:blip r:embed="rId1"/>
          <a:stretch/>
        </p:blipFill>
        <p:spPr>
          <a:xfrm>
            <a:off x="2895480" y="1262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D:\Рабочие документы\Таня\11 - 12\фото\2 четверть\DSC00806.JPG"/>
          <p:cNvPicPr/>
          <p:nvPr/>
        </p:nvPicPr>
        <p:blipFill>
          <a:blip r:embed="rId2"/>
          <a:stretch/>
        </p:blipFill>
        <p:spPr>
          <a:xfrm>
            <a:off x="2851200" y="4041720"/>
            <a:ext cx="328752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6637680" y="1523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ез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Черня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Рабочие документы\Таня\11 - 12\вече\работы детей\фото - конкурс\мы путешествуем\групповое фото.JPG"/>
          <p:cNvPicPr/>
          <p:nvPr/>
        </p:nvPicPr>
        <p:blipFill>
          <a:blip r:embed="rId1"/>
          <a:stretch/>
        </p:blipFill>
        <p:spPr>
          <a:xfrm>
            <a:off x="1447920" y="1219320"/>
            <a:ext cx="3325680" cy="249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:\Рабочие документы\Таня\11 - 12\вече\работы детей\фото - конкурс\мы путешествуем\у памятника дактуцам погибшем в Великой Отечественной войне.JPG"/>
          <p:cNvPicPr/>
          <p:nvPr/>
        </p:nvPicPr>
        <p:blipFill>
          <a:blip r:embed="rId2"/>
          <a:stretch/>
        </p:blipFill>
        <p:spPr>
          <a:xfrm>
            <a:off x="5029200" y="1219320"/>
            <a:ext cx="3808440" cy="285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863720" y="4572000"/>
            <a:ext cx="67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встречи с Назаренко А. Г., ветеран педагогического тр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Дакту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Рабочие документы\Таня\11 - 12\фото\2 четверть\DSC00727.JPG"/>
          <p:cNvPicPr/>
          <p:nvPr/>
        </p:nvPicPr>
        <p:blipFill>
          <a:blip r:embed="rId1"/>
          <a:srcRect l="8702" t="17404" r="0" b="0"/>
          <a:stretch/>
        </p:blipFill>
        <p:spPr>
          <a:xfrm>
            <a:off x="1371600" y="1219320"/>
            <a:ext cx="3198960" cy="21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:\Рабочие документы\Таня\11 - 12\фото\2 четверть\DSC00739.JPG"/>
          <p:cNvPicPr/>
          <p:nvPr/>
        </p:nvPicPr>
        <p:blipFill>
          <a:blip r:embed="rId2"/>
          <a:srcRect l="15227" t="11594" r="0" b="0"/>
          <a:stretch/>
        </p:blipFill>
        <p:spPr>
          <a:xfrm>
            <a:off x="5105520" y="1828800"/>
            <a:ext cx="2970000" cy="232236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Летом 2011 года работали на школьной площадке «Знай, люби и изучай свой родной Амурский край!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Рисунок 4" descr="D:\Рабочие документы\Таня\10 - 11\кружок\шк. площадка\фото лето\день России\P1060318.JPG"/>
          <p:cNvPicPr/>
          <p:nvPr/>
        </p:nvPicPr>
        <p:blipFill>
          <a:blip r:embed="rId1"/>
          <a:stretch/>
        </p:blipFill>
        <p:spPr>
          <a:xfrm>
            <a:off x="4191120" y="2525760"/>
            <a:ext cx="2000160" cy="1576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D:\Рабочие документы\Таня\10 - 11\кружок\шк. площадка\фото лето\день России\P1060326.JPG"/>
          <p:cNvPicPr/>
          <p:nvPr/>
        </p:nvPicPr>
        <p:blipFill>
          <a:blip r:embed="rId2"/>
          <a:stretch/>
        </p:blipFill>
        <p:spPr>
          <a:xfrm>
            <a:off x="2057400" y="4419720"/>
            <a:ext cx="2259000" cy="1676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D:\Рабочие документы\Таня\10 - 11\кружок\шк. площадка\фото лето\22 июня\P1060521.JPG"/>
          <p:cNvPicPr/>
          <p:nvPr/>
        </p:nvPicPr>
        <p:blipFill>
          <a:blip r:embed="rId3"/>
          <a:stretch/>
        </p:blipFill>
        <p:spPr>
          <a:xfrm>
            <a:off x="5867280" y="4724280"/>
            <a:ext cx="2417760" cy="180828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й – сентябрь 2011 года работали над реализацией проекта «Будущее создаётся сегодн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D:\Рабочие документы\Таня\11 - 12\вече\площадка\историки\DSC01206.JPG"/>
          <p:cNvPicPr/>
          <p:nvPr/>
        </p:nvPicPr>
        <p:blipFill>
          <a:blip r:embed="rId1"/>
          <a:stretch/>
        </p:blipFill>
        <p:spPr>
          <a:xfrm>
            <a:off x="1828800" y="274320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Рабочие документы\Таня\11 - 12\вече\площадка\фотки\DSC01403.JPG"/>
          <p:cNvPicPr/>
          <p:nvPr/>
        </p:nvPicPr>
        <p:blipFill>
          <a:blip r:embed="rId2"/>
          <a:stretch/>
        </p:blipFill>
        <p:spPr>
          <a:xfrm>
            <a:off x="4038480" y="48006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D:\Рабочие документы\Таня\11 - 12\вече\площадка\фотки\DSC01442.JPG"/>
          <p:cNvPicPr/>
          <p:nvPr/>
        </p:nvPicPr>
        <p:blipFill>
          <a:blip r:embed="rId3"/>
          <a:srcRect l="5551" t="0" r="13885" b="0"/>
          <a:stretch/>
        </p:blipFill>
        <p:spPr>
          <a:xfrm>
            <a:off x="6019920" y="259092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зультаты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4920" y="2209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 человека – участники муниципально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ференции «Шаг в науку». 1 человек – 2 место в секции «Краеведени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 человека – участники муниципально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ференции «Шаг в науку»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человека – 2 место в секции «Краеведение», «Обществознани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 человека – участники всероссийской олимпиады по истории «Познание и творчество»  (Диплом, сертификат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 человек - участники всероссийской олимпиады по истории г. Бийск ( сертификаты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009 – 2012 – члены кружка занимали призовые места в школьных, муниципальных очных и заочных олимпиадах по истории, обществознанию, прав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011 – 2012 - 4  человека  - сертификаты  участника Всероссийской олимпиады по обществознанию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Центр поддержки талантливой молодёжи» г. Бийск Алта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ЦВР</cp:lastModifiedBy>
  <dcterms:modified xsi:type="dcterms:W3CDTF">2013-04-18T00:32:02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