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81D7-8C8A-4E53-B060-1D3DD8F7B9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78C0-09DB-4DDD-BAF0-D0621BCF92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69D4-F8EA-43A1-8115-296A1D827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886C-3A6A-417E-9A67-0881A78A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96DB-4E7C-4D5C-A627-56A829462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6E66-C6A2-421F-8FEB-899B0184E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3C8F7-9A14-457E-91F1-2D17C4155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3159-ABB6-47E9-83AC-679F9DBC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DF6A-F004-496F-BA91-B6D0D99A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45BA7-D8E1-4113-9EF9-D0844380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0970-3FB0-4B7B-83C7-9B3515D6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3FE9E-BA6C-40A1-BD55-8E03BFFE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04C7-A603-4E5F-A8B0-8F39077B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6E5F-9759-4CD8-B3EE-CB68D47A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34EC-E25A-4442-863E-A4B0369B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2162-698F-468D-8FD8-38255679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3115-DFFB-494A-82A5-DD020727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EE638-437A-4D29-8884-0AD9C9D87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D5B1-6B2A-427E-84E5-6772790F9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4216-B1F8-4BB4-A34A-73ED895A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7060-401E-449A-8D87-83014FEB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CBEE-46B0-4B74-8D58-F6C68AEB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55B6-05C8-4EE1-98CA-18553D73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6259-321A-4FCA-9E05-9122DB51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297D-A797-4BE5-87B5-4B62A592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31F5-6E68-4C36-B8AB-D0BE414C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cc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3333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cc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3333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cc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" name="Group 14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Rectangle 15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cccc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cc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cccc00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3105-A41F-49B8-8E6C-7050A6745478}" type="slidenum">
              <a:rPr b="1" lang="ru-RU" sz="2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Group 21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Rectangle 22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3333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3333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00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cc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2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6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3" name="Rectangle 7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8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9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0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1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2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3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0" name="Rectangle 14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3333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5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cccc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6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cccc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7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cc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8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00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9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cc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Rectangle 20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1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2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cc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cccc00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4DD1-BD70-41E1-9FB3-0E50FEDABD4D}" type="slidenum">
              <a:rPr b="1" lang="ru-RU" sz="3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ahoma"/>
              </a:rPr>
              <a:t>Визитная карточка детского объединения «Вече»</a:t>
            </a:r>
            <a:br>
              <a:rPr sz="3600"/>
            </a:b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МОБУ ДОД ЦВР на базе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МОБУ Ушумунской СОШ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ahoma"/>
              </a:rPr>
              <a:t>Руководитель: Хлынова Татьяна Владимировн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159. I ч.  Molto Allegro.mp3" descr=""/>
          <p:cNvPicPr/>
          <p:nvPr/>
        </p:nvPicPr>
        <p:blipFill>
          <a:blip r:embed="rId1"/>
          <a:stretch/>
        </p:blipFill>
        <p:spPr>
          <a:xfrm>
            <a:off x="88390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Результаты деятельности 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2011 – 2012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294920" y="20574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Муниципальный уровень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 человека - победители районного конкурса «Моя малая Родина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 человек  - 2 место в викторине «Моё избирательное право»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 человека – победители конкурса «Портфолио» в номинации «Искатель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0 человек – грамоты за участие в конкурсе «Портфолио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 человека – победители заочных и очных олимпиад по истории праву, обществознани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 человек - участие в 5 Муниципальной научно – практической конференции «Шаг в науку» - 2 место в номинации «Обществознание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3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294920" y="1066680"/>
            <a:ext cx="7086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Областной уровень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 человек - Грамота за 1 место в областном заочном конкурсе «Святая Русь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 человек – участник областной краеведческой конференции «Моя малая Родина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 человек - Диплом за 3 место в номинации «Экологическая культура» областного этапа Всероссийского заочного конкурса «Моя малая Родина: природа, культура, этнос»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8 человек – участники дистанционной викторины «Дорогами Отечественной войны 1812 года» . Благодарность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 человек – грамота за 3 место в областном конкурсе «Блажен кто предков сердцем чтит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 человека - участие    в конкурсе сочинений «Праздник горький и святой – моя семья и война» 2 и  3 место в районном конкурсе, сертификатами на областном уровн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 человека – участники этнографической смены в г. Благовещенск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3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Направления деятельности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294920" y="2361960"/>
            <a:ext cx="34671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тнография как наук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915080" y="2361960"/>
            <a:ext cx="346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сторическое краеведени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2" descr="D:\Рабочие документы\Таня\11 - 12\вече\работы детей\фото - конкурс\мы путешествуем\в шкорльном музеи п. Сиваки.JPG"/>
          <p:cNvPicPr/>
          <p:nvPr/>
        </p:nvPicPr>
        <p:blipFill>
          <a:blip r:embed="rId1"/>
          <a:stretch/>
        </p:blipFill>
        <p:spPr>
          <a:xfrm>
            <a:off x="990720" y="3733920"/>
            <a:ext cx="3313080" cy="2484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D:\Рабочие документы\Таня\11 - 12\вече\работы детей\фото - конкурс\мы путешествуем\P1050175.JPG"/>
          <p:cNvPicPr/>
          <p:nvPr/>
        </p:nvPicPr>
        <p:blipFill>
          <a:blip r:embed="rId2"/>
          <a:stretch/>
        </p:blipFill>
        <p:spPr>
          <a:xfrm>
            <a:off x="4952880" y="3657600"/>
            <a:ext cx="3353040" cy="251460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Наши праздники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4" descr="D:\Рабочие документы\Таня\09- 10\Фотки\ЗИМА\P1040497.JPG"/>
          <p:cNvPicPr/>
          <p:nvPr/>
        </p:nvPicPr>
        <p:blipFill>
          <a:blip r:embed="rId1"/>
          <a:stretch/>
        </p:blipFill>
        <p:spPr>
          <a:xfrm>
            <a:off x="5486400" y="1981080"/>
            <a:ext cx="2819520" cy="2114640"/>
          </a:xfrm>
          <a:prstGeom prst="rect">
            <a:avLst/>
          </a:prstGeom>
          <a:ln w="0">
            <a:noFill/>
          </a:ln>
        </p:spPr>
      </p:pic>
      <p:sp>
        <p:nvSpPr>
          <p:cNvPr id="137" name="TextBox 5"/>
          <p:cNvSpPr/>
          <p:nvPr/>
        </p:nvSpPr>
        <p:spPr>
          <a:xfrm>
            <a:off x="4043880" y="459432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Коляда и Свя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D:\Рабочие документы\Таня\11 - 12\вече\работы детей\фото - конкурс\наши праздники\Суженный, покажись!.JPG"/>
          <p:cNvPicPr/>
          <p:nvPr/>
        </p:nvPicPr>
        <p:blipFill>
          <a:blip r:embed="rId2"/>
          <a:stretch/>
        </p:blipFill>
        <p:spPr>
          <a:xfrm>
            <a:off x="1981080" y="2286000"/>
            <a:ext cx="2691000" cy="201780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D:\Рабочие документы\Таня\11 - 12\фото\2 четверть\DSC00807.JPG"/>
          <p:cNvPicPr/>
          <p:nvPr/>
        </p:nvPicPr>
        <p:blipFill>
          <a:blip r:embed="rId1"/>
          <a:stretch/>
        </p:blipFill>
        <p:spPr>
          <a:xfrm>
            <a:off x="2895480" y="126216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D:\Рабочие документы\Таня\11 - 12\фото\2 четверть\DSC00806.JPG"/>
          <p:cNvPicPr/>
          <p:nvPr/>
        </p:nvPicPr>
        <p:blipFill>
          <a:blip r:embed="rId2"/>
          <a:stretch/>
        </p:blipFill>
        <p:spPr>
          <a:xfrm>
            <a:off x="2851200" y="4041720"/>
            <a:ext cx="3287520" cy="2467080"/>
          </a:xfrm>
          <a:prstGeom prst="rect">
            <a:avLst/>
          </a:prstGeom>
          <a:ln w="0">
            <a:noFill/>
          </a:ln>
        </p:spPr>
      </p:pic>
      <p:sp>
        <p:nvSpPr>
          <p:cNvPr id="141" name="TextBox 5"/>
          <p:cNvSpPr/>
          <p:nvPr/>
        </p:nvSpPr>
        <p:spPr>
          <a:xfrm>
            <a:off x="6637680" y="152388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езд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 Черняе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D:\Рабочие документы\Таня\11 - 12\вече\работы детей\фото - конкурс\мы путешествуем\групповое фото.JPG"/>
          <p:cNvPicPr/>
          <p:nvPr/>
        </p:nvPicPr>
        <p:blipFill>
          <a:blip r:embed="rId1"/>
          <a:stretch/>
        </p:blipFill>
        <p:spPr>
          <a:xfrm>
            <a:off x="1447920" y="1219320"/>
            <a:ext cx="3325680" cy="2493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D:\Рабочие документы\Таня\11 - 12\вече\работы детей\фото - конкурс\мы путешествуем\у памятника дактуцам погибшем в Великой Отечественной войне.JPG"/>
          <p:cNvPicPr/>
          <p:nvPr/>
        </p:nvPicPr>
        <p:blipFill>
          <a:blip r:embed="rId2"/>
          <a:stretch/>
        </p:blipFill>
        <p:spPr>
          <a:xfrm>
            <a:off x="5029200" y="1219320"/>
            <a:ext cx="3808440" cy="2855880"/>
          </a:xfrm>
          <a:prstGeom prst="rect">
            <a:avLst/>
          </a:prstGeom>
          <a:ln w="0">
            <a:noFill/>
          </a:ln>
        </p:spPr>
      </p:pic>
      <p:sp>
        <p:nvSpPr>
          <p:cNvPr id="144" name="TextBox 4"/>
          <p:cNvSpPr/>
          <p:nvPr/>
        </p:nvSpPr>
        <p:spPr>
          <a:xfrm>
            <a:off x="1863720" y="4572000"/>
            <a:ext cx="67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а встречи с Назаренко А. Г., ветеран педагогического тру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(Дакту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D:\Рабочие документы\Таня\11 - 12\фото\2 четверть\DSC00727.JPG"/>
          <p:cNvPicPr/>
          <p:nvPr/>
        </p:nvPicPr>
        <p:blipFill>
          <a:blip r:embed="rId1"/>
          <a:srcRect l="8702" t="17404" r="0" b="0"/>
          <a:stretch/>
        </p:blipFill>
        <p:spPr>
          <a:xfrm>
            <a:off x="1371600" y="1219320"/>
            <a:ext cx="3198960" cy="2170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D:\Рабочие документы\Таня\11 - 12\фото\2 четверть\DSC00739.JPG"/>
          <p:cNvPicPr/>
          <p:nvPr/>
        </p:nvPicPr>
        <p:blipFill>
          <a:blip r:embed="rId2"/>
          <a:srcRect l="15227" t="11594" r="0" b="0"/>
          <a:stretch/>
        </p:blipFill>
        <p:spPr>
          <a:xfrm>
            <a:off x="5105520" y="1828800"/>
            <a:ext cx="2970000" cy="232236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94920" y="10666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Летом 2011 года работали на школьной площадке «Знай, люби и изучай свой родной Амурский край!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Рисунок 4" descr="D:\Рабочие документы\Таня\10 - 11\кружок\шк. площадка\фото лето\день России\P1060318.JPG"/>
          <p:cNvPicPr/>
          <p:nvPr/>
        </p:nvPicPr>
        <p:blipFill>
          <a:blip r:embed="rId1"/>
          <a:stretch/>
        </p:blipFill>
        <p:spPr>
          <a:xfrm>
            <a:off x="4191120" y="2525760"/>
            <a:ext cx="2000160" cy="157644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4" descr="D:\Рабочие документы\Таня\10 - 11\кружок\шк. площадка\фото лето\день России\P1060326.JPG"/>
          <p:cNvPicPr/>
          <p:nvPr/>
        </p:nvPicPr>
        <p:blipFill>
          <a:blip r:embed="rId2"/>
          <a:stretch/>
        </p:blipFill>
        <p:spPr>
          <a:xfrm>
            <a:off x="2057400" y="4419720"/>
            <a:ext cx="2259000" cy="167616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5" descr="D:\Рабочие документы\Таня\10 - 11\кружок\шк. площадка\фото лето\22 июня\P1060521.JPG"/>
          <p:cNvPicPr/>
          <p:nvPr/>
        </p:nvPicPr>
        <p:blipFill>
          <a:blip r:embed="rId3"/>
          <a:stretch/>
        </p:blipFill>
        <p:spPr>
          <a:xfrm>
            <a:off x="5867280" y="4724280"/>
            <a:ext cx="2417760" cy="180828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Май – сентябрь 2011 года работали над реализацией проекта «Будущее создаётся сегодня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" descr="D:\Рабочие документы\Таня\11 - 12\вече\площадка\историки\DSC01206.JPG"/>
          <p:cNvPicPr/>
          <p:nvPr/>
        </p:nvPicPr>
        <p:blipFill>
          <a:blip r:embed="rId1"/>
          <a:stretch/>
        </p:blipFill>
        <p:spPr>
          <a:xfrm>
            <a:off x="1828800" y="2743200"/>
            <a:ext cx="2336760" cy="1752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D:\Рабочие документы\Таня\11 - 12\вече\площадка\фотки\DSC01403.JPG"/>
          <p:cNvPicPr/>
          <p:nvPr/>
        </p:nvPicPr>
        <p:blipFill>
          <a:blip r:embed="rId2"/>
          <a:stretch/>
        </p:blipFill>
        <p:spPr>
          <a:xfrm>
            <a:off x="4038480" y="480060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D:\Рабочие документы\Таня\11 - 12\вече\площадка\фотки\DSC01442.JPG"/>
          <p:cNvPicPr/>
          <p:nvPr/>
        </p:nvPicPr>
        <p:blipFill>
          <a:blip r:embed="rId3"/>
          <a:srcRect l="5551" t="0" r="13885" b="0"/>
          <a:stretch/>
        </p:blipFill>
        <p:spPr>
          <a:xfrm>
            <a:off x="6019920" y="2590920"/>
            <a:ext cx="2209680" cy="205740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94920" y="10663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Результаты деятельнос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94920" y="22096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3 человека – участники муниципальной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II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онференции «Шаг в науку». 1 человек – 2 место в секции «Краеведение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 человека – участники муниципальной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V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онференции «Шаг в науку»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человека – 2 место в секции «Краеведение», «Обществознание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 человека – участники всероссийской олимпиады по истории «Познание и творчество»  (Диплом, сертификат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7 человек - участники всероссийской олимпиады по истории г. Бийск ( сертификаты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009 – 2012 – члены кружка занимали призовые места в школьных, муниципальных очных и заочных олимпиадах по истории, обществознанию, праву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011 – 2012 - 4  человека  - сертификаты  участника Всероссийской олимпиады по обществознанию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Центр поддержки талантливой молодёжи» г. Бийск Алтай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3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ЦВР</cp:lastModifiedBy>
  <dcterms:modified xsi:type="dcterms:W3CDTF">2013-04-18T00:32:02Z</dcterms:modified>
  <cp:revision>1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