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0AC3-2261-4C18-AB79-7ABD30330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A67A-E8FB-451B-AD8B-16F5760D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7812-621E-46C5-A290-04CCD8F4B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64BD-7776-4B32-83E3-D32E77FBD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0AA50-6ABB-4629-BD06-D582E334C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341F-5EAB-4376-8251-5D574ADE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E3A7C-049C-48C6-8AD8-D68A4CA2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32BA-FCB1-401A-9C17-4B64E50E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882D-8E05-49FA-B3D2-4D37123C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15563-40A7-4C1F-82FD-43628A60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254E2-5399-4346-8F08-A3602D5A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3732-5F1E-45EF-9F87-E9F607DC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2C9E-2D01-49D7-84EC-CD8C56C9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D7CC-78B1-4D58-96D2-38F9058B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4915-A8ED-4D39-8BE1-7485DE3E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5C40-AAB3-4E6E-8722-D5E8A4D35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ACB7-029E-4404-A033-E607733B1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E31BA-49D2-421C-AB1A-A6CB2D895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A5DEF-DCA8-4689-B1C8-C1861061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5AF2A-0C4E-4976-853B-AA816E74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6E1CF-6C71-4DCA-888B-937F2238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C3AA5-D1F9-4379-BA97-9E606FA0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1EB8-7C3C-486F-BA2E-2CA14787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DF704-9A3C-44C1-A117-5CE35F3D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75797-5F11-4EB5-B299-E9126D1C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3D01F-3176-4D56-BE82-B77A5CB8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B3E7A-8DFD-4B00-BFE3-939B0D3F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9765D-CFA1-4769-990E-F1B5D925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1494C-6EF6-47A3-BEA4-71A33CFF6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6A621-2E3A-401C-9E30-BF72E0E07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6C8B2-D5BB-4B58-B0F2-EA9446AD8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A0BF0-B6E4-458C-9DDC-E54AEDC6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95978-4812-46D2-931C-53658CE2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E11A-5158-422B-904D-9D16F309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8F893-BAC6-438C-9FF5-433E547E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1BCFC-ECEE-44DE-81B0-275D484D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4975B-3BDE-4F44-9D13-E4BAB960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E84ED-1022-4E54-A309-BBB7ABCB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3CF08-1584-4F4A-B66F-5821F1CC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78810-B779-4ED0-ABF2-1C32707B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B2574-8A36-480A-9491-F8D18D3E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BBE6C-4311-4BAF-969D-41B4E7B38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430CA-7FA1-4552-8C99-A8B387A4F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3240-03AA-46CD-96EC-CB3A577E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1D26-6D8D-4B8E-8783-3D4BE9D5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3AEA-95D4-44EC-A584-5CE54B11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1603-6F44-4C38-9341-DBC01CCC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4E9E-003F-4095-B72C-8EC07D49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D837-3F50-45A8-AE4C-96E6E6FF37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2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43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44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67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99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C8B0-518B-449C-9B0A-D87756566AD8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380880" y="16002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7"/>
          </p:nvPr>
        </p:nvSpPr>
        <p:spPr>
          <a:xfrm>
            <a:off x="304920" y="640044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ftr" idx="8"/>
          </p:nvPr>
        </p:nvSpPr>
        <p:spPr>
          <a:xfrm>
            <a:off x="6095880" y="64004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sldNum" idx="9"/>
          </p:nvPr>
        </p:nvSpPr>
        <p:spPr>
          <a:xfrm>
            <a:off x="2971440" y="64004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5605-A8CA-40EC-B4E0-0580B597C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85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86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7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88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9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241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246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5AD7-7226-4661-A31D-A15D9A25A7AF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4" descr="ramka-56"/>
          <p:cNvPicPr/>
          <p:nvPr/>
        </p:nvPicPr>
        <p:blipFill>
          <a:blip r:embed="rId1"/>
          <a:stretch/>
        </p:blipFill>
        <p:spPr>
          <a:xfrm>
            <a:off x="0" y="0"/>
            <a:ext cx="8915400" cy="679608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5"/>
          <p:cNvSpPr/>
          <p:nvPr/>
        </p:nvSpPr>
        <p:spPr>
          <a:xfrm>
            <a:off x="1447920" y="2057400"/>
            <a:ext cx="46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Lucida Calligraphy"/>
              </a:rPr>
              <a:t>Детское объеди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1371600" y="23623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«Я – исследовател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1981080" y="9144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ОБУ Ушумун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1295280" y="12952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ОБУ ДОД Центр внешкольной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609480" y="3733920"/>
            <a:ext cx="30481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д основания: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и возрастные групп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1600200" y="4800600"/>
            <a:ext cx="3429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тель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лпыго О.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едагог дополните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Результаты деятельност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а время существования мы достигли следующего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40458c"/>
                </a:solidFill>
                <a:latin typeface="Tahoma"/>
              </a:rPr>
              <a:t>Выполнили 23 исследовательских работы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40458c"/>
                </a:solidFill>
                <a:latin typeface="Tahoma"/>
              </a:rPr>
              <a:t>Осуществили 5 проектов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0458c"/>
                </a:solidFill>
                <a:latin typeface="Tahoma"/>
              </a:rPr>
              <a:t>Приняли участие в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i="1" lang="ru-RU" sz="24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i="1" lang="ru-RU" sz="2400" spc="-1" strike="noStrike">
                <a:solidFill>
                  <a:srgbClr val="40458c"/>
                </a:solidFill>
                <a:latin typeface="Tahoma"/>
              </a:rPr>
              <a:t>9</a:t>
            </a:r>
            <a:r>
              <a:rPr b="0" i="1" lang="ru-RU" sz="2400" spc="-1" strike="noStrike">
                <a:solidFill>
                  <a:srgbClr val="40458c"/>
                </a:solidFill>
                <a:latin typeface="Tahoma"/>
              </a:rPr>
              <a:t> Всероссийских конкурсах и конференциях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i="1" lang="ru-RU" sz="24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i="1" lang="ru-RU" sz="2400" spc="-1" strike="noStrike">
                <a:solidFill>
                  <a:srgbClr val="40458c"/>
                </a:solidFill>
                <a:latin typeface="Tahoma"/>
              </a:rPr>
              <a:t>16</a:t>
            </a:r>
            <a:r>
              <a:rPr b="0" i="1" lang="ru-RU" sz="2400" spc="-1" strike="noStrike">
                <a:solidFill>
                  <a:srgbClr val="40458c"/>
                </a:solidFill>
                <a:latin typeface="Tahoma"/>
              </a:rPr>
              <a:t> областных мероприятиях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i="1" lang="ru-RU" sz="24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i="1" lang="ru-RU" sz="2400" spc="-1" strike="noStrike">
                <a:solidFill>
                  <a:srgbClr val="40458c"/>
                </a:solidFill>
                <a:latin typeface="Tahoma"/>
              </a:rPr>
              <a:t>13 </a:t>
            </a:r>
            <a:r>
              <a:rPr b="0" i="1" lang="ru-RU" sz="2400" spc="-1" strike="noStrike">
                <a:solidFill>
                  <a:srgbClr val="40458c"/>
                </a:solidFill>
                <a:latin typeface="Tahoma"/>
              </a:rPr>
              <a:t>районных конкурсах и конференциях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0" descr="DSCN2832"/>
          <p:cNvPicPr/>
          <p:nvPr/>
        </p:nvPicPr>
        <p:blipFill>
          <a:blip r:embed="rId1"/>
          <a:stretch/>
        </p:blipFill>
        <p:spPr>
          <a:xfrm>
            <a:off x="533520" y="304920"/>
            <a:ext cx="2879640" cy="2160360"/>
          </a:xfrm>
          <a:prstGeom prst="rect">
            <a:avLst/>
          </a:prstGeom>
          <a:ln w="57240">
            <a:solidFill>
              <a:srgbClr val="0033cc"/>
            </a:solidFill>
            <a:miter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0" y="3045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 себе мы рассказали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умеем – показали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 получили информацию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 нашей детской организ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6" descr="DSCN2368"/>
          <p:cNvPicPr/>
          <p:nvPr/>
        </p:nvPicPr>
        <p:blipFill>
          <a:blip r:embed="rId2"/>
          <a:stretch/>
        </p:blipFill>
        <p:spPr>
          <a:xfrm rot="562200">
            <a:off x="3886200" y="1828800"/>
            <a:ext cx="2879640" cy="2160720"/>
          </a:xfrm>
          <a:prstGeom prst="rect">
            <a:avLst/>
          </a:prstGeom>
          <a:ln w="57240">
            <a:solidFill>
              <a:srgbClr val="0033cc"/>
            </a:solidFill>
            <a:miter/>
          </a:ln>
        </p:spPr>
      </p:pic>
      <p:pic>
        <p:nvPicPr>
          <p:cNvPr id="338" name="Picture 7" descr="DSCN2824"/>
          <p:cNvPicPr/>
          <p:nvPr/>
        </p:nvPicPr>
        <p:blipFill>
          <a:blip r:embed="rId3"/>
          <a:stretch/>
        </p:blipFill>
        <p:spPr>
          <a:xfrm rot="20878800">
            <a:off x="685800" y="2286000"/>
            <a:ext cx="2879640" cy="2160720"/>
          </a:xfrm>
          <a:prstGeom prst="rect">
            <a:avLst/>
          </a:prstGeom>
          <a:ln w="57240">
            <a:solidFill>
              <a:srgbClr val="0033cc"/>
            </a:solidFill>
            <a:miter/>
          </a:ln>
        </p:spPr>
      </p:pic>
      <p:pic>
        <p:nvPicPr>
          <p:cNvPr id="339" name="Picture 8" descr="DSCN2838"/>
          <p:cNvPicPr/>
          <p:nvPr/>
        </p:nvPicPr>
        <p:blipFill>
          <a:blip r:embed="rId4"/>
          <a:stretch/>
        </p:blipFill>
        <p:spPr>
          <a:xfrm>
            <a:off x="2209680" y="4343400"/>
            <a:ext cx="2880000" cy="2160720"/>
          </a:xfrm>
          <a:prstGeom prst="rect">
            <a:avLst/>
          </a:prstGeom>
          <a:ln w="57240">
            <a:solidFill>
              <a:srgbClr val="0033cc"/>
            </a:solidFill>
            <a:miter/>
          </a:ln>
        </p:spPr>
      </p:pic>
      <p:pic>
        <p:nvPicPr>
          <p:cNvPr id="340" name="Picture 9" descr="DSCN2851"/>
          <p:cNvPicPr/>
          <p:nvPr/>
        </p:nvPicPr>
        <p:blipFill>
          <a:blip r:embed="rId5"/>
          <a:stretch/>
        </p:blipFill>
        <p:spPr>
          <a:xfrm>
            <a:off x="5562720" y="4343400"/>
            <a:ext cx="2879640" cy="2160720"/>
          </a:xfrm>
          <a:prstGeom prst="rect">
            <a:avLst/>
          </a:prstGeom>
          <a:ln w="57240">
            <a:solidFill>
              <a:srgbClr val="00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9"/>
          <p:cNvSpPr/>
          <p:nvPr/>
        </p:nvSpPr>
        <p:spPr>
          <a:xfrm>
            <a:off x="685800" y="152280"/>
            <a:ext cx="8153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нашей школе с 2007 года существует детское объединение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Я – исследователь»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Первоначально оно было призвано помочь школьникам освоить азы исследовательской дея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спех работы во многом зависит от правильности выбранных методов. Знакомство с ними учащиеся начинают в школьном кабинете, слушая объяснение учителя, либо просматривая учебные видеофильмы. Для закрепления полученных знаний и сбора материала для своего исследования школьники выходят в лес. Ребята помогают друг другу. Если кому-то необходимо смонтировать гербарий или оформить коллекцию, помогают все: и время сэкономлено и появились навыки данного вида дея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Члены детского объединения – активные помощники в организации природоохранной деятельност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 2010 года объединение представлено тремя возрастными группами, каждая их которых работает по своей програм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0" descr="DSCN2321"/>
          <p:cNvPicPr/>
          <p:nvPr/>
        </p:nvPicPr>
        <p:blipFill>
          <a:blip r:embed="rId1"/>
          <a:stretch/>
        </p:blipFill>
        <p:spPr>
          <a:xfrm>
            <a:off x="990720" y="4419720"/>
            <a:ext cx="3038400" cy="227952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pic>
        <p:nvPicPr>
          <p:cNvPr id="299" name="Picture 11" descr="DSCN2821"/>
          <p:cNvPicPr/>
          <p:nvPr/>
        </p:nvPicPr>
        <p:blipFill>
          <a:blip r:embed="rId2"/>
          <a:stretch/>
        </p:blipFill>
        <p:spPr>
          <a:xfrm>
            <a:off x="4876920" y="4419720"/>
            <a:ext cx="3038400" cy="227952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Нижний колонтитул 2"/>
          <p:cNvSpPr/>
          <p:nvPr/>
        </p:nvSpPr>
        <p:spPr>
          <a:xfrm>
            <a:off x="6095880" y="64008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560" y="655560"/>
            <a:ext cx="51814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правления деятельност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9"/>
          <p:cNvGrpSpPr/>
          <p:nvPr/>
        </p:nvGrpSpPr>
        <p:grpSpPr>
          <a:xfrm>
            <a:off x="1066680" y="1981080"/>
            <a:ext cx="7162560" cy="3657240"/>
            <a:chOff x="1066680" y="1981080"/>
            <a:chExt cx="7162560" cy="3657240"/>
          </a:xfrm>
        </p:grpSpPr>
        <p:sp>
          <p:nvSpPr>
            <p:cNvPr id="303" name="AutoShape 3"/>
            <p:cNvSpPr/>
            <p:nvPr/>
          </p:nvSpPr>
          <p:spPr>
            <a:xfrm>
              <a:off x="5552640" y="2801880"/>
              <a:ext cx="2676600" cy="2836440"/>
            </a:xfrm>
            <a:custGeom>
              <a:avLst/>
              <a:gdLst>
                <a:gd name="textAreaLeft" fmla="*/ 0 w 2676600"/>
                <a:gd name="textAreaRight" fmla="*/ 2676960 w 267660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solidFill>
              <a:srgbClr val="37399b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AutoShape 4"/>
            <p:cNvSpPr/>
            <p:nvPr/>
          </p:nvSpPr>
          <p:spPr>
            <a:xfrm>
              <a:off x="3309480" y="280188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4987e3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AutoShape 5"/>
            <p:cNvSpPr/>
            <p:nvPr/>
          </p:nvSpPr>
          <p:spPr>
            <a:xfrm>
              <a:off x="1066680" y="280188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36a1b6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6"/>
            <p:cNvSpPr/>
            <p:nvPr/>
          </p:nvSpPr>
          <p:spPr>
            <a:xfrm>
              <a:off x="1283400" y="1981080"/>
              <a:ext cx="1951920" cy="562680"/>
            </a:xfrm>
            <a:prstGeom prst="roundRect">
              <a:avLst>
                <a:gd name="adj" fmla="val 50000"/>
              </a:avLst>
            </a:prstGeom>
            <a:solidFill>
              <a:srgbClr val="36a1b6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Учебн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AutoShape 7"/>
            <p:cNvSpPr/>
            <p:nvPr/>
          </p:nvSpPr>
          <p:spPr>
            <a:xfrm>
              <a:off x="3485880" y="1981080"/>
              <a:ext cx="1951920" cy="562680"/>
            </a:xfrm>
            <a:prstGeom prst="roundRect">
              <a:avLst>
                <a:gd name="adj" fmla="val 50000"/>
              </a:avLst>
            </a:prstGeom>
            <a:solidFill>
              <a:srgbClr val="4987e3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росвети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тельска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AutoShape 8"/>
            <p:cNvSpPr/>
            <p:nvPr/>
          </p:nvSpPr>
          <p:spPr>
            <a:xfrm>
              <a:off x="5697360" y="1981080"/>
              <a:ext cx="1951920" cy="562680"/>
            </a:xfrm>
            <a:prstGeom prst="roundRect">
              <a:avLst>
                <a:gd name="adj" fmla="val 50000"/>
              </a:avLst>
            </a:prstGeom>
            <a:solidFill>
              <a:srgbClr val="37399b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риродо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охранн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10"/>
          <p:cNvSpPr/>
          <p:nvPr/>
        </p:nvSpPr>
        <p:spPr>
          <a:xfrm>
            <a:off x="1476360" y="3284640"/>
            <a:ext cx="223200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бные зан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скур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дение исследов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астие в конкурс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1"/>
          <p:cNvSpPr/>
          <p:nvPr/>
        </p:nvSpPr>
        <p:spPr>
          <a:xfrm>
            <a:off x="3780000" y="3429000"/>
            <a:ext cx="22320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ступления перед младшими школьни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156360" y="3429000"/>
            <a:ext cx="158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е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ббот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3"/>
          <p:cNvSpPr/>
          <p:nvPr/>
        </p:nvSpPr>
        <p:spPr>
          <a:xfrm>
            <a:off x="7162920" y="6477120"/>
            <a:ext cx="1752480" cy="152280"/>
          </a:xfrm>
          <a:prstGeom prst="rect">
            <a:avLst/>
          </a:prstGeom>
          <a:solidFill>
            <a:srgbClr val="498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Arial"/>
              </a:rPr>
              <a:t>Экскурсия по теме </a:t>
            </a:r>
            <a:br>
              <a:rPr sz="3200"/>
            </a:br>
            <a:r>
              <a:rPr b="0" i="1" lang="ru-RU" sz="3200" spc="-1" strike="noStrike">
                <a:solidFill>
                  <a:srgbClr val="3333cc"/>
                </a:solidFill>
                <a:latin typeface="Arial"/>
              </a:rPr>
              <a:t>«Источники загрязнения воздух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1676520" y="5181480"/>
            <a:ext cx="601956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ов состав воздуха, сколько в нем г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или мы быстро и сраз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душный бассейн страдает от дым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 пыль, сажа, копоть все ж победи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7" descr="DSCN2841"/>
          <p:cNvPicPr/>
          <p:nvPr/>
        </p:nvPicPr>
        <p:blipFill>
          <a:blip r:embed="rId1"/>
          <a:stretch/>
        </p:blipFill>
        <p:spPr>
          <a:xfrm>
            <a:off x="2209680" y="1447920"/>
            <a:ext cx="4638960" cy="3479760"/>
          </a:xfrm>
          <a:prstGeom prst="rect">
            <a:avLst/>
          </a:prstGeom>
          <a:ln w="7308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8000"/>
                </a:solidFill>
                <a:latin typeface="Arial"/>
              </a:rPr>
              <a:t>Моделируем проводящую систему л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5" descr="DSCN2833"/>
          <p:cNvPicPr/>
          <p:nvPr/>
        </p:nvPicPr>
        <p:blipFill>
          <a:blip r:embed="rId1"/>
          <a:stretch/>
        </p:blipFill>
        <p:spPr>
          <a:xfrm>
            <a:off x="228600" y="1600200"/>
            <a:ext cx="5553000" cy="4165560"/>
          </a:xfrm>
          <a:prstGeom prst="rect">
            <a:avLst/>
          </a:prstGeom>
          <a:ln w="73080">
            <a:solidFill>
              <a:srgbClr val="008000"/>
            </a:solidFill>
            <a:miter/>
          </a:ln>
        </p:spPr>
      </p:pic>
      <p:sp>
        <p:nvSpPr>
          <p:cNvPr id="318" name="Text Box 7"/>
          <p:cNvSpPr/>
          <p:nvPr/>
        </p:nvSpPr>
        <p:spPr>
          <a:xfrm>
            <a:off x="6019920" y="2133720"/>
            <a:ext cx="27432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оение листа нам стало извест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азалось, что это очень интерес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пленке мы лист нарисов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проводящую систему его воссозд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00cc"/>
                </a:solidFill>
                <a:latin typeface="Arial"/>
              </a:rPr>
              <a:t>Модулируем кислотные осад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5" descr="DSCN2830"/>
          <p:cNvPicPr/>
          <p:nvPr/>
        </p:nvPicPr>
        <p:blipFill>
          <a:blip r:embed="rId1"/>
          <a:stretch/>
        </p:blipFill>
        <p:spPr>
          <a:xfrm>
            <a:off x="1981080" y="1143000"/>
            <a:ext cx="5096160" cy="3822840"/>
          </a:xfrm>
          <a:prstGeom prst="rect">
            <a:avLst/>
          </a:prstGeom>
          <a:ln w="76320">
            <a:solidFill>
              <a:srgbClr val="cc00cc"/>
            </a:solidFill>
            <a:miter/>
          </a:ln>
        </p:spPr>
      </p:pic>
      <p:sp>
        <p:nvSpPr>
          <p:cNvPr id="321" name="Text Box 6"/>
          <p:cNvSpPr/>
          <p:nvPr/>
        </p:nvSpPr>
        <p:spPr>
          <a:xfrm>
            <a:off x="1676520" y="5181480"/>
            <a:ext cx="571500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ждь кислотный вам не шут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нают все – и рак и ут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 пробирку намочил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дель дождя так получи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4" descr="ramka-13"/>
          <p:cNvPicPr/>
          <p:nvPr/>
        </p:nvPicPr>
        <p:blipFill>
          <a:blip r:embed="rId1"/>
          <a:stretch/>
        </p:blipFill>
        <p:spPr>
          <a:xfrm>
            <a:off x="0" y="1447920"/>
            <a:ext cx="5867280" cy="51148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" descr="DSCN2385"/>
          <p:cNvPicPr/>
          <p:nvPr/>
        </p:nvPicPr>
        <p:blipFill>
          <a:blip r:embed="rId2"/>
          <a:stretch/>
        </p:blipFill>
        <p:spPr>
          <a:xfrm>
            <a:off x="533520" y="2133720"/>
            <a:ext cx="4867200" cy="365112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6"/>
          <p:cNvSpPr/>
          <p:nvPr/>
        </p:nvSpPr>
        <p:spPr>
          <a:xfrm>
            <a:off x="5867280" y="2209680"/>
            <a:ext cx="327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 природа окружа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ыть терпимым   призы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 всему, что есть вокруг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нимать всех: враг иль дру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 в животных облачили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азу в них мы превратил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сказать вам всем хоти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Нелегко живется 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8000"/>
                </a:solidFill>
                <a:latin typeface="Arial"/>
              </a:rPr>
              <a:t>Внеклассное мероприятие для учащихся 2-4 классов «Экологическая сказ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8000"/>
                </a:solidFill>
                <a:latin typeface="Arial"/>
              </a:rPr>
              <a:t>Участие в конкурсе </a:t>
            </a:r>
            <a:br>
              <a:rPr sz="3200"/>
            </a:br>
            <a:r>
              <a:rPr b="0" i="1" lang="ru-RU" sz="3200" spc="-1" strike="noStrike">
                <a:solidFill>
                  <a:srgbClr val="008000"/>
                </a:solidFill>
                <a:latin typeface="Arial"/>
              </a:rPr>
              <a:t>«Зеленая планет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6" descr="ramka-13"/>
          <p:cNvPicPr/>
          <p:nvPr/>
        </p:nvPicPr>
        <p:blipFill>
          <a:blip r:embed="rId1"/>
          <a:stretch/>
        </p:blipFill>
        <p:spPr>
          <a:xfrm>
            <a:off x="152280" y="1295280"/>
            <a:ext cx="5791320" cy="48769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7" descr="DSCN2319"/>
          <p:cNvPicPr/>
          <p:nvPr/>
        </p:nvPicPr>
        <p:blipFill>
          <a:blip r:embed="rId2"/>
          <a:stretch/>
        </p:blipFill>
        <p:spPr>
          <a:xfrm>
            <a:off x="762120" y="1981080"/>
            <a:ext cx="4572000" cy="343080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8"/>
          <p:cNvSpPr/>
          <p:nvPr/>
        </p:nvSpPr>
        <p:spPr>
          <a:xfrm>
            <a:off x="5943600" y="2438280"/>
            <a:ext cx="320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м не безразличны проблемы эк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же известны из них нам мног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защиту среды наше выступ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Его мы представляли с большим вдохнов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5" descr="ramka-13"/>
          <p:cNvPicPr/>
          <p:nvPr/>
        </p:nvPicPr>
        <p:blipFill>
          <a:blip r:embed="rId1"/>
          <a:stretch/>
        </p:blipFill>
        <p:spPr>
          <a:xfrm>
            <a:off x="1219320" y="228600"/>
            <a:ext cx="6476760" cy="541512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6"/>
          <p:cNvSpPr/>
          <p:nvPr/>
        </p:nvSpPr>
        <p:spPr>
          <a:xfrm>
            <a:off x="2286000" y="548640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голове кепка, за плечом рюкза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оход мы идем только так, иль ника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дем дружно, в ногу, и к лесу спеш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стигнем ли цели, задачи реши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7" descr="DSCN2434"/>
          <p:cNvPicPr/>
          <p:nvPr/>
        </p:nvPicPr>
        <p:blipFill>
          <a:blip r:embed="rId2"/>
          <a:stretch/>
        </p:blipFill>
        <p:spPr>
          <a:xfrm>
            <a:off x="1905120" y="990720"/>
            <a:ext cx="51051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5T08:20:57Z</dcterms:created>
  <dc:creator>Оля</dc:creator>
  <dc:description/>
  <dc:language>en-US</dc:language>
  <cp:lastModifiedBy>ЦВР</cp:lastModifiedBy>
  <dcterms:modified xsi:type="dcterms:W3CDTF">2013-04-18T00:21:1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