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D807-686C-47DD-9DD1-B39859E5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3CA7-7A8E-4B2F-A845-E9702E4C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CBC1-31B6-446A-99D8-B9D430E6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9C3E-57E5-442A-9139-F192ABA5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8636-C2A9-4264-953F-0D77FF23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E374-A180-4C1A-BAA4-076A220F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4930-D972-47C6-AD71-7B099EE1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20D5-9BB0-4890-927C-DC61C4B1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5822-503E-4B0D-BAA6-1D6060D2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DA5C-3EE1-497F-94A1-DB457D7A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77FE-2BC1-42EE-B51B-0E907DE5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018E-0C8E-4FBC-BBBF-040B6B43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2323-4DB8-4DE4-8274-177B26F1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557F-D35A-4D67-953B-CD28D6F2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84FE-4847-46ED-8152-D1E2A73B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785C-B25C-40B6-8A99-C894E02B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4E19-DA1D-4D51-9097-07EB01C4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1384A-3C00-4D1D-BE04-AEAAD4E4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2E0AE-7A0C-4F97-9DC9-5354D8DF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60516-0D3B-41C1-B912-BE5E8FE9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D12C6-8D38-43D0-9E1E-83D61494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A18AC-6AA4-4CA9-8273-3D74C712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EAFC-DA57-426E-9807-4DF4EACD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6CFBA-0BFA-475D-92EA-D608B819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351BB-4CDD-45FA-B0E1-851E4E53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6A79D-CB94-4D25-8484-25EE57A9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A41EE-E769-49B1-A1F4-51A30610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62F65-6B49-4B41-B01A-62682AE3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FDDAB-0B9D-46B7-8441-4E85298B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6E60D-FC2A-4CD6-88DA-96FE51F1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90003-F59B-42D4-8407-1C24D851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65BDB-72EA-4177-96D5-8AF3159B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BB0E1-C88B-4E61-9DA9-DFB040A2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0692-17C1-442C-B545-D9DF1191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F4B12-1FE6-443C-88E4-B2D278E6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1BBC5-5135-4AD8-B817-0559CF0D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C5DB3-8995-47FB-ACBD-6FF0B8F7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57FB3-B037-46DC-AD30-4441566D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2E2C0-8C0D-4F1B-A6B8-25F580E3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5F8ED-3033-4738-8BF7-1FF3966B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CFD80-5489-4C14-9625-4F88C815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25CBB-7B3D-4391-ABAC-77CF7627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34E7F-64A2-4E3C-9522-A0C5778D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BC89-99D9-4014-A0D5-4AB6C23F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5B98-F835-4D82-A718-D1B83487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0F2A-6EE9-43AC-883E-D18ACC84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346-8BAB-4502-87A6-9D6A4EE9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365B-5C7B-47BA-A7F4-3FB68F4F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A2C0-AA9F-48A9-878D-4FD8E4455F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3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44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67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99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305B-6BD0-437C-A53F-1AECCAB3F58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38088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7"/>
          </p:nvPr>
        </p:nvSpPr>
        <p:spPr>
          <a:xfrm>
            <a:off x="304920" y="640044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8"/>
          </p:nvPr>
        </p:nvSpPr>
        <p:spPr>
          <a:xfrm>
            <a:off x="6095880" y="64004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9"/>
          </p:nvPr>
        </p:nvSpPr>
        <p:spPr>
          <a:xfrm>
            <a:off x="2971440" y="64004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4A38-29EA-43CA-A9F7-B033D5E58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8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86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88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9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241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246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3BCC-11AE-4455-931E-13811CC16B99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ramka-56"/>
          <p:cNvPicPr/>
          <p:nvPr/>
        </p:nvPicPr>
        <p:blipFill>
          <a:blip r:embed="rId1"/>
          <a:stretch/>
        </p:blipFill>
        <p:spPr>
          <a:xfrm>
            <a:off x="0" y="0"/>
            <a:ext cx="8915400" cy="679608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5"/>
          <p:cNvSpPr/>
          <p:nvPr/>
        </p:nvSpPr>
        <p:spPr>
          <a:xfrm>
            <a:off x="1447920" y="205740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Lucida Calligraphy"/>
              </a:rPr>
              <a:t>Детское объеди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1371600" y="23623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«Я – исследова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1981080" y="914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БУ Ушуму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295280" y="12952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БУ ДОД Центр внешкольн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609480" y="3733920"/>
            <a:ext cx="3048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д основания: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и возрастные груп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1600200" y="4800600"/>
            <a:ext cx="3429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лпыго О.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дагог дополните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зультаты деятельност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время существования мы достигли следующего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Выполнили 23 исследовательских работы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Осуществили 5 проектов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Приняли участие в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9</a:t>
            </a: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 Всероссийских конкурсах и конференциях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16</a:t>
            </a: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 областных мероприятиях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13 </a:t>
            </a: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районных конкурсах и конференциях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0" descr="DSCN2832"/>
          <p:cNvPicPr/>
          <p:nvPr/>
        </p:nvPicPr>
        <p:blipFill>
          <a:blip r:embed="rId1"/>
          <a:stretch/>
        </p:blipFill>
        <p:spPr>
          <a:xfrm>
            <a:off x="533520" y="304920"/>
            <a:ext cx="2879640" cy="2160360"/>
          </a:xfrm>
          <a:prstGeom prst="rect">
            <a:avLst/>
          </a:prstGeom>
          <a:ln w="57240">
            <a:solidFill>
              <a:srgbClr val="0033cc"/>
            </a:solidFill>
            <a:miter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0" y="3045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себе мы рассказали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умеем – показал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 получили информацию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нашей детской орган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6" descr="DSCN2368"/>
          <p:cNvPicPr/>
          <p:nvPr/>
        </p:nvPicPr>
        <p:blipFill>
          <a:blip r:embed="rId2"/>
          <a:stretch/>
        </p:blipFill>
        <p:spPr>
          <a:xfrm rot="562200">
            <a:off x="3886200" y="1828800"/>
            <a:ext cx="2879640" cy="2160720"/>
          </a:xfrm>
          <a:prstGeom prst="rect">
            <a:avLst/>
          </a:prstGeom>
          <a:ln w="57240">
            <a:solidFill>
              <a:srgbClr val="0033cc"/>
            </a:solidFill>
            <a:miter/>
          </a:ln>
        </p:spPr>
      </p:pic>
      <p:pic>
        <p:nvPicPr>
          <p:cNvPr id="338" name="Picture 7" descr="DSCN2824"/>
          <p:cNvPicPr/>
          <p:nvPr/>
        </p:nvPicPr>
        <p:blipFill>
          <a:blip r:embed="rId3"/>
          <a:stretch/>
        </p:blipFill>
        <p:spPr>
          <a:xfrm rot="20878800">
            <a:off x="685800" y="2286000"/>
            <a:ext cx="2879640" cy="2160720"/>
          </a:xfrm>
          <a:prstGeom prst="rect">
            <a:avLst/>
          </a:prstGeom>
          <a:ln w="57240">
            <a:solidFill>
              <a:srgbClr val="0033cc"/>
            </a:solidFill>
            <a:miter/>
          </a:ln>
        </p:spPr>
      </p:pic>
      <p:pic>
        <p:nvPicPr>
          <p:cNvPr id="339" name="Picture 8" descr="DSCN2838"/>
          <p:cNvPicPr/>
          <p:nvPr/>
        </p:nvPicPr>
        <p:blipFill>
          <a:blip r:embed="rId4"/>
          <a:stretch/>
        </p:blipFill>
        <p:spPr>
          <a:xfrm>
            <a:off x="2209680" y="4343400"/>
            <a:ext cx="2880000" cy="2160720"/>
          </a:xfrm>
          <a:prstGeom prst="rect">
            <a:avLst/>
          </a:prstGeom>
          <a:ln w="57240">
            <a:solidFill>
              <a:srgbClr val="0033cc"/>
            </a:solidFill>
            <a:miter/>
          </a:ln>
        </p:spPr>
      </p:pic>
      <p:pic>
        <p:nvPicPr>
          <p:cNvPr id="340" name="Picture 9" descr="DSCN2851"/>
          <p:cNvPicPr/>
          <p:nvPr/>
        </p:nvPicPr>
        <p:blipFill>
          <a:blip r:embed="rId5"/>
          <a:stretch/>
        </p:blipFill>
        <p:spPr>
          <a:xfrm>
            <a:off x="5562720" y="4343400"/>
            <a:ext cx="2879640" cy="2160720"/>
          </a:xfrm>
          <a:prstGeom prst="rect">
            <a:avLst/>
          </a:prstGeom>
          <a:ln w="5724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9"/>
          <p:cNvSpPr/>
          <p:nvPr/>
        </p:nvSpPr>
        <p:spPr>
          <a:xfrm>
            <a:off x="685800" y="152280"/>
            <a:ext cx="8153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нашей школе с 2007 года существует детское объединен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Я – исследователь»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Первоначально оно было призвано помочь школьникам освоить азы исследовательской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спех работы во многом зависит от правильности выбранных методов. Знакомство с ними учащиеся начинают в школьном кабинете, слушая объяснение учителя, либо просматривая учебные видеофильмы. Для закрепления полученных знаний и сбора материала для своего исследования школьники выходят в лес. Ребята помогают друг другу. Если кому-то необходимо смонтировать гербарий или оформить коллекцию, помогают все: и время сэкономлено и появились навыки данного вида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лены детского объединения – активные помощники в организации природоохранной деятельност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 2010 года объединение представлено тремя возрастными группами, каждая их которых работает по своей програм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0" descr="DSCN2321"/>
          <p:cNvPicPr/>
          <p:nvPr/>
        </p:nvPicPr>
        <p:blipFill>
          <a:blip r:embed="rId1"/>
          <a:stretch/>
        </p:blipFill>
        <p:spPr>
          <a:xfrm>
            <a:off x="990720" y="4419720"/>
            <a:ext cx="3038400" cy="227952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299" name="Picture 11" descr="DSCN2821"/>
          <p:cNvPicPr/>
          <p:nvPr/>
        </p:nvPicPr>
        <p:blipFill>
          <a:blip r:embed="rId2"/>
          <a:stretch/>
        </p:blipFill>
        <p:spPr>
          <a:xfrm>
            <a:off x="4876920" y="4419720"/>
            <a:ext cx="3038400" cy="227952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Нижний колонтитул 2"/>
          <p:cNvSpPr/>
          <p:nvPr/>
        </p:nvSpPr>
        <p:spPr>
          <a:xfrm>
            <a:off x="6095880" y="64008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560" y="655560"/>
            <a:ext cx="51814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ия деятельност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9"/>
          <p:cNvGrpSpPr/>
          <p:nvPr/>
        </p:nvGrpSpPr>
        <p:grpSpPr>
          <a:xfrm>
            <a:off x="1066680" y="1981080"/>
            <a:ext cx="7162560" cy="3657240"/>
            <a:chOff x="1066680" y="1981080"/>
            <a:chExt cx="7162560" cy="3657240"/>
          </a:xfrm>
        </p:grpSpPr>
        <p:sp>
          <p:nvSpPr>
            <p:cNvPr id="303" name="AutoShape 3"/>
            <p:cNvSpPr/>
            <p:nvPr/>
          </p:nvSpPr>
          <p:spPr>
            <a:xfrm>
              <a:off x="5552640" y="280188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37399b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4"/>
            <p:cNvSpPr/>
            <p:nvPr/>
          </p:nvSpPr>
          <p:spPr>
            <a:xfrm>
              <a:off x="3309480" y="280188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4987e3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5"/>
            <p:cNvSpPr/>
            <p:nvPr/>
          </p:nvSpPr>
          <p:spPr>
            <a:xfrm>
              <a:off x="1066680" y="280188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36a1b6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6"/>
            <p:cNvSpPr/>
            <p:nvPr/>
          </p:nvSpPr>
          <p:spPr>
            <a:xfrm>
              <a:off x="1283400" y="1981080"/>
              <a:ext cx="1951920" cy="562680"/>
            </a:xfrm>
            <a:prstGeom prst="roundRect">
              <a:avLst>
                <a:gd name="adj" fmla="val 50000"/>
              </a:avLst>
            </a:prstGeom>
            <a:solidFill>
              <a:srgbClr val="36a1b6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Учеб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7"/>
            <p:cNvSpPr/>
            <p:nvPr/>
          </p:nvSpPr>
          <p:spPr>
            <a:xfrm>
              <a:off x="3485880" y="1981080"/>
              <a:ext cx="1951920" cy="562680"/>
            </a:xfrm>
            <a:prstGeom prst="roundRect">
              <a:avLst>
                <a:gd name="adj" fmla="val 50000"/>
              </a:avLst>
            </a:prstGeom>
            <a:solidFill>
              <a:srgbClr val="4987e3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росвети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тельск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8"/>
            <p:cNvSpPr/>
            <p:nvPr/>
          </p:nvSpPr>
          <p:spPr>
            <a:xfrm>
              <a:off x="5697360" y="1981080"/>
              <a:ext cx="1951920" cy="562680"/>
            </a:xfrm>
            <a:prstGeom prst="roundRect">
              <a:avLst>
                <a:gd name="adj" fmla="val 50000"/>
              </a:avLst>
            </a:prstGeom>
            <a:solidFill>
              <a:srgbClr val="37399b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риродо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охран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10"/>
          <p:cNvSpPr/>
          <p:nvPr/>
        </p:nvSpPr>
        <p:spPr>
          <a:xfrm>
            <a:off x="1476360" y="3284640"/>
            <a:ext cx="223200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ые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кур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дение исследов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ие в конкур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3780000" y="3429000"/>
            <a:ext cx="2232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тупления перед младшими школь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156360" y="3429000"/>
            <a:ext cx="158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бот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7162920" y="6477120"/>
            <a:ext cx="1752480" cy="152280"/>
          </a:xfrm>
          <a:prstGeom prst="rect">
            <a:avLst/>
          </a:prstGeom>
          <a:solidFill>
            <a:srgbClr val="498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Arial"/>
              </a:rPr>
              <a:t>Экскурсия по теме </a:t>
            </a:r>
            <a:br>
              <a:rPr sz="3200"/>
            </a:br>
            <a:r>
              <a:rPr b="0" i="1" lang="ru-RU" sz="3200" spc="-1" strike="noStrike">
                <a:solidFill>
                  <a:srgbClr val="3333cc"/>
                </a:solidFill>
                <a:latin typeface="Arial"/>
              </a:rPr>
              <a:t>«Источники загрязнения воздух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676520" y="5181480"/>
            <a:ext cx="601956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в состав воздуха, сколько в нем г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или мы быстро и сра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душный бассейн страдает от дым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пыль, сажа, копоть все ж побед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7" descr="DSCN2841"/>
          <p:cNvPicPr/>
          <p:nvPr/>
        </p:nvPicPr>
        <p:blipFill>
          <a:blip r:embed="rId1"/>
          <a:stretch/>
        </p:blipFill>
        <p:spPr>
          <a:xfrm>
            <a:off x="2209680" y="1447920"/>
            <a:ext cx="4638960" cy="3479760"/>
          </a:xfrm>
          <a:prstGeom prst="rect">
            <a:avLst/>
          </a:prstGeom>
          <a:ln w="7308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Arial"/>
              </a:rPr>
              <a:t>Моделируем проводящую систему л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5" descr="DSCN2833"/>
          <p:cNvPicPr/>
          <p:nvPr/>
        </p:nvPicPr>
        <p:blipFill>
          <a:blip r:embed="rId1"/>
          <a:stretch/>
        </p:blipFill>
        <p:spPr>
          <a:xfrm>
            <a:off x="228600" y="1600200"/>
            <a:ext cx="5553000" cy="4165560"/>
          </a:xfrm>
          <a:prstGeom prst="rect">
            <a:avLst/>
          </a:prstGeom>
          <a:ln w="73080">
            <a:solidFill>
              <a:srgbClr val="008000"/>
            </a:solidFill>
            <a:miter/>
          </a:ln>
        </p:spPr>
      </p:pic>
      <p:sp>
        <p:nvSpPr>
          <p:cNvPr id="318" name="Text Box 7"/>
          <p:cNvSpPr/>
          <p:nvPr/>
        </p:nvSpPr>
        <p:spPr>
          <a:xfrm>
            <a:off x="6019920" y="2133720"/>
            <a:ext cx="27432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оение листа нам стало извес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азалось, что это очень интерес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пленке мы лист нарисов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проводящую систему его воссозд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cc"/>
                </a:solidFill>
                <a:latin typeface="Arial"/>
              </a:rPr>
              <a:t>Модулируем кислотные ос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5" descr="DSCN2830"/>
          <p:cNvPicPr/>
          <p:nvPr/>
        </p:nvPicPr>
        <p:blipFill>
          <a:blip r:embed="rId1"/>
          <a:stretch/>
        </p:blipFill>
        <p:spPr>
          <a:xfrm>
            <a:off x="1981080" y="1143000"/>
            <a:ext cx="5096160" cy="3822840"/>
          </a:xfrm>
          <a:prstGeom prst="rect">
            <a:avLst/>
          </a:prstGeom>
          <a:ln w="76320">
            <a:solidFill>
              <a:srgbClr val="cc00cc"/>
            </a:solidFill>
            <a:miter/>
          </a:ln>
        </p:spPr>
      </p:pic>
      <p:sp>
        <p:nvSpPr>
          <p:cNvPr id="321" name="Text Box 6"/>
          <p:cNvSpPr/>
          <p:nvPr/>
        </p:nvSpPr>
        <p:spPr>
          <a:xfrm>
            <a:off x="1676520" y="5181480"/>
            <a:ext cx="57150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ждь кислотный вам не шу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ют все – и рак и у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пробирку намочи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дель дождя так получи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ramka-13"/>
          <p:cNvPicPr/>
          <p:nvPr/>
        </p:nvPicPr>
        <p:blipFill>
          <a:blip r:embed="rId1"/>
          <a:stretch/>
        </p:blipFill>
        <p:spPr>
          <a:xfrm>
            <a:off x="0" y="1447920"/>
            <a:ext cx="5867280" cy="51148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DSCN2385"/>
          <p:cNvPicPr/>
          <p:nvPr/>
        </p:nvPicPr>
        <p:blipFill>
          <a:blip r:embed="rId2"/>
          <a:stretch/>
        </p:blipFill>
        <p:spPr>
          <a:xfrm>
            <a:off x="533520" y="2133720"/>
            <a:ext cx="4867200" cy="365112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5867280" y="2209680"/>
            <a:ext cx="32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 природа окружа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ть терпимым   приз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 всему, что есть вокру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имать всех: враг иль др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в животных облачили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зу в них мы преврат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казать вам всем хоти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елегко живется 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Arial"/>
              </a:rPr>
              <a:t>Внеклассное мероприятие для учащихся 2-4 классов «Экологическая сказ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Arial"/>
              </a:rPr>
              <a:t>Участие в конкурсе </a:t>
            </a:r>
            <a:br>
              <a:rPr sz="3200"/>
            </a:br>
            <a:r>
              <a:rPr b="0" i="1" lang="ru-RU" sz="3200" spc="-1" strike="noStrike">
                <a:solidFill>
                  <a:srgbClr val="008000"/>
                </a:solidFill>
                <a:latin typeface="Arial"/>
              </a:rPr>
              <a:t>«Зеленая планет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6" descr="ramka-13"/>
          <p:cNvPicPr/>
          <p:nvPr/>
        </p:nvPicPr>
        <p:blipFill>
          <a:blip r:embed="rId1"/>
          <a:stretch/>
        </p:blipFill>
        <p:spPr>
          <a:xfrm>
            <a:off x="152280" y="1295280"/>
            <a:ext cx="5791320" cy="48769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DSCN2319"/>
          <p:cNvPicPr/>
          <p:nvPr/>
        </p:nvPicPr>
        <p:blipFill>
          <a:blip r:embed="rId2"/>
          <a:stretch/>
        </p:blipFill>
        <p:spPr>
          <a:xfrm>
            <a:off x="762120" y="1981080"/>
            <a:ext cx="4572000" cy="34308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8"/>
          <p:cNvSpPr/>
          <p:nvPr/>
        </p:nvSpPr>
        <p:spPr>
          <a:xfrm>
            <a:off x="5943600" y="243828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м не безразличны проблемы эк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же известны из них нам мног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защиту среды наше вы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го мы представляли с большим вдохнов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5" descr="ramka-13"/>
          <p:cNvPicPr/>
          <p:nvPr/>
        </p:nvPicPr>
        <p:blipFill>
          <a:blip r:embed="rId1"/>
          <a:stretch/>
        </p:blipFill>
        <p:spPr>
          <a:xfrm>
            <a:off x="1219320" y="228600"/>
            <a:ext cx="6476760" cy="541512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6"/>
          <p:cNvSpPr/>
          <p:nvPr/>
        </p:nvSpPr>
        <p:spPr>
          <a:xfrm>
            <a:off x="2286000" y="548640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голове кепка, за плечом рюкз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оход мы идем только так, иль ник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дем дружно, в ногу, и к лесу спеш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игнем ли цели, задачи реши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7" descr="DSCN2434"/>
          <p:cNvPicPr/>
          <p:nvPr/>
        </p:nvPicPr>
        <p:blipFill>
          <a:blip r:embed="rId2"/>
          <a:stretch/>
        </p:blipFill>
        <p:spPr>
          <a:xfrm>
            <a:off x="1905120" y="990720"/>
            <a:ext cx="51051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08:20:57Z</dcterms:created>
  <dc:creator>Оля</dc:creator>
  <dc:description/>
  <dc:language>en-US</dc:language>
  <cp:lastModifiedBy>ЦВР</cp:lastModifiedBy>
  <dcterms:modified xsi:type="dcterms:W3CDTF">2013-04-18T00:21:1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