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3FF-B852-4009-B7D3-2033298D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CBB-0617-4961-B1C4-91C969C0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8271-BE12-47DB-B3F9-8ADD3D2C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180-3399-4641-BBF0-D027B138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7A8-4CD3-41EB-A792-D16EE2D8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DA9-774D-4DBC-BC09-E18FBFBC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730-BF17-4802-8AF6-C8CDAC55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E05-3045-4E78-8CBF-79A8A01F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58F-47EA-4687-99D8-083756E7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A33-8D0D-4151-8B90-4739E6F1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BB9-73AD-4EFB-BA86-77F29E16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E5A-CABB-4AB0-AA3A-2477326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B073-894D-4588-9313-4402DBE2D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school268.spb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72000" y="980640"/>
            <a:ext cx="36720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66"/>
                </a:solidFill>
                <a:latin typeface="Monotype Corsiva"/>
              </a:rPr>
              <a:t>Экспозиция  музея</a:t>
            </a:r>
            <a:r>
              <a:rPr b="1" i="1" lang="en-US" sz="6000" spc="-1" strike="noStrike">
                <a:solidFill>
                  <a:srgbClr val="000066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16440" cy="32608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35280" y="3645000"/>
            <a:ext cx="7092720" cy="3213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7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Действия бригады в период наступления Красной Армии на Ленинградском фрон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итрина к сте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4487760" cy="5516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2695320" cy="25192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372360" y="4292640"/>
            <a:ext cx="2550960" cy="23763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148360" y="1557360"/>
            <a:ext cx="3703680" cy="2663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8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Итоги боевой и политической деятельности бригады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итрина к сте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518000" cy="5472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56000" y="2565360"/>
            <a:ext cx="3600720" cy="27367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867280" y="1628640"/>
            <a:ext cx="2987640" cy="22338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Monotype Corsiva"/>
              </a:rPr>
              <a:t>9-й раздел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Monotype Corsiva"/>
              </a:rPr>
              <a:t>Партизанский край на Псковщ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63640" y="549360"/>
            <a:ext cx="3333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итрина к сте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4680000" cy="5661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024360" cy="20890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796000" y="3716280"/>
            <a:ext cx="2808360" cy="25941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Monotype Corsiva"/>
              </a:rPr>
              <a:t>10-й раздел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Monotype Corsiva"/>
              </a:rPr>
              <a:t>Создание 9-й бригады</a:t>
            </a:r>
            <a:br>
              <a:rPr sz="3200"/>
            </a:br>
            <a:r>
              <a:rPr b="0" lang="ru-RU" sz="3200" spc="-1" strike="noStrike">
                <a:solidFill>
                  <a:srgbClr val="cc0000"/>
                </a:solidFill>
                <a:latin typeface="Monotype Corsiva"/>
              </a:rPr>
              <a:t>    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итрина к стен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5292720" cy="60213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24360" y="1125360"/>
            <a:ext cx="3168720" cy="21355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724360" y="3933720"/>
            <a:ext cx="3238560" cy="21830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08560" y="1268280"/>
            <a:ext cx="2811600" cy="48974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1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9-я бригада в действ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4240" y="907920"/>
            <a:ext cx="3192480" cy="54738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492360" y="620640"/>
            <a:ext cx="2556000" cy="51134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2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На освобожденной земле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5148000" cy="58053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1052640"/>
            <a:ext cx="4121280" cy="41781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3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На вахте мира и труд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7705800" cy="58467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4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Дорогой отцов – дорогой Победы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итрина к сте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5518080" cy="57610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92720" y="4437000"/>
            <a:ext cx="3630600" cy="21319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435640" y="1413000"/>
            <a:ext cx="3492360" cy="26478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532040" cy="4778280"/>
          </a:xfrm>
          <a:prstGeom prst="rect">
            <a:avLst/>
          </a:prstGeom>
          <a:ln w="38160">
            <a:solidFill>
              <a:srgbClr val="0033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5172120" cy="5472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5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Мы - наследники пламенной славы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                                                 отц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8200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В нашей 268 школе, которая располагается в Невском районе на проспекте Большевиков д.4 к.2 лит.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5614920" cy="36687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 flipH="1">
            <a:off x="5867280" y="1125360"/>
            <a:ext cx="32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находится музей «Боевой путь 12-й Приморско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9-й Ленинградской партизанских бригад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780000" y="3403440"/>
            <a:ext cx="4968720" cy="33022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" name=""/>
          <p:cNvSpPr/>
          <p:nvPr/>
        </p:nvSpPr>
        <p:spPr>
          <a:xfrm>
            <a:off x="0" y="5229360"/>
            <a:ext cx="392436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Подробнее на сайте нашей</a:t>
            </a: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школы: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school268.spb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Музей «Боевой путь 12-й Приморской и 9-й Ленинградской партизанских бригад»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Monotype Corsiva"/>
              </a:rPr>
              <a:t>открыт  13 декабря 198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58920" y="291960"/>
            <a:ext cx="6986520" cy="50230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5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1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Идет война народная, священная вой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витрине представлены  вещи командира 12-й  Приморской брига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нгинена А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комисс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2-го от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альдмана А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4584960" cy="5516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851280" y="3141720"/>
            <a:ext cx="2952720" cy="30970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516720" y="3500280"/>
            <a:ext cx="2484360" cy="30974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732720" y="1052640"/>
            <a:ext cx="2097000" cy="24937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2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Все на защиту города Ленина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В витринах  представлены вещи, найденные следопытами школы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на местах бое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и вещ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переданны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музею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ветеранами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а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3151440" cy="54723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627280" y="1413000"/>
            <a:ext cx="2736720" cy="5256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148360" y="3645000"/>
            <a:ext cx="3671640" cy="29131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6588000" y="1268280"/>
            <a:ext cx="2303640" cy="19447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3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Коммунистическая партия –организатор и руководитель партизанской войн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Вит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к стен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108240" cy="52610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30720" y="1413000"/>
            <a:ext cx="3108240" cy="52606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659640" y="4365720"/>
            <a:ext cx="2341440" cy="18478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72360" y="1989000"/>
            <a:ext cx="2447640" cy="180036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3887640" cy="2582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4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Ленинград в дни блокады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9280" y="620640"/>
            <a:ext cx="5400720" cy="38656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789360"/>
            <a:ext cx="3887640" cy="28954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5867280" y="907920"/>
            <a:ext cx="3054600" cy="252108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Monotype Corsiva"/>
              </a:rPr>
              <a:t>5-й раздел: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cc0000"/>
                </a:solidFill>
                <a:latin typeface="Monotype Corsiva"/>
              </a:rPr>
              <a:t>Кингисеппский межрайонный партийный подпольный цен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4491000" cy="5445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076720" y="3213000"/>
            <a:ext cx="3888000" cy="3095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12000" y="1197000"/>
            <a:ext cx="2665440" cy="21607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Monotype Corsiva"/>
              </a:rPr>
              <a:t>6-й раздел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Monotype Corsiva"/>
              </a:rPr>
              <a:t>Создание 12-й Приморской партизанской брига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214880" cy="530064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3414600" cy="244800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4"/>
          <a:srcRect l="0" t="-293" r="33348" b="6752"/>
          <a:stretch/>
        </p:blipFill>
        <p:spPr>
          <a:xfrm>
            <a:off x="6156360" y="189000"/>
            <a:ext cx="2616120" cy="31669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084720" y="2637000"/>
            <a:ext cx="2911680" cy="2304720"/>
          </a:xfrm>
          <a:prstGeom prst="rect">
            <a:avLst/>
          </a:prstGeom>
          <a:ln w="38160">
            <a:solidFill>
              <a:srgbClr val="0000cc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8:42:42Z</dcterms:created>
  <dc:creator>Мама</dc:creator>
  <dc:description/>
  <dc:language>en-US</dc:language>
  <cp:lastModifiedBy>Admin</cp:lastModifiedBy>
  <dcterms:modified xsi:type="dcterms:W3CDTF">2013-04-18T09:19:32Z</dcterms:modified>
  <cp:revision>42</cp:revision>
  <dc:subject/>
  <dc:title>В нашей 268 школе, которая располагается в Невском районе на проспекте Большевиков д.4 к.2</dc:title>
</cp:coreProperties>
</file>