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894-46AF-4A7A-838D-635D634B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10BC-BE0D-4D8C-9C3D-FE6BD4D2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043F-2902-4F45-9430-3E50EEAA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F0F-14D8-42C9-AA32-A02DDFA2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782-13D1-4C7F-B64E-2DD77AB9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FCDA-6DA2-4EDD-98CD-DC26A1C3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357-B5D6-4013-8AD4-B25CEC14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E4B-5827-4CDB-B857-EE43C83C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308-2309-4B54-B50D-1267A838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73A-8BC4-4428-B3E7-E12154A8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EC5-A2DB-4DCE-B439-478EE4FD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B59-BE52-4A93-ABF4-6014479E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3174-A57C-4FFC-AC99-7C7C769ED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school268.spb.ru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72000" y="980640"/>
            <a:ext cx="36720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66"/>
                </a:solidFill>
                <a:latin typeface="Monotype Corsiva"/>
              </a:rPr>
              <a:t>Экспозиция  музея</a:t>
            </a:r>
            <a:r>
              <a:rPr b="1" i="1" lang="en-US" sz="6000" spc="-1" strike="noStrike">
                <a:solidFill>
                  <a:srgbClr val="000066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16440" cy="32608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835280" y="3645000"/>
            <a:ext cx="7092720" cy="32130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7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Действия бригады в период наступления Красной Армии на Ленинградском фронт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Витрина к стен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4487760" cy="55166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427640" y="3789360"/>
            <a:ext cx="2695320" cy="25192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372360" y="4292640"/>
            <a:ext cx="2550960" cy="237636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148360" y="1557360"/>
            <a:ext cx="3703680" cy="26636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8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Итоги боевой и политической деятельности бригады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Витрина к стен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518000" cy="54720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356000" y="2565360"/>
            <a:ext cx="3600720" cy="273672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867280" y="1628640"/>
            <a:ext cx="2987640" cy="22338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Monotype Corsiva"/>
              </a:rPr>
              <a:t>9-й раздел: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cc0000"/>
                </a:solidFill>
                <a:latin typeface="Monotype Corsiva"/>
              </a:rPr>
              <a:t>Партизанский край на Псковщ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63640" y="549360"/>
            <a:ext cx="33339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Витрина к стен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680000" cy="56610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024360" cy="20890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796000" y="3716280"/>
            <a:ext cx="2808360" cy="259416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Monotype Corsiva"/>
              </a:rPr>
              <a:t>10-й раздел: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cc0000"/>
                </a:solidFill>
                <a:latin typeface="Monotype Corsiva"/>
              </a:rPr>
              <a:t>Создание 9-й бригады</a:t>
            </a:r>
            <a:br>
              <a:rPr sz="3200"/>
            </a:br>
            <a:r>
              <a:rPr b="0" lang="ru-RU" sz="3200" spc="-1" strike="noStrike">
                <a:solidFill>
                  <a:srgbClr val="cc0000"/>
                </a:solidFill>
                <a:latin typeface="Monotype Corsiva"/>
              </a:rPr>
              <a:t>    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Витрина к стен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5292720" cy="602136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724360" y="1125360"/>
            <a:ext cx="3168720" cy="213552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724360" y="3933720"/>
            <a:ext cx="3238560" cy="21830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08560" y="1268280"/>
            <a:ext cx="2811600" cy="48974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11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9-я бригада в действ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240" y="907920"/>
            <a:ext cx="3192480" cy="54738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492360" y="620640"/>
            <a:ext cx="2556000" cy="51134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12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На освобожденной земле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5148000" cy="580536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1052640"/>
            <a:ext cx="4121280" cy="417816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13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На вахте мира и труд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71640" y="692280"/>
            <a:ext cx="7705800" cy="584676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14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Дорогой отцов – дорогой Победы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Витрина к стен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5518080" cy="57610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92720" y="4437000"/>
            <a:ext cx="3630600" cy="213192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435640" y="1413000"/>
            <a:ext cx="3492360" cy="26478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27640" y="1773360"/>
            <a:ext cx="4532040" cy="4778280"/>
          </a:xfrm>
          <a:prstGeom prst="rect">
            <a:avLst/>
          </a:prstGeom>
          <a:ln w="38160">
            <a:solidFill>
              <a:srgbClr val="0033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79280" y="692280"/>
            <a:ext cx="5172120" cy="54720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15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Мы - наследники пламенной славы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                                                 отц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В нашей 268 школе, которая располагается в Невском районе на проспекте Большевиков д.4 к.2 лит.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5614920" cy="366876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6" name=""/>
          <p:cNvSpPr/>
          <p:nvPr/>
        </p:nvSpPr>
        <p:spPr>
          <a:xfrm flipH="1">
            <a:off x="5867280" y="1125360"/>
            <a:ext cx="32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находится музей «Боевой путь 12-й Приморск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9-й Ленинградской партизанских бригад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780000" y="3403440"/>
            <a:ext cx="4968720" cy="33022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0" y="5229360"/>
            <a:ext cx="392436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Подробнее на сайте нашей</a:t>
            </a: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школы: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school268.spb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Музей «Боевой путь 12-й Приморской и 9-й Ленинградской партизанских бригад»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открыт  13 декабря 1982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58920" y="291960"/>
            <a:ext cx="6986520" cy="50230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5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1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Идет война народная, священная вой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витрине представлены  вещи командира 12-й  Приморской брига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нгинена А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 комисса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2-го отр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альдмана А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4584960" cy="55166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51280" y="3141720"/>
            <a:ext cx="2952720" cy="30970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516720" y="3500280"/>
            <a:ext cx="2484360" cy="30974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732720" y="1052640"/>
            <a:ext cx="2097000" cy="249372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2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Все на защиту города Ленина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В витринах  представлены вещи, найденные следопытами школы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на местах бое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и вещи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переданные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музею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ветеранами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ра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3151440" cy="547236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627280" y="1413000"/>
            <a:ext cx="2736720" cy="52560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148360" y="3645000"/>
            <a:ext cx="3671640" cy="291312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588000" y="1268280"/>
            <a:ext cx="2303640" cy="194472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3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Коммунистическая партия –организатор и руководитель партизанской войн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Вит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к стен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108240" cy="52610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330720" y="1413000"/>
            <a:ext cx="3108240" cy="52606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659640" y="4365720"/>
            <a:ext cx="2341440" cy="18478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372360" y="1989000"/>
            <a:ext cx="2447640" cy="180036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3887640" cy="25826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4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Ленинград в дни блокады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79280" y="620640"/>
            <a:ext cx="5400720" cy="38656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3789360"/>
            <a:ext cx="3887640" cy="28954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867280" y="907920"/>
            <a:ext cx="3054600" cy="25210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Monotype Corsiva"/>
              </a:rPr>
              <a:t>5-й раздел: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cc0000"/>
                </a:solidFill>
                <a:latin typeface="Monotype Corsiva"/>
              </a:rPr>
              <a:t>Кингисеппский межрайонный партийный подпольный цен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491000" cy="54450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076720" y="3213000"/>
            <a:ext cx="3888000" cy="30956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12000" y="1197000"/>
            <a:ext cx="2665440" cy="216072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6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Создание 12-й Приморской партизанской бриг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214880" cy="53006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788000" y="4149720"/>
            <a:ext cx="3414600" cy="24480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1" name="" descr=""/>
          <p:cNvPicPr/>
          <p:nvPr/>
        </p:nvPicPr>
        <p:blipFill>
          <a:blip r:embed="rId4"/>
          <a:srcRect l="0" t="-293" r="33348" b="6752"/>
          <a:stretch/>
        </p:blipFill>
        <p:spPr>
          <a:xfrm>
            <a:off x="6156360" y="189000"/>
            <a:ext cx="2616120" cy="316692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6084720" y="2637000"/>
            <a:ext cx="2911680" cy="230472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8:42:42Z</dcterms:created>
  <dc:creator>Мама</dc:creator>
  <dc:description/>
  <dc:language>en-US</dc:language>
  <cp:lastModifiedBy>Admin</cp:lastModifiedBy>
  <dcterms:modified xsi:type="dcterms:W3CDTF">2013-04-18T09:19:32Z</dcterms:modified>
  <cp:revision>42</cp:revision>
  <dc:subject/>
  <dc:title>В нашей 268 школе, которая располагается в Невском районе на проспекте Большевиков д.4 к.2</dc:title>
</cp:coreProperties>
</file>