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20E-8351-4E54-B1F9-402A86D2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7F0-B992-4A18-8FF0-3E57919B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A8F-EEE4-4C6E-94FE-4E144C58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23B6-689B-492F-BD94-90CAC31F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508-0B1C-44E5-A383-BCEA4B6A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B1D-B00E-4174-A28B-F37323EA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802-A006-4B1B-93BA-C6215327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BDA-38CC-40F5-A2A0-B1922D7B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D46-08B4-4642-9CD2-971D3B4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5AD-CCFB-48FC-B3CD-5F1CFC1C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B40-55E1-43C2-824A-7CC54936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8B9-388D-4A24-85A5-C35C7BCD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6816-6154-493E-8F97-80E43F5967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-ГЕРОЙ ВОЛГОГРАД (СТАЛИНГРА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6095880" cy="3929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286160" y="5643720"/>
            <a:ext cx="48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у выполнила ученица 2 Б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аренко И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4 февраля 1943 г. в израненном, изуродованном до неузнаваемости смерчем войны городе состоялся многотысячный митинг защитников и жителей Сталингра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565360"/>
            <a:ext cx="88423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освобождения, город был в сплошных руи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казывались предположения восстанавливать город в другом месте, а руины оставить напоминанием потомкам об ужасах вой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е же было решено отстроить город практически зано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было жилищ, не работал транспорт, заводы были разрушены, земля была напичкана неразорвавшимися минами, бомбами и снарядами (которые находят по сей ден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вся огромная страна пришла на помощь героическому горо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нтр города Сталинграда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 февраля 1943 год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мая 1965 г. - звание Город-ге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али «Золотая звез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дена Ленина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 выдающиеся заслуги перед Родиной, мужество и героизм, проявленные трудящимися города Волгограда в борьбе с немецко-фашистскими захватчиками, и в ознаменование 20-летия Победы советского народа в Великой Отечественной войне 1941—1945 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003640" y="404640"/>
            <a:ext cx="3635640" cy="2778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6443640" y="3573360"/>
            <a:ext cx="14842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6308640"/>
            <a:ext cx="842472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умент «Родина-мать зовёт!» на Мамаевом кургане (открыт 15 октября 1967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659640" y="1268280"/>
            <a:ext cx="2276280" cy="496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5905440" cy="4429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маев курган — сердце Волгоград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ЛЕЯ ГЕРО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36480" y="632448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ьвар в центра Волго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93116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3610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льница Гергарта (Грудинин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азрушенное здание мельницы, ставшее символом жестокости боёв в Сталинградской би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лено невосстановленным, как память о во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входит в состав музея-панорамы «Сталинградская би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427640" y="2852640"/>
            <a:ext cx="45003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ская могила защитников Красного Царицына и воинов 62-й и 64-й армий, погибших при защите Сталинград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4356000" y="306864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узея-панорамы "Сталинградская битва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11280" y="6381360"/>
            <a:ext cx="7859520" cy="3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выполнила И. Сумар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2788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79311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гогра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город на юго-востоке европейской части России, административный центр Волгоградской обл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од-герой, место битвы за Сталингр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655344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634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основан в 158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упоминание в 1579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ние названия: до 1925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арицын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1961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линг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ноября 1961 года город Сталинград по решению XXII съезда КПСС был переименован в Волгоград. Снесены и уничтожены все памятники И. В. Стал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5148360" y="1125360"/>
            <a:ext cx="3529080" cy="271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39877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22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пное сражение в ходе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:  с одной стороны - войска СССР, с другой стороны - войска Третьего рейха, Румынии, Италии, Венг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ы: с 17 июля 1942 по 2 февраля 1943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076720" y="1341360"/>
            <a:ext cx="40672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4716360" y="4237200"/>
            <a:ext cx="396108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МАЕВ   КУРГАН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ложен в Центральном районе города Волгограда, где во время Сталинградской битвы происходили ожесточённые бои (особенно в сентябре 1942 года и январе 1943) продолжительностью 200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50920" y="4308480"/>
            <a:ext cx="82818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4114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жение на Мамаевом Кургане имела важное стратегическое значение: с его вершины хорошо просматривалась и простреливалась прилегающая территория, переправы через Вол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тлеровцы по 10-12 раз в день штурмовали его, но, теряя людей и технику, так и не смогли захватить всю территорию кург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859280" y="443700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50920" y="5877000"/>
            <a:ext cx="88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8240"/>
            <a:ext cx="85183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2 февраля 1943 г. в 16 часов историческая Сталинградская битва закончилась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отери Красной Армии в Сталинградской битве составил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 млн 130 тыс. солдат и офице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том числе безвозвратные потери —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коло 480 тыс. челове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341 тан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5 728 орудий и мином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769 самолет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была выдающаяся победа советского оруж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алинградом были пленены 24 генерала во глав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нерал-фельдмаршалом Ф. Паулю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24000" y="0"/>
            <a:ext cx="8135640" cy="5802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468360" y="6453360"/>
            <a:ext cx="85075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енённые под Сталинградом немецкие солдаты. Февраль 194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г над освобождённым городом, Сталинград, 1943 год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0:50:00Z</dcterms:created>
  <dc:creator>я</dc:creator>
  <dc:description/>
  <dc:language>en-US</dc:language>
  <cp:lastModifiedBy>user</cp:lastModifiedBy>
  <dcterms:modified xsi:type="dcterms:W3CDTF">2013-04-18T04:53:04Z</dcterms:modified>
  <cp:revision>23</cp:revision>
  <dc:subject/>
  <dc:title>ГОРОД-ГЕРОЙ </dc:title>
</cp:coreProperties>
</file>