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9AC-2ABF-4DC8-951F-38DE5B21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736-EC7A-4A87-95DC-F96D0E1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607-E4F2-45B1-832C-7F378DE7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AB1-6B5E-4959-8790-7B03BF9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A6F-81B3-4AB7-9DCF-0C51A75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0E5-8DCC-42D0-AD8D-7729C66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60A-833E-4771-9F15-3E6B4B7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46-F798-449F-A62B-ACAFD0A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886-AEB5-4F4C-9477-58842F89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C81-F367-44E4-81D5-7FAB59E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E76-7FDE-4A2F-9067-3FFE7F4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038-C1B9-453E-B966-BE4F5471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A37-A998-41A2-A9D9-DECAF9661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-ГЕРОЙ ВОЛГОГРАД (СТАЛИНГРА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6095880" cy="3929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286160" y="5643720"/>
            <a:ext cx="48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 ученица 2 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аренко И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4 февраля 1943 г. в израненном, изуродованном до неузнаваемости смерчем войны городе состоялся многотысячный митинг защитников и жителей Сталингра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565360"/>
            <a:ext cx="88423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свобождения, город был в сплошных руи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казывались предположения восстанавливать город в другом месте, а руины оставить напоминанием потомкам об ужасах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е же было решено отстроить город практически зан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ыло жилищ, не работал транспорт, заводы были разрушены, земля была напичкана неразорвавшимися минами, бомбами и снарядами (которые находят по сей ден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я огромная страна пришла на помощь героическому гор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 города Сталинграда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февраля 1943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мая 1965 г. - звание Город-ге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али «Золотая звез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дена Ленина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 выдающиеся заслуги перед Родиной, мужество и героизм, проявленные трудящимися города Волгограда в борьбе с немецко-фашистскими захватчиками, и в ознаменование 20-летия Победы советского народа в Великой Отечественной войне 1941—1945 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635640" cy="277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6443640" y="3573360"/>
            <a:ext cx="1484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6308640"/>
            <a:ext cx="842472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умент «Родина-мать зовёт!» на Мамаевом кургане (открыт 15 октября 1967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659640" y="1268280"/>
            <a:ext cx="2276280" cy="496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маев курган — сердце Волгогра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ЛЕЯ ГЕР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6480" y="632448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ьвар в центра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931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3610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льница Гергарта (Грудинин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азрушенное здание мельницы, ставшее символом жестокости боёв в Сталинградской би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ено невосстановленным, как память о во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входит в состав музея-панорамы «Сталинградская би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427640" y="285264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ская могила защитников Красного Царицына и воинов 62-й и 64-й армий, погибших при защите Сталингра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узея-панорамы "Сталинградская битва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6381360"/>
            <a:ext cx="78595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И. Сумар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2788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город на юго-востоке европейской части России, административный центр Волгоградск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-герой, место битвы за Сталингр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5534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4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основан в 158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упоминание в 157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ние названия: до 1925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арицын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1961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лин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ноября 1961 года город Сталинград по решению XXII съезда КПСС был переименован в Волгоград. Снесены и уничтожены все памятники И. В. Ста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529080" cy="271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3987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22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ое сражение в ходе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:  с одной стороны - войска СССР, с другой стороны - войска Третьего рейха, Румынии, Италии, Венг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ы: с 17 июля 1942 по 2 февраля 194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4716360" y="4237200"/>
            <a:ext cx="39610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МАЕВ   КУРГА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 в Центральном районе города Волгограда, где во время Сталинградской битвы происходили ожесточённые бои (особенно в сентябре 1942 года и январе 1943) продолжительностью 200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50920" y="4308480"/>
            <a:ext cx="8281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4114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жение на Мамаевом Кургане имела важное стратегическое значение: с его вершины хорошо просматривалась и простреливалась прилегающая территория, переправы через Вол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тлеровцы по 10-12 раз в день штурмовали его, но, теряя людей и технику, так и не смогли захватить всю территорию кург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59280" y="443700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0920" y="5877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5183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2 февраля 1943 г. в 16 часов историческая Сталинградская битва закончилась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отери Красной Армии в Сталинградской битве состав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млн 130 тыс. солдат и офице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том числе безвозвратные потери —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коло 480 тыс. челове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341 тан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5 728 орудий и мином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769 самол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была выдающаяся победа советск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алинградом были пленены 24 генерала во глав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рал-фельдмаршалом Ф. Паулю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24000" y="0"/>
            <a:ext cx="8135640" cy="5802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468360" y="6453360"/>
            <a:ext cx="8507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ённые под Сталинградом немецкие солдаты. Февраль 194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г над освобождённым городом, Сталинград, 1943 го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0:50:00Z</dcterms:created>
  <dc:creator>я</dc:creator>
  <dc:description/>
  <dc:language>en-US</dc:language>
  <cp:lastModifiedBy>user</cp:lastModifiedBy>
  <dcterms:modified xsi:type="dcterms:W3CDTF">2013-04-18T04:53:04Z</dcterms:modified>
  <cp:revision>23</cp:revision>
  <dc:subject/>
  <dc:title>ГОРОД-ГЕРОЙ </dc:title>
</cp:coreProperties>
</file>